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29.png" ContentType="image/png"/>
  <Override PartName="/ppt/media/image2.wmf" ContentType="image/x-wmf"/>
  <Override PartName="/ppt/media/image32.wmf" ContentType="image/x-wmf"/>
  <Override PartName="/ppt/media/image6.wmf" ContentType="image/x-wmf"/>
  <Override PartName="/ppt/media/image11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30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12.png" ContentType="image/png"/>
  <Override PartName="/ppt/media/image31.wmf" ContentType="image/x-wmf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84760" y="31680"/>
            <a:ext cx="17517600" cy="13639320"/>
            <a:chOff x="-8384760" y="31680"/>
            <a:chExt cx="17517600" cy="136393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84760" y="31680"/>
              <a:ext cx="16769520" cy="136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46" swAng="53967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46" swAng="5396746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Patientenindividuelle Zubereitung </a:t>
            </a:r>
            <a:br>
              <a:rPr sz="3200"/>
            </a:b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von Medikamenten</a:t>
            </a:r>
            <a:br>
              <a:rPr sz="3200"/>
            </a:b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mittels  R/3 Add-on</a:t>
            </a:r>
            <a:br>
              <a:rPr sz="3200"/>
            </a:b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ipl. Math. Bernd Mickley</a:t>
            </a:r>
            <a:br>
              <a:rPr sz="2400"/>
            </a:br>
            <a:r>
              <a:rPr b="0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consulting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ttp://www.jwconsulting.de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6600" y="663480"/>
          <a:ext cx="8053200" cy="40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63480"/>
                    <a:ext cx="80532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80880" y="996840"/>
            <a:ext cx="845820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09240" y="61596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04920" y="8532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37320" y="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480" y="387360"/>
          <a:ext cx="8077320" cy="304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736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04920" y="7747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dd-on Zytostatikazubereitung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09240" y="62244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04920" y="92160"/>
            <a:ext cx="0" cy="528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99840" y="168876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kstoffe, Stamm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handlungsschem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äpa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Patientenindividuelles 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Etikettendru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Patientenindividuelle Zytostatikazuber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37320" y="6480"/>
            <a:ext cx="1006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393840"/>
          <a:ext cx="8261640" cy="304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93840"/>
                    <a:ext cx="82616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5238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819520"/>
            <a:ext cx="7467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 Rounded MT Bold"/>
              </a:rPr>
              <a:t>Etoposidphosph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topophos       100mg/Infl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5004336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topophos     1000mg/Infl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5004337    10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2096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Wirkstoff/Präparat                      Matnr       mg/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380880"/>
            <a:ext cx="684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Zusammenhang zwischen Wirkstoff und Präpar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Add-on Zytostatikazubereitung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Wirkstoff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Behandlungsschem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Präpa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enindividuelles 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Etikettendru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Patientenindividuelle Zytostatikazuber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tientenindividuelle Zubereitung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2743200"/>
            <a:ext cx="64767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nführung Zubereit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Chemotherapie Zubereitung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Auswert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Ausbl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dd-on Zytostatikazubereitung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Wirkstoff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Behandlungsschem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Präpa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Patientenindividuelles 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ikettendruck</a:t>
            </a:r>
            <a:r>
              <a:rPr b="1" lang="en-US" sz="1800" spc="-1" strike="noStrike">
                <a:solidFill>
                  <a:srgbClr val="3365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Patientenindividuelle Zytostatikazuber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533520" y="2666880"/>
            <a:ext cx="693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1447920"/>
            <a:ext cx="5486400" cy="3809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523880"/>
            <a:ext cx="5257800" cy="4305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Katharinenhospital - Apotheke Zentrale Zytostatikazubereitu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tation:</a:t>
            </a: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AN                                 Patientennummer : 50000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Hund                    An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eburtsdatum: 12.06.1920            Therapieschema: CEMOTAB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KOF: 1,996m²       KGR: 180,0cm      KG: 80 k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chemadosis pro m² Körperoberfläche 100,00m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Etoposidphosphat 836mg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38,6ml Stammlösung/Fertiglösu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nfusion  NaCl  0,9%  25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rapietag: 03.02.2000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Haltbar bis: 04.02.200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emperatur: 2-8°C                       Raumbedingung: Lichtgeschütz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-B: 000000000077                   Herst: Hb+Ri+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ubereitungs ID: 000040000306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4038480"/>
            <a:ext cx="457200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5486400"/>
            <a:ext cx="457200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50360" y="254160"/>
            <a:ext cx="37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eispiel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ines Etiket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3352680"/>
            <a:ext cx="457200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3962520" y="4876920"/>
            <a:ext cx="1371600" cy="1904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dd-on Zytostatikazubereitung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Wirkstoff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Behandlungsschem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Stamm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Präpa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Patientenindividuelles 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Etikettendru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Patientenindividuelle Zytostatikazuber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inführung Zubereitung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kstoffproduktion (Pharmaindustr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icht patientenindividu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ubereit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äuglingsnah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abetische Zubereit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ere individuelle Zubereitungen (z.B. bei Allergien, Hauterkrankungen, 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dd-on Zytostatikazubereitung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Wirkstoff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Behandlungsschem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Stamm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Präpa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Patientenindividuelles 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Etikettendruck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enindividuelle Zytostatikazuber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160" y="1149120"/>
            <a:ext cx="84582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Patientenindividuelle Zubereitung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1520" y="4636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57200" y="-66600"/>
            <a:ext cx="0" cy="528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828800" y="2596680"/>
            <a:ext cx="64771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nführung Zubereit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Add-on Zytostatikazuber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Auswert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Ausbl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89960" y="-152280"/>
            <a:ext cx="1006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762120" y="235080"/>
          <a:ext cx="8076960" cy="304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5080"/>
                    <a:ext cx="80769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dd-on Zytostatikazubereitung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kstoffe, Stamm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handlungsschem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äpa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enindividuelles 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ikettendru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enindividuelle Zytostatikazuber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uswertungen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kstoffverbrauch pro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kstoffverbrauch pro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Überprüfung zur Einhaltung der Grenzdosis pro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en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ktions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en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tbarkeitskontrolle (auch bereits hergestellter Stammlösung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utzen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öhere Qualitä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 9000, GLP, TF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enbindung (Transplantate, Blutproduk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fallsdatenkontrolle, Rückrufaktion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ößere Sicherh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chgängige Chargenverfolg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ückenlose Kontrolle durch Arzt (Behandlungsschem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einfachte Arbeitsabläu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n werden nur einmal erfaß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rcodetechn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besserte Transpare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sten, Umlaufvermö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utzen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lständige betriebswirtschaftliche Integration (Module ISH, MM, PP, PP-PI, FI, CO, SD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271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matische Buchungen im MM, FI und CO mit  jederzeit transparenten Informationen über alle Warenaus - und eingä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undenorientierte Bedienoberfläche bringt Zeitersparn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271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igenes Produktionsmen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271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zeigen von  Auswahltexten anstatt  interne Nummern- idente mit zeitaufwendiger Matchcodesuche für Materialnummern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271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 SAP Abläufe bleiben dunkelgesteuert, wobei Standardeingaben automatisch erledigt werden (Metatransak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usblick (1)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zielle Arztanbind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bildung der gesamten Behandlung einschl. Vor- und Nachbehand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ontrolle der Einnahme durch Bar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usionsbeutel, Pat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apieauswertungen (auch für Forschu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itere Plausibilitätskontro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ztbriefschreib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bindung Patientenak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usblick (2)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abetikerzuber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äuglingsnah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stomized Drugs 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606600" y="663480"/>
          <a:ext cx="8053200" cy="40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63480"/>
                    <a:ext cx="805320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53452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Patientenindividuelle Zubereitung </a:t>
            </a:r>
            <a:br>
              <a:rPr sz="3200"/>
            </a:b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von Medikamenten</a:t>
            </a:r>
            <a:br>
              <a:rPr sz="3200"/>
            </a:b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mittels  R/3 Add-on</a:t>
            </a:r>
            <a:br>
              <a:rPr sz="3200"/>
            </a:b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ipl. Math. Bernd Mickley</a:t>
            </a:r>
            <a:br>
              <a:rPr sz="2400"/>
            </a:br>
            <a:r>
              <a:rPr b="0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consulting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ttp://www.jwconsulting.de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61520" y="76212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362320" y="5257440"/>
            <a:ext cx="495288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57200" y="231840"/>
            <a:ext cx="0" cy="528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89960" y="146160"/>
            <a:ext cx="1006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58880" y="816120"/>
          <a:ext cx="8053200" cy="40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816120"/>
                    <a:ext cx="80532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dd-on Zytostatikazubereitung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Wirkstoffe, Stamm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ehandlungsschem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äpa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Patientenindividuelles 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3365fb"/>
                </a:solidFill>
                <a:latin typeface="Arial"/>
              </a:rPr>
              <a:t>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Etikettendru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3365fb"/>
                </a:solidFill>
                <a:latin typeface="Arial"/>
              </a:rPr>
              <a:t>Patientenindividuelle Zytostatikazuber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Wirkstoffliste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Wirkstoff                          M-Nr Zuber   M-Nr Stl       Konz.      Ein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msacr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5023        5005022              5       MG/ML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araginase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5025        5005024        2000       IE/ML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leomycin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5027        5005026              3       MG/ML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boplatin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5029        5005028            10       MG/ML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rmustin (BCNU)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5031        5005030              3,33  MG/ML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splatin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5033        5005032              0,5    MG/ML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dribin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5035        5005034              1       MG/ML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yclophosphamid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5037        5005036            20       MG/ML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ytarabin 1000mg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5043        5005042            50       MG/ML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ytarabin 40mg + 100mg 5005041        5005040             20       MG/ML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ytarabin Udic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5039        5005038            20       MG/ML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carbazin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5045        5005044            10       MG/ML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ctinomycin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5047        5005046              0,5    MG/ML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unorubicin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5049        5005048              2       MG/ML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cetaxel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05051        5005050            10       MG/ML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04920" y="76824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dd-on Zytostatikazubereitung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09240" y="61596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04920" y="8532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68228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kstoffe, Stamm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ndlungsschem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äpa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Patientenindividuelles 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Arial"/>
              </a:rPr>
              <a:t>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Etikettendru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Stammlös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3365fb"/>
                </a:solidFill>
                <a:latin typeface="Arial"/>
              </a:rPr>
              <a:t>Patientenindividuelle Zytostatikazuber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37320" y="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387360"/>
          <a:ext cx="8261640" cy="304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736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3:23:16Z</dcterms:created>
  <dc:creator>Dr. Winkler</dc:creator>
  <dc:description/>
  <dc:language>en-US</dc:language>
  <cp:lastModifiedBy>Dr.Jochen Winkler</cp:lastModifiedBy>
  <cp:lastPrinted>2000-03-06T19:52:43Z</cp:lastPrinted>
  <dcterms:modified xsi:type="dcterms:W3CDTF">2000-03-20T19:12:56Z</dcterms:modified>
  <cp:revision>250</cp:revision>
  <dc:subject/>
  <dc:title>Round table Wuppertal</dc:title>
</cp:coreProperties>
</file>