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9.png" ContentType="image/png"/>
  <Override PartName="/ppt/media/image2.wmf" ContentType="image/x-wmf"/>
  <Override PartName="/ppt/media/image32.wmf" ContentType="image/x-wmf"/>
  <Override PartName="/ppt/media/image6.wmf" ContentType="image/x-wmf"/>
  <Override PartName="/ppt/media/image1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12.png" ContentType="image/png"/>
  <Override PartName="/ppt/media/image31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25640" y="8600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84760" y="31680"/>
            <a:ext cx="17517600" cy="13639320"/>
            <a:chOff x="-8384760" y="31680"/>
            <a:chExt cx="17517600" cy="136393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84760" y="31680"/>
              <a:ext cx="16769520" cy="136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46" swAng="53967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46" swAng="539674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Patientenindividuelle Zubereitung 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von Medikamenten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mittels SAP R/3 Add-on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uppertal, den 28.3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" y="648000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Wirkstoffe, Präparate, Träger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Patientenindividuelle Zytostatika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Statist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120" y="648000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Wirkstoffe, Präparate, Träger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Stamm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Patientenindividuelle Zytostatika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Statist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Patientenindividuelle Zubereitung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2743200"/>
            <a:ext cx="64767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inführung Zuber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. Add-on Zytostatikazuber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nforderung durch interne und externe Stat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3. Auswert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4.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5. Ausbl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600" y="652140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33520" y="2666880"/>
            <a:ext cx="693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1447920"/>
            <a:ext cx="5486400" cy="3809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523880"/>
            <a:ext cx="5257800" cy="430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Katharinenhospital - Apotheke Zentrale Zytostatikazubereitu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tation:</a:t>
            </a: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AN                                 Patientennummer : 50000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und                    An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eburtsdatum: 12.06.1920            Therapieschema: CEMOTAB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KOF: 1,996m²       KGR: 180,0cm      KG: 80 k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chemadosis pro m² Körperoberfläche 100,00m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Etoposidphosphat 836mg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38,6ml Stammlösung/Fertiglösu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nfusion  NaCl  0,9%  2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rapietag: 03.02.2000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Haltbar bis: 04.02.200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emperatur: 2-8°C                       Raumbedingung: Lichtgeschütz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-B: 000000000077                   Herst: Hb+Ri+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ubereitungs ID: 000040000306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038480"/>
            <a:ext cx="45720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560" y="68256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eispiel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ines Etiket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3352680"/>
            <a:ext cx="45720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962520" y="4876920"/>
            <a:ext cx="1371600" cy="1904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20" y="648000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Wirkstoffe, Präparate, Träger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Stamm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Patientenindividuelle Zytostatika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Statist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120" y="648000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Wirkstoffe, Präparate, Träger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Stamm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enindividuelle Zytostatika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Statist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inführung Zubereitung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120" y="648000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rkstoffproduktion (Pharmaindustr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icht patientenindividu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Zubereit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äuglingsnah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abetische Zubereit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ndere Trägerlösungen (z.B. bei Allergien,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120" y="648000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Wirkstoffe, Präparate, Träger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Stamm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Patientenindividuelle Zytostatika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wert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uswertungen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rkstoffverbrauch pro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rkstoffverbrauch pro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Überprüfung zur Einhaltung der Grenzdosis pro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atienten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duktions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sten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altbarkeitskontrolle (auch bereits hergestellter Stammlösung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utzen (1)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120" y="648000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öhere Qualitä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SO 9000, GLP, TF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enbindung (Transplantate, Blutproduk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fallsdatenkontrolle, Rückrufakt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rößere Sicherh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urchgängige Chargenverfolg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ückenlose Kontrolle durch Arzt (Behandlungssche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reinfachte Arbeitsabläu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aten werden nur einmal erfaß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arcodetech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rbesserte Transpare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osten, Umlaufvermö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utzen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lständige betriebswirtschaftliche Integration (Module ISH, MM, PP-PI, FI, CO, SD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271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atische Buchungen im MM, FI und CO mit  jederzeit transparenten Informationen über alle Warenaus - und eingä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undenorientierte Bedienoberfläche bringt Zeitersparn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271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igenes Produktionsmen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271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zeigen von  Auswahltexten anstatt  interne Nummern- idente mit zeitaufwendiger Matchcodesuche für Materialnummer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271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 SAP Abläufe bleiben dunkelgesteuert, wobei Standardeingaben automatisch erledigt werden (Metatransak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120" y="648000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3480" indent="-25092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irkstoffe, Präparate, Träger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3480" indent="-25092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mm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3480" indent="-25092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3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160" indent="-3351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3480" indent="-25092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omplette Behandlung (mehrere Tage, Woch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3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160" indent="-3351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3480" indent="-25092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3480" indent="-25092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enindividuelle Zytostatikalösung pro Infu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3480" indent="-25092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160" indent="-3351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wert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usblick (1)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120" y="648000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pezielle Arztanbind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bbildung der gesamten Behandlung einschl. Vor- und Nachbehand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ontrolle der Einnahme durch Bar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fusionsbeutel, Pat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herapieauswertungen (auch für Forschu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eitere Plausibilitätskontro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rztbriefschreib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nbindung Patientenak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usblick (2)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120" y="648000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abetikerzuber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äuglingsnah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ustomized Drugs 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Patientenindividuelle Zubereitung 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von Medikamenten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mittels SAP R/3 Add-on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uppertal, den 28.3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120" y="648000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irkstoffe, Präparate, Träger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Patientenindividuelle Zytostatika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Statist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Wirkstoffliste</a:t>
            </a: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120" y="648000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afd00"/>
                </a:solidFill>
                <a:latin typeface="Arial"/>
              </a:rPr>
              <a:t>Wirkstoff                    </a:t>
            </a:r>
            <a:r>
              <a:rPr b="1" lang="de-DE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afd00"/>
                </a:solidFill>
                <a:latin typeface="Arial"/>
              </a:rPr>
              <a:t>M-Nr Zuber     M-Nr Stl       Konz.  Einh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msacrin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23        5005022        5     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sparaginase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25        5005024        2000 IE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Bleomycin    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27        5005026        3     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arboplatin  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29        5005028        10   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armustin (BCNU)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31        5005030        3,33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isplatin     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33        5005032        0,5  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ladribin     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35        5005034        1     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yclophosphamid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37        5005036        20   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ytarabin 1000mg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43        5005042        50    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ytarabin 40mg + 100mg 5005041        5005040        20   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ytarabin Udic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39        5005038        20    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acarbazin    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45        5005044        10    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actinomycin  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47        5005046        0,5   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aunorubicin  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49        5005048        2        MG/ML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ocetaxel     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5005051        5005050        10      MG/ML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3:23:16Z</dcterms:created>
  <dc:creator>Dr. Winkler</dc:creator>
  <dc:description/>
  <dc:language>en-US</dc:language>
  <cp:lastModifiedBy>Dr.Jochen Winkler</cp:lastModifiedBy>
  <cp:lastPrinted>2000-03-06T19:52:43Z</cp:lastPrinted>
  <dcterms:modified xsi:type="dcterms:W3CDTF">2000-03-27T21:12:41Z</dcterms:modified>
  <cp:revision>220</cp:revision>
  <dc:subject/>
  <dc:title>Round table Wuppertal</dc:title>
</cp:coreProperties>
</file>