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25640" y="8600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Rounded MT Bold"/>
              </a:rPr>
              <a:t>Notiz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84760" y="31680"/>
            <a:ext cx="17517600" cy="13639320"/>
            <a:chOff x="-8384760" y="31680"/>
            <a:chExt cx="17517600" cy="136393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84760" y="31680"/>
              <a:ext cx="16769520" cy="136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6" swAng="5396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6" swAng="539674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hyperlink" Target="file:///solutions/e-commerce/buying.htm" TargetMode="External"/><Relationship Id="rId4" Type="http://schemas.openxmlformats.org/officeDocument/2006/relationships/hyperlink" Target="file:///solutions/e-commerce/buying.htm" TargetMode="External"/><Relationship Id="rId5" Type="http://schemas.openxmlformats.org/officeDocument/2006/relationships/hyperlink" Target="file:///solutions/e-commerce/selling.htm" TargetMode="External"/><Relationship Id="rId6" Type="http://schemas.openxmlformats.org/officeDocument/2006/relationships/hyperlink" Target="file:///solutions/e-commerce/selling.htm" TargetMode="External"/><Relationship Id="rId7" Type="http://schemas.openxmlformats.org/officeDocument/2006/relationships/hyperlink" Target="file:///solutions/e-commerce/selling.htm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Internet-Bestelldatenaustausch über XML und SAP Business Connector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Steffen Nestler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 Rounded MT Bold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Wuppertal, den 28.3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Der SAP Business Connector - das Tor zum Internet (2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3" marL="1536120" indent="-219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Sicher und releaseunabhäng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8288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676520" y="2286000"/>
            <a:ext cx="5819760" cy="4362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Der SAP Business Connector - das Tor zum Internet (3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3" marL="1536120" indent="-219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rchitekt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8288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676520" y="2209680"/>
            <a:ext cx="577188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Der SAP Business Connector - das Tor zum Internet (4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lvl="3" marL="1135800" indent="-162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minist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8288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676520" y="2209680"/>
            <a:ext cx="5810040" cy="4353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Der SAP Business Connector - das Tor zum Internet (5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3" marL="1536120" indent="-219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SAP Business Connector Devel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8288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676520" y="2286000"/>
            <a:ext cx="5819760" cy="4371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141720" y="1598760"/>
            <a:ext cx="3130560" cy="4579920"/>
          </a:xfrm>
          <a:custGeom>
            <a:avLst/>
            <a:gdLst/>
            <a:ahLst/>
            <a:rect l="l" t="t" r="r" b="b"/>
            <a:pathLst>
              <a:path w="1972" h="2885">
                <a:moveTo>
                  <a:pt x="261" y="177"/>
                </a:moveTo>
                <a:cubicBezTo>
                  <a:pt x="297" y="168"/>
                  <a:pt x="320" y="152"/>
                  <a:pt x="357" y="145"/>
                </a:cubicBezTo>
                <a:cubicBezTo>
                  <a:pt x="536" y="159"/>
                  <a:pt x="1137" y="0"/>
                  <a:pt x="1309" y="57"/>
                </a:cubicBezTo>
                <a:cubicBezTo>
                  <a:pt x="1330" y="93"/>
                  <a:pt x="1401" y="150"/>
                  <a:pt x="1421" y="185"/>
                </a:cubicBezTo>
                <a:cubicBezTo>
                  <a:pt x="1430" y="202"/>
                  <a:pt x="1893" y="433"/>
                  <a:pt x="1893" y="433"/>
                </a:cubicBezTo>
                <a:cubicBezTo>
                  <a:pt x="1909" y="498"/>
                  <a:pt x="1927" y="901"/>
                  <a:pt x="1957" y="961"/>
                </a:cubicBezTo>
                <a:cubicBezTo>
                  <a:pt x="1972" y="1038"/>
                  <a:pt x="1457" y="1176"/>
                  <a:pt x="1485" y="1249"/>
                </a:cubicBezTo>
                <a:cubicBezTo>
                  <a:pt x="1510" y="1313"/>
                  <a:pt x="1281" y="1293"/>
                  <a:pt x="1325" y="1337"/>
                </a:cubicBezTo>
                <a:cubicBezTo>
                  <a:pt x="1356" y="1493"/>
                  <a:pt x="1233" y="1231"/>
                  <a:pt x="1229" y="1385"/>
                </a:cubicBezTo>
                <a:cubicBezTo>
                  <a:pt x="1232" y="1473"/>
                  <a:pt x="1232" y="1561"/>
                  <a:pt x="1237" y="1649"/>
                </a:cubicBezTo>
                <a:cubicBezTo>
                  <a:pt x="1239" y="1681"/>
                  <a:pt x="1265" y="1707"/>
                  <a:pt x="1277" y="1737"/>
                </a:cubicBezTo>
                <a:cubicBezTo>
                  <a:pt x="1292" y="1774"/>
                  <a:pt x="1299" y="1810"/>
                  <a:pt x="1309" y="1849"/>
                </a:cubicBezTo>
                <a:cubicBezTo>
                  <a:pt x="1306" y="1924"/>
                  <a:pt x="1320" y="2001"/>
                  <a:pt x="1301" y="2073"/>
                </a:cubicBezTo>
                <a:cubicBezTo>
                  <a:pt x="1296" y="2093"/>
                  <a:pt x="1263" y="2088"/>
                  <a:pt x="1245" y="2097"/>
                </a:cubicBezTo>
                <a:cubicBezTo>
                  <a:pt x="1193" y="2121"/>
                  <a:pt x="1205" y="2115"/>
                  <a:pt x="1165" y="2145"/>
                </a:cubicBezTo>
                <a:cubicBezTo>
                  <a:pt x="1156" y="2302"/>
                  <a:pt x="1185" y="2299"/>
                  <a:pt x="1053" y="2273"/>
                </a:cubicBezTo>
                <a:cubicBezTo>
                  <a:pt x="1024" y="2284"/>
                  <a:pt x="980" y="2278"/>
                  <a:pt x="965" y="2305"/>
                </a:cubicBezTo>
                <a:cubicBezTo>
                  <a:pt x="950" y="2332"/>
                  <a:pt x="971" y="2409"/>
                  <a:pt x="981" y="2449"/>
                </a:cubicBezTo>
                <a:cubicBezTo>
                  <a:pt x="978" y="2489"/>
                  <a:pt x="984" y="2530"/>
                  <a:pt x="973" y="2569"/>
                </a:cubicBezTo>
                <a:cubicBezTo>
                  <a:pt x="969" y="2582"/>
                  <a:pt x="951" y="2584"/>
                  <a:pt x="941" y="2593"/>
                </a:cubicBezTo>
                <a:cubicBezTo>
                  <a:pt x="871" y="2655"/>
                  <a:pt x="929" y="2615"/>
                  <a:pt x="877" y="2649"/>
                </a:cubicBezTo>
                <a:cubicBezTo>
                  <a:pt x="863" y="2672"/>
                  <a:pt x="842" y="2690"/>
                  <a:pt x="829" y="2713"/>
                </a:cubicBezTo>
                <a:cubicBezTo>
                  <a:pt x="821" y="2727"/>
                  <a:pt x="819" y="2772"/>
                  <a:pt x="813" y="2785"/>
                </a:cubicBezTo>
                <a:cubicBezTo>
                  <a:pt x="805" y="2800"/>
                  <a:pt x="779" y="2816"/>
                  <a:pt x="765" y="2825"/>
                </a:cubicBezTo>
                <a:cubicBezTo>
                  <a:pt x="725" y="2885"/>
                  <a:pt x="690" y="2849"/>
                  <a:pt x="637" y="2801"/>
                </a:cubicBezTo>
                <a:cubicBezTo>
                  <a:pt x="568" y="2738"/>
                  <a:pt x="559" y="2720"/>
                  <a:pt x="517" y="2657"/>
                </a:cubicBezTo>
                <a:cubicBezTo>
                  <a:pt x="508" y="2704"/>
                  <a:pt x="516" y="2739"/>
                  <a:pt x="525" y="2785"/>
                </a:cubicBezTo>
                <a:cubicBezTo>
                  <a:pt x="522" y="2796"/>
                  <a:pt x="527" y="2814"/>
                  <a:pt x="517" y="2817"/>
                </a:cubicBezTo>
                <a:cubicBezTo>
                  <a:pt x="453" y="2838"/>
                  <a:pt x="432" y="2780"/>
                  <a:pt x="397" y="2745"/>
                </a:cubicBezTo>
                <a:cubicBezTo>
                  <a:pt x="378" y="2748"/>
                  <a:pt x="359" y="2759"/>
                  <a:pt x="341" y="2753"/>
                </a:cubicBezTo>
                <a:cubicBezTo>
                  <a:pt x="298" y="2740"/>
                  <a:pt x="251" y="2649"/>
                  <a:pt x="237" y="2625"/>
                </a:cubicBezTo>
                <a:cubicBezTo>
                  <a:pt x="155" y="2488"/>
                  <a:pt x="159" y="2363"/>
                  <a:pt x="117" y="2217"/>
                </a:cubicBezTo>
                <a:cubicBezTo>
                  <a:pt x="109" y="2189"/>
                  <a:pt x="94" y="2164"/>
                  <a:pt x="85" y="2137"/>
                </a:cubicBezTo>
                <a:cubicBezTo>
                  <a:pt x="88" y="2068"/>
                  <a:pt x="87" y="1998"/>
                  <a:pt x="93" y="1929"/>
                </a:cubicBezTo>
                <a:cubicBezTo>
                  <a:pt x="95" y="1902"/>
                  <a:pt x="109" y="1849"/>
                  <a:pt x="109" y="1849"/>
                </a:cubicBezTo>
                <a:cubicBezTo>
                  <a:pt x="125" y="1664"/>
                  <a:pt x="121" y="1460"/>
                  <a:pt x="181" y="1281"/>
                </a:cubicBezTo>
                <a:cubicBezTo>
                  <a:pt x="191" y="1178"/>
                  <a:pt x="103" y="1132"/>
                  <a:pt x="133" y="1041"/>
                </a:cubicBezTo>
                <a:cubicBezTo>
                  <a:pt x="147" y="887"/>
                  <a:pt x="63" y="737"/>
                  <a:pt x="5" y="593"/>
                </a:cubicBezTo>
                <a:cubicBezTo>
                  <a:pt x="0" y="458"/>
                  <a:pt x="182" y="413"/>
                  <a:pt x="197" y="297"/>
                </a:cubicBezTo>
                <a:cubicBezTo>
                  <a:pt x="203" y="252"/>
                  <a:pt x="247" y="220"/>
                  <a:pt x="261" y="177"/>
                </a:cubicBezTo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9172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Der Bestelldatenaustausch in der Praxis (1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Übersic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8288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2133720"/>
            <a:ext cx="1981080" cy="259056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Katharinen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hos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tuttg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057400"/>
            <a:ext cx="1981440" cy="25909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Aven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Phar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2362320"/>
            <a:ext cx="4495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742840" y="30481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42840" y="37339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514240" y="4343400"/>
            <a:ext cx="434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4572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 Rounded MT Bold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Be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2362320"/>
            <a:ext cx="4572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514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Bestellbestätig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Liefersch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Fak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9172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Der Bestelldatenaustausch in der Praxis (2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Katharinenhosp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8288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1828800"/>
            <a:ext cx="807732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2514600"/>
            <a:ext cx="19810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inkau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2514600"/>
            <a:ext cx="16002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ID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2514600"/>
            <a:ext cx="1981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e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2057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P R/3 4.0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27432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2743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3657600"/>
            <a:ext cx="807732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38862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AP Business 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343400"/>
            <a:ext cx="1981080" cy="380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Rule Aven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29000" y="4343400"/>
            <a:ext cx="2666880" cy="380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Package Aven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4343400"/>
            <a:ext cx="2210040" cy="380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XML Aven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5715000"/>
            <a:ext cx="8077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 Rounded MT Bold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238880" y="2971800"/>
            <a:ext cx="0" cy="1371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095880" y="45720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048120" y="45720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4724280"/>
            <a:ext cx="0" cy="990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9172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Der Bestelldatenaustausch in der Praxis (3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ventis Pha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18288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029200"/>
            <a:ext cx="807732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5638680"/>
            <a:ext cx="19810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Vertri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5638680"/>
            <a:ext cx="19810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uftr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5105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AP R/3 4.0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86040" y="58672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3048120"/>
            <a:ext cx="8077320" cy="152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124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AP Business 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3733920"/>
            <a:ext cx="1295640" cy="380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Rule K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3733920"/>
            <a:ext cx="1905120" cy="380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Package K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733920"/>
            <a:ext cx="2209680" cy="380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XML Aven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905120"/>
            <a:ext cx="8077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 Rounded MT Bold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2590920"/>
            <a:ext cx="0" cy="11430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962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3962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72400" y="4114800"/>
            <a:ext cx="0" cy="15238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3733920"/>
            <a:ext cx="1219320" cy="380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IDo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3962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5638680"/>
            <a:ext cx="22860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 Rounded MT Bold"/>
              </a:rPr>
              <a:t>IDoc-Eing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895480" y="58672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Agenda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E-Commerce mit SAP R/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XML - das Datenformat der Zukun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er SAP Business Connector - das Tor zum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stelldatenaustausch in der Prax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E-Commerce mit SAP R/3 (1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44792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3" marL="1536120" indent="-219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E-Commerce Business Scenarios - Warum ?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7480" y="2057400"/>
            <a:ext cx="4646520" cy="3200400"/>
          </a:xfrm>
          <a:prstGeom prst="wedgeEllipseCallout">
            <a:avLst>
              <a:gd name="adj1" fmla="val -35888"/>
              <a:gd name="adj2" fmla="val 53916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Unsere Zielsetzung ist es, das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Internet in allen Ebenen für die Kundenbindung zu nutzen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, vor allem jedoch bei unseren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Hauptzielgruppen Arzt und Patient sowie auch Großhändlern oder Klinikapotheken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. Denn mit dem Internet haben wir ein neues Instrument für unsere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ustomer Relationship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, das auf Services und Informationen rund um Produkte aufbaut.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905120"/>
            <a:ext cx="3733920" cy="1066680"/>
          </a:xfrm>
          <a:prstGeom prst="wedgeEllipseCallout">
            <a:avLst>
              <a:gd name="adj1" fmla="val -27041"/>
              <a:gd name="adj2" fmla="val 109523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ein im letzten Jahr hat sich di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ahl der Mediziner, die das Internet nutzen, von 8,2 auf 18,4 Prozent erhö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581280"/>
            <a:ext cx="4646880" cy="2895840"/>
          </a:xfrm>
          <a:prstGeom prst="wedgeEllipseCallout">
            <a:avLst>
              <a:gd name="adj1" fmla="val -46310"/>
              <a:gd name="adj2" fmla="val 41337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in wichtiger Bereich für Pharmaunternehmen wird in Zukunft das E-Business werden. Unsere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Zielgruppe sind hier Großhändler und Apotheken in den Kliniken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, für die wir bereits jetzt elektronische Bestellsysteme entwickeln. Die Internet-Warenkorbfunktion wird die bereits jetzt existenten Systeme zunächst ergänzen.“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 Rounded MT Bold"/>
              </a:rPr>
              <a:t>Quelle: </a:t>
            </a:r>
            <a:r>
              <a:rPr b="1" lang="de-DE" sz="1000" spc="-1" strike="noStrike">
                <a:solidFill>
                  <a:srgbClr val="ffffff"/>
                </a:solidFill>
                <a:latin typeface="Arial"/>
              </a:rPr>
              <a:t>Dr. Heinz-Werner Meier in der FAZ vom 10.11.9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E-Commerce mit SAP R/3 (2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E-Commerce Business Scenarios - Anforderungen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ptimale E-Commerce-Lösungen verlangen einen einheitlichen Satz von Einkaufs- und Vertriebswerkzeugen. Die Einkaufs- und Vertriebs- Business-Szenarios mySAP.com™ bieten eine E-Commerce-Lösung, die ausgereifte Produktpaletten einschließt. Diese Lösung kann Unternehmen unterstützen, die die Vorzüge des E-Commerce voll ausnutzen wollen.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ie Einkaufs- und Vertriebs- Business-Szenarios mySAP.com™ werden von folgenden Komponenten unterstützt: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c0128"/>
                </a:solidFill>
                <a:uFillTx/>
                <a:latin typeface="Times New Roman"/>
                <a:hlinkClick r:id="rId3"/>
              </a:rPr>
              <a:t>SAP Business-to-Business</a:t>
            </a:r>
            <a:r>
              <a:rPr b="0" lang="de-DE" sz="2400" spc="-1" strike="noStrike" u="sng">
                <a:solidFill>
                  <a:srgbClr val="fc0128"/>
                </a:solidFill>
                <a:uFillTx/>
                <a:latin typeface="Times New Roman"/>
                <a:hlinkClick r:id="rId4"/>
              </a:rPr>
              <a:t> Procurement</a:t>
            </a:r>
            <a:r>
              <a:rPr b="1" lang="de-DE" sz="24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r>
              <a:rPr b="1" lang="de-DE" sz="2400" spc="-1" strike="noStrike" u="sng">
                <a:solidFill>
                  <a:srgbClr val="fafd00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c0128"/>
                </a:solidFill>
                <a:uFillTx/>
                <a:latin typeface="Times New Roman"/>
                <a:hlinkClick r:id="rId5"/>
              </a:rPr>
              <a:t>SAP Internet S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c0128"/>
                </a:solidFill>
                <a:uFillTx/>
                <a:latin typeface="Times New Roman"/>
                <a:hlinkClick r:id="rId6"/>
              </a:rPr>
              <a:t>S</a:t>
            </a:r>
            <a:r>
              <a:rPr b="0" lang="de-DE" sz="2400" spc="-1" strike="noStrike" u="sng">
                <a:solidFill>
                  <a:srgbClr val="fc0128"/>
                </a:solidFill>
                <a:uFillTx/>
                <a:latin typeface="Times New Roman"/>
                <a:hlinkClick r:id="rId7"/>
              </a:rPr>
              <a:t>AP Online Store</a:t>
            </a:r>
            <a:r>
              <a:rPr b="1" lang="de-DE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E-Commerce mit SAP R/3 (3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Times New Roman"/>
              </a:rPr>
              <a:t>E-Commerce Business Scenarios - Umfeld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160880" y="1905120"/>
          <a:ext cx="4983120" cy="46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0880" y="1905120"/>
                    <a:ext cx="4983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96_0306a" descr=""/>
          <p:cNvPicPr/>
          <p:nvPr/>
        </p:nvPicPr>
        <p:blipFill>
          <a:blip r:embed="rId5">
            <a:lum bright="70000" contrast="-70000"/>
          </a:blip>
          <a:srcRect l="0" t="0" r="0" b="14130"/>
          <a:stretch/>
        </p:blipFill>
        <p:spPr>
          <a:xfrm>
            <a:off x="152280" y="1905120"/>
            <a:ext cx="4573800" cy="4647960"/>
          </a:xfrm>
          <a:prstGeom prst="rect">
            <a:avLst/>
          </a:prstGeom>
          <a:ln w="0">
            <a:noFill/>
          </a:ln>
        </p:spPr>
      </p:pic>
      <p:pic>
        <p:nvPicPr>
          <p:cNvPr id="90" name="X" descr=""/>
          <p:cNvPicPr/>
          <p:nvPr/>
        </p:nvPicPr>
        <p:blipFill>
          <a:blip r:embed="rId6"/>
          <a:stretch/>
        </p:blipFill>
        <p:spPr>
          <a:xfrm>
            <a:off x="1295280" y="4572000"/>
            <a:ext cx="1552680" cy="1190520"/>
          </a:xfrm>
          <a:prstGeom prst="rect">
            <a:avLst/>
          </a:prstGeom>
          <a:ln w="0">
            <a:noFill/>
          </a:ln>
        </p:spPr>
      </p:pic>
      <p:pic>
        <p:nvPicPr>
          <p:cNvPr id="91" name="X" descr=""/>
          <p:cNvPicPr/>
          <p:nvPr/>
        </p:nvPicPr>
        <p:blipFill>
          <a:blip r:embed="rId7"/>
          <a:stretch/>
        </p:blipFill>
        <p:spPr>
          <a:xfrm>
            <a:off x="228600" y="1981080"/>
            <a:ext cx="1866960" cy="1400400"/>
          </a:xfrm>
          <a:prstGeom prst="rect">
            <a:avLst/>
          </a:prstGeom>
          <a:ln w="0">
            <a:noFill/>
          </a:ln>
        </p:spPr>
      </p:pic>
      <p:pic>
        <p:nvPicPr>
          <p:cNvPr id="92" name="x" descr=""/>
          <p:cNvPicPr/>
          <p:nvPr/>
        </p:nvPicPr>
        <p:blipFill>
          <a:blip r:embed="rId8"/>
          <a:stretch/>
        </p:blipFill>
        <p:spPr>
          <a:xfrm>
            <a:off x="5181480" y="4191120"/>
            <a:ext cx="1447920" cy="1400040"/>
          </a:xfrm>
          <a:prstGeom prst="rect">
            <a:avLst/>
          </a:prstGeom>
          <a:ln w="0">
            <a:noFill/>
          </a:ln>
        </p:spPr>
      </p:pic>
      <p:pic>
        <p:nvPicPr>
          <p:cNvPr id="93" name="x" descr=""/>
          <p:cNvPicPr/>
          <p:nvPr/>
        </p:nvPicPr>
        <p:blipFill>
          <a:blip r:embed="rId9"/>
          <a:stretch/>
        </p:blipFill>
        <p:spPr>
          <a:xfrm>
            <a:off x="6934320" y="1981080"/>
            <a:ext cx="1752480" cy="1465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05120" y="2438280"/>
            <a:ext cx="1611360" cy="58068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SAP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kpl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2438280"/>
            <a:ext cx="1752480" cy="58068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SAP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rketpl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600200" y="3048120"/>
            <a:ext cx="5850000" cy="114768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09480" y="3124080"/>
            <a:ext cx="304920" cy="858960"/>
          </a:xfrm>
          <a:prstGeom prst="line">
            <a:avLst/>
          </a:prstGeom>
          <a:ln w="38160">
            <a:solidFill>
              <a:srgbClr val="3365fb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066320" y="3124080"/>
            <a:ext cx="1219320" cy="1447920"/>
          </a:xfrm>
          <a:prstGeom prst="line">
            <a:avLst/>
          </a:prstGeom>
          <a:ln w="38160">
            <a:solidFill>
              <a:srgbClr val="3365fb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3600" y="3123720"/>
            <a:ext cx="1523880" cy="993960"/>
          </a:xfrm>
          <a:prstGeom prst="line">
            <a:avLst/>
          </a:prstGeom>
          <a:ln w="28440">
            <a:solidFill>
              <a:srgbClr val="3365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8000640" y="3124080"/>
            <a:ext cx="228600" cy="914400"/>
          </a:xfrm>
          <a:prstGeom prst="line">
            <a:avLst/>
          </a:prstGeom>
          <a:ln w="28440">
            <a:solidFill>
              <a:srgbClr val="3365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219320" y="3048120"/>
            <a:ext cx="3962160" cy="1752480"/>
          </a:xfrm>
          <a:prstGeom prst="line">
            <a:avLst/>
          </a:prstGeom>
          <a:ln w="28440">
            <a:solidFill>
              <a:srgbClr val="3365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200400"/>
            <a:ext cx="1440" cy="3297240"/>
          </a:xfrm>
          <a:prstGeom prst="line">
            <a:avLst/>
          </a:prstGeom>
          <a:ln cap="rnd" w="38160">
            <a:solidFill>
              <a:srgbClr val="3365f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05120"/>
            <a:ext cx="168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Arial"/>
              </a:rPr>
              <a:t>Company/</a:t>
            </a:r>
            <a:br>
              <a:rPr sz="1600"/>
            </a:br>
            <a:r>
              <a:rPr b="1" lang="en-US" sz="1600" spc="-1" strike="noStrike">
                <a:solidFill>
                  <a:srgbClr val="3365fb"/>
                </a:solidFill>
                <a:latin typeface="Arial"/>
              </a:rPr>
              <a:t>Organization</a:t>
            </a:r>
            <a:br>
              <a:rPr sz="1600"/>
            </a:br>
            <a:r>
              <a:rPr b="1" lang="en-US" sz="1600" spc="-1" strike="noStrike">
                <a:solidFill>
                  <a:srgbClr val="3365fb"/>
                </a:solidFill>
                <a:latin typeface="Arial"/>
              </a:rPr>
              <a:t>bound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80920" y="2743200"/>
            <a:ext cx="2057400" cy="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X" descr=""/>
          <p:cNvPicPr/>
          <p:nvPr/>
        </p:nvPicPr>
        <p:blipFill>
          <a:blip r:embed="rId10"/>
          <a:stretch/>
        </p:blipFill>
        <p:spPr>
          <a:xfrm>
            <a:off x="152280" y="4038480"/>
            <a:ext cx="1428840" cy="1247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 flipH="1">
            <a:off x="7467120" y="4038480"/>
            <a:ext cx="1489320" cy="1219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70440" y="5130720"/>
            <a:ext cx="1535400" cy="33732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943600"/>
            <a:ext cx="3097440" cy="520200"/>
          </a:xfrm>
          <a:prstGeom prst="rect">
            <a:avLst/>
          </a:prstGeom>
          <a:solidFill>
            <a:srgbClr val="c0c0c0"/>
          </a:solidFill>
          <a:ln w="9360">
            <a:solidFill>
              <a:srgbClr val="3365fb"/>
            </a:solidFill>
            <a:miter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 and services</a:t>
            </a:r>
            <a:r>
              <a:rPr b="1" lang="en-US" sz="1400" spc="-1" strike="noStrike">
                <a:solidFill>
                  <a:srgbClr val="3365fb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65fb"/>
                </a:solidFill>
                <a:latin typeface="Arial"/>
              </a:rPr>
              <a:t>within</a:t>
            </a:r>
            <a:r>
              <a:rPr b="1" lang="en-US" sz="1400" spc="-1" strike="noStrike">
                <a:solidFill>
                  <a:srgbClr val="3365fb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contex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5943600"/>
            <a:ext cx="3092400" cy="520200"/>
          </a:xfrm>
          <a:prstGeom prst="rect">
            <a:avLst/>
          </a:prstGeom>
          <a:solidFill>
            <a:srgbClr val="c0c0c0"/>
          </a:solidFill>
          <a:ln w="9360">
            <a:solidFill>
              <a:srgbClr val="3365fb"/>
            </a:solidFill>
            <a:miter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 and services</a:t>
            </a:r>
            <a:r>
              <a:rPr b="1" lang="en-US" sz="1400" spc="-1" strike="noStrike">
                <a:solidFill>
                  <a:srgbClr val="f6bf6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365fb"/>
                </a:solidFill>
                <a:latin typeface="Arial"/>
              </a:rPr>
              <a:t>outsid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context</a:t>
            </a:r>
            <a:r>
              <a:rPr b="1" lang="en-US" sz="1400" spc="-1" strike="noStrike">
                <a:solidFill>
                  <a:srgbClr val="f6bf6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3429000"/>
            <a:ext cx="1611360" cy="58068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siness scen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5105520"/>
            <a:ext cx="1535400" cy="33732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un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70120" y="4991040"/>
            <a:ext cx="1535040" cy="58068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Karen" descr=""/>
          <p:cNvPicPr/>
          <p:nvPr/>
        </p:nvPicPr>
        <p:blipFill>
          <a:blip r:embed="rId12"/>
          <a:stretch/>
        </p:blipFill>
        <p:spPr>
          <a:xfrm>
            <a:off x="0" y="1828800"/>
            <a:ext cx="1114560" cy="996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48320" y="661356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 Rounded MT Bold"/>
              </a:rPr>
              <a:t>Quelle: © SAP 1999 Peter Graf (TechEd 99, Philaelphia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XML - das Datenformat der Zukunft (1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as ist XM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3733920"/>
            <a:ext cx="3810240" cy="22096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G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5029200"/>
            <a:ext cx="2895840" cy="1676520"/>
          </a:xfrm>
          <a:prstGeom prst="ellipse">
            <a:avLst/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4267080"/>
            <a:ext cx="1219320" cy="1143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X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82880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GML - Standard Generalized Language (ISO 887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362320"/>
            <a:ext cx="8534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TML - Hypertext Markup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819520"/>
            <a:ext cx="8534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XML   - Exensible Markup Langua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XML - das Datenformat der Zukunft (2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wendungen von XML 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XML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Extensible Markup Langua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362320"/>
            <a:ext cx="8534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MathML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Mathematical Markup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819520"/>
            <a:ext cx="8534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RDF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Ressource Description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276720"/>
            <a:ext cx="8534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XLink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Linking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80988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SMIL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Synchronized Mulitmedia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34340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XSL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- Extensible Stylesheet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 Rounded MT Bold"/>
              </a:rPr>
              <a:t>XML - das Datenformat der Zukunft (3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3" marL="1568160" indent="-22392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eispiel XML 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?xml version="1.0" encoding="windows-1252" ?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ROOT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Custom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CustomerID AttribCustomer="Attribute: VINET"  &gt;VINET&lt;/CustomerID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CompanyName&gt;Vins et alcools Chevalier&lt;/CompanyNa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Address&gt;59 rue de l'Abbaye&lt;/Address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Fax&gt;26.47.15.11&lt;/Fax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Ord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OrderID AttribOrder ="Attribute: 10248" &gt;10248&lt;/OrderID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OrderDate &gt;8/4/94&lt;/OrderDat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ShipCountry&gt;France&lt;/ShipCountry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/Ord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/Custom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OuterCustomerID AttribCustomer="Attribute: BONAP"  &gt;BONAP&lt;/OuterCustomerID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OuterCompanyName AttribCompany = "Attribute: Bon app"  &gt;Bon app&lt;/OuterCompanyNa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OuterCustomerID AttribCustomer="Attribute: RATTC"  &gt;RATTC&lt;/OuterCustomerID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OuterCompanyName AttribCompany = "Attribute: Rattlesnake Canyon Grocery"  &gt;Rattlesnake Canyon Grocery&lt;/OuterCompanyNa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Custom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CustomerID AttribCustomer="Attribute: TOMSP"  &gt;TOMSP&lt;/CustomerID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CompanyName &gt;Toms Spezialitäten&lt;/CompanyNa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Address&gt;Luisenstr. 48&lt;/Address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Fax &gt;0251-035695&lt;/Fax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Ord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OrderID AttribOrder ="Attribute: 10249" &gt;10249&lt;/OrderID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OrderDate&gt;8/5/94&lt;/OrderDat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ShipCountry&gt;Germany&lt;/ShipCountry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/Ord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/Custom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&lt;/ROOT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8288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219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 Rounded MT Bold"/>
              </a:rPr>
              <a:t>Der SAP Business Connector - das Tor zum Internet (1)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720" y="652140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Steffen Nestler, jw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Workshop Wuppertal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828800"/>
            <a:ext cx="8534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752480" y="1981080"/>
            <a:ext cx="5791320" cy="43340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3:23:16Z</dcterms:created>
  <dc:creator>Dr. Winkler</dc:creator>
  <dc:description/>
  <dc:language>en-US</dc:language>
  <cp:lastModifiedBy>Dr.Jochen Winkler</cp:lastModifiedBy>
  <cp:lastPrinted>1999-09-17T17:27:28Z</cp:lastPrinted>
  <dcterms:modified xsi:type="dcterms:W3CDTF">2000-03-26T12:01:08Z</dcterms:modified>
  <cp:revision>305</cp:revision>
  <dc:subject/>
  <dc:title>Round table Wuppertal</dc:title>
</cp:coreProperties>
</file>