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5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AC77AAD7-9DF0-45CB-8E49-EBC338A64E4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83640" y="6477120"/>
            <a:ext cx="129924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19  September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32400" y="6405480"/>
            <a:ext cx="360" cy="1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5484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362320" y="64008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5340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 algn="ctr"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66852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7588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19640" cy="2442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Optimierte Planung und Produktion mit periodischem Produktcontrolling </a:t>
            </a: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in der 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Wiesbaden, d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19. September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Erfolgsfaktoren bei der Realisier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 auf einem erprobten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anchen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fahrenes, eingespieltes Beraterte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ximale Unterstützung durch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Entwicklungsprinzipien (I)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lle Releasefähig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ektive Modellierung komplexer technologisch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modernster Techni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ennung Oberfläche von  Daten und 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definierte Menüs und 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führliche Funktions- und Anwendungsdoku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Entwicklungsprinzipien (I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Geschäftsprozesse (z.B. LIM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Vermeidung von bidirektionalen Kopp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isierte Einbindung von Pre- und Postprozess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tzwerke von Systemen (ALE/IDOC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zenten (z.B. Chemiewe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er (z.B. Zentraleinkau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Liefera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00000"/>
              </a:lnSpc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Absatzpla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st ein von jwConsulting entwickeltes Add-on auf Basis der SAP R/3 ABAP 4 Workbench mit releasefesten Schnittstellen zum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vigation in Programme Tagesabsatz- und Produktionspla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ahresabsatzplan wird auf der Ebene Werk und Jahr in der aktiven Version A00 sowie den frei (pro Werk und Jahr) anzulegenden inaktiven Versionen A01 bis A99 gepfleg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monatlichen Absatzahlen dienen als Grundlage für eine automatische Disaggregation in einen Tagesabsatzplan nach Lieferkalender und Losgröß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urden für einen Monat konkrete Tagesabsatzzahlen erfasst, so wird automatisch die Monatsabsatzzahl nicht mehr editierbar errech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onen können untereinander kopier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ahresplan kann ausgedruck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Jahresb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 Version A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ternative Versionen A01 bis A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25909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658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3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plant werden vorher definierte Planungshierarchien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: (Verkaufsmateri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: (der Kunde sonstige = 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##########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nie: (Arbeitsplatz Hierarchie für Kapazitätsbetracht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eferkalender: (zur automatischen Disaggregation auf mögliche Liefert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osgröße: (für die Dissagregation des Monatsabsatzes auf ganzzahlige Vielfache dieser Losgröße (z.B. ganze Tankzüg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19051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2209680" cy="1069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" y="434340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6172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ulation der Tagesplanung aufgrund von Monats-Planzah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9718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446720" cy="2046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324480" y="30481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829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onatliche Verteilung von Jahres-Planzahlen nach Liefertagen und Lieferlosgröß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2860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6378840" cy="322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57800" y="5257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43400" y="4114800"/>
            <a:ext cx="41608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Tagesplan wird auf der Ebene Werk und Produktgruppe gepfleg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Planung startet immer zum aktuellen Datum + die folgenden Tage, von da ab kann in die folgenden Wochen, welche immer montags beginnen, gesprungen wer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monatlichen Absatzahlen (der aktiven Version) dienen als Grundlage für eine automatische Disaggregation in einen Tagesabsatzplan nach Lieferkalender und Losgröß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urden für einen Monat konkrete Tagesabsatzzahlen erfasst, so wird automatisch die Monatsabsatzzahl nicht mehr editierbar errech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 den Tagesabsatzzahlen werden bereits erfasste Kunden-aufträge (zum Materialbereitstellungsdatum) angezeigt und (vorerst nur) mit den Planzahlen des selben Tages ver-rechnet (größter Wert zählt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SAP R/3 PP Workshop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iskonfigurationen ERP-System - P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aussetzungen für ein integriertes SAP-P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forderungen an ein solches P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olgsfaktoren für die Ein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wicklungsprinzipien </a:t>
            </a: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unktionsumfang Add-On </a:t>
            </a: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erienfertig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skussi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icht WA gebuchte vergangene Kundenaufträge werden als rückständiger Bedarf angezeigt (nicht mit Kundenaufträgen verrechnete vergangene Tagesabsatzzahlen verfall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owohl rückständige als auch zukünftige Bedarfe werden je Materialnummer verdichtet und die sich daraus ergebende Bestandssituation simulie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gen den Bestandsabbau wirkt ein editierbarer Produktions- und Abfüllpl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icht abgerechnete vergangene Produktionen bzw. Abfüllungen werden als rückständig angezeig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189920" cy="3124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Planung: Tagesabsatz und Produk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990720"/>
            <a:ext cx="82296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WA gebuchte vergangene Kundenaufträge werden als rückständiger Bedarf angezeigt (nicht mit Kundenaufträgen verrechnete vergangene Tagesabsatzzahlen verfalle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wohl rückständige als auch zukünftige Bedarfe werden je Materialnummer verdichtet und die sich daraus ergebende Bestandssituation simulie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gen den Bestandsabbau wirkt ein editierbarer Produktions- und Abfüllp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abgerechnete vergangene Produktionen bzw. Abfüllungen werden als rückständig angezeig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Daily Planni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93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Der Produktionsplan wird manuell von der mittelfristigen Entscheidung, welches Produkt (lose Ware) soll auf welcher Linie gefertigt werden, gepfleg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93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Aufruf des separaten Fensters „lose Ware“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93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Erfassen der fertigungsversionsbezogenen Produktionseinteilungen für lose Wa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93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Der aktuelle Tag bzw. der Rückstand sind nur noch über die Abrechnung editierbar (oder löschba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352680"/>
            <a:ext cx="792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35812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Die Produktions- und Abfüllplanmengen werden im System als SAP R/3 Standard Planaufträge des Typs „PE“ Produktionseinteilungen gespeichert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Die PE´s enthalten ebenfalls die Fertigungsversion und die zu verwendende Stückliste.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Die Komponenten der Stückliste werden als Reservierungen in der SAP R/3 Standardtabelle „RESB“ gespeichert, und können mit Standardmitteln eingesehen werden (z.B. Bedarfsplanung)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4479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949480" cy="1806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15000" y="198108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038480" y="1523880"/>
            <a:ext cx="4724640" cy="4543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590920" y="2590920"/>
            <a:ext cx="14475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Funktionsumfang Add-on jwSerienferti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onitorartige Oberfläche  zur Visualisierung der Arbeitsvorrates in der Produktion mit allen nötigen Umfeldfunktionen z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rbeitsvorbereit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rgen erzeu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kumente und Label druc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erialbereit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n-Prozesskontroll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Erfassung und Visualisierung von Prüfungen zu manuellen oder automatischen Prüfpunkten abhängig vom verwendeten Einstellungen im Module Q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erfas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on Warenbewe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Kontroll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on Produktionsstatus Beständen und Qualitäten in einer Mas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hargenübersicht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514600"/>
            <a:ext cx="731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0880" y="1066680"/>
            <a:ext cx="8457840" cy="5126040"/>
            <a:chOff x="380880" y="1066680"/>
            <a:chExt cx="8457840" cy="5126040"/>
          </a:xfrm>
        </p:grpSpPr>
        <p:sp>
          <p:nvSpPr>
            <p:cNvPr id="162" name=""/>
            <p:cNvSpPr/>
            <p:nvPr/>
          </p:nvSpPr>
          <p:spPr>
            <a:xfrm>
              <a:off x="1903320" y="591948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zahl der bereits gedruckten LVS 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880" y="591948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VS-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3320" y="5427360"/>
              <a:ext cx="6935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Farbliche Darstellung des 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880" y="5427360"/>
              <a:ext cx="15224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ä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3320" y="5141520"/>
              <a:ext cx="69354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E-Code im 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0880" y="5141520"/>
              <a:ext cx="15224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3320" y="4821120"/>
              <a:ext cx="6935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üflosnummer falls Material prüfpflicht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03320" y="3306600"/>
              <a:ext cx="693540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uneingeschränkt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eingeschränkt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Gesperrter Best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os: Qualitätsprüfbestand oder Bestand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as Anpassen der Bestandsart an den VE-Code erfolgt über die Schaltfläche „VE-&gt;Bestandsart“ bzw. automatisch alle 10 min durch den als periodischen Job eingeplanten Report „ZJWWMFREI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03320" y="303336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genwärtiger Chargenbestand (alle Bestandsart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03320" y="1920600"/>
              <a:ext cx="69354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Charge ist neu und kann bebucht we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Charge wurde bereits bearbeitet - Zubuchen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Charge wurde abgeschlossen - kein Zubuchen mehr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nweis: Chargen mit rotem Produktionsstatus und evtl. uneingeschränkt freiem Bestand (oder kein Bestand mehr) werden ausgeblend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03320" y="1612800"/>
              <a:ext cx="6935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um des letzten Wareneingangs in der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3320" y="133956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reits zugebuchte Me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03320" y="1066680"/>
              <a:ext cx="69354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nnummer Sortierkriterium - jüngste Charge ganz o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880" y="4821120"/>
              <a:ext cx="1522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880" y="3306600"/>
              <a:ext cx="152244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s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880" y="303336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880" y="1920600"/>
              <a:ext cx="15224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us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880" y="1612800"/>
              <a:ext cx="1522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tzter W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880" y="133956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880" y="1066680"/>
              <a:ext cx="1522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880" y="1066680"/>
              <a:ext cx="8457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880" y="6192720"/>
              <a:ext cx="8457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80" y="1066680"/>
              <a:ext cx="0" cy="5126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38720" y="1066680"/>
              <a:ext cx="0" cy="5126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880" y="13395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880" y="16128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880" y="19206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880" y="30333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3066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0880" y="482112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03320" y="1066680"/>
              <a:ext cx="0" cy="512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880" y="514152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880" y="54273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880" y="591948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325680" cy="2616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33920" y="1413000"/>
            <a:ext cx="5257800" cy="4701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28800" y="1523880"/>
            <a:ext cx="30481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8800" y="325440"/>
            <a:ext cx="57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Rückmelden von Warenbew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4114800"/>
            <a:ext cx="3276720" cy="159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ugruppenrückmeldung: Gutmenge + Komponenten + Leis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ponentenrückmeldung: nur Komponenten (z.B. Mehrverbrau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rückmeldung (z.B. Ist-zeiterfassung Lab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Entscheidungsfaktoren für ERP-System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294920"/>
            <a:ext cx="7772400" cy="47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deckung aller Geschäfts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 Transparenz d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mierung vo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ynerg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izienzsteig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einfachung von technologischen Upgrad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Vorteile des integrierten kundenindividuelles PPS in der kontinuierlichen Produktion (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Vorteile des integrierten kundenindividuelles PPS in der kontinuierlichen Produktion (I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Ergebni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19640" cy="24429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Optimierte Planung und Produktion mit periodischem Produktcontrolling </a:t>
            </a: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in der 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Wiesbaden, d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19. September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Entscheidungsfaktoren für ERP-System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nehmensweite 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nehmensweit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konsist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ungewollten 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fügbarkeit und Qualität von Inform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en gesamten Produktlebenszyk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lang des gesamten primären logistischen Proz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lfd. 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Basiskonfigurationen ERP-System - PP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ptimale Lösung, wenn die angebotenen Funktionen, das Systemhandling und die Flexibilität den Anforderungen genü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terne Planung z.B. APO mit Schnittstellen zu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dann zu empfehlen, wenn keine integrierte Lösung verfügbar 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aus Gründen der Lastverteilung sowieso mehrere Systeme im Einsatz si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ptimale Lösung, wenn das Standard ERP-System den Anforderungen nicht genüg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Voraussetzungen für ein integriertes SAP R/3 kundenindividuelles PP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68640" indent="-368640">
              <a:lnSpc>
                <a:spcPct val="120000"/>
              </a:lnSpc>
              <a:spcBef>
                <a:spcPts val="774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Bereich 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1680" indent="-28620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sehr wenig Basisprodukte pro An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120" indent="-273600">
              <a:spcBef>
                <a:spcPts val="513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.B. Anlage für die Methanolsynthese produziert ausschließlich Methanol meistens in einer Qualität, welches wiederum in wenigen Transportarten zum Endabnehmer transportiert wird =&gt; wenige Artikelnummer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1680" indent="-286200"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ist  wird 90 % des Absatzes mit 1 bis 3 planungsrelevanten Endverbrauchern realisi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774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=&gt; das Handling der SAP Funktionen wird als zu schwerfällig empfunden und wird meist durch eigene, wesentlich transparentere Exceltabellen oder ähnliches ersetz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Bereich Produktion und Produktions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m relativ klarem Prozessablauf stehen häufig komplex zu bedienende aber in ihren Funktionen nur spärlich genutzte Fertigungs- oder Prozessaufträge zur Abrechnung gegenü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ötigt wird eine einfache Maske zur Datenerfassung der Waren- und Leistungsbewegungen mit auf die eigentliche Funktion reduzierten Kostensammlern (Aufträ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Weitere Berei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 periodische Abrechnung der Produkt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5:14:30Z</dcterms:created>
  <dc:creator>Roschek Steffen</dc:creator>
  <dc:description/>
  <dc:language>en-US</dc:language>
  <cp:lastModifiedBy>Dr. Jochen Winkler</cp:lastModifiedBy>
  <cp:lastPrinted>1999-11-17T11:38:50Z</cp:lastPrinted>
  <dcterms:modified xsi:type="dcterms:W3CDTF">2002-09-18T10:55:35Z</dcterms:modified>
  <cp:revision>293</cp:revision>
  <dc:subject/>
  <dc:title>Optimierte Planung und Produktion mit periodischem Produktcontrolling  in der </dc:title>
</cp:coreProperties>
</file>