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7377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5486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71600" y="5182560"/>
            <a:ext cx="5486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2677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83200" y="4266720"/>
            <a:ext cx="2677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1600" y="5182560"/>
            <a:ext cx="2677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183200" y="5182560"/>
            <a:ext cx="2677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1766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26680" y="4266720"/>
            <a:ext cx="1766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082120" y="4266720"/>
            <a:ext cx="1766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71600" y="5182560"/>
            <a:ext cx="1766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26680" y="5182560"/>
            <a:ext cx="1766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082120" y="5182560"/>
            <a:ext cx="1766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54864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54864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26773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183200" y="4266720"/>
            <a:ext cx="26773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2200" y="1523880"/>
            <a:ext cx="6172200" cy="918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2677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183200" y="4266720"/>
            <a:ext cx="26773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371600" y="5182560"/>
            <a:ext cx="2677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54864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26773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83200" y="4266720"/>
            <a:ext cx="2677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183200" y="5182560"/>
            <a:ext cx="2677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2677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83200" y="4266720"/>
            <a:ext cx="2677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71600" y="5182560"/>
            <a:ext cx="5486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5486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371600" y="5182560"/>
            <a:ext cx="5486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2677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183200" y="4266720"/>
            <a:ext cx="2677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5182560"/>
            <a:ext cx="2677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183200" y="5182560"/>
            <a:ext cx="2677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1766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26680" y="4266720"/>
            <a:ext cx="1766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82120" y="4266720"/>
            <a:ext cx="1766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371600" y="5182560"/>
            <a:ext cx="1766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26680" y="5182560"/>
            <a:ext cx="1766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082120" y="5182560"/>
            <a:ext cx="1766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54864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26773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183200" y="4266720"/>
            <a:ext cx="26773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2200" y="1523880"/>
            <a:ext cx="6172200" cy="918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2677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183200" y="4266720"/>
            <a:ext cx="26773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1600" y="5182560"/>
            <a:ext cx="2677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26773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183200" y="4266720"/>
            <a:ext cx="2677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183200" y="5182560"/>
            <a:ext cx="2677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2677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183200" y="4266720"/>
            <a:ext cx="2677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1600" y="5182560"/>
            <a:ext cx="5486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2560" y="1978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spcBef>
                <a:spcPts val="550"/>
              </a:spcBef>
              <a:buClr>
                <a:srgbClr val="ff33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28760" indent="-279360">
              <a:spcBef>
                <a:spcPts val="55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17560" indent="-1983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381400" indent="-27972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381400" indent="-27972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381400" indent="-27972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869600" y="6477120"/>
            <a:ext cx="713880" cy="122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lie </a:t>
            </a:r>
            <a:fld id="{EC9D4722-D1E5-452B-A0D4-BDA3430E7696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183640" y="6477120"/>
            <a:ext cx="1299240" cy="122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ersion 19  September 20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32400" y="6405480"/>
            <a:ext cx="360" cy="12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854840" y="704880"/>
            <a:ext cx="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04920" y="990720"/>
            <a:ext cx="8458200" cy="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7120"/>
            <a:ext cx="13716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5360" y="6095880"/>
            <a:ext cx="60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ggadocio"/>
              </a:rPr>
              <a:t>j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2362320" y="6400800"/>
            <a:ext cx="1752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effen Rosche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853400" y="704880"/>
            <a:ext cx="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 algn="ctr">
              <a:spcBef>
                <a:spcPts val="1250"/>
              </a:spcBef>
              <a:buClr>
                <a:srgbClr val="ff33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80880" indent="668520"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760320" indent="758880"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381400" indent="-27972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381400" indent="-2797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381400" indent="-2797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676520" y="1676520"/>
            <a:ext cx="6119640" cy="244296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99"/>
                </a:solidFill>
                <a:latin typeface="Comic Sans MS"/>
              </a:rPr>
              <a:t>Optimierte Planung und Produktion mit periodischem Produktcontrolling </a:t>
            </a:r>
            <a:br>
              <a:rPr sz="3200"/>
            </a:br>
            <a:r>
              <a:rPr b="1" lang="de-DE" sz="3200" spc="-1" strike="noStrike">
                <a:solidFill>
                  <a:srgbClr val="000099"/>
                </a:solidFill>
                <a:latin typeface="Comic Sans MS"/>
              </a:rPr>
              <a:t>in der </a:t>
            </a:r>
            <a:endParaRPr b="1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52440" y="3908520"/>
            <a:ext cx="8439120" cy="21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777777"/>
                </a:solidFill>
                <a:latin typeface="Arial"/>
              </a:rPr>
              <a:t>Dipl. Phys. Steffen Roschek</a:t>
            </a:r>
            <a:br>
              <a:rPr sz="2200"/>
            </a:br>
            <a:r>
              <a:rPr b="1" lang="de-DE" sz="22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2200" spc="-1" strike="noStrike">
                <a:solidFill>
                  <a:srgbClr val="777777"/>
                </a:solidFill>
                <a:latin typeface="Arial"/>
              </a:rPr>
              <a:t>Consulting GmbH</a:t>
            </a:r>
            <a:r>
              <a:rPr b="1" lang="de-DE" sz="2900" spc="-1" strike="noStrike">
                <a:solidFill>
                  <a:srgbClr val="777777"/>
                </a:solidFill>
                <a:latin typeface="Arial"/>
              </a:rPr>
              <a:t> </a:t>
            </a:r>
            <a:br>
              <a:rPr sz="2200"/>
            </a:b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777777"/>
                </a:solidFill>
                <a:latin typeface="Arial"/>
              </a:rPr>
              <a:t>Wiesbaden, den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777777"/>
                </a:solidFill>
                <a:latin typeface="Arial"/>
              </a:rPr>
              <a:t>19. September 200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de-DE" sz="2200" spc="-1" strike="noStrike">
                <a:solidFill>
                  <a:srgbClr val="777777"/>
                </a:solidFill>
                <a:latin typeface="Arial"/>
              </a:rPr>
              <a:t>http://www.jwconsulting.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Erfolgsfaktoren bei der Realisierung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120000"/>
              </a:lnSpc>
              <a:spcBef>
                <a:spcPts val="711"/>
              </a:spcBef>
              <a:buClr>
                <a:srgbClr val="ff3300"/>
              </a:buClr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ufbau auf einem erprobten Prototyp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120000"/>
              </a:lnSpc>
              <a:spcBef>
                <a:spcPts val="71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120000"/>
              </a:lnSpc>
              <a:spcBef>
                <a:spcPts val="711"/>
              </a:spcBef>
              <a:buClr>
                <a:srgbClr val="ff3300"/>
              </a:buClr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ranchen Know-How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120000"/>
              </a:lnSpc>
              <a:spcBef>
                <a:spcPts val="71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120000"/>
              </a:lnSpc>
              <a:spcBef>
                <a:spcPts val="711"/>
              </a:spcBef>
              <a:buClr>
                <a:srgbClr val="ff3300"/>
              </a:buClr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rfahrenes, eingespieltes Beratertea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120000"/>
              </a:lnSpc>
              <a:spcBef>
                <a:spcPts val="71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120000"/>
              </a:lnSpc>
              <a:spcBef>
                <a:spcPts val="711"/>
              </a:spcBef>
              <a:buClr>
                <a:srgbClr val="ff3300"/>
              </a:buClr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ximale Unterstützung durch Kund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Entwicklungsprinzipien (I)</a:t>
            </a:r>
            <a:endParaRPr b="1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120000"/>
              </a:lnSpc>
              <a:spcBef>
                <a:spcPts val="711"/>
              </a:spcBef>
              <a:buClr>
                <a:srgbClr val="ff3300"/>
              </a:buClr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Keine Modifikationen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120000"/>
              </a:lnSpc>
              <a:spcBef>
                <a:spcPts val="711"/>
              </a:spcBef>
              <a:buClr>
                <a:srgbClr val="ff3300"/>
              </a:buClr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Volle Releasefähigkei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spcBef>
                <a:spcPts val="711"/>
              </a:spcBef>
              <a:buClr>
                <a:srgbClr val="ff3300"/>
              </a:buClr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Effektive Modellierung komplexer technologischer Prozes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120000"/>
              </a:lnSpc>
              <a:spcBef>
                <a:spcPts val="711"/>
              </a:spcBef>
              <a:buClr>
                <a:srgbClr val="ff3300"/>
              </a:buClr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Nutzung modernster Technik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120000"/>
              </a:lnSpc>
              <a:spcBef>
                <a:spcPts val="711"/>
              </a:spcBef>
              <a:buClr>
                <a:srgbClr val="ff3300"/>
              </a:buClr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Trennung Oberfläche von  Daten und Funk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120000"/>
              </a:lnSpc>
              <a:spcBef>
                <a:spcPts val="711"/>
              </a:spcBef>
              <a:buClr>
                <a:srgbClr val="ff3300"/>
              </a:buClr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Benutzerdefinierte Menüs und Mask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spcBef>
                <a:spcPts val="711"/>
              </a:spcBef>
              <a:buClr>
                <a:srgbClr val="ff3300"/>
              </a:buClr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usführliche Funktions- und Anwendungsdokument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Entwicklungsprinzipien (II)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Integration der Geschäftsprozesse (z.B. LIMS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buClr>
                <a:srgbClr val="ff00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öglichst Vermeidung von bidirektionalen Koppl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buClr>
                <a:srgbClr val="ff00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andardisierte Einbindung von Pre- und Postprozessor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Netzwerke von Systemen (ALE/IDOCs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buClr>
                <a:srgbClr val="ff00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duzenten (z.B. Chemiewerk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buClr>
                <a:srgbClr val="ff00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nstleister (z.B. Zentraleinkauf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buClr>
                <a:srgbClr val="ff00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unden, Lieferant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Planung:</a:t>
            </a: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Jahresplan Funktionsumfang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100000"/>
              </a:lnSpc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de-DE" sz="2000" spc="-1" strike="noStrike">
                <a:solidFill>
                  <a:srgbClr val="3333cc"/>
                </a:solidFill>
                <a:latin typeface="Arial"/>
              </a:rPr>
              <a:t>Absatzplan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ist ein von jwConsulting entwickeltes Add-on auf Basis der SAP R/3 ABAP 4 Workbench mit releasefesten Schnittstellen zum SAP R/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avigation in Programme Tagesabsatz- und Produktionsplan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r Jahresabsatzplan wird auf der Ebene Werk und Jahr in der aktiven Version A00 sowie den frei (pro Werk und Jahr) anzulegenden inaktiven Versionen A01 bis A99 gepfleg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 monatlichen Absatzahlen dienen als Grundlage für eine automatische Disaggregation in einen Tagesabsatzplan nach Lieferkalender und Losgröß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urden für einen Monat konkrete Tagesabsatzzahlen erfasst, so wird automatisch die Monatsabsatzzahl nicht mehr editierbar errechn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ersionen können untereinander kopiert werd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r Jahresplan kann ausgedruckt werd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Planung:</a:t>
            </a: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Jahresplan Funktionsumfang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62120" y="1066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858960" indent="-292320">
              <a:buClr>
                <a:srgbClr val="ff33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ersionsmanagement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f Jahresba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buClr>
                <a:srgbClr val="ff33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andard Version A0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buClr>
                <a:srgbClr val="ff33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lternative Versionen A01 bis A99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066680" y="2590920"/>
            <a:ext cx="6858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609480" y="2057400"/>
            <a:ext cx="7658280" cy="41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Planung:</a:t>
            </a: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Jahresplan Funktionsumfang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560" y="1142640"/>
            <a:ext cx="830556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130000"/>
              </a:lnSpc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Beplant werden vorher definierte Planungshierarchien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buClr>
                <a:srgbClr val="ff33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aterial: (Verkaufsmaterial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buClr>
                <a:srgbClr val="ff33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unde: (der Kunde sonstige = „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##########“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buClr>
                <a:srgbClr val="ff33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Linie: (Arbeitsplatz Hierarchie für Kapazitätsbetrachtung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buClr>
                <a:srgbClr val="ff33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Lieferkalender: (zur automatischen Disaggregation auf mögliche Liefert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buClr>
                <a:srgbClr val="ff33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Losgröße: (für die Dissagregation des Monatsabsatzes auf ganzzahlige Vielfache dieser Losgröße (z.B. ganze Tankzüge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400800" y="1905120"/>
            <a:ext cx="22096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629400" y="3886200"/>
            <a:ext cx="2209680" cy="10699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685800" y="4343400"/>
            <a:ext cx="7620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228600" y="3733920"/>
            <a:ext cx="6172200" cy="24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Planung:</a:t>
            </a: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Jahresplan Funktionsumfang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85896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ulation der Tagesplanung aufgrund von Monats-Planzahl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38080" y="2971800"/>
            <a:ext cx="2438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80880" y="2209680"/>
            <a:ext cx="4446720" cy="204624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6324480" y="3048120"/>
            <a:ext cx="10670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4952880" y="1752480"/>
            <a:ext cx="382932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Planung:</a:t>
            </a: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Jahresplan Funktionsumfang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Monatliche Verteilung von Jahres-Planzahlen nach Liefertagen und Lieferlosgröß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28600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52280" y="1828800"/>
            <a:ext cx="6378840" cy="32227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5257800" y="5257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4343400" y="4114800"/>
            <a:ext cx="4160880" cy="26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Planung: Tagesabsatz und Produktionsplan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er Tagesplan wird auf der Ebene Werk und Produktgruppe gepfleg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ie Planung startet immer zum aktuellen Datum + die folgenden Tage, von da ab kann in die folgenden Wochen, welche immer montags beginnen, gesprungen werd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ie monatlichen Absatzahlen (der aktiven Version) dienen als Grundlage für eine automatische Disaggregation in einen Tagesabsatzplan nach Lieferkalender und Losgröß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Wurden für einen Monat konkrete Tagesabsatzzahlen erfasst, so wird automatisch die Monatsabsatzzahl nicht mehr editierbar errechne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Zu den Tagesabsatzzahlen werden bereits erfasste Kunden-aufträge (zum Materialbereitstellungsdatum) angezeigt und (vorerst nur) mit den Planzahlen des selben Tages ver-rechnet (größter Wert zählt)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SAP R/3 PP Workshop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Entscheidungsfaktoren für ERP-System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Basiskonfigurationen ERP-System - P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Voraussetzungen für ein integriertes SAP-P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nforderungen an ein solches P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Erfolgsfaktoren für die Einführ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Entwicklungsprinzipien </a:t>
            </a:r>
            <a:r>
              <a:rPr b="1" lang="de-DE" sz="2000" spc="-1" strike="noStrike">
                <a:solidFill>
                  <a:srgbClr val="ff0000"/>
                </a:solidFill>
                <a:latin typeface="Braggadocio"/>
              </a:rPr>
              <a:t>j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Planung: Jahresplan Funktionsumfa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Planung: Tagesabsatz und Produktionspla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Funktionsumfang Add-On </a:t>
            </a:r>
            <a:r>
              <a:rPr b="1" lang="de-DE" sz="20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Serienfertig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iskussion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Planung: Tagesabsatz und Produktionsplan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Nicht WA gebuchte vergangene Kundenaufträge werden als rückständiger Bedarf angezeigt (nicht mit Kundenaufträgen verrechnete vergangene Tagesabsatzzahlen verfallen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Sowohl rückständige als auch zukünftige Bedarfe werden je Materialnummer verdichtet und die sich daraus ergebende Bestandssituation simulier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Gegen den Bestandsabbau wirkt ein editierbarer Produktions- und Abfüllpla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Nicht abgerechnete vergangene Produktionen bzw. Abfüllungen werden als rückständig angezeig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09480" y="3048120"/>
            <a:ext cx="7189920" cy="31240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228600" y="304920"/>
            <a:ext cx="853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99"/>
                </a:solidFill>
                <a:latin typeface="Comic Sans MS"/>
              </a:rPr>
              <a:t>Planung: Tagesabsatz und Produktions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" y="990720"/>
            <a:ext cx="8229600" cy="19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icht WA gebuchte vergangene Kundenaufträge werden als rückständiger Bedarf angezeigt (nicht mit Kundenaufträgen verrechnete vergangene Tagesabsatzzahlen verfallen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wohl rückständige als auch zukünftige Bedarfe werden je Materialnummer verdichtet und die sich daraus ergebende Bestandssituation simulier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gen den Bestandsabbau wirkt ein editierbarer Produktions- und Abfüllpla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icht abgerechnete vergangene Produktionen bzw. Abfüllungen werden als rückständig angezeigt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2362320" y="4800600"/>
            <a:ext cx="5257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77777"/>
                </a:solidFill>
                <a:latin typeface="Arial"/>
              </a:rPr>
              <a:t>Daily Planning</a:t>
            </a:r>
            <a:endParaRPr b="1" lang="en-US" sz="2800" spc="-1" strike="noStrike">
              <a:solidFill>
                <a:srgbClr val="777777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Planung: Tagesabsatz und Produktionsplan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spcBef>
                <a:spcPts val="938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Der Produktionsplan wird manuell von der mittelfristigen Entscheidung, welches Produkt (lose Ware) soll auf welcher Linie gefertigt werden, gepflegt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spcBef>
                <a:spcPts val="938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Aufruf des separaten Fensters „lose Ware“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spcBef>
                <a:spcPts val="938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Erfassen der fertigungsversionsbezogenen Produktionseinteilungen für lose Ware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spcBef>
                <a:spcPts val="938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Der aktuelle Tag bzw. der Rückstand sind nur noch über die Abrechnung editierbar (oder löschbar)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3352680"/>
            <a:ext cx="7924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3581280"/>
            <a:ext cx="9144000" cy="15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Planung: Tagesabsatz und Produktionsplan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4920" y="3276720"/>
            <a:ext cx="358128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814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000000"/>
                </a:solidFill>
                <a:latin typeface="Arial"/>
              </a:rPr>
              <a:t>Die Produktions- und Abfüllplanmengen werden im System als SAP R/3 Standard Planaufträge des Typs „PE“ Produktionseinteilungen gespeichert.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814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000000"/>
                </a:solidFill>
                <a:latin typeface="Arial"/>
              </a:rPr>
              <a:t>Die PE´s enthalten ebenfalls die Fertigungsversion und die zu verwendende Stückliste.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814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000000"/>
                </a:solidFill>
                <a:latin typeface="Arial"/>
              </a:rPr>
              <a:t>Die Komponenten der Stückliste werden als Reservierungen in der SAP R/3 Standardtabelle „RESB“ gespeichert, und können mit Standardmitteln eingesehen werden (z.B. Bedarfsplanung).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3520" y="1447920"/>
            <a:ext cx="2590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304920" y="1219320"/>
            <a:ext cx="2949480" cy="18064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5715000" y="198108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4038480" y="1523880"/>
            <a:ext cx="4724640" cy="454356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2590920" y="2590920"/>
            <a:ext cx="144756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99"/>
                </a:solidFill>
                <a:latin typeface="Comic Sans MS"/>
              </a:rPr>
              <a:t>Funktionsumfang Add-on jwSerienfertigung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Monitorartige Oberfläche  zur Visualisierung der Arbeitsvorrates in der Produktion mit allen nötigen Umfeldfunktionen zu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Arbeitsvorbereitung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28760" indent="-279360"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hargen erzeug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28760" indent="-279360"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okumente und Label druck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28760" indent="-279360"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Materialbereitstell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28760" indent="0"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buClr>
                <a:srgbClr val="ff00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In-Prozesskontrolle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: Erfassung und Visualisierung von Prüfungen zu manuellen oder automatischen Prüfpunkten abhängig vom verwendeten Einstellungen im Module Q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buClr>
                <a:srgbClr val="ff00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Datenerfassung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von Warenbeweg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buClr>
                <a:srgbClr val="ff00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Kontrolle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von Produktionsstatus Beständen und Qualitäten in einer Mas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Chargenübersicht</a:t>
            </a:r>
            <a:endParaRPr b="1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914400" y="2514600"/>
            <a:ext cx="7315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80880" y="1066680"/>
            <a:ext cx="8457840" cy="5126040"/>
            <a:chOff x="380880" y="1066680"/>
            <a:chExt cx="8457840" cy="5126040"/>
          </a:xfrm>
        </p:grpSpPr>
        <p:sp>
          <p:nvSpPr>
            <p:cNvPr id="162" name=""/>
            <p:cNvSpPr/>
            <p:nvPr/>
          </p:nvSpPr>
          <p:spPr>
            <a:xfrm>
              <a:off x="1903320" y="5919480"/>
              <a:ext cx="693540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marL="368640" indent="-368640">
                <a:lnSpc>
                  <a:spcPct val="100000"/>
                </a:lnSpc>
                <a:spcBef>
                  <a:spcPts val="300"/>
                </a:spcBef>
                <a:buClr>
                  <a:srgbClr val="ff33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nzahl der bereits gedruckten LVS Etikett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80880" y="5919480"/>
              <a:ext cx="152244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marL="280080" indent="-280080">
                <a:lnSpc>
                  <a:spcPct val="100000"/>
                </a:lnSpc>
                <a:spcBef>
                  <a:spcPts val="300"/>
                </a:spcBef>
                <a:buClr>
                  <a:srgbClr val="ff33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VS-Etikett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903320" y="5427360"/>
              <a:ext cx="6935400" cy="49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76200" indent="-376200">
                <a:lnSpc>
                  <a:spcPct val="100000"/>
                </a:lnSpc>
                <a:spcBef>
                  <a:spcPts val="300"/>
                </a:spcBef>
                <a:buClr>
                  <a:srgbClr val="ff33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Farbliche Darstellung des VE-Cod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76200" indent="-376200">
                <a:lnSpc>
                  <a:spcPct val="100000"/>
                </a:lnSpc>
                <a:spcBef>
                  <a:spcPts val="300"/>
                </a:spcBef>
                <a:buClr>
                  <a:srgbClr val="ff33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0880" y="5427360"/>
              <a:ext cx="1522440" cy="49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285840" indent="-285840">
                <a:lnSpc>
                  <a:spcPct val="100000"/>
                </a:lnSpc>
                <a:spcBef>
                  <a:spcPts val="300"/>
                </a:spcBef>
                <a:buClr>
                  <a:srgbClr val="ff33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Qualitä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03320" y="5141520"/>
              <a:ext cx="693540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76200" indent="-376200">
                <a:lnSpc>
                  <a:spcPct val="100000"/>
                </a:lnSpc>
                <a:spcBef>
                  <a:spcPts val="300"/>
                </a:spcBef>
                <a:buClr>
                  <a:srgbClr val="ff33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VE-Code im Prüfl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80880" y="5141520"/>
              <a:ext cx="152244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285840" indent="-285840">
                <a:lnSpc>
                  <a:spcPct val="100000"/>
                </a:lnSpc>
                <a:spcBef>
                  <a:spcPts val="300"/>
                </a:spcBef>
                <a:buClr>
                  <a:srgbClr val="ff33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VE-Cod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903320" y="4821120"/>
              <a:ext cx="69354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76200" indent="-376200">
                <a:lnSpc>
                  <a:spcPct val="100000"/>
                </a:lnSpc>
                <a:spcBef>
                  <a:spcPts val="300"/>
                </a:spcBef>
                <a:buClr>
                  <a:srgbClr val="ff33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rüflosnummer falls Material prüfpflichti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903320" y="3306600"/>
              <a:ext cx="6935400" cy="151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72240" indent="-372240">
                <a:lnSpc>
                  <a:spcPct val="100000"/>
                </a:lnSpc>
                <a:spcBef>
                  <a:spcPts val="300"/>
                </a:spcBef>
                <a:buClr>
                  <a:srgbClr val="ff33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rün: uneingeschränkt freier Besta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72240" indent="-372240">
                <a:lnSpc>
                  <a:spcPct val="100000"/>
                </a:lnSpc>
                <a:spcBef>
                  <a:spcPts val="300"/>
                </a:spcBef>
                <a:buClr>
                  <a:srgbClr val="ff33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elb: eingeschränkt freier Besta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72240" indent="-372240">
                <a:lnSpc>
                  <a:spcPct val="100000"/>
                </a:lnSpc>
                <a:spcBef>
                  <a:spcPts val="300"/>
                </a:spcBef>
                <a:buClr>
                  <a:srgbClr val="ff33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ot: Gesperrter Bestand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72240" indent="-372240">
                <a:lnSpc>
                  <a:spcPct val="100000"/>
                </a:lnSpc>
                <a:spcBef>
                  <a:spcPts val="300"/>
                </a:spcBef>
                <a:buClr>
                  <a:srgbClr val="ff33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arblos: Qualitätsprüfbestand oder Bestand = 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72240" indent="-372240">
                <a:lnSpc>
                  <a:spcPct val="100000"/>
                </a:lnSpc>
                <a:spcBef>
                  <a:spcPts val="300"/>
                </a:spcBef>
                <a:buClr>
                  <a:srgbClr val="ff33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3300"/>
                  </a:solidFill>
                  <a:latin typeface="Arial"/>
                </a:rPr>
                <a:t>Das Anpassen der Bestandsart an den VE-Code erfolgt über die Schaltfläche „VE-&gt;Bestandsart“ bzw. automatisch alle 10 min durch den als periodischen Job eingeplanten Report „ZJWWMFREI“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903320" y="3033360"/>
              <a:ext cx="693540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marL="368640" indent="-368640">
                <a:lnSpc>
                  <a:spcPct val="100000"/>
                </a:lnSpc>
                <a:spcBef>
                  <a:spcPts val="300"/>
                </a:spcBef>
                <a:buClr>
                  <a:srgbClr val="ff33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egenwärtiger Chargenbestand (alle Bestandsarten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903320" y="1920600"/>
              <a:ext cx="6935400" cy="11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72240" indent="-372240">
                <a:lnSpc>
                  <a:spcPct val="100000"/>
                </a:lnSpc>
                <a:spcBef>
                  <a:spcPts val="300"/>
                </a:spcBef>
                <a:buClr>
                  <a:srgbClr val="ff33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rün: Charge ist neu und kann bebucht werd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72240" indent="-372240">
                <a:lnSpc>
                  <a:spcPct val="100000"/>
                </a:lnSpc>
                <a:spcBef>
                  <a:spcPts val="300"/>
                </a:spcBef>
                <a:buClr>
                  <a:srgbClr val="ff33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elb: Charge wurde bereits bearbeitet - Zubuchen mögli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72240" indent="-372240">
                <a:lnSpc>
                  <a:spcPct val="100000"/>
                </a:lnSpc>
                <a:spcBef>
                  <a:spcPts val="300"/>
                </a:spcBef>
                <a:buClr>
                  <a:srgbClr val="ff33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ot: Charge wurde abgeschlossen - kein Zubuchen mehr mögli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72240" indent="-372240">
                <a:lnSpc>
                  <a:spcPct val="100000"/>
                </a:lnSpc>
                <a:spcBef>
                  <a:spcPts val="300"/>
                </a:spcBef>
                <a:buClr>
                  <a:srgbClr val="ff33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inweis: Chargen mit rotem Produktionsstatus und evtl. uneingeschränkt freiem Bestand (oder kein Bestand mehr) werden ausgeblend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903320" y="1612800"/>
              <a:ext cx="6935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76200" indent="-376200">
                <a:lnSpc>
                  <a:spcPct val="100000"/>
                </a:lnSpc>
                <a:spcBef>
                  <a:spcPts val="300"/>
                </a:spcBef>
                <a:buClr>
                  <a:srgbClr val="ff33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atum des letzten Wareneingangs in der Produk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903320" y="1339560"/>
              <a:ext cx="693540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marL="368640" indent="-368640">
                <a:lnSpc>
                  <a:spcPct val="100000"/>
                </a:lnSpc>
                <a:spcBef>
                  <a:spcPts val="300"/>
                </a:spcBef>
                <a:buClr>
                  <a:srgbClr val="ff33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ereits zugebuchte Men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903320" y="1066680"/>
              <a:ext cx="6935400" cy="2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marL="368640" indent="-368640">
                <a:lnSpc>
                  <a:spcPct val="100000"/>
                </a:lnSpc>
                <a:spcBef>
                  <a:spcPts val="300"/>
                </a:spcBef>
                <a:buClr>
                  <a:srgbClr val="ff33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hargennummer Sortierkriterium - jüngste Charge ganz ob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80880" y="4821120"/>
              <a:ext cx="15224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285840" indent="-285840">
                <a:lnSpc>
                  <a:spcPct val="100000"/>
                </a:lnSpc>
                <a:spcBef>
                  <a:spcPts val="300"/>
                </a:spcBef>
                <a:buClr>
                  <a:srgbClr val="ff33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Prüfl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80880" y="3306600"/>
              <a:ext cx="1522440" cy="151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285840" indent="-285840">
                <a:lnSpc>
                  <a:spcPct val="100000"/>
                </a:lnSpc>
                <a:spcBef>
                  <a:spcPts val="300"/>
                </a:spcBef>
                <a:buClr>
                  <a:srgbClr val="ff33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estands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0880" y="3033360"/>
              <a:ext cx="152244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marL="280080" indent="-280080">
                <a:lnSpc>
                  <a:spcPct val="100000"/>
                </a:lnSpc>
                <a:spcBef>
                  <a:spcPts val="300"/>
                </a:spcBef>
                <a:buClr>
                  <a:srgbClr val="ff33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esta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80880" y="1920600"/>
              <a:ext cx="1522440" cy="11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285840" indent="-285840">
                <a:lnSpc>
                  <a:spcPct val="100000"/>
                </a:lnSpc>
                <a:spcBef>
                  <a:spcPts val="300"/>
                </a:spcBef>
                <a:buClr>
                  <a:srgbClr val="ff33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tatus Produk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80880" y="1612800"/>
              <a:ext cx="15224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285840" indent="-285840">
                <a:lnSpc>
                  <a:spcPct val="100000"/>
                </a:lnSpc>
                <a:spcBef>
                  <a:spcPts val="300"/>
                </a:spcBef>
                <a:buClr>
                  <a:srgbClr val="ff33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etzter W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80880" y="1339560"/>
              <a:ext cx="152244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marL="280080" indent="-280080">
                <a:lnSpc>
                  <a:spcPct val="100000"/>
                </a:lnSpc>
                <a:spcBef>
                  <a:spcPts val="300"/>
                </a:spcBef>
                <a:buClr>
                  <a:srgbClr val="ff33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roduk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80880" y="1066680"/>
              <a:ext cx="1522440" cy="2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marL="280080" indent="-280080">
                <a:lnSpc>
                  <a:spcPct val="100000"/>
                </a:lnSpc>
                <a:spcBef>
                  <a:spcPts val="300"/>
                </a:spcBef>
                <a:buClr>
                  <a:srgbClr val="ff33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har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80880" y="1066680"/>
              <a:ext cx="84578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80880" y="6192720"/>
              <a:ext cx="84578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80880" y="1066680"/>
              <a:ext cx="0" cy="51260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838720" y="1066680"/>
              <a:ext cx="0" cy="51260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80880" y="1339560"/>
              <a:ext cx="845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0880" y="1612800"/>
              <a:ext cx="845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80880" y="1920600"/>
              <a:ext cx="845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80880" y="3033360"/>
              <a:ext cx="845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80880" y="3306600"/>
              <a:ext cx="845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80880" y="4821120"/>
              <a:ext cx="845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903320" y="1066680"/>
              <a:ext cx="0" cy="512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80880" y="5141520"/>
              <a:ext cx="845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80880" y="5427360"/>
              <a:ext cx="845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80880" y="5919480"/>
              <a:ext cx="845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228600" y="1219320"/>
            <a:ext cx="3325680" cy="261612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3733920" y="1413000"/>
            <a:ext cx="5257800" cy="470196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1828800" y="1523880"/>
            <a:ext cx="30481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58800" y="325440"/>
            <a:ext cx="576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Rückmelden von Warenbewegu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" y="4114800"/>
            <a:ext cx="3276720" cy="15951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5400" indent="-954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augruppenrückmeldung: Gutmenge + Komponenten + Leist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Komponentenrückmeldung: nur Komponenten (z.B. Mehrverbrauch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Leistungsrückmeldung (z.B. Ist-zeiterfassung Labo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304920" y="32544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In-Prozesskontrolle „Konti“-Produk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1371600" y="1066680"/>
            <a:ext cx="6705720" cy="520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Entscheidungsfaktoren für ERP-Systeme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2560" y="1294920"/>
            <a:ext cx="7772400" cy="479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Standardsoftwa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bdeckung aller Geschäftsprozes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urchgängige Transparenz der Prozes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Optimierung von Prozess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Nutzung von Synergi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Effizienzsteiger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SzPct val="75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Vereinfachung von technologischen Upgrad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99"/>
                </a:solidFill>
                <a:latin typeface="Comic Sans MS"/>
              </a:rPr>
              <a:t>Vorteile des integrierten kundenindividuelles PPS in der kontinuierlichen Produktion (I)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120000"/>
              </a:lnSpc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Sichere Produktionsstarts durch Aufbau auf Prototyp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120000"/>
              </a:lnSpc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Kurze Einführungszeit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120000"/>
              </a:lnSpc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Individuelle Funktionalität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120000"/>
              </a:lnSpc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Vermeidung von Schnittstell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120000"/>
              </a:lnSpc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Keine Datenredundanz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120000"/>
              </a:lnSpc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Einheitliche Datenba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99"/>
                </a:solidFill>
                <a:latin typeface="Comic Sans MS"/>
              </a:rPr>
              <a:t>Vorteile des integrierten kundenindividuelles PPS in der kontinuierlichen Produktion (II)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120000"/>
              </a:lnSpc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Keine zusätzliche Softwa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120000"/>
              </a:lnSpc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Keine zusätzliche Hardwa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120000"/>
              </a:lnSpc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dividuelle Masken, aber Standard SAP Oberfläch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120000"/>
              </a:lnSpc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dividuelle Bedien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120000"/>
              </a:lnSpc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rweiterbarkei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Ergebnis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spcBef>
                <a:spcPts val="550"/>
              </a:spcBef>
              <a:buClr>
                <a:srgbClr val="ff33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in an die individuellen Prozesse und Bedürfnisse des Kunden angepaßtes flexibles System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spcBef>
                <a:spcPts val="550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spcBef>
                <a:spcPts val="550"/>
              </a:spcBef>
              <a:buClr>
                <a:srgbClr val="ff33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ittel- und langfristig erheblichen Kostenvorteilen gegenüber einer externen Lös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1676520" y="1676520"/>
            <a:ext cx="6119640" cy="244296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917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99"/>
                </a:solidFill>
                <a:latin typeface="Comic Sans MS"/>
              </a:rPr>
              <a:t>Optimierte Planung und Produktion mit periodischem Produktcontrolling </a:t>
            </a:r>
            <a:br>
              <a:rPr sz="3200"/>
            </a:br>
            <a:r>
              <a:rPr b="1" lang="de-DE" sz="3200" spc="-1" strike="noStrike">
                <a:solidFill>
                  <a:srgbClr val="000099"/>
                </a:solidFill>
                <a:latin typeface="Comic Sans MS"/>
              </a:rPr>
              <a:t>in der </a:t>
            </a:r>
            <a:endParaRPr b="1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52440" y="3908520"/>
            <a:ext cx="8439120" cy="21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777777"/>
                </a:solidFill>
                <a:latin typeface="Arial"/>
              </a:rPr>
              <a:t>Dipl. Phys. Steffen Roschek</a:t>
            </a:r>
            <a:br>
              <a:rPr sz="2200"/>
            </a:br>
            <a:r>
              <a:rPr b="1" lang="de-DE" sz="20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2200" spc="-1" strike="noStrike">
                <a:solidFill>
                  <a:srgbClr val="777777"/>
                </a:solidFill>
                <a:latin typeface="Arial"/>
              </a:rPr>
              <a:t>Consulting GmbH</a:t>
            </a:r>
            <a:r>
              <a:rPr b="1" lang="de-DE" sz="2900" spc="-1" strike="noStrike">
                <a:solidFill>
                  <a:srgbClr val="777777"/>
                </a:solidFill>
                <a:latin typeface="Arial"/>
              </a:rPr>
              <a:t> </a:t>
            </a:r>
            <a:br>
              <a:rPr sz="2200"/>
            </a:b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777777"/>
                </a:solidFill>
                <a:latin typeface="Arial"/>
              </a:rPr>
              <a:t>Wiesbaden, den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777777"/>
                </a:solidFill>
                <a:latin typeface="Arial"/>
              </a:rPr>
              <a:t>19. September 200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de-DE" sz="2200" spc="-1" strike="noStrike">
                <a:solidFill>
                  <a:srgbClr val="777777"/>
                </a:solidFill>
                <a:latin typeface="Arial"/>
              </a:rPr>
              <a:t>http://www.jwconsulting.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Entscheidungsfaktoren für ERP-Systeme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Unternehmensweite einheitliche Datenba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buClr>
                <a:srgbClr val="ff00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ternehmensweite Integ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buClr>
                <a:srgbClr val="ff00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tenkonsistenz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buClr>
                <a:srgbClr val="ff00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eine ungewollten Redundanz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Verfügbarkeit und Qualität von Informationen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buClr>
                <a:srgbClr val="ff00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Über den gesamten Produktlebenszyklu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buClr>
                <a:srgbClr val="ff00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ntlang des gesamten primären logistischen Proze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Kostenreduzier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buClr>
                <a:srgbClr val="ff00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buClr>
                <a:srgbClr val="ff00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buClr>
                <a:srgbClr val="ff00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chnittstell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buClr>
                <a:srgbClr val="ff00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onstige lfd. Kost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9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9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Basiskonfigurationen ERP-System - PPS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560" y="11430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In das ERP-System integrierte Standardlös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buClr>
                <a:srgbClr val="ff00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Optimale Lösung, wenn die angebotenen Funktionen, das Systemhandling und die Flexibilität den Anforderungen genüg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Externe Planung z.B. APO mit Schnittstellen zum </a:t>
            </a:r>
            <a:br>
              <a:rPr sz="2200"/>
            </a:b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ERP-Syste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buClr>
                <a:srgbClr val="ff00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ur dann zu empfehlen, wenn keine integrierte Lösung verfügbar is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buClr>
                <a:srgbClr val="ff00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oder aus Gründen der Lastverteilung sowieso mehrere Systeme im Einsatz si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In das ERP-System integrierte kundenoptimierte Lös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buClr>
                <a:srgbClr val="ff00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Optimale Lösung, wenn das Standard ERP-System den Anforderungen nicht genüg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99"/>
                </a:solidFill>
                <a:latin typeface="Comic Sans MS"/>
              </a:rPr>
              <a:t>Voraussetzungen für ein integriertes SAP R/3 kundenindividuelles PPS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spcBef>
                <a:spcPts val="711"/>
              </a:spcBef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Unterstützung aller unternehmensweit anfallenden Anforderungen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Kurzfristig verfügba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Zukunftssicheres Konzep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Bezahlbar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Bedienbar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Erweiterba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99"/>
                </a:solidFill>
                <a:latin typeface="Comic Sans MS"/>
              </a:rPr>
              <a:t>Anforderungen an ein integriertes SAP R/3 + kunden-individuelles PPS in der kontinuierlichen Produktion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68640" indent="-368640">
              <a:lnSpc>
                <a:spcPct val="120000"/>
              </a:lnSpc>
              <a:spcBef>
                <a:spcPts val="774"/>
              </a:spcBef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 u="sng">
                <a:solidFill>
                  <a:srgbClr val="000000"/>
                </a:solidFill>
                <a:uFillTx/>
                <a:latin typeface="Arial"/>
              </a:rPr>
              <a:t>Bereich Planu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1680" indent="-28620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äufig sehr wenig Basisprodukte pro Anla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2120" indent="-273600">
              <a:spcBef>
                <a:spcPts val="513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z.B. Anlage für die Methanolsynthese produziert ausschließlich Methanol meistens in einer Qualität, welches wiederum in wenigen Transportarten zum Endabnehmer transportiert wird =&gt; wenige Artikelnummer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41680" indent="-286200">
              <a:spcBef>
                <a:spcPts val="649"/>
              </a:spcBef>
              <a:buClr>
                <a:srgbClr val="ff00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eist  wird 90 % des Absatzes mit 1 bis 3 planungsrelevanten Endverbrauchern realisie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8640" indent="-368640">
              <a:spcBef>
                <a:spcPts val="774"/>
              </a:spcBef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=&gt; das Handling der SAP Funktionen wird als zu schwerfällig empfunden und wird meist durch eigene, wesentlich transparentere Exceltabellen oder ähnliches ersetz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8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99"/>
                </a:solidFill>
                <a:latin typeface="Comic Sans MS"/>
              </a:rPr>
              <a:t>Anforderungen an ein integriertes SAP R/3 + kunden-individuelles PPS in der kontinuierlichen Produktion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 u="sng">
                <a:solidFill>
                  <a:srgbClr val="000000"/>
                </a:solidFill>
                <a:uFillTx/>
                <a:latin typeface="Arial"/>
              </a:rPr>
              <a:t>Bereich Produktion und Produktionsabrechn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buClr>
                <a:srgbClr val="ff00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m relativ klarem Prozessablauf stehen häufig komplex zu bedienende aber in ihren Funktionen nur spärlich genutzte Fertigungs- oder Prozessaufträge zur Abrechnung gegenüb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buClr>
                <a:srgbClr val="ff00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nötigt wird eine einfache Maske zur Datenerfassung der Waren- und Leistungsbewegungen mit auf die eigentliche Funktion reduzierten Kostensammlern (Aufträ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99"/>
                </a:solidFill>
                <a:latin typeface="Comic Sans MS"/>
              </a:rPr>
              <a:t>Anforderungen an ein integriertes SAP R/3 + kunden-individuelles PPS in der kontinuierlichen Produktion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 u="sng">
                <a:solidFill>
                  <a:srgbClr val="000000"/>
                </a:solidFill>
                <a:uFillTx/>
                <a:latin typeface="Arial"/>
              </a:rPr>
              <a:t>Weitere Bereich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lnSpc>
                <a:spcPct val="120000"/>
              </a:lnSpc>
              <a:spcBef>
                <a:spcPts val="649"/>
              </a:spcBef>
              <a:buClr>
                <a:srgbClr val="ff33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CO periodische Abrechnung der Produktkost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lnSpc>
                <a:spcPct val="120000"/>
              </a:lnSpc>
              <a:spcBef>
                <a:spcPts val="649"/>
              </a:spcBef>
              <a:buClr>
                <a:srgbClr val="ff33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tensicherheit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lnSpc>
                <a:spcPct val="120000"/>
              </a:lnSpc>
              <a:spcBef>
                <a:spcPts val="649"/>
              </a:spcBef>
              <a:buClr>
                <a:srgbClr val="ff33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rchivier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lnSpc>
                <a:spcPct val="120000"/>
              </a:lnSpc>
              <a:spcBef>
                <a:spcPts val="649"/>
              </a:spcBef>
              <a:buClr>
                <a:srgbClr val="ff33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ugriffsschutz / Berechtig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lnSpc>
                <a:spcPct val="120000"/>
              </a:lnSpc>
              <a:spcBef>
                <a:spcPts val="649"/>
              </a:spcBef>
              <a:buClr>
                <a:srgbClr val="ff33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dit-Trail-Funktion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lnSpc>
                <a:spcPct val="120000"/>
              </a:lnSpc>
              <a:spcBef>
                <a:spcPts val="649"/>
              </a:spcBef>
              <a:buClr>
                <a:srgbClr val="ff33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6T15:14:30Z</dcterms:created>
  <dc:creator>Roschek Steffen</dc:creator>
  <dc:description/>
  <dc:language>en-US</dc:language>
  <cp:lastModifiedBy>Dr. Jochen Winkler</cp:lastModifiedBy>
  <cp:lastPrinted>1999-11-17T11:38:50Z</cp:lastPrinted>
  <dcterms:modified xsi:type="dcterms:W3CDTF">2002-09-18T10:55:35Z</dcterms:modified>
  <cp:revision>293</cp:revision>
  <dc:subject/>
  <dc:title>Optimierte Planung und Produktion mit periodischem Produktcontrolling  in der </dc:title>
</cp:coreProperties>
</file>