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868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3740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392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3740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392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F9454-BEA0-48F7-92C0-AC908C81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EDA3A-A2F7-4145-AEE1-28D6019C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3C3A8-92E3-481A-BB4A-DDC8085F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0B7B9-20AB-4B4D-A1D3-D1BCAD1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13222-351A-464C-9673-A4F45F64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70106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012BB-EC57-4E5A-AC8C-D513F1E3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E41FC-3389-40AB-A40F-A7CA69B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868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C0B83-93BE-442F-B0C4-8B07AB6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7AE68-5396-483E-A7D9-84505C7E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52296-07D8-4F00-B837-3FD7525B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868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839A3-4C81-4B4A-A624-B9F6AD71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740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9392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740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9392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0C66F-773A-4669-B76B-A1642B05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70106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868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000640" y="632412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36000" rIns="36000" tIns="46800" bIns="46800" anchor="t">
            <a:noAutofit/>
          </a:bodyPr>
          <a:lstStyle>
            <a:lvl1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95640" cy="77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" name=""/>
          <p:cNvCxnSpPr/>
          <p:nvPr/>
        </p:nvCxnSpPr>
        <p:spPr>
          <a:xfrm flipH="1">
            <a:off x="609120" y="6477120"/>
            <a:ext cx="739224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sp>
        <p:nvSpPr>
          <p:cNvPr id="5" name=""/>
          <p:cNvSpPr/>
          <p:nvPr/>
        </p:nvSpPr>
        <p:spPr>
          <a:xfrm>
            <a:off x="1224360" y="6400800"/>
            <a:ext cx="2823480" cy="2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KW STICKSTOFFWERKE PIESTERITZ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6324480"/>
            <a:ext cx="457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B2EC-3D3E-4631-8C85-3F5FB815047A}" type="slidenum">
              <a:rPr b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" name=""/>
          <p:cNvCxnSpPr/>
          <p:nvPr/>
        </p:nvCxnSpPr>
        <p:spPr>
          <a:xfrm>
            <a:off x="8534160" y="38095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8" name=""/>
          <p:cNvCxnSpPr/>
          <p:nvPr/>
        </p:nvCxnSpPr>
        <p:spPr>
          <a:xfrm>
            <a:off x="456840" y="1219320"/>
            <a:ext cx="8001720" cy="2160"/>
          </a:xfrm>
          <a:prstGeom prst="straightConnector1">
            <a:avLst/>
          </a:prstGeom>
          <a:ln w="38160">
            <a:solidFill>
              <a:srgbClr val="579bff"/>
            </a:solidFill>
            <a:miter/>
          </a:ln>
        </p:spPr>
      </p:cxnSp>
      <p:cxnSp>
        <p:nvCxnSpPr>
          <p:cNvPr id="9" name=""/>
          <p:cNvCxnSpPr/>
          <p:nvPr/>
        </p:nvCxnSpPr>
        <p:spPr>
          <a:xfrm>
            <a:off x="8762760" y="1523880"/>
            <a:ext cx="1080" cy="5029920"/>
          </a:xfrm>
          <a:prstGeom prst="straightConnector1">
            <a:avLst/>
          </a:prstGeom>
          <a:ln w="38160">
            <a:solidFill>
              <a:srgbClr val="579bff"/>
            </a:solidFill>
            <a:miter/>
          </a:ln>
        </p:spPr>
      </p:cxnSp>
      <p:sp>
        <p:nvSpPr>
          <p:cNvPr id="10" name=""/>
          <p:cNvSpPr/>
          <p:nvPr/>
        </p:nvSpPr>
        <p:spPr>
          <a:xfrm>
            <a:off x="8153640" y="1219320"/>
            <a:ext cx="60912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57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476760" y="5791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20004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8380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3CFA-C6A0-4E6C-8C23-C32FE5171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2286000" cy="1366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tivation für das Projekt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„Produktions-/Absatzplanung“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in der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SKW Stickstoffwerke Piesteritz Gmb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r H. S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V-Projekt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teilung Informatik/Kommun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oduktionsplanung tägli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e Abwicklung in eigenentwickeltem EXCEL-Planungs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 Datenaustausch mit SAP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e „Stücklisten“-Defin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e Materialidentif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Nutzung des EXCEL-Planungs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austausch (Download/Upload) mit SAP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ung der SAP-Stücklisten im EXCEL-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mittlung der Sekundärbedarfe im EXCEL-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schlüsselung der Materialidentifikatoren im EXCEL-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esamtbilanz monatli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wicklung in eigenentwickelter EXCEL-Appl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bildung von Medien und Kuppelprodukten als Leistungsarten, da kein Mengengerüst (Stückliste) ermitte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e Abwicklung im SAP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r Basis generierter Stücklisten auch Medien und Kuppelprodukte abbild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oduktkalk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- und Istkalkulation sind mit SAP-Standardmitteln fast vollständig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lem: Ermittlung des Mengengerüstes (Stückliste) für Kuppelprodukte und Med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lkulation für Medien und Kuppelprodukte in EXCEL-Appl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alität zur Generierung von Stücklisten für Medien und Kuppel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e Abbildung mit SAP-Standardmitt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Transaktion mit weiteren Selektionsmög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bsatzpla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hresplanung mit SAP-Standardmitt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tive Absatzplanung über eigenentwickeltes EXCEL-Planungs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 Datenaustausch zwischen EXCEL und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Nutzung des EXCEL-Planungs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austausch (Download/Upload) mit SAP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Grund der zum großen Teil heuristischen und empirischen Faktoren, die in die operative Produktionsplanung eingehen, ist eine Abbildung dieses Prozesses mit SAP-Mitteln nicht mög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urch Download/Upload-Funktionen zwischen dem SAP-System und den EXCEL-Planungsmodellen wird eine einheitliche Datenbasis im SAP-System sichergestel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553080" y="4419720"/>
            <a:ext cx="1905120" cy="167616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44956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11480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7524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1447920"/>
            <a:ext cx="1904760" cy="167616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15238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34120" y="3478320"/>
            <a:ext cx="1066680" cy="636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66680" y="2207880"/>
            <a:ext cx="14479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äch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samt ca. 388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825920"/>
            <a:ext cx="2133720" cy="10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grochemie Industriechem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ährlich: 1,8 Mio. t Produk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1700640"/>
            <a:ext cx="205740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&amp;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. 40 Mitarbeiter in Forschung, Entwicklung, An-wendungstechnik, Analyt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352040"/>
            <a:ext cx="18288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icht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15 Grundsteinlegung 1993 Gründung der SKW Piesteri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694040"/>
            <a:ext cx="1752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rne Anlagen für Versand per Straße und Schiene/Eigener Elbeha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48765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. 600 Mitarb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971800"/>
            <a:ext cx="266688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362320" y="3809520"/>
            <a:ext cx="2819160" cy="685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943600" y="2819520"/>
            <a:ext cx="380880" cy="4572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2743200"/>
            <a:ext cx="380880" cy="533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952880" y="4343400"/>
            <a:ext cx="609840" cy="533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4343400"/>
            <a:ext cx="533520" cy="457200"/>
          </a:xfrm>
          <a:custGeom>
            <a:avLst/>
            <a:gdLst/>
            <a:ahLst/>
            <a:rect l="l" t="t" r="r" b="b"/>
            <a:pathLst>
              <a:path w="309" h="309">
                <a:moveTo>
                  <a:pt x="309" y="30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276720"/>
            <a:ext cx="1295640" cy="11430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95640" cy="774720"/>
          </a:xfrm>
          <a:prstGeom prst="rect">
            <a:avLst/>
          </a:prstGeom>
          <a:ln w="0">
            <a:noFill/>
          </a:ln>
        </p:spPr>
      </p:pic>
      <p:cxnSp>
        <p:nvCxnSpPr>
          <p:cNvPr id="112" name=""/>
          <p:cNvCxnSpPr/>
          <p:nvPr/>
        </p:nvCxnSpPr>
        <p:spPr>
          <a:xfrm flipH="1">
            <a:off x="609120" y="6477120"/>
            <a:ext cx="739224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1224360" y="6400800"/>
            <a:ext cx="2823480" cy="2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KW STICKSTOFFWERKE PIESTERITZ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6840" y="1219320"/>
            <a:ext cx="8308080" cy="5314680"/>
            <a:chOff x="456840" y="1219320"/>
            <a:chExt cx="8308080" cy="5314680"/>
          </a:xfrm>
        </p:grpSpPr>
        <p:cxnSp>
          <p:nvCxnSpPr>
            <p:cNvPr id="115" name=""/>
            <p:cNvCxnSpPr/>
            <p:nvPr/>
          </p:nvCxnSpPr>
          <p:spPr>
            <a:xfrm>
              <a:off x="456840" y="1219320"/>
              <a:ext cx="8001720" cy="2160"/>
            </a:xfrm>
            <a:prstGeom prst="straightConnector1">
              <a:avLst/>
            </a:prstGeom>
            <a:ln w="38160">
              <a:solidFill>
                <a:srgbClr val="579bff"/>
              </a:solidFill>
              <a:miter/>
            </a:ln>
          </p:spPr>
        </p:cxnSp>
        <p:cxnSp>
          <p:nvCxnSpPr>
            <p:cNvPr id="116" name=""/>
            <p:cNvCxnSpPr/>
            <p:nvPr/>
          </p:nvCxnSpPr>
          <p:spPr>
            <a:xfrm>
              <a:off x="8763120" y="1523520"/>
              <a:ext cx="2160" cy="5010840"/>
            </a:xfrm>
            <a:prstGeom prst="straightConnector1">
              <a:avLst/>
            </a:prstGeom>
            <a:ln w="38160">
              <a:solidFill>
                <a:srgbClr val="579bff"/>
              </a:solidFill>
              <a:miter/>
            </a:ln>
          </p:spPr>
        </p:cxnSp>
        <p:sp>
          <p:nvSpPr>
            <p:cNvPr id="117" name=""/>
            <p:cNvSpPr/>
            <p:nvPr/>
          </p:nvSpPr>
          <p:spPr>
            <a:xfrm>
              <a:off x="8153640" y="1219320"/>
              <a:ext cx="6091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57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KW Piesteritz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odukte der SKW Piesteritz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groche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ditionelle Stickstoffdüngemit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ickstoffdüngemittel mit Schwef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bilisierte Stickstoffdüngemitt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bilisierte Flüssigdünger mit Schwef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tterharnstoff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eche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minohar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stickungsmittel für Verbrennungsabg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x-Reduktionsmittel für Fahrzeugabg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sschemik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mmoni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nst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lpetersä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poxidharze und Epoxidharzhä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igungsmitt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500" spc="-1" strike="noStrike">
                <a:solidFill>
                  <a:srgbClr val="000000"/>
                </a:solidFill>
                <a:latin typeface="Arial"/>
              </a:rPr>
              <a:t>Meilensteine des SAP-Einsatze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93040" y="1523880"/>
            <a:ext cx="66348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8560" y="1523880"/>
            <a:ext cx="66348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2160" y="1523880"/>
            <a:ext cx="6620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523880"/>
            <a:ext cx="66348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97200" y="1523880"/>
            <a:ext cx="6620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1523880"/>
            <a:ext cx="6638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9440" y="1523880"/>
            <a:ext cx="6638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9000" y="1523880"/>
            <a:ext cx="6638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62600" y="1523880"/>
            <a:ext cx="6620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94400" y="1523880"/>
            <a:ext cx="66348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66760" y="1523880"/>
            <a:ext cx="6620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3768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804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128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3308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6668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848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3172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352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9712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2892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523880"/>
            <a:ext cx="66348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64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3520" y="1905120"/>
            <a:ext cx="1615680" cy="609480"/>
            <a:chOff x="533520" y="1905120"/>
            <a:chExt cx="1615680" cy="609480"/>
          </a:xfrm>
        </p:grpSpPr>
        <p:grpSp>
          <p:nvGrpSpPr>
            <p:cNvPr id="147" name=""/>
            <p:cNvGrpSpPr/>
            <p:nvPr/>
          </p:nvGrpSpPr>
          <p:grpSpPr>
            <a:xfrm>
              <a:off x="533520" y="1905120"/>
              <a:ext cx="1615680" cy="609480"/>
              <a:chOff x="533520" y="1905120"/>
              <a:chExt cx="1615680" cy="6094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533520" y="1905120"/>
                <a:ext cx="1264320" cy="609480"/>
                <a:chOff x="533520" y="1905120"/>
                <a:chExt cx="1264320" cy="60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3520" y="1905120"/>
                  <a:ext cx="632160" cy="609480"/>
                </a:xfrm>
                <a:custGeom>
                  <a:avLst/>
                  <a:gdLst>
                    <a:gd name="textAreaLeft" fmla="*/ 0 w 632160"/>
                    <a:gd name="textAreaRight" fmla="*/ 632520 w 632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4520" y="1905120"/>
                  <a:ext cx="632160" cy="609480"/>
                </a:xfrm>
                <a:custGeom>
                  <a:avLst/>
                  <a:gdLst>
                    <a:gd name="textAreaLeft" fmla="*/ 0 w 632160"/>
                    <a:gd name="textAreaRight" fmla="*/ 632520 w 632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165680" y="1905120"/>
                  <a:ext cx="632160" cy="609480"/>
                </a:xfrm>
                <a:custGeom>
                  <a:avLst/>
                  <a:gdLst>
                    <a:gd name="textAreaLeft" fmla="*/ 0 w 632160"/>
                    <a:gd name="textAreaRight" fmla="*/ 632520 w 632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1517040" y="1905120"/>
                <a:ext cx="632160" cy="60948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884880" y="1979640"/>
              <a:ext cx="95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2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iesterit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079720" y="2666880"/>
            <a:ext cx="2671200" cy="609480"/>
            <a:chOff x="2079720" y="2666880"/>
            <a:chExt cx="2671200" cy="609480"/>
          </a:xfrm>
        </p:grpSpPr>
        <p:grpSp>
          <p:nvGrpSpPr>
            <p:cNvPr id="155" name=""/>
            <p:cNvGrpSpPr/>
            <p:nvPr/>
          </p:nvGrpSpPr>
          <p:grpSpPr>
            <a:xfrm>
              <a:off x="2079720" y="2666880"/>
              <a:ext cx="2671200" cy="609480"/>
              <a:chOff x="2079720" y="2666880"/>
              <a:chExt cx="2671200" cy="609480"/>
            </a:xfrm>
          </p:grpSpPr>
          <p:sp>
            <p:nvSpPr>
              <p:cNvPr id="156" name=""/>
              <p:cNvSpPr/>
              <p:nvPr/>
            </p:nvSpPr>
            <p:spPr>
              <a:xfrm>
                <a:off x="207972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4476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2320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0128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11840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6668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923200" y="2741760"/>
              <a:ext cx="95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2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rostbe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65400" y="3429000"/>
            <a:ext cx="2384280" cy="609480"/>
            <a:chOff x="3065400" y="3429000"/>
            <a:chExt cx="2384280" cy="609480"/>
          </a:xfrm>
        </p:grpSpPr>
        <p:grpSp>
          <p:nvGrpSpPr>
            <p:cNvPr id="164" name=""/>
            <p:cNvGrpSpPr/>
            <p:nvPr/>
          </p:nvGrpSpPr>
          <p:grpSpPr>
            <a:xfrm>
              <a:off x="3415320" y="3429000"/>
              <a:ext cx="1335240" cy="609480"/>
              <a:chOff x="3415320" y="3429000"/>
              <a:chExt cx="133524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3415320" y="342900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118040" y="342900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36880" y="342900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065400" y="3503880"/>
              <a:ext cx="2384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3 Verlade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it Kopplung zum R/2-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000920" y="4191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48480" y="3048120"/>
            <a:ext cx="703080" cy="1143000"/>
          </a:xfrm>
          <a:prstGeom prst="downArrow">
            <a:avLst>
              <a:gd name="adj1" fmla="val 50000"/>
              <a:gd name="adj2" fmla="val 40643"/>
            </a:avLst>
          </a:prstGeom>
          <a:solidFill>
            <a:srgbClr val="579b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0240" y="3192840"/>
            <a:ext cx="10112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au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ährung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tel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6216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540320" y="4191120"/>
            <a:ext cx="3936600" cy="609480"/>
            <a:chOff x="4540320" y="4191120"/>
            <a:chExt cx="3936600" cy="609480"/>
          </a:xfrm>
        </p:grpSpPr>
        <p:sp>
          <p:nvSpPr>
            <p:cNvPr id="174" name=""/>
            <p:cNvSpPr/>
            <p:nvPr/>
          </p:nvSpPr>
          <p:spPr>
            <a:xfrm>
              <a:off x="538380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6188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032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764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0572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7112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4920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37680" y="4341600"/>
              <a:ext cx="775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304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4440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140600" y="4952880"/>
            <a:ext cx="1336320" cy="609840"/>
            <a:chOff x="7140600" y="4952880"/>
            <a:chExt cx="1336320" cy="609840"/>
          </a:xfrm>
        </p:grpSpPr>
        <p:sp>
          <p:nvSpPr>
            <p:cNvPr id="185" name=""/>
            <p:cNvSpPr/>
            <p:nvPr/>
          </p:nvSpPr>
          <p:spPr>
            <a:xfrm>
              <a:off x="7140600" y="4952880"/>
              <a:ext cx="632880" cy="609840"/>
            </a:xfrm>
            <a:custGeom>
              <a:avLst/>
              <a:gdLst>
                <a:gd name="textAreaLeft" fmla="*/ 0 w 632880"/>
                <a:gd name="textAreaRight" fmla="*/ 632880 w 6328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92320" y="4952880"/>
              <a:ext cx="632880" cy="609840"/>
            </a:xfrm>
            <a:custGeom>
              <a:avLst/>
              <a:gdLst>
                <a:gd name="textAreaLeft" fmla="*/ 0 w 632880"/>
                <a:gd name="textAreaRight" fmla="*/ 632880 w 6328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44040" y="4952880"/>
              <a:ext cx="632880" cy="609840"/>
            </a:xfrm>
            <a:custGeom>
              <a:avLst/>
              <a:gdLst>
                <a:gd name="textAreaLeft" fmla="*/ 0 w 632880"/>
                <a:gd name="textAreaRight" fmla="*/ 632880 w 6328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23560" y="5103720"/>
              <a:ext cx="7902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351560" y="3048120"/>
            <a:ext cx="703440" cy="1143000"/>
          </a:xfrm>
          <a:prstGeom prst="downArrow">
            <a:avLst>
              <a:gd name="adj1" fmla="val 50000"/>
              <a:gd name="adj2" fmla="val 4062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6840" y="3048120"/>
            <a:ext cx="701640" cy="1143000"/>
          </a:xfrm>
          <a:prstGeom prst="downArrow">
            <a:avLst>
              <a:gd name="adj1" fmla="val 50000"/>
              <a:gd name="adj2" fmla="val 40726"/>
            </a:avLst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88320" y="3274920"/>
            <a:ext cx="426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120" y="3198960"/>
            <a:ext cx="11059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Commerc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bildung der Produktion im SAP-System als Serienfert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tzung von eigenentwickelten EXCEL-Applikationen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Produktion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Absatz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Produktions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amtbilanzierung der 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mittlung des Mengengerüstes für Medien und Kuppel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gelnde Aktualität der Planungs- und Abrechnungsdaten der Produktion und des Absa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Materialidentifikationen im SAP-System und in den EXCEL-Appl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 einheitliche Datenbasis für Managementinformation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ojektzie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affung einer einheitlichen Datenbasis im SAP-System zur Erlangung von Managementinform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bildung der EXCEL-Planungsmodelle mit SAP-Mit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heitlichung der verwendeten Materialidentifikatoren und  Stück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e Produktkalkulation im SAP-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eilaufgaben des Projek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371600"/>
            <a:ext cx="7543800" cy="472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65200" y="2286000"/>
            <a:ext cx="2133720" cy="1219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92720" y="2483280"/>
            <a:ext cx="167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am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3733920"/>
            <a:ext cx="2133720" cy="12189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65520" y="4724280"/>
            <a:ext cx="213372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7160" y="1523880"/>
            <a:ext cx="2133720" cy="1219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7520" y="3886200"/>
            <a:ext cx="2133720" cy="12193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2209680"/>
            <a:ext cx="2133720" cy="1219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0600" y="4071600"/>
            <a:ext cx="11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8160" y="5164560"/>
            <a:ext cx="2317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76840" y="4326480"/>
            <a:ext cx="2161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ges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7440" y="252864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k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9400" y="1721160"/>
            <a:ext cx="175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6920" y="3197880"/>
            <a:ext cx="339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j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bsatz-/Produktion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lanun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agesabschlu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ägliche Erfassung der Produktionsmengen in EXCEL-Appl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oradische Buchungen im SAP-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rauchsbuchungen einmal monat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ägliche Erfassung der Produktionsmengen im SAP-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räuche Zwischenprodukte als retrograde Entna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räuche Rohstoffe, Energien und Kuppelprodukte einmal monat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urbuchung mit SAP-Standard-Transaktionen nach Ermittlung der zu buchenden Mengen in der EXCEL-Appl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urbuchungen über eine individuelle, schlankere Transa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en zur Verteilung von Bestandsdifferenzen sind einbau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2:45:47Z</dcterms:created>
  <dc:creator>vo24</dc:creator>
  <dc:description>SKWP Präsentationsvorlage</dc:description>
  <cp:keywords>SKWP Präsentationsvorlage Vorlage Präsentation</cp:keywords>
  <dc:language>en-US</dc:language>
  <cp:lastModifiedBy>Dr. Jochen Winkler</cp:lastModifiedBy>
  <cp:lastPrinted>2000-04-25T13:22:06Z</cp:lastPrinted>
  <dcterms:modified xsi:type="dcterms:W3CDTF">2002-09-18T18:42:07Z</dcterms:modified>
  <cp:revision>29</cp:revision>
  <dc:subject/>
  <dc:title>Motivation für das Projekt  „Produktions-/Absatzplanung“  in der  SKW Stickstoffwerke Piesteritz GmbH</dc:title>
</cp:coreProperties>
</file>