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DC9-4CC0-4C63-AED5-18191474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8AA-D809-4312-826F-843D67C6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955-5239-477B-B5A5-BF9EC1BD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008-9609-46D3-882E-3A6F0300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30A-CC64-4706-9751-4CCF3F8F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ED7-CED5-44E5-9B2D-911E224B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A05-DBE2-4C22-A347-A99023AE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E35-EC06-427E-A9EC-7764B7D1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56B-3342-4B13-A5F5-1BE5068B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52A-C565-40A6-A59C-04B822CE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F6E-ACF0-458B-BF03-315DDBC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428-380B-48C1-BA5E-A9A8613E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6160" indent="-37296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8920" indent="-2923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7792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4969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4969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4969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48E5A799-1343-49B0-BF96-F3E00C14F00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1430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560" y="1981080"/>
            <a:ext cx="8305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rnd Mickley</a:t>
            </a:r>
            <a:br>
              <a:rPr sz="2400"/>
            </a:br>
            <a:r>
              <a:rPr b="1" lang="de-DE" sz="24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esbaden, den 19.09.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C4B-B32A-4CF7-9FA8-B05CB2A176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752480"/>
            <a:ext cx="779472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677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P – A – S – E + Z – B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743200"/>
            <a:ext cx="85341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 Term kann immer berechnet w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VP)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: ist immer vorgegeben (lückenlose Planu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: wird immer berechnet (Stücklistenauflösu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: mehrere MatNr. möglich (sogar eine MatNr mit  mehreren Fertigungsversion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: mehrere MatNr möglich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295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D77-173D-486F-9C5F-1BD9322591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0773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827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P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 P – A – S – E + Z – B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81952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: Der Zukauf berechnet sich aus der noch fehlenden Me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: Der Bestand ist immer = 0 (Energi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: Anstelle des Absatzes könnte ein Term Versand geplant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werden (Menge, die das Werk an einem Tag verläßt)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V = A + 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: Die Produktion berechnet sich aus dem Sekundärbedar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1371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derberechnungen (Bei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836-9F92-4823-BFF0-E2021413D0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allgemeine Bilanzgleichung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chnung eines Kann-Absatze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 ist negativ, weil die Produktion die Anforderungen des Absatzes nicht erfüllen kann. Eine Benachrichtigung des Marketings ist erforderlich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286000"/>
            <a:ext cx="80773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 P – A – S – E + Z – 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derberechnungen (Beispie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8EF-7E21-46D3-ABEE-B36CE167F0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ff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4495680"/>
            <a:ext cx="852336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Technisch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ist der Stoff (Produkt oder Material) selbst wieder eine Materialnummer - ein Ident für alle Materialnummern des Stoffes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26828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341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429000"/>
            <a:ext cx="8001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Ein Stoff besteht aus einem Material, das chemisch und physikalisch gleich 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057400"/>
            <a:ext cx="82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Logistisch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benötigt man mehrere Materialnummern für ein Material, allein um die Kosten der Bulkware, der verpackten Waren und des Zukaufes abzubil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0CE-D7BB-4282-AEBA-F34A133C8F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nat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2057400"/>
          <a:ext cx="776124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76124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62120" y="411480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809880"/>
            <a:ext cx="11430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ZW-Produ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Produkt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34340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449568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72428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7692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02920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3962520"/>
            <a:ext cx="136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4D9-6B54-4C58-9E18-4F72AA8C1B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gesplan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ispiel</a:t>
            </a:r>
            <a:br>
              <a:rPr sz="12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39047" b="49792"/>
          <a:stretch/>
        </p:blipFill>
        <p:spPr>
          <a:xfrm>
            <a:off x="755640" y="692280"/>
            <a:ext cx="7701120" cy="4946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547640" y="2421000"/>
            <a:ext cx="66963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: Stoff 1  P: Stoff 1  S: Stoff 1  E: Stoff 1  B: Stoff 1  B: Stoff 1  P: Stoff 2 B: Stoff 2  P: Stoff 3       Stoff 4: 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  to        200 to      50   to        10     to        40   to      100    to      50   to        50 t 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   to        200 to      50   to          0     to      140   to      100   to       50   to        50 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00   to       150  to      50   to          0     to      140   to      100   to       50   to        50 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50   to       150  to      50   to          0     to        90   to      100    to      50   to        50  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3141720"/>
            <a:ext cx="6983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2421000"/>
            <a:ext cx="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88000" y="2421000"/>
            <a:ext cx="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6000" y="2421000"/>
            <a:ext cx="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421000"/>
            <a:ext cx="0" cy="324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2708280"/>
            <a:ext cx="69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67640" y="2349360"/>
            <a:ext cx="1297080" cy="719280"/>
          </a:xfrm>
          <a:prstGeom prst="wedgeEllipseCallout">
            <a:avLst>
              <a:gd name="adj1" fmla="val -78884"/>
              <a:gd name="adj2" fmla="val 603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 hier Pland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2050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üssige Dü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6165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.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2205000"/>
            <a:ext cx="792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133720"/>
            <a:ext cx="86544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511-186B-4CB2-B269-4A363E4672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1981080"/>
            <a:ext cx="8305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rnd Mickley</a:t>
            </a:r>
            <a:br>
              <a:rPr sz="2400"/>
            </a:br>
            <a:r>
              <a:rPr b="1" lang="de-DE" sz="2400" spc="-1" strike="noStrike">
                <a:solidFill>
                  <a:srgbClr val="ff505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esbaden, den 19.09.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1F7-0DAD-4D85-AF2E-1FD27C008A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verse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1700280"/>
            <a:ext cx="1224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2360" y="2852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1225440" cy="81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4005360"/>
            <a:ext cx="1224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1A0-1008-4126-848E-0FAEE8FC78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iverselle Absatz- und Produktionsplanung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e Anforderungen (Absatz, Produktion, politische Entscheidungen) müssen algorithmierbar se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e können heuristische oder empirische Entscheidungen abgebildet werden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e können plötzlich auftretende Ereignisse abgebildet werden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ersönliche Erfahrungen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E4D-CDEC-4760-9B76-1039ACF9DC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iverselle Absatz- und Produktionsplanung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satzanforderungen </a:t>
            </a:r>
            <a:br>
              <a:rPr sz="22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tragsabwicklungen,  Marktlage, Wettbewerber, Kosten, Gewin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ionsmöglichkei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pazitäten, Abhängigkeiten (Zwischenprodukte), technische Veränderungen, Wartung, Havarie, Rohstoff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hängigkeit: Absatz - Produkt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2FF-FF7E-44BE-B5DD-85DDFD72DA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bsatz- und Produktionsplanung im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 SOP 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nsistente Planung, Stufenplanung, Delta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lexible Plan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ystemkonfigurierbar, Planungsebene (Verkaufsorganisation, Warengruppe, Werk, Produktgruppe, Material) auswähl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PO (Advanced Planner &amp; Optimizer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usiness Objektorientierte Steuerung der Produktion von einem Cockp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393-FEBF-4142-9AB1-68EF391612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dividuelle 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73040" indent="-47304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lanungsperiod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nsistente Speich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allgemeine Bilanzglei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Stoff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ispie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13716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gemeine Erfahr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337-D5FB-4C46-9215-24D9C240A4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Planungsperi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7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hresplan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ungswerte des Vorjahres, Absatzbedingungen, Produktionsver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7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atsplan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nötigt IST-DATEN (aktueller Monat, Vormonat, um den Folgemonat zu plan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475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gesplan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nötigt IST-DATEN (bis zum aktuellen Tag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A63-AC80-40FD-B809-AFC3FFDBB7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SAP R/3 ist das Master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747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700280"/>
            <a:ext cx="609624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 Daten sind auf einer Datenbank gespeich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 betriebswirtschaftlichen Erfordernisse erfolgen im SAP Standard und/oder individuellen Rep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886200"/>
            <a:ext cx="5334120" cy="194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962520"/>
            <a:ext cx="495288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er Operator (z.B.  EXC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ulation des Absatzes und der Produktion; Nebenbedingungen; An- und Abfahrprozesse, Wetter, Erfahrungen, Kopf des Mensc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0364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50028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st-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96000" y="2133720"/>
            <a:ext cx="2448000" cy="1008000"/>
          </a:xfrm>
          <a:prstGeom prst="wedgeRoundRectCallout">
            <a:avLst>
              <a:gd name="adj1" fmla="val -74578"/>
              <a:gd name="adj2" fmla="val 146851"/>
              <a:gd name="adj3" fmla="val 16667"/>
            </a:avLst>
          </a:prstGeom>
          <a:solidFill>
            <a:srgbClr val="e6c0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e denkbare Möglichkei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3500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n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E8A-9990-4CF1-8BE7-98A8B94F19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752480"/>
            <a:ext cx="7489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3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P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 – A – S 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Z – B = 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1952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= Bestand   (VP vorhergehende Planungsperiod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 = Produ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Absa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 Sekundär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= Eigenbe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= Zuk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3573360"/>
            <a:ext cx="388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r Term in der Bilanzgleichung ist eine Menge (pro Mengeneinheit), die im SAP durch eine oder mehrere Materialnummern identifiziert wi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d Mickl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C6F-C8B2-4832-9432-6D909ABCC5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6:02:42Z</dcterms:created>
  <dc:creator>PC 01</dc:creator>
  <dc:description/>
  <dc:language>en-US</dc:language>
  <cp:lastModifiedBy>Dr. Jochen Winkler</cp:lastModifiedBy>
  <cp:lastPrinted>2002-09-17T08:39:11Z</cp:lastPrinted>
  <dcterms:modified xsi:type="dcterms:W3CDTF">2002-09-18T10:52:53Z</dcterms:modified>
  <cp:revision>77</cp:revision>
  <dc:subject/>
  <dc:title>Bernd Mickley  jwConsulting   http:// www.jwconsulting.de</dc:title>
</cp:coreProperties>
</file>