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BCD-3899-45F2-B674-E2D9F70E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945-F4FB-45AC-93DF-E496D4ED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C0A-94AD-4518-B69E-073E600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071-56FB-4C6E-B82B-9D373323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FF3-5140-43E3-9FA5-136926C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C7B-34E7-4431-B97B-45BBD83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146-3DAF-4D9E-A368-63815300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60B-0AEE-4DAB-85BB-6C8D3EF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9DB-F9AA-4260-A965-5930F832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A8A-F0D2-4D06-87A9-FDFE842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E83-0B4C-43A0-BD7F-09DD259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62E-2C25-4444-8569-E1E6207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6160" indent="-37296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8920" indent="-2923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779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4969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4969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4969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95DC7182-1B75-4AAE-8404-DDBBD9E9D6B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560" y="1981080"/>
            <a:ext cx="8305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br>
              <a:rPr sz="2400"/>
            </a:br>
            <a:r>
              <a:rPr b="1" lang="de-DE" sz="24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esbaden, den 19.09.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AE3-5BB1-4DCB-93FB-B6C862BAF0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752480"/>
            <a:ext cx="779472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677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P – A – S – E + Z – B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743200"/>
            <a:ext cx="85341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 Term kann immer berechne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: ist immer vorgegeben (lückenlose Planu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: wird immer berechnet (Stücklistenauflösu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: mehrere MatNr. möglich (sogar eine MatNr mit  mehreren Fertigungsversion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: mehrere MatNr möglich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295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B0C-6ED2-479B-8AD8-57697BF451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0773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827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 P – A – S – E + Z – B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81952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: Der Zukauf berechnet sich aus der noch fehlenden Me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: Der Bestand ist immer = 0 (Energi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: Anstelle des Absatzes könnte ein Term Versand geplant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werden (Menge, die das Werk an einem Tag verläßt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V = A +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: Die Produktion berechnet sich aus dem Sekundärbedar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371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derberechnungen (Bei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743-731F-4E61-86BE-E7C629AAD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eines Kann-Absatz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 ist negativ, weil die Produktion die Anforderungen des Absatzes nicht erfüllen kann. Eine Benachrichtigung des Marketings ist erforderlich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0"/>
            <a:ext cx="80773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P – A – S – E + Z –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derberechnungen (Bei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B42-3A3F-4DA1-A923-21CFC37DA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ff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4495680"/>
            <a:ext cx="852336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Technisc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st der Stoff (Produkt oder Material) selbst wieder eine Materialnummer - ein Ident für alle Materialnummern des Stoffes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26828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341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Ein Stoff besteht aus einem Material, das chemisch und physikalisch gleich 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057400"/>
            <a:ext cx="82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Logistisc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enötigt man mehrere Materialnummern für ein Material, allein um die Kosten der Bulkware, der verpackten Waren und des Zukaufes abzubil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4A3-0B63-48DA-AB7D-18D528445F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nat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2057400"/>
          <a:ext cx="776124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7612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62120" y="411480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09880"/>
            <a:ext cx="1143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ZW-Produ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34340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49568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72428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02920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96252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D27-FCC1-4697-A4BD-321AC46E3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gespla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ispiel</a:t>
            </a:r>
            <a:br>
              <a:rPr sz="12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9047" b="49792"/>
          <a:stretch/>
        </p:blipFill>
        <p:spPr>
          <a:xfrm>
            <a:off x="755640" y="692280"/>
            <a:ext cx="7701120" cy="494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547640" y="2421000"/>
            <a:ext cx="6696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: Stoff 1  P: Stoff 1  S: Stoff 1  E: Stoff 1  B: Stoff 1  B: Stoff 1  P: Stoff 2 B: Stoff 2  P: Stoff 3       Stoff 4: 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  to        200 to      50   to        10     to        40   to      100    to      50   to        50 t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   to        200 to      50   to          0     to      140   to      100   to       50   to        50 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00   to       150  to      50   to          0     to      140   to      100   to       50   to        50 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50   to       150  to      50   to          0     to        90   to      100    to      50   to        50  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3141720"/>
            <a:ext cx="6983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242100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242100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242100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270828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67640" y="2349360"/>
            <a:ext cx="1297080" cy="719280"/>
          </a:xfrm>
          <a:prstGeom prst="wedgeEllipseCallout">
            <a:avLst>
              <a:gd name="adj1" fmla="val -78884"/>
              <a:gd name="adj2" fmla="val 603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 hier Pland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205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üssige Dü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6165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.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2205000"/>
            <a:ext cx="792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133720"/>
            <a:ext cx="8654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104-83C4-404D-90E6-E47962B011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1981080"/>
            <a:ext cx="8305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br>
              <a:rPr sz="2400"/>
            </a:br>
            <a:r>
              <a:rPr b="1" lang="de-DE" sz="24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esbaden, den 19.09.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39D-A0E1-4EDE-8512-2DFFDF1229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verse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700280"/>
            <a:ext cx="1224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852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1225440" cy="81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005360"/>
            <a:ext cx="1224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492-8278-46E0-86FA-3AFB220DF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verselle Absatz- und Produktionsplanung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e Anforderungen (Absatz, Produktion, politische Entscheidungen) müssen algorithmierbar se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e können heuristische oder empirische Entscheidungen abgebildet werden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e können plötzlich auftretende Ereignisse abgebildet werden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ersönliche Erfahrungen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582-6790-496F-BC12-64FABA98C7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verselle Absatz- und Produktionsplanung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satzanforderungen </a:t>
            </a:r>
            <a:br>
              <a:rPr sz="22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tragsabwicklungen,  Marktlage, Wettbewerber, Kosten, Gewin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möglichkei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pazitäten, Abhängigkeiten (Zwischenprodukte), technische Veränderungen, Wartung, Havarie, Rohstof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hängigkeit: Absatz - Produk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9D0-BDBD-4F81-B4B8-F878BF942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 im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SOP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nsistente Planung, Stufenplanung, Delta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lexible Pla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ystemkonfigurierbar, Planungsebene (Verkaufsorganisation, Warengruppe, Werk, Produktgruppe, Material) auswähl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PO (Advanced Planner &amp; Optimiz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usiness Objektorientierte Steuerung der Produktion von einem Cockp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437-88A5-44B1-B2B2-9E5FD223FF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ividuelle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speriod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nsistente Speich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Stoff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13716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Erfahr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D64-CDF6-4C9F-866C-C56D813D18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Planungsperi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7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hresplan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e des Vorjahres, Absatzbedingungen, Produktionsver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7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splan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ötigt IST-DATEN (aktueller Monat, Vormonat, um den Folgemonat zu plan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7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gesplan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ötigt IST-DATEN (bis zum aktuellen Tag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7BE-D556-4AA8-80A2-ADA6F971CC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SAP R/3 ist das Master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747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700280"/>
            <a:ext cx="609624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 Daten sind auf einer Datenbank gespeich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886200"/>
            <a:ext cx="5334120" cy="194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962520"/>
            <a:ext cx="495288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er Operator (z.B.  EXC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ulation des Absatzes und der Produktion; Nebenbedingungen; An- und Abfahrprozesse, Wetter, Erfahrungen, Kopf des Mensc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0364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96000" y="2133720"/>
            <a:ext cx="2448000" cy="1008000"/>
          </a:xfrm>
          <a:prstGeom prst="wedgeRoundRectCallout">
            <a:avLst>
              <a:gd name="adj1" fmla="val -74578"/>
              <a:gd name="adj2" fmla="val 146851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denkbare Möglichkei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C93-AC8D-4517-8D20-6C3E3486B4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752480"/>
            <a:ext cx="7489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3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– A – S 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Z – B = 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1952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Bestand   (VP vorhergehende Planungsperio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Produ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Abs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Sekundär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= Eigen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= Zuk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3573360"/>
            <a:ext cx="388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Term in der Bilanzgleichung ist eine Menge (pro Mengeneinheit), die im SAP durch eine oder mehrere Materialnummern identifiziert wi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2C9-6F3D-4122-847B-166BC7BAD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cp:lastPrinted>2002-09-17T08:39:11Z</cp:lastPrinted>
  <dcterms:modified xsi:type="dcterms:W3CDTF">2002-09-18T10:52:53Z</dcterms:modified>
  <cp:revision>77</cp:revision>
  <dc:subject/>
  <dc:title>Bernd Mickley  jwConsulting   http:// www.jwconsulting.de</dc:title>
</cp:coreProperties>
</file>