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359560" y="63360"/>
            <a:ext cx="17492400" cy="13588920"/>
            <a:chOff x="-8359560" y="63360"/>
            <a:chExt cx="17492400" cy="1358892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359560" y="63360"/>
              <a:ext cx="16719120" cy="135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36" swAng="5396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36" swAng="5396736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Herzlich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illkommen zum</a:t>
            </a:r>
            <a:r>
              <a:rPr b="1" lang="en-US" sz="6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SAP-Workshop 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im Lindner Golfhotel Juliana Wupperta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8.03.2000</a:t>
            </a:r>
            <a:r>
              <a:rPr b="1" lang="en-US" sz="4000" spc="-1" strike="noStrike">
                <a:solidFill>
                  <a:srgbClr val="f6bf6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04920" y="63244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 /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as SAP R/3-System und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Add-Ons von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33520" y="1973160"/>
            <a:ext cx="6265800" cy="4292640"/>
            <a:chOff x="1433520" y="1973160"/>
            <a:chExt cx="6265800" cy="4292640"/>
          </a:xfrm>
        </p:grpSpPr>
        <p:grpSp>
          <p:nvGrpSpPr>
            <p:cNvPr id="98" name=""/>
            <p:cNvGrpSpPr/>
            <p:nvPr/>
          </p:nvGrpSpPr>
          <p:grpSpPr>
            <a:xfrm>
              <a:off x="1857240" y="2735280"/>
              <a:ext cx="846360" cy="901800"/>
              <a:chOff x="1857240" y="2735280"/>
              <a:chExt cx="846360" cy="901800"/>
            </a:xfrm>
          </p:grpSpPr>
          <p:sp>
            <p:nvSpPr>
              <p:cNvPr id="99" name=""/>
              <p:cNvSpPr/>
              <p:nvPr/>
            </p:nvSpPr>
            <p:spPr>
              <a:xfrm>
                <a:off x="1857240" y="273672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62280" y="27352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1320" y="27367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62280" y="31179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81320" y="3119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4352760" y="1973160"/>
              <a:ext cx="846360" cy="901800"/>
              <a:chOff x="4352760" y="1973160"/>
              <a:chExt cx="846360" cy="901800"/>
            </a:xfrm>
          </p:grpSpPr>
          <p:sp>
            <p:nvSpPr>
              <p:cNvPr id="105" name=""/>
              <p:cNvSpPr/>
              <p:nvPr/>
            </p:nvSpPr>
            <p:spPr>
              <a:xfrm>
                <a:off x="4352760" y="197496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7800" y="19731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76840" y="1974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57800" y="23558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76840" y="2357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435720" y="3102120"/>
              <a:ext cx="839880" cy="901440"/>
              <a:chOff x="6435720" y="3102120"/>
              <a:chExt cx="839880" cy="901440"/>
            </a:xfrm>
          </p:grpSpPr>
          <p:sp>
            <p:nvSpPr>
              <p:cNvPr id="111" name=""/>
              <p:cNvSpPr/>
              <p:nvPr/>
            </p:nvSpPr>
            <p:spPr>
              <a:xfrm>
                <a:off x="6435720" y="3103560"/>
                <a:ext cx="839880" cy="754200"/>
              </a:xfrm>
              <a:custGeom>
                <a:avLst/>
                <a:gdLst/>
                <a:ahLst/>
                <a:rect l="l" t="t" r="r" b="b"/>
                <a:pathLst>
                  <a:path w="529" h="475">
                    <a:moveTo>
                      <a:pt x="266" y="0"/>
                    </a:moveTo>
                    <a:lnTo>
                      <a:pt x="0" y="238"/>
                    </a:lnTo>
                    <a:lnTo>
                      <a:pt x="266" y="474"/>
                    </a:lnTo>
                    <a:lnTo>
                      <a:pt x="528" y="238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853320" y="310212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35720" y="3103560"/>
                <a:ext cx="41580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3320" y="34844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35720" y="3486240"/>
                <a:ext cx="41580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5"/>
                    </a:lnTo>
                    <a:lnTo>
                      <a:pt x="261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854760" y="3479760"/>
              <a:ext cx="839880" cy="905040"/>
              <a:chOff x="6854760" y="3479760"/>
              <a:chExt cx="839880" cy="905040"/>
            </a:xfrm>
          </p:grpSpPr>
          <p:sp>
            <p:nvSpPr>
              <p:cNvPr id="117" name=""/>
              <p:cNvSpPr/>
              <p:nvPr/>
            </p:nvSpPr>
            <p:spPr>
              <a:xfrm>
                <a:off x="6854760" y="34830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72360" y="34797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54760" y="3479760"/>
                <a:ext cx="41616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72360" y="386568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54760" y="387036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435720" y="3855960"/>
              <a:ext cx="839880" cy="905040"/>
              <a:chOff x="6435720" y="3855960"/>
              <a:chExt cx="839880" cy="905040"/>
            </a:xfrm>
          </p:grpSpPr>
          <p:sp>
            <p:nvSpPr>
              <p:cNvPr id="123" name=""/>
              <p:cNvSpPr/>
              <p:nvPr/>
            </p:nvSpPr>
            <p:spPr>
              <a:xfrm>
                <a:off x="6435720" y="385920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3320" y="3855960"/>
                <a:ext cx="41760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435720" y="3855960"/>
                <a:ext cx="415800" cy="52092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3320" y="42418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35720" y="42465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854760" y="4237200"/>
              <a:ext cx="839880" cy="904680"/>
              <a:chOff x="6854760" y="4237200"/>
              <a:chExt cx="839880" cy="904680"/>
            </a:xfrm>
          </p:grpSpPr>
          <p:sp>
            <p:nvSpPr>
              <p:cNvPr id="129" name=""/>
              <p:cNvSpPr/>
              <p:nvPr/>
            </p:nvSpPr>
            <p:spPr>
              <a:xfrm>
                <a:off x="6854760" y="4240080"/>
                <a:ext cx="839880" cy="758880"/>
              </a:xfrm>
              <a:custGeom>
                <a:avLst/>
                <a:gdLst/>
                <a:ahLst/>
                <a:rect l="l" t="t" r="r" b="b"/>
                <a:pathLst>
                  <a:path w="529" h="478">
                    <a:moveTo>
                      <a:pt x="266" y="0"/>
                    </a:moveTo>
                    <a:lnTo>
                      <a:pt x="0" y="239"/>
                    </a:lnTo>
                    <a:lnTo>
                      <a:pt x="266" y="477"/>
                    </a:lnTo>
                    <a:lnTo>
                      <a:pt x="528" y="239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72360" y="4237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854760" y="423720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0" y="327"/>
                    </a:moveTo>
                    <a:lnTo>
                      <a:pt x="0" y="236"/>
                    </a:lnTo>
                    <a:lnTo>
                      <a:pt x="261" y="0"/>
                    </a:lnTo>
                    <a:lnTo>
                      <a:pt x="261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272360" y="46227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854760" y="4627440"/>
                <a:ext cx="41616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274840" y="2357280"/>
              <a:ext cx="846360" cy="901800"/>
              <a:chOff x="2274840" y="2357280"/>
              <a:chExt cx="846360" cy="901800"/>
            </a:xfrm>
          </p:grpSpPr>
          <p:sp>
            <p:nvSpPr>
              <p:cNvPr id="135" name=""/>
              <p:cNvSpPr/>
              <p:nvPr/>
            </p:nvSpPr>
            <p:spPr>
              <a:xfrm>
                <a:off x="2274840" y="23590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9520" y="235728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9892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79520" y="27399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98920" y="274176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271600" y="3102120"/>
              <a:ext cx="846360" cy="901440"/>
              <a:chOff x="2271600" y="3102120"/>
              <a:chExt cx="846360" cy="901440"/>
            </a:xfrm>
          </p:grpSpPr>
          <p:sp>
            <p:nvSpPr>
              <p:cNvPr id="141" name=""/>
              <p:cNvSpPr/>
              <p:nvPr/>
            </p:nvSpPr>
            <p:spPr>
              <a:xfrm>
                <a:off x="2271600" y="31035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276640" y="31021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95680" y="31035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76640" y="34844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95680" y="348624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508200" y="1976400"/>
              <a:ext cx="846360" cy="901800"/>
              <a:chOff x="3508200" y="1976400"/>
              <a:chExt cx="846360" cy="901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508200" y="197820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13240" y="197640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2280" y="197820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13240" y="23590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932280" y="236052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693880" y="1981080"/>
              <a:ext cx="846360" cy="901800"/>
              <a:chOff x="2693880" y="1981080"/>
              <a:chExt cx="846360" cy="901800"/>
            </a:xfrm>
          </p:grpSpPr>
          <p:sp>
            <p:nvSpPr>
              <p:cNvPr id="153" name=""/>
              <p:cNvSpPr/>
              <p:nvPr/>
            </p:nvSpPr>
            <p:spPr>
              <a:xfrm>
                <a:off x="2693880" y="1982880"/>
                <a:ext cx="84636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698920" y="19810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117960" y="1982880"/>
                <a:ext cx="41724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98920" y="236376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17960" y="236520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851120" y="3476520"/>
              <a:ext cx="846000" cy="901800"/>
              <a:chOff x="1851120" y="3476520"/>
              <a:chExt cx="846000" cy="901800"/>
            </a:xfrm>
          </p:grpSpPr>
          <p:sp>
            <p:nvSpPr>
              <p:cNvPr id="159" name=""/>
              <p:cNvSpPr/>
              <p:nvPr/>
            </p:nvSpPr>
            <p:spPr>
              <a:xfrm>
                <a:off x="1851120" y="3478320"/>
                <a:ext cx="846000" cy="75384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55800" y="347652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74840" y="347832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55800" y="38592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4840" y="386064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433520" y="3849840"/>
              <a:ext cx="846000" cy="901440"/>
              <a:chOff x="1433520" y="3849840"/>
              <a:chExt cx="846000" cy="901440"/>
            </a:xfrm>
          </p:grpSpPr>
          <p:sp>
            <p:nvSpPr>
              <p:cNvPr id="165" name=""/>
              <p:cNvSpPr/>
              <p:nvPr/>
            </p:nvSpPr>
            <p:spPr>
              <a:xfrm>
                <a:off x="1433520" y="3851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38200" y="3849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857240" y="3851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438200" y="4232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57240" y="4233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857240" y="4237200"/>
              <a:ext cx="838440" cy="903240"/>
              <a:chOff x="1857240" y="4237200"/>
              <a:chExt cx="838440" cy="903240"/>
            </a:xfrm>
          </p:grpSpPr>
          <p:sp>
            <p:nvSpPr>
              <p:cNvPr id="171" name=""/>
              <p:cNvSpPr/>
              <p:nvPr/>
            </p:nvSpPr>
            <p:spPr>
              <a:xfrm>
                <a:off x="1857240" y="42372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59040" y="42372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78080" y="42400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859040" y="46227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78080" y="46245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600880" y="2349360"/>
              <a:ext cx="844200" cy="903600"/>
              <a:chOff x="5600880" y="2349360"/>
              <a:chExt cx="844200" cy="903600"/>
            </a:xfrm>
          </p:grpSpPr>
          <p:sp>
            <p:nvSpPr>
              <p:cNvPr id="177" name=""/>
              <p:cNvSpPr/>
              <p:nvPr/>
            </p:nvSpPr>
            <p:spPr>
              <a:xfrm>
                <a:off x="5600880" y="2352600"/>
                <a:ext cx="84420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19920" y="23493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00880" y="235260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19920" y="273528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00880" y="2736720"/>
                <a:ext cx="419040" cy="51624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018120" y="2727360"/>
              <a:ext cx="843120" cy="900000"/>
              <a:chOff x="6018120" y="2727360"/>
              <a:chExt cx="843120" cy="900000"/>
            </a:xfrm>
          </p:grpSpPr>
          <p:sp>
            <p:nvSpPr>
              <p:cNvPr id="183" name=""/>
              <p:cNvSpPr/>
              <p:nvPr/>
            </p:nvSpPr>
            <p:spPr>
              <a:xfrm>
                <a:off x="6019920" y="2728800"/>
                <a:ext cx="841320" cy="757440"/>
              </a:xfrm>
              <a:custGeom>
                <a:avLst/>
                <a:gdLst/>
                <a:ahLst/>
                <a:rect l="l" t="t" r="r" b="b"/>
                <a:pathLst>
                  <a:path w="530" h="477">
                    <a:moveTo>
                      <a:pt x="266" y="0"/>
                    </a:moveTo>
                    <a:lnTo>
                      <a:pt x="0" y="240"/>
                    </a:lnTo>
                    <a:lnTo>
                      <a:pt x="266" y="476"/>
                    </a:lnTo>
                    <a:lnTo>
                      <a:pt x="529" y="240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35720" y="2727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263" y="323"/>
                    </a:moveTo>
                    <a:lnTo>
                      <a:pt x="263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3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18120" y="272880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324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5720" y="3110040"/>
                <a:ext cx="419040" cy="51732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0"/>
                    </a:moveTo>
                    <a:lnTo>
                      <a:pt x="263" y="90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3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8120" y="311148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435720" y="4613400"/>
              <a:ext cx="844560" cy="903240"/>
              <a:chOff x="6435720" y="4613400"/>
              <a:chExt cx="844560" cy="903240"/>
            </a:xfrm>
          </p:grpSpPr>
          <p:sp>
            <p:nvSpPr>
              <p:cNvPr id="189" name=""/>
              <p:cNvSpPr/>
              <p:nvPr/>
            </p:nvSpPr>
            <p:spPr>
              <a:xfrm>
                <a:off x="6435720" y="4613400"/>
                <a:ext cx="844560" cy="76176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58000" y="461340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35720" y="461628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58000" y="4998960"/>
                <a:ext cx="414360" cy="51444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435720" y="500076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014880" y="4991040"/>
              <a:ext cx="841680" cy="905040"/>
              <a:chOff x="6014880" y="4991040"/>
              <a:chExt cx="841680" cy="90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6018120" y="4995720"/>
                <a:ext cx="838440" cy="758880"/>
              </a:xfrm>
              <a:custGeom>
                <a:avLst/>
                <a:gdLst/>
                <a:ahLst/>
                <a:rect l="l" t="t" r="r" b="b"/>
                <a:pathLst>
                  <a:path w="528" h="478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7"/>
                    </a:lnTo>
                    <a:lnTo>
                      <a:pt x="527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431040" y="499104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323"/>
                    </a:moveTo>
                    <a:lnTo>
                      <a:pt x="262" y="233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2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0148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31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91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4880" y="537840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5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1680" y="5353200"/>
              <a:ext cx="844560" cy="904680"/>
              <a:chOff x="5611680" y="5353200"/>
              <a:chExt cx="844560" cy="904680"/>
            </a:xfrm>
          </p:grpSpPr>
          <p:sp>
            <p:nvSpPr>
              <p:cNvPr id="201" name=""/>
              <p:cNvSpPr/>
              <p:nvPr/>
            </p:nvSpPr>
            <p:spPr>
              <a:xfrm>
                <a:off x="561168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31080" y="535320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11680" y="53578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325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31080" y="573732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11680" y="573732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0"/>
                    </a:moveTo>
                    <a:lnTo>
                      <a:pt x="0" y="91"/>
                    </a:lnTo>
                    <a:lnTo>
                      <a:pt x="262" y="327"/>
                    </a:lnTo>
                    <a:lnTo>
                      <a:pt x="262" y="2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111480" y="3111480"/>
              <a:ext cx="417600" cy="515880"/>
            </a:xfrm>
            <a:custGeom>
              <a:avLst/>
              <a:gdLst/>
              <a:ahLst/>
              <a:rect l="l" t="t" r="r" b="b"/>
              <a:pathLst>
                <a:path w="263" h="325">
                  <a:moveTo>
                    <a:pt x="262" y="0"/>
                  </a:moveTo>
                  <a:lnTo>
                    <a:pt x="262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271600" y="3855960"/>
              <a:ext cx="846360" cy="905040"/>
              <a:chOff x="2271600" y="3855960"/>
              <a:chExt cx="846360" cy="905040"/>
            </a:xfrm>
          </p:grpSpPr>
          <p:sp>
            <p:nvSpPr>
              <p:cNvPr id="208" name=""/>
              <p:cNvSpPr/>
              <p:nvPr/>
            </p:nvSpPr>
            <p:spPr>
              <a:xfrm>
                <a:off x="2271600" y="38592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7664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5"/>
                    </a:lnTo>
                    <a:lnTo>
                      <a:pt x="262" y="0"/>
                    </a:lnTo>
                    <a:lnTo>
                      <a:pt x="262" y="91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5680" y="3855960"/>
                <a:ext cx="417240" cy="52092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262" y="327"/>
                    </a:moveTo>
                    <a:lnTo>
                      <a:pt x="262" y="236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276640" y="424188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246560"/>
                <a:ext cx="41724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2271600" y="4613400"/>
              <a:ext cx="838440" cy="903240"/>
              <a:chOff x="2271600" y="4613400"/>
              <a:chExt cx="838440" cy="903240"/>
            </a:xfrm>
          </p:grpSpPr>
          <p:sp>
            <p:nvSpPr>
              <p:cNvPr id="214" name=""/>
              <p:cNvSpPr/>
              <p:nvPr/>
            </p:nvSpPr>
            <p:spPr>
              <a:xfrm>
                <a:off x="2271600" y="4613400"/>
                <a:ext cx="838440" cy="761760"/>
              </a:xfrm>
              <a:custGeom>
                <a:avLst/>
                <a:gdLst/>
                <a:ahLst/>
                <a:rect l="l" t="t" r="r" b="b"/>
                <a:pathLst>
                  <a:path w="528" h="480">
                    <a:moveTo>
                      <a:pt x="265" y="0"/>
                    </a:moveTo>
                    <a:lnTo>
                      <a:pt x="0" y="241"/>
                    </a:lnTo>
                    <a:lnTo>
                      <a:pt x="265" y="479"/>
                    </a:lnTo>
                    <a:lnTo>
                      <a:pt x="527" y="241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73400" y="461340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324"/>
                    </a:moveTo>
                    <a:lnTo>
                      <a:pt x="0" y="235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92440" y="461628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261" y="323"/>
                    </a:moveTo>
                    <a:lnTo>
                      <a:pt x="261" y="233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1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73400" y="4998960"/>
                <a:ext cx="415800" cy="51444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1" y="323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92440" y="500076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261" y="0"/>
                    </a:moveTo>
                    <a:lnTo>
                      <a:pt x="261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2692440" y="499572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8920" y="4991040"/>
              <a:ext cx="41400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323"/>
                  </a:moveTo>
                  <a:lnTo>
                    <a:pt x="0" y="233"/>
                  </a:lnTo>
                  <a:lnTo>
                    <a:pt x="260" y="0"/>
                  </a:lnTo>
                  <a:lnTo>
                    <a:pt x="260" y="89"/>
                  </a:lnTo>
                  <a:lnTo>
                    <a:pt x="0" y="323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9400" y="499428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325"/>
                  </a:moveTo>
                  <a:lnTo>
                    <a:pt x="261" y="234"/>
                  </a:lnTo>
                  <a:lnTo>
                    <a:pt x="0" y="0"/>
                  </a:lnTo>
                  <a:lnTo>
                    <a:pt x="0" y="90"/>
                  </a:lnTo>
                  <a:lnTo>
                    <a:pt x="261" y="325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98920" y="5375160"/>
              <a:ext cx="414000" cy="517680"/>
            </a:xfrm>
            <a:custGeom>
              <a:avLst/>
              <a:gdLst/>
              <a:ahLst/>
              <a:rect l="l" t="t" r="r" b="b"/>
              <a:pathLst>
                <a:path w="261" h="326">
                  <a:moveTo>
                    <a:pt x="0" y="0"/>
                  </a:moveTo>
                  <a:lnTo>
                    <a:pt x="0" y="91"/>
                  </a:lnTo>
                  <a:lnTo>
                    <a:pt x="260" y="325"/>
                  </a:lnTo>
                  <a:lnTo>
                    <a:pt x="260" y="235"/>
                  </a:lnTo>
                  <a:lnTo>
                    <a:pt x="0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19400" y="537840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261" y="0"/>
                  </a:moveTo>
                  <a:lnTo>
                    <a:pt x="261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1" y="0"/>
                  </a:lnTo>
                </a:path>
              </a:pathLst>
            </a:custGeom>
            <a:solidFill>
              <a:srgbClr val="00279f"/>
            </a:solidFill>
            <a:ln cap="rnd" w="1260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3094200" y="5353200"/>
              <a:ext cx="844560" cy="904680"/>
              <a:chOff x="3094200" y="5353200"/>
              <a:chExt cx="844560" cy="904680"/>
            </a:xfrm>
          </p:grpSpPr>
          <p:sp>
            <p:nvSpPr>
              <p:cNvPr id="225" name=""/>
              <p:cNvSpPr/>
              <p:nvPr/>
            </p:nvSpPr>
            <p:spPr>
              <a:xfrm>
                <a:off x="3094200" y="535608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98880" y="5353200"/>
                <a:ext cx="41760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19360" y="5357880"/>
                <a:ext cx="416160" cy="51732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98880" y="5737320"/>
                <a:ext cx="41760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19360" y="573732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768920" y="2349360"/>
              <a:ext cx="841320" cy="903600"/>
              <a:chOff x="4768920" y="2349360"/>
              <a:chExt cx="841320" cy="903600"/>
            </a:xfrm>
          </p:grpSpPr>
          <p:sp>
            <p:nvSpPr>
              <p:cNvPr id="231" name=""/>
              <p:cNvSpPr/>
              <p:nvPr/>
            </p:nvSpPr>
            <p:spPr>
              <a:xfrm>
                <a:off x="47689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72160" y="234936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89400" y="2352600"/>
                <a:ext cx="41940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263" y="325"/>
                    </a:moveTo>
                    <a:lnTo>
                      <a:pt x="263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3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72160" y="2735280"/>
                <a:ext cx="419040" cy="517680"/>
              </a:xfrm>
              <a:custGeom>
                <a:avLst/>
                <a:gdLst/>
                <a:ahLst/>
                <a:rect l="l" t="t" r="r" b="b"/>
                <a:pathLst>
                  <a:path w="264" h="326">
                    <a:moveTo>
                      <a:pt x="0" y="0"/>
                    </a:moveTo>
                    <a:lnTo>
                      <a:pt x="0" y="90"/>
                    </a:lnTo>
                    <a:lnTo>
                      <a:pt x="263" y="325"/>
                    </a:lnTo>
                    <a:lnTo>
                      <a:pt x="263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3933720" y="2349360"/>
              <a:ext cx="841320" cy="903600"/>
              <a:chOff x="3933720" y="2349360"/>
              <a:chExt cx="841320" cy="903600"/>
            </a:xfrm>
          </p:grpSpPr>
          <p:sp>
            <p:nvSpPr>
              <p:cNvPr id="236" name=""/>
              <p:cNvSpPr/>
              <p:nvPr/>
            </p:nvSpPr>
            <p:spPr>
              <a:xfrm>
                <a:off x="3933720" y="23526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33720" y="2349360"/>
                <a:ext cx="417600" cy="51444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49880" y="2352600"/>
                <a:ext cx="423720" cy="517680"/>
              </a:xfrm>
              <a:custGeom>
                <a:avLst/>
                <a:gdLst/>
                <a:ahLst/>
                <a:rect l="l" t="t" r="r" b="b"/>
                <a:pathLst>
                  <a:path w="267" h="326">
                    <a:moveTo>
                      <a:pt x="266" y="325"/>
                    </a:moveTo>
                    <a:lnTo>
                      <a:pt x="266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6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9880" y="2736720"/>
                <a:ext cx="423720" cy="516240"/>
              </a:xfrm>
              <a:custGeom>
                <a:avLst/>
                <a:gdLst/>
                <a:ahLst/>
                <a:rect l="l" t="t" r="r" b="b"/>
                <a:pathLst>
                  <a:path w="267" h="325">
                    <a:moveTo>
                      <a:pt x="266" y="0"/>
                    </a:moveTo>
                    <a:lnTo>
                      <a:pt x="266" y="89"/>
                    </a:lnTo>
                    <a:lnTo>
                      <a:pt x="0" y="324"/>
                    </a:lnTo>
                    <a:lnTo>
                      <a:pt x="0" y="233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929040" y="5361120"/>
              <a:ext cx="844560" cy="904680"/>
              <a:chOff x="3929040" y="5361120"/>
              <a:chExt cx="844560" cy="90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3929040" y="53658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33720" y="5361120"/>
                <a:ext cx="41616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49880" y="5361120"/>
                <a:ext cx="420480" cy="519120"/>
              </a:xfrm>
              <a:custGeom>
                <a:avLst/>
                <a:gdLst/>
                <a:ahLst/>
                <a:rect l="l" t="t" r="r" b="b"/>
                <a:pathLst>
                  <a:path w="265" h="327">
                    <a:moveTo>
                      <a:pt x="264" y="326"/>
                    </a:moveTo>
                    <a:lnTo>
                      <a:pt x="264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4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3720" y="5745240"/>
                <a:ext cx="41616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49880" y="5748480"/>
                <a:ext cx="420480" cy="517320"/>
              </a:xfrm>
              <a:custGeom>
                <a:avLst/>
                <a:gdLst/>
                <a:ahLst/>
                <a:rect l="l" t="t" r="r" b="b"/>
                <a:pathLst>
                  <a:path w="265" h="326">
                    <a:moveTo>
                      <a:pt x="264" y="0"/>
                    </a:moveTo>
                    <a:lnTo>
                      <a:pt x="264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4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776840" y="5361120"/>
              <a:ext cx="841320" cy="904680"/>
              <a:chOff x="4776840" y="5361120"/>
              <a:chExt cx="841320" cy="904680"/>
            </a:xfrm>
          </p:grpSpPr>
          <p:sp>
            <p:nvSpPr>
              <p:cNvPr id="247" name=""/>
              <p:cNvSpPr/>
              <p:nvPr/>
            </p:nvSpPr>
            <p:spPr>
              <a:xfrm>
                <a:off x="4776840" y="5365800"/>
                <a:ext cx="841320" cy="755640"/>
              </a:xfrm>
              <a:custGeom>
                <a:avLst/>
                <a:gdLst/>
                <a:ahLst/>
                <a:rect l="l" t="t" r="r" b="b"/>
                <a:pathLst>
                  <a:path w="530" h="476">
                    <a:moveTo>
                      <a:pt x="265" y="0"/>
                    </a:moveTo>
                    <a:lnTo>
                      <a:pt x="0" y="239"/>
                    </a:lnTo>
                    <a:lnTo>
                      <a:pt x="265" y="475"/>
                    </a:lnTo>
                    <a:lnTo>
                      <a:pt x="529" y="239"/>
                    </a:lnTo>
                    <a:lnTo>
                      <a:pt x="265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81520" y="5361120"/>
                <a:ext cx="415800" cy="514080"/>
              </a:xfrm>
              <a:custGeom>
                <a:avLst/>
                <a:gdLst/>
                <a:ahLst/>
                <a:rect l="l" t="t" r="r" b="b"/>
                <a:pathLst>
                  <a:path w="262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1" y="0"/>
                    </a:lnTo>
                    <a:lnTo>
                      <a:pt x="261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00560" y="5361120"/>
                <a:ext cx="417600" cy="519120"/>
              </a:xfrm>
              <a:custGeom>
                <a:avLst/>
                <a:gdLst/>
                <a:ahLst/>
                <a:rect l="l" t="t" r="r" b="b"/>
                <a:pathLst>
                  <a:path w="263" h="327">
                    <a:moveTo>
                      <a:pt x="262" y="326"/>
                    </a:moveTo>
                    <a:lnTo>
                      <a:pt x="262" y="234"/>
                    </a:lnTo>
                    <a:lnTo>
                      <a:pt x="0" y="0"/>
                    </a:lnTo>
                    <a:lnTo>
                      <a:pt x="0" y="90"/>
                    </a:lnTo>
                    <a:lnTo>
                      <a:pt x="262" y="326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81520" y="5745240"/>
                <a:ext cx="415800" cy="515880"/>
              </a:xfrm>
              <a:custGeom>
                <a:avLst/>
                <a:gdLst/>
                <a:ahLst/>
                <a:rect l="l" t="t" r="r" b="b"/>
                <a:pathLst>
                  <a:path w="262" h="325">
                    <a:moveTo>
                      <a:pt x="0" y="0"/>
                    </a:moveTo>
                    <a:lnTo>
                      <a:pt x="0" y="91"/>
                    </a:lnTo>
                    <a:lnTo>
                      <a:pt x="261" y="324"/>
                    </a:lnTo>
                    <a:lnTo>
                      <a:pt x="261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00560" y="574848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4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5189400" y="2736720"/>
              <a:ext cx="419400" cy="516240"/>
            </a:xfrm>
            <a:custGeom>
              <a:avLst/>
              <a:gdLst/>
              <a:ahLst/>
              <a:rect l="l" t="t" r="r" b="b"/>
              <a:pathLst>
                <a:path w="264" h="325">
                  <a:moveTo>
                    <a:pt x="263" y="0"/>
                  </a:moveTo>
                  <a:lnTo>
                    <a:pt x="263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33720" y="273528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0"/>
                  </a:lnTo>
                  <a:lnTo>
                    <a:pt x="262" y="325"/>
                  </a:lnTo>
                  <a:lnTo>
                    <a:pt x="262" y="234"/>
                  </a:lnTo>
                  <a:lnTo>
                    <a:pt x="0" y="0"/>
                  </a:lnTo>
                </a:path>
              </a:pathLst>
            </a:custGeom>
            <a:solidFill>
              <a:srgbClr val="33a8ff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2120" y="3106800"/>
              <a:ext cx="3322440" cy="2268360"/>
            </a:xfrm>
            <a:custGeom>
              <a:avLst/>
              <a:gdLst/>
              <a:ahLst/>
              <a:rect l="l" t="t" r="r" b="b"/>
              <a:pathLst>
                <a:path w="2093" h="1429">
                  <a:moveTo>
                    <a:pt x="800" y="0"/>
                  </a:moveTo>
                  <a:lnTo>
                    <a:pt x="1818" y="0"/>
                  </a:lnTo>
                  <a:lnTo>
                    <a:pt x="2092" y="624"/>
                  </a:lnTo>
                  <a:lnTo>
                    <a:pt x="1593" y="1424"/>
                  </a:lnTo>
                  <a:lnTo>
                    <a:pt x="530" y="1428"/>
                  </a:lnTo>
                  <a:lnTo>
                    <a:pt x="0" y="621"/>
                  </a:lnTo>
                  <a:lnTo>
                    <a:pt x="286" y="0"/>
                  </a:lnTo>
                  <a:lnTo>
                    <a:pt x="800" y="0"/>
                  </a:lnTo>
                </a:path>
              </a:pathLst>
            </a:custGeom>
            <a:solidFill>
              <a:srgbClr val="0066f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21160" y="2579760"/>
              <a:ext cx="844560" cy="76176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527280" y="4986360"/>
              <a:ext cx="844560" cy="904680"/>
              <a:chOff x="3527280" y="4986360"/>
              <a:chExt cx="844560" cy="90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3527280" y="4989600"/>
                <a:ext cx="844560" cy="755640"/>
              </a:xfrm>
              <a:custGeom>
                <a:avLst/>
                <a:gdLst/>
                <a:ahLst/>
                <a:rect l="l" t="t" r="r" b="b"/>
                <a:pathLst>
                  <a:path w="532" h="476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5"/>
                    </a:lnTo>
                    <a:lnTo>
                      <a:pt x="531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32320" y="4986360"/>
                <a:ext cx="417240" cy="520560"/>
              </a:xfrm>
              <a:custGeom>
                <a:avLst/>
                <a:gdLst/>
                <a:ahLst/>
                <a:rect l="l" t="t" r="r" b="b"/>
                <a:pathLst>
                  <a:path w="263" h="328">
                    <a:moveTo>
                      <a:pt x="0" y="327"/>
                    </a:moveTo>
                    <a:lnTo>
                      <a:pt x="0" y="234"/>
                    </a:lnTo>
                    <a:lnTo>
                      <a:pt x="262" y="0"/>
                    </a:lnTo>
                    <a:lnTo>
                      <a:pt x="262" y="9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52800" y="4991040"/>
                <a:ext cx="416160" cy="517680"/>
              </a:xfrm>
              <a:custGeom>
                <a:avLst/>
                <a:gdLst/>
                <a:ahLst/>
                <a:rect l="l" t="t" r="r" b="b"/>
                <a:pathLst>
                  <a:path w="262" h="326">
                    <a:moveTo>
                      <a:pt x="261" y="325"/>
                    </a:moveTo>
                    <a:lnTo>
                      <a:pt x="261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1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532320" y="5370480"/>
                <a:ext cx="417240" cy="515880"/>
              </a:xfrm>
              <a:custGeom>
                <a:avLst/>
                <a:gdLst/>
                <a:ahLst/>
                <a:rect l="l" t="t" r="r" b="b"/>
                <a:pathLst>
                  <a:path w="263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4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52800" y="5370480"/>
                <a:ext cx="416160" cy="520560"/>
              </a:xfrm>
              <a:custGeom>
                <a:avLst/>
                <a:gdLst/>
                <a:ahLst/>
                <a:rect l="l" t="t" r="r" b="b"/>
                <a:pathLst>
                  <a:path w="262" h="328">
                    <a:moveTo>
                      <a:pt x="261" y="0"/>
                    </a:moveTo>
                    <a:lnTo>
                      <a:pt x="261" y="91"/>
                    </a:lnTo>
                    <a:lnTo>
                      <a:pt x="0" y="327"/>
                    </a:lnTo>
                    <a:lnTo>
                      <a:pt x="0" y="235"/>
                    </a:lnTo>
                    <a:lnTo>
                      <a:pt x="261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0988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46680" y="2957400"/>
              <a:ext cx="415800" cy="51588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91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27280" y="3335400"/>
              <a:ext cx="419400" cy="5144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263" y="0"/>
                  </a:moveTo>
                  <a:lnTo>
                    <a:pt x="263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3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0680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87760" y="37130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89"/>
                  </a:lnTo>
                  <a:lnTo>
                    <a:pt x="264" y="325"/>
                  </a:lnTo>
                  <a:lnTo>
                    <a:pt x="264" y="234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87760" y="4467240"/>
              <a:ext cx="420480" cy="517680"/>
            </a:xfrm>
            <a:custGeom>
              <a:avLst/>
              <a:gdLst/>
              <a:ahLst/>
              <a:rect l="l" t="t" r="r" b="b"/>
              <a:pathLst>
                <a:path w="265" h="326">
                  <a:moveTo>
                    <a:pt x="0" y="0"/>
                  </a:moveTo>
                  <a:lnTo>
                    <a:pt x="0" y="91"/>
                  </a:lnTo>
                  <a:lnTo>
                    <a:pt x="264" y="325"/>
                  </a:lnTo>
                  <a:lnTo>
                    <a:pt x="264" y="235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06800" y="4840200"/>
              <a:ext cx="414360" cy="51912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0" y="0"/>
                  </a:moveTo>
                  <a:lnTo>
                    <a:pt x="0" y="90"/>
                  </a:lnTo>
                  <a:lnTo>
                    <a:pt x="260" y="326"/>
                  </a:lnTo>
                  <a:lnTo>
                    <a:pt x="260" y="236"/>
                  </a:lnTo>
                  <a:lnTo>
                    <a:pt x="0" y="0"/>
                  </a:lnTo>
                </a:path>
              </a:pathLst>
            </a:custGeom>
            <a:solidFill>
              <a:srgbClr val="0054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36960" y="5211720"/>
              <a:ext cx="843120" cy="755640"/>
            </a:xfrm>
            <a:custGeom>
              <a:avLst/>
              <a:gdLst/>
              <a:ahLst/>
              <a:rect l="l" t="t" r="r" b="b"/>
              <a:pathLst>
                <a:path w="531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0" y="239"/>
                  </a:lnTo>
                  <a:lnTo>
                    <a:pt x="267" y="0"/>
                  </a:lnTo>
                </a:path>
              </a:pathLst>
            </a:custGeom>
            <a:solidFill>
              <a:srgbClr val="b3b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33720" y="5592600"/>
              <a:ext cx="41616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0" y="0"/>
                  </a:moveTo>
                  <a:lnTo>
                    <a:pt x="0" y="89"/>
                  </a:lnTo>
                  <a:lnTo>
                    <a:pt x="261" y="324"/>
                  </a:lnTo>
                  <a:lnTo>
                    <a:pt x="261" y="233"/>
                  </a:lnTo>
                  <a:lnTo>
                    <a:pt x="0" y="0"/>
                  </a:lnTo>
                </a:path>
              </a:pathLst>
            </a:custGeom>
            <a:solidFill>
              <a:srgbClr val="ad69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52760" y="5597640"/>
              <a:ext cx="41760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4078440"/>
              <a:ext cx="834840" cy="758520"/>
            </a:xfrm>
            <a:custGeom>
              <a:avLst/>
              <a:gdLst/>
              <a:ahLst/>
              <a:rect l="l" t="t" r="r" b="b"/>
              <a:pathLst>
                <a:path w="526" h="478">
                  <a:moveTo>
                    <a:pt x="264" y="0"/>
                  </a:moveTo>
                  <a:lnTo>
                    <a:pt x="0" y="241"/>
                  </a:lnTo>
                  <a:lnTo>
                    <a:pt x="264" y="477"/>
                  </a:lnTo>
                  <a:lnTo>
                    <a:pt x="525" y="241"/>
                  </a:lnTo>
                  <a:lnTo>
                    <a:pt x="26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07000" y="2957400"/>
              <a:ext cx="846360" cy="754200"/>
            </a:xfrm>
            <a:custGeom>
              <a:avLst/>
              <a:gdLst/>
              <a:ahLst/>
              <a:rect l="l" t="t" r="r" b="b"/>
              <a:pathLst>
                <a:path w="533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2" y="238"/>
                  </a:lnTo>
                  <a:lnTo>
                    <a:pt x="267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2460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8" y="0"/>
                  </a:moveTo>
                  <a:lnTo>
                    <a:pt x="0" y="240"/>
                  </a:lnTo>
                  <a:lnTo>
                    <a:pt x="268" y="477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11680" y="4467240"/>
              <a:ext cx="844560" cy="754200"/>
            </a:xfrm>
            <a:custGeom>
              <a:avLst/>
              <a:gdLst/>
              <a:ahLst/>
              <a:rect l="l" t="t" r="r" b="b"/>
              <a:pathLst>
                <a:path w="532" h="475">
                  <a:moveTo>
                    <a:pt x="267" y="0"/>
                  </a:moveTo>
                  <a:lnTo>
                    <a:pt x="0" y="238"/>
                  </a:lnTo>
                  <a:lnTo>
                    <a:pt x="267" y="474"/>
                  </a:lnTo>
                  <a:lnTo>
                    <a:pt x="531" y="238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95880" y="4840200"/>
              <a:ext cx="844560" cy="755640"/>
            </a:xfrm>
            <a:custGeom>
              <a:avLst/>
              <a:gdLst/>
              <a:ahLst/>
              <a:rect l="l" t="t" r="r" b="b"/>
              <a:pathLst>
                <a:path w="532" h="476">
                  <a:moveTo>
                    <a:pt x="267" y="0"/>
                  </a:moveTo>
                  <a:lnTo>
                    <a:pt x="0" y="239"/>
                  </a:lnTo>
                  <a:lnTo>
                    <a:pt x="267" y="475"/>
                  </a:lnTo>
                  <a:lnTo>
                    <a:pt x="531" y="239"/>
                  </a:lnTo>
                  <a:lnTo>
                    <a:pt x="267" y="0"/>
                  </a:lnTo>
                </a:path>
              </a:pathLst>
            </a:custGeom>
            <a:solidFill>
              <a:srgbClr val="7b00e4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607000" y="3335400"/>
              <a:ext cx="414360" cy="514440"/>
            </a:xfrm>
            <a:custGeom>
              <a:avLst/>
              <a:gdLst/>
              <a:ahLst/>
              <a:rect l="l" t="t" r="r" b="b"/>
              <a:pathLst>
                <a:path w="261" h="324">
                  <a:moveTo>
                    <a:pt x="0" y="0"/>
                  </a:moveTo>
                  <a:lnTo>
                    <a:pt x="0" y="89"/>
                  </a:lnTo>
                  <a:lnTo>
                    <a:pt x="260" y="323"/>
                  </a:lnTo>
                  <a:lnTo>
                    <a:pt x="260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24600" y="3713040"/>
              <a:ext cx="415800" cy="51768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43640" y="37130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89"/>
                  </a:lnTo>
                  <a:lnTo>
                    <a:pt x="0" y="325"/>
                  </a:lnTo>
                  <a:lnTo>
                    <a:pt x="0" y="234"/>
                  </a:lnTo>
                  <a:lnTo>
                    <a:pt x="262" y="0"/>
                  </a:lnTo>
                </a:path>
              </a:pathLst>
            </a:custGeom>
            <a:solidFill>
              <a:srgbClr val="f4546f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3640" y="446724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27840" y="4840200"/>
              <a:ext cx="417240" cy="519120"/>
            </a:xfrm>
            <a:custGeom>
              <a:avLst/>
              <a:gdLst/>
              <a:ahLst/>
              <a:rect l="l" t="t" r="r" b="b"/>
              <a:pathLst>
                <a:path w="263" h="327">
                  <a:moveTo>
                    <a:pt x="262" y="0"/>
                  </a:moveTo>
                  <a:lnTo>
                    <a:pt x="262" y="90"/>
                  </a:lnTo>
                  <a:lnTo>
                    <a:pt x="0" y="326"/>
                  </a:lnTo>
                  <a:lnTo>
                    <a:pt x="0" y="236"/>
                  </a:lnTo>
                  <a:lnTo>
                    <a:pt x="262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6720" y="5216400"/>
              <a:ext cx="415800" cy="516240"/>
            </a:xfrm>
            <a:custGeom>
              <a:avLst/>
              <a:gdLst/>
              <a:ahLst/>
              <a:rect l="l" t="t" r="r" b="b"/>
              <a:pathLst>
                <a:path w="262" h="325">
                  <a:moveTo>
                    <a:pt x="261" y="0"/>
                  </a:moveTo>
                  <a:lnTo>
                    <a:pt x="261" y="89"/>
                  </a:lnTo>
                  <a:lnTo>
                    <a:pt x="0" y="324"/>
                  </a:lnTo>
                  <a:lnTo>
                    <a:pt x="0" y="233"/>
                  </a:lnTo>
                  <a:lnTo>
                    <a:pt x="261" y="0"/>
                  </a:lnTo>
                </a:path>
              </a:pathLst>
            </a:custGeom>
            <a:solidFill>
              <a:srgbClr val="b760f9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95880" y="521640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0" y="0"/>
                  </a:moveTo>
                  <a:lnTo>
                    <a:pt x="0" y="91"/>
                  </a:lnTo>
                  <a:lnTo>
                    <a:pt x="262" y="325"/>
                  </a:lnTo>
                  <a:lnTo>
                    <a:pt x="262" y="235"/>
                  </a:lnTo>
                  <a:lnTo>
                    <a:pt x="0" y="0"/>
                  </a:lnTo>
                </a:path>
              </a:pathLst>
            </a:custGeom>
            <a:solidFill>
              <a:srgbClr val="6a00c2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4600" y="4089240"/>
              <a:ext cx="844560" cy="75744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cf0e3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89400" y="2957400"/>
              <a:ext cx="412920" cy="515880"/>
            </a:xfrm>
            <a:custGeom>
              <a:avLst/>
              <a:gdLst/>
              <a:ahLst/>
              <a:rect l="l" t="t" r="r" b="b"/>
              <a:pathLst>
                <a:path w="260" h="325">
                  <a:moveTo>
                    <a:pt x="0" y="0"/>
                  </a:moveTo>
                  <a:lnTo>
                    <a:pt x="0" y="91"/>
                  </a:lnTo>
                  <a:lnTo>
                    <a:pt x="259" y="324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189400" y="25779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37440" y="259380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27720" y="2584440"/>
              <a:ext cx="361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F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72560" y="282096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64640" y="2813040"/>
              <a:ext cx="6721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Finanz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06400" y="297504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98480" y="2967120"/>
              <a:ext cx="6098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es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74400" y="3025800"/>
              <a:ext cx="484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C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58760" y="3254400"/>
              <a:ext cx="929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Controll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89840" y="339408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A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82720" y="2630520"/>
              <a:ext cx="71172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Vertrie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2320" y="358128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Anla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47400" y="5240160"/>
              <a:ext cx="846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H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Persona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33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71480" y="3143160"/>
              <a:ext cx="2574000" cy="15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Arial"/>
                </a:rPr>
                <a:t>R/3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lient / Serv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Workbenc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91200" y="4848120"/>
              <a:ext cx="8733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Arial"/>
                </a:rPr>
                <a:t>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Branch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lösung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3200" y="4529160"/>
              <a:ext cx="8139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65fb"/>
                  </a:solidFill>
                  <a:latin typeface="Arial"/>
                </a:rPr>
                <a:t>W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65fb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5760" y="4083120"/>
              <a:ext cx="83052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Qualität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2271600" y="3711600"/>
              <a:ext cx="846360" cy="896760"/>
              <a:chOff x="2271600" y="3711600"/>
              <a:chExt cx="846360" cy="896760"/>
            </a:xfrm>
          </p:grpSpPr>
          <p:sp>
            <p:nvSpPr>
              <p:cNvPr id="304" name=""/>
              <p:cNvSpPr/>
              <p:nvPr/>
            </p:nvSpPr>
            <p:spPr>
              <a:xfrm>
                <a:off x="2271600" y="3711600"/>
                <a:ext cx="846360" cy="758880"/>
              </a:xfrm>
              <a:custGeom>
                <a:avLst/>
                <a:gdLst/>
                <a:ahLst/>
                <a:rect l="l" t="t" r="r" b="b"/>
                <a:pathLst>
                  <a:path w="533" h="478">
                    <a:moveTo>
                      <a:pt x="267" y="0"/>
                    </a:moveTo>
                    <a:lnTo>
                      <a:pt x="0" y="239"/>
                    </a:lnTo>
                    <a:lnTo>
                      <a:pt x="267" y="477"/>
                    </a:lnTo>
                    <a:lnTo>
                      <a:pt x="532" y="239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33cc33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76640" y="409428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3"/>
                    </a:lnTo>
                    <a:lnTo>
                      <a:pt x="262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1852560" y="4092480"/>
              <a:ext cx="841320" cy="73836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65" y="0"/>
                  </a:moveTo>
                  <a:lnTo>
                    <a:pt x="0" y="232"/>
                  </a:lnTo>
                  <a:lnTo>
                    <a:pt x="265" y="464"/>
                  </a:lnTo>
                  <a:lnTo>
                    <a:pt x="529" y="232"/>
                  </a:lnTo>
                  <a:lnTo>
                    <a:pt x="265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57240" y="4465800"/>
              <a:ext cx="416160" cy="500040"/>
            </a:xfrm>
            <a:custGeom>
              <a:avLst/>
              <a:gdLst/>
              <a:ahLst/>
              <a:rect l="l" t="t" r="r" b="b"/>
              <a:pathLst>
                <a:path w="262" h="315">
                  <a:moveTo>
                    <a:pt x="0" y="0"/>
                  </a:moveTo>
                  <a:lnTo>
                    <a:pt x="0" y="87"/>
                  </a:lnTo>
                  <a:lnTo>
                    <a:pt x="261" y="314"/>
                  </a:lnTo>
                  <a:lnTo>
                    <a:pt x="261" y="227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47840" y="3778200"/>
              <a:ext cx="7956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arg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66960" y="4149720"/>
              <a:ext cx="7286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mwel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chutz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434960" y="4621320"/>
              <a:ext cx="846360" cy="901440"/>
              <a:chOff x="1434960" y="4621320"/>
              <a:chExt cx="846360" cy="901440"/>
            </a:xfrm>
          </p:grpSpPr>
          <p:sp>
            <p:nvSpPr>
              <p:cNvPr id="311" name=""/>
              <p:cNvSpPr/>
              <p:nvPr/>
            </p:nvSpPr>
            <p:spPr>
              <a:xfrm>
                <a:off x="1434960" y="4622760"/>
                <a:ext cx="84636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000" y="4621320"/>
                <a:ext cx="41724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59040" y="46227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0000" y="5003640"/>
                <a:ext cx="41724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59040" y="500544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854360" y="4992840"/>
              <a:ext cx="846000" cy="901440"/>
              <a:chOff x="1854360" y="4992840"/>
              <a:chExt cx="846000" cy="901440"/>
            </a:xfrm>
          </p:grpSpPr>
          <p:sp>
            <p:nvSpPr>
              <p:cNvPr id="317" name=""/>
              <p:cNvSpPr/>
              <p:nvPr/>
            </p:nvSpPr>
            <p:spPr>
              <a:xfrm>
                <a:off x="1854360" y="4994280"/>
                <a:ext cx="846000" cy="754200"/>
              </a:xfrm>
              <a:custGeom>
                <a:avLst/>
                <a:gdLst/>
                <a:ahLst/>
                <a:rect l="l" t="t" r="r" b="b"/>
                <a:pathLst>
                  <a:path w="533" h="475">
                    <a:moveTo>
                      <a:pt x="267" y="0"/>
                    </a:moveTo>
                    <a:lnTo>
                      <a:pt x="0" y="238"/>
                    </a:lnTo>
                    <a:lnTo>
                      <a:pt x="267" y="474"/>
                    </a:lnTo>
                    <a:lnTo>
                      <a:pt x="532" y="238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59040" y="4992840"/>
                <a:ext cx="417600" cy="514080"/>
              </a:xfrm>
              <a:custGeom>
                <a:avLst/>
                <a:gdLst/>
                <a:ahLst/>
                <a:rect l="l" t="t" r="r" b="b"/>
                <a:pathLst>
                  <a:path w="263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2" y="0"/>
                    </a:lnTo>
                    <a:lnTo>
                      <a:pt x="262" y="8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78080" y="499428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325"/>
                    </a:moveTo>
                    <a:lnTo>
                      <a:pt x="262" y="235"/>
                    </a:lnTo>
                    <a:lnTo>
                      <a:pt x="0" y="0"/>
                    </a:lnTo>
                    <a:lnTo>
                      <a:pt x="0" y="91"/>
                    </a:lnTo>
                    <a:lnTo>
                      <a:pt x="262" y="325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59040" y="5375160"/>
                <a:ext cx="417600" cy="51768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0" y="0"/>
                    </a:moveTo>
                    <a:lnTo>
                      <a:pt x="0" y="89"/>
                    </a:lnTo>
                    <a:lnTo>
                      <a:pt x="262" y="325"/>
                    </a:lnTo>
                    <a:lnTo>
                      <a:pt x="262" y="23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78080" y="5376960"/>
                <a:ext cx="417600" cy="517320"/>
              </a:xfrm>
              <a:custGeom>
                <a:avLst/>
                <a:gdLst/>
                <a:ahLst/>
                <a:rect l="l" t="t" r="r" b="b"/>
                <a:pathLst>
                  <a:path w="263" h="326">
                    <a:moveTo>
                      <a:pt x="262" y="0"/>
                    </a:moveTo>
                    <a:lnTo>
                      <a:pt x="262" y="89"/>
                    </a:lnTo>
                    <a:lnTo>
                      <a:pt x="0" y="325"/>
                    </a:lnTo>
                    <a:lnTo>
                      <a:pt x="0" y="235"/>
                    </a:lnTo>
                    <a:lnTo>
                      <a:pt x="262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855880" y="30193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03560" y="2957400"/>
              <a:ext cx="843120" cy="754200"/>
            </a:xfrm>
            <a:custGeom>
              <a:avLst/>
              <a:gdLst/>
              <a:ahLst/>
              <a:rect l="l" t="t" r="r" b="b"/>
              <a:pathLst>
                <a:path w="531" h="475">
                  <a:moveTo>
                    <a:pt x="266" y="0"/>
                  </a:moveTo>
                  <a:lnTo>
                    <a:pt x="0" y="238"/>
                  </a:lnTo>
                  <a:lnTo>
                    <a:pt x="266" y="474"/>
                  </a:lnTo>
                  <a:lnTo>
                    <a:pt x="530" y="238"/>
                  </a:lnTo>
                  <a:lnTo>
                    <a:pt x="266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92440" y="256536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02120" y="21938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58040" y="284004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05920" y="2502000"/>
              <a:ext cx="8460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bfall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wirt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04440" y="22446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73400" y="3330720"/>
              <a:ext cx="412560" cy="514080"/>
            </a:xfrm>
            <a:custGeom>
              <a:avLst/>
              <a:gdLst/>
              <a:ahLst/>
              <a:rect l="l" t="t" r="r" b="b"/>
              <a:pathLst>
                <a:path w="260" h="324">
                  <a:moveTo>
                    <a:pt x="0" y="0"/>
                  </a:moveTo>
                  <a:lnTo>
                    <a:pt x="0" y="88"/>
                  </a:lnTo>
                  <a:lnTo>
                    <a:pt x="259" y="323"/>
                  </a:lnTo>
                  <a:lnTo>
                    <a:pt x="259" y="233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82720" y="3332160"/>
              <a:ext cx="844560" cy="758880"/>
            </a:xfrm>
            <a:custGeom>
              <a:avLst/>
              <a:gdLst/>
              <a:ahLst/>
              <a:rect l="l" t="t" r="r" b="b"/>
              <a:pathLst>
                <a:path w="532" h="478">
                  <a:moveTo>
                    <a:pt x="267" y="0"/>
                  </a:moveTo>
                  <a:lnTo>
                    <a:pt x="0" y="240"/>
                  </a:lnTo>
                  <a:lnTo>
                    <a:pt x="267" y="477"/>
                  </a:lnTo>
                  <a:lnTo>
                    <a:pt x="531" y="240"/>
                  </a:lnTo>
                  <a:lnTo>
                    <a:pt x="267" y="0"/>
                  </a:lnTo>
                </a:path>
              </a:pathLst>
            </a:custGeom>
            <a:solidFill>
              <a:srgbClr val="037c0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30480" y="2978280"/>
              <a:ext cx="10119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terialwir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chaf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43760" y="3382920"/>
              <a:ext cx="1138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d.-Plan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66920" y="4454640"/>
              <a:ext cx="846000" cy="758880"/>
            </a:xfrm>
            <a:custGeom>
              <a:avLst/>
              <a:gdLst/>
              <a:ahLst/>
              <a:rect l="l" t="t" r="r" b="b"/>
              <a:pathLst>
                <a:path w="533" h="478">
                  <a:moveTo>
                    <a:pt x="267" y="0"/>
                  </a:moveTo>
                  <a:lnTo>
                    <a:pt x="0" y="239"/>
                  </a:lnTo>
                  <a:lnTo>
                    <a:pt x="267" y="477"/>
                  </a:lnTo>
                  <a:lnTo>
                    <a:pt x="532" y="239"/>
                  </a:lnTo>
                  <a:lnTo>
                    <a:pt x="267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71600" y="4836960"/>
              <a:ext cx="41760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0" y="0"/>
                  </a:moveTo>
                  <a:lnTo>
                    <a:pt x="0" y="89"/>
                  </a:lnTo>
                  <a:lnTo>
                    <a:pt x="262" y="323"/>
                  </a:lnTo>
                  <a:lnTo>
                    <a:pt x="262" y="233"/>
                  </a:lnTo>
                  <a:lnTo>
                    <a:pt x="0" y="0"/>
                  </a:lnTo>
                </a:path>
              </a:pathLst>
            </a:custGeom>
            <a:solidFill>
              <a:srgbClr val="0066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90640" y="484200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7880" y="4487760"/>
              <a:ext cx="9450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LIMS-Funk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ionalitäte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24400" y="4849920"/>
              <a:ext cx="417240" cy="51732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60800" y="4483080"/>
              <a:ext cx="72720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stand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haltu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40400" y="3711600"/>
              <a:ext cx="839880" cy="758880"/>
            </a:xfrm>
            <a:custGeom>
              <a:avLst/>
              <a:gdLst/>
              <a:ahLst/>
              <a:rect l="l" t="t" r="r" b="b"/>
              <a:pathLst>
                <a:path w="529" h="478">
                  <a:moveTo>
                    <a:pt x="266" y="0"/>
                  </a:moveTo>
                  <a:lnTo>
                    <a:pt x="0" y="239"/>
                  </a:lnTo>
                  <a:lnTo>
                    <a:pt x="266" y="477"/>
                  </a:lnTo>
                  <a:lnTo>
                    <a:pt x="528" y="239"/>
                  </a:lnTo>
                  <a:lnTo>
                    <a:pt x="266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58000" y="4094280"/>
              <a:ext cx="417600" cy="51408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62280" y="3706920"/>
              <a:ext cx="100908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Investitions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Man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38760" y="2216160"/>
              <a:ext cx="841320" cy="738000"/>
            </a:xfrm>
            <a:custGeom>
              <a:avLst/>
              <a:gdLst/>
              <a:ahLst/>
              <a:rect l="l" t="t" r="r" b="b"/>
              <a:pathLst>
                <a:path w="530" h="465">
                  <a:moveTo>
                    <a:pt x="271" y="0"/>
                  </a:moveTo>
                  <a:lnTo>
                    <a:pt x="0" y="227"/>
                  </a:lnTo>
                  <a:lnTo>
                    <a:pt x="260" y="464"/>
                  </a:lnTo>
                  <a:lnTo>
                    <a:pt x="529" y="238"/>
                  </a:lnTo>
                  <a:lnTo>
                    <a:pt x="271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7800" y="2589120"/>
              <a:ext cx="417240" cy="514440"/>
            </a:xfrm>
            <a:custGeom>
              <a:avLst/>
              <a:gdLst/>
              <a:ahLst/>
              <a:rect l="l" t="t" r="r" b="b"/>
              <a:pathLst>
                <a:path w="263" h="324">
                  <a:moveTo>
                    <a:pt x="262" y="0"/>
                  </a:moveTo>
                  <a:lnTo>
                    <a:pt x="262" y="89"/>
                  </a:lnTo>
                  <a:lnTo>
                    <a:pt x="0" y="323"/>
                  </a:lnTo>
                  <a:lnTo>
                    <a:pt x="0" y="233"/>
                  </a:lnTo>
                  <a:lnTo>
                    <a:pt x="262" y="0"/>
                  </a:lnTo>
                </a:path>
              </a:pathLst>
            </a:custGeom>
            <a:solidFill>
              <a:srgbClr val="3399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91320" y="2216160"/>
              <a:ext cx="7484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Kunden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68360" y="2946240"/>
              <a:ext cx="844560" cy="762120"/>
            </a:xfrm>
            <a:custGeom>
              <a:avLst/>
              <a:gdLst/>
              <a:ahLst/>
              <a:rect l="l" t="t" r="r" b="b"/>
              <a:pathLst>
                <a:path w="532" h="480">
                  <a:moveTo>
                    <a:pt x="268" y="0"/>
                  </a:moveTo>
                  <a:lnTo>
                    <a:pt x="0" y="241"/>
                  </a:lnTo>
                  <a:lnTo>
                    <a:pt x="268" y="479"/>
                  </a:lnTo>
                  <a:lnTo>
                    <a:pt x="531" y="241"/>
                  </a:lnTo>
                  <a:lnTo>
                    <a:pt x="268" y="0"/>
                  </a:lnTo>
                </a:path>
              </a:pathLst>
            </a:custGeom>
            <a:solidFill>
              <a:srgbClr val="33cc3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7400" y="3044880"/>
              <a:ext cx="8992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P-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hem. Ind</a:t>
              </a:r>
              <a:r>
                <a:rPr b="0" lang="en-US" sz="1100" spc="-1" strike="noStrike">
                  <a:solidFill>
                    <a:srgbClr val="ffcc00"/>
                  </a:solidFill>
                  <a:latin typeface="Arial"/>
                </a:rPr>
                <a:t>.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854760" y="4994280"/>
              <a:ext cx="844560" cy="903240"/>
              <a:chOff x="6854760" y="4994280"/>
              <a:chExt cx="844560" cy="903240"/>
            </a:xfrm>
          </p:grpSpPr>
          <p:sp>
            <p:nvSpPr>
              <p:cNvPr id="348" name=""/>
              <p:cNvSpPr/>
              <p:nvPr/>
            </p:nvSpPr>
            <p:spPr>
              <a:xfrm>
                <a:off x="6854760" y="4994280"/>
                <a:ext cx="844560" cy="762120"/>
              </a:xfrm>
              <a:custGeom>
                <a:avLst/>
                <a:gdLst/>
                <a:ahLst/>
                <a:rect l="l" t="t" r="r" b="b"/>
                <a:pathLst>
                  <a:path w="532" h="480">
                    <a:moveTo>
                      <a:pt x="267" y="0"/>
                    </a:moveTo>
                    <a:lnTo>
                      <a:pt x="0" y="241"/>
                    </a:lnTo>
                    <a:lnTo>
                      <a:pt x="267" y="479"/>
                    </a:lnTo>
                    <a:lnTo>
                      <a:pt x="531" y="241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77040" y="4994280"/>
                <a:ext cx="414360" cy="5158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60" y="324"/>
                    </a:moveTo>
                    <a:lnTo>
                      <a:pt x="260" y="23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260" y="324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54760" y="4997520"/>
                <a:ext cx="41904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0" y="323"/>
                    </a:moveTo>
                    <a:lnTo>
                      <a:pt x="0" y="233"/>
                    </a:lnTo>
                    <a:lnTo>
                      <a:pt x="263" y="0"/>
                    </a:lnTo>
                    <a:lnTo>
                      <a:pt x="263" y="90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277040" y="5380200"/>
                <a:ext cx="414360" cy="514080"/>
              </a:xfrm>
              <a:custGeom>
                <a:avLst/>
                <a:gdLst/>
                <a:ahLst/>
                <a:rect l="l" t="t" r="r" b="b"/>
                <a:pathLst>
                  <a:path w="261" h="324">
                    <a:moveTo>
                      <a:pt x="260" y="0"/>
                    </a:moveTo>
                    <a:lnTo>
                      <a:pt x="260" y="89"/>
                    </a:lnTo>
                    <a:lnTo>
                      <a:pt x="0" y="323"/>
                    </a:lnTo>
                    <a:lnTo>
                      <a:pt x="0" y="233"/>
                    </a:lnTo>
                    <a:lnTo>
                      <a:pt x="26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54760" y="5381640"/>
                <a:ext cx="419040" cy="515880"/>
              </a:xfrm>
              <a:custGeom>
                <a:avLst/>
                <a:gdLst/>
                <a:ahLst/>
                <a:rect l="l" t="t" r="r" b="b"/>
                <a:pathLst>
                  <a:path w="264" h="325">
                    <a:moveTo>
                      <a:pt x="0" y="0"/>
                    </a:moveTo>
                    <a:lnTo>
                      <a:pt x="0" y="89"/>
                    </a:lnTo>
                    <a:lnTo>
                      <a:pt x="263" y="324"/>
                    </a:lnTo>
                    <a:lnTo>
                      <a:pt x="263" y="2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279f"/>
              </a:solidFill>
              <a:ln cap="rnd" w="12600">
                <a:solidFill>
                  <a:srgbClr val="00ae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6853320" y="4848120"/>
              <a:ext cx="417600" cy="517680"/>
            </a:xfrm>
            <a:custGeom>
              <a:avLst/>
              <a:gdLst/>
              <a:ahLst/>
              <a:rect l="l" t="t" r="r" b="b"/>
              <a:pathLst>
                <a:path w="263" h="326">
                  <a:moveTo>
                    <a:pt x="262" y="0"/>
                  </a:moveTo>
                  <a:lnTo>
                    <a:pt x="262" y="91"/>
                  </a:lnTo>
                  <a:lnTo>
                    <a:pt x="0" y="325"/>
                  </a:lnTo>
                  <a:lnTo>
                    <a:pt x="0" y="235"/>
                  </a:lnTo>
                  <a:lnTo>
                    <a:pt x="262" y="0"/>
                  </a:lnTo>
                </a:path>
              </a:pathLst>
            </a:custGeom>
            <a:solidFill>
              <a:srgbClr val="ff5050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24560" y="4465800"/>
              <a:ext cx="844560" cy="757080"/>
            </a:xfrm>
            <a:custGeom>
              <a:avLst/>
              <a:gdLst/>
              <a:ahLst/>
              <a:rect l="l" t="t" r="r" b="b"/>
              <a:pathLst>
                <a:path w="532" h="477">
                  <a:moveTo>
                    <a:pt x="268" y="0"/>
                  </a:moveTo>
                  <a:lnTo>
                    <a:pt x="0" y="240"/>
                  </a:lnTo>
                  <a:lnTo>
                    <a:pt x="268" y="476"/>
                  </a:lnTo>
                  <a:lnTo>
                    <a:pt x="531" y="240"/>
                  </a:lnTo>
                  <a:lnTo>
                    <a:pt x="268" y="0"/>
                  </a:lnTo>
                </a:path>
              </a:pathLst>
            </a:custGeom>
            <a:solidFill>
              <a:srgbClr val="f35973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13160" y="4105440"/>
              <a:ext cx="70416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Projekt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cc00"/>
                  </a:solidFill>
                  <a:latin typeface="Arial"/>
                </a:rPr>
                <a:t>syste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34280" y="4842000"/>
              <a:ext cx="415800" cy="517320"/>
            </a:xfrm>
            <a:custGeom>
              <a:avLst/>
              <a:gdLst/>
              <a:ahLst/>
              <a:rect l="l" t="t" r="r" b="b"/>
              <a:pathLst>
                <a:path w="262" h="326">
                  <a:moveTo>
                    <a:pt x="0" y="0"/>
                  </a:moveTo>
                  <a:lnTo>
                    <a:pt x="0" y="89"/>
                  </a:lnTo>
                  <a:lnTo>
                    <a:pt x="261" y="325"/>
                  </a:lnTo>
                  <a:lnTo>
                    <a:pt x="261" y="234"/>
                  </a:lnTo>
                  <a:lnTo>
                    <a:pt x="0" y="0"/>
                  </a:lnTo>
                </a:path>
              </a:pathLst>
            </a:custGeom>
            <a:solidFill>
              <a:srgbClr val="790015"/>
            </a:solidFill>
            <a:ln cap="rnd"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04120" y="4462560"/>
              <a:ext cx="717840" cy="6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FEA-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04920" y="6248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0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15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Besonderheit der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67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t in der Lage, viele SAP R/3 Module in kurzer Zeit mit hoher Qualität und Funktionalität einzufüh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Braggadocio"/>
              </a:rPr>
              <a:t>j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etet on top dem Kunden release-feste Add-ons zur Einführung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3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1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Ziel der Veranstaltu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762120" y="2362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zeigen von R/3-Funktionalitäten im Standard und darüber hinaus mit Hilfe von Add-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mitteln von Erfahrungen und Know-h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fnehmen von neuen Kontak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12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6400800"/>
            <a:ext cx="934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2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18960" y="28951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P R/3 PP-PI (Produktionsplanung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steuerung) Add-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-PI Add-Ons für patientenbezogene Zubereitungen von Medikam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-business in der chemischen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-Bestelldatenaustausch über XML und SAP Business Conn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60948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P R/3-Workshop für die Prozeßindustrie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400800"/>
            <a:ext cx="934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3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undendatenbank im R/3-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genwärtige Projekte und Weiterentwick-lungen von </a:t>
            </a:r>
            <a:r>
              <a:rPr b="0" lang="en-US" sz="2400" spc="-1" strike="noStrike">
                <a:solidFill>
                  <a:srgbClr val="fc0128"/>
                </a:solidFill>
                <a:latin typeface="Braggadocio"/>
              </a:rPr>
              <a:t>j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kussion mit Fragen an die Refer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eit zum individuellen Gesprä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60948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AP R/3-Workshop für die Prozeßindustrie</a:t>
            </a:r>
            <a:br>
              <a:rPr sz="40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emenschwerpunk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Der Start von 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Beratungsunternehmen </a:t>
            </a: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jw consul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urde am 1. Juli 1996 von Dr. Jochen Winkler gegründ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2485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4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3479760"/>
            <a:ext cx="77724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n Anfang an spezialisierte sich das Unternehmen auf die komplette Einfüh-rung von SAP R/3 Systemen in Unter-nehmen der chemischen Industr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jw consulting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766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2485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5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2096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514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22860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895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5146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chtigstes Ziel der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jw consul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t ein sicherer Produktivstart und eine hohe Akzeptanz der Anwend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nlaufstelle für Fragen zum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ternehmen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hre direkten Ansprechpartner sin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r. Jochen Wink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xel Rötheme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http://www.jwconsulting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ere Homepage im Internet. Hier finden Sie alles Wissenswerte zu unserem Geschäft, lernen Referenzen und Standorte kennen - Mausklick genüg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6324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6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Unternehmensausrichtung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and heute:</a:t>
            </a:r>
            <a:endParaRPr b="0" lang="en-US" sz="4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61760" y="3123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che Indus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zeutische Indust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z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bensmittelindustrie (in der Startphas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52280"/>
          <a:ext cx="127620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280"/>
                    <a:ext cx="12762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041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095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32448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7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M Polyolefine GmbH, Gelsenkirc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cker Chemie GmbH, Nünchritz, Burghau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üls Sivento Chemie GmbH, Rheinfel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cor GmbH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tharinenhospital, Stuttg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nolit Kunststoff GmbH, Ism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AG (Creanova), Ma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a Medica AG und Arzneimittelwerk Dresden GmbH (AWD), Radebeul, Künsebeck, Frankf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lnSpc>
                <a:spcPct val="110000"/>
              </a:lnSpc>
              <a:spcBef>
                <a:spcPts val="774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ussa-Hüls AG, Frankfurt (Charme-Proj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1048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rfahrungen</a:t>
            </a:r>
            <a:br>
              <a:rPr sz="40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Auswahl -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9240" y="609480"/>
            <a:ext cx="860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04920" y="78840"/>
            <a:ext cx="0" cy="52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360" y="6248520"/>
            <a:ext cx="936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xel Röthemei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w consult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ite 8  / 1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7320" y="-6480"/>
            <a:ext cx="1006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61800" y="190440"/>
          <a:ext cx="1276560" cy="41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" y="190440"/>
                    <a:ext cx="1276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1:20:53Z</dcterms:created>
  <dc:creator>ARS</dc:creator>
  <dc:description/>
  <dc:language>en-US</dc:language>
  <cp:lastModifiedBy>Dr.Jochen Winkler</cp:lastModifiedBy>
  <cp:lastPrinted>2000-02-11T08:45:24Z</cp:lastPrinted>
  <dcterms:modified xsi:type="dcterms:W3CDTF">2000-03-24T16:16:21Z</dcterms:modified>
  <cp:revision>59</cp:revision>
  <dc:subject/>
  <dc:title>SAP QM-Workshop der  jw consulting  17. 02.2000 </dc:title>
</cp:coreProperties>
</file>