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erzlich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illkommen zum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SAP QM-Workshop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m Lindner Congress Hotel Frankfu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7. 02.2000</a:t>
            </a:r>
            <a:r>
              <a:rPr b="1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63244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 2 /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Ziel der Veranstaltu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kussion mit Erfahrungsaustaus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zeigen von Grenzen und der Blick darüber hinaus sow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egenseitige Kennenler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6248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6400800"/>
            <a:ext cx="93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3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P R/3 QM Standardeinführung und on top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fahrungsbericht zur Einführung von QM bei der VINNOLI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s R/3-LIMS  -  die wirtschaftliche Altern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itere Entwicklungen zur Integration im SAP R/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76212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P R/3 QM-Workshop für die Prozeßindustrie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r Start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Beratungsunternehmen </a:t>
            </a:r>
            <a:r>
              <a:rPr b="0" lang="de-DE" sz="3200" spc="-1" strike="noStrike">
                <a:solidFill>
                  <a:srgbClr val="fc0128"/>
                </a:solidFill>
                <a:latin typeface="Arial"/>
              </a:rPr>
              <a:t>jw consulting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wurde am 1. Juli 1996 von Dr. Jochen Winkler gegründ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248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4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479760"/>
            <a:ext cx="77724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 Anfang spezialisierte sich das Unter-nehmen auf die komplette Einführung von SAP R/3 Systemen in Unternehmen der chemischen Indust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766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5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14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286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5146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htigstes Ziel der jw consulting ist ein sicherer Produktivstart und eine hohe Akzeptanz der Anwen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laufstelle für Fragen zum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hre direkten Ansprechpartner sin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. Jochen Wink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xel Rötheme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ttp://www.jwconsulting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6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sausrichtung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nd heute: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zeut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bensmittelindustrie (in der Startphas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7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M Polyolefine GmbH, Gelsenkir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cker Chemie GmbH, Nünchritz, Burghau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üls Sivento Chemie GmbH, Rheinfel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cor GmbH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harinenhospital, 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nolit Kunststoff GmbH, Ism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 (Creanova)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a Medica AG und Arzneimittelwerk Dresden GmbH (AWD), Radebeul, Künsebeck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, Frankfurt (Charme-Proj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rfahrungen</a:t>
            </a:r>
            <a:br>
              <a:rPr sz="40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Auswahl -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6248520"/>
            <a:ext cx="93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8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in spezieller Gruß geht an:</a:t>
            </a: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89440" indent="-2894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u Ursula Gramm und Herrn Martin Engler von der DSM Polyolefine GmbH, Gelsenkirchen  - Projekt: Vestolen GmbH (199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rn Dr. A. Siegmar Schmidt, Degussa-Hüls AG, Marl - Projekte: Hüls Silicone GmbH, Nünchritz (09/1996-7/1997) sowie Sivento Chemie GmbH, Düsseldorf und Rheinfelden (10/1997-08/19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5080" y="648648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as SAP R/3-System und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Add-Ons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100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101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107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113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19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25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31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37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43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49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55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61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67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73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79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91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97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203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210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216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27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33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38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43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49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306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313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19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50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4920" y="6248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0 /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15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1:20:53Z</dcterms:created>
  <dc:creator>ARS</dc:creator>
  <dc:description/>
  <dc:language>en-US</dc:language>
  <cp:lastModifiedBy>Dr.Jochen Winkler</cp:lastModifiedBy>
  <cp:lastPrinted>2000-02-11T08:45:24Z</cp:lastPrinted>
  <dcterms:modified xsi:type="dcterms:W3CDTF">2000-02-29T21:11:54Z</dcterms:modified>
  <cp:revision>56</cp:revision>
  <dc:subject/>
  <dc:title>SAP QM-Workshop der  jw consulting  17. 02.2000 </dc:title>
</cp:coreProperties>
</file>