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27.png" ContentType="image/png"/>
  <Override PartName="/ppt/media/image30.wmf" ContentType="image/x-wmf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41.wmf" ContentType="image/x-wmf"/>
  <Override PartName="/ppt/media/image8.png" ContentType="image/png"/>
  <Override PartName="/ppt/media/image38.png" ContentType="image/png"/>
  <Override PartName="/ppt/media/image40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.wmf" ContentType="image/x-wmf"/>
  <Override PartName="/ppt/media/image31.wmf" ContentType="image/x-wmf"/>
  <Override PartName="/ppt/media/image28.png" ContentType="image/png"/>
  <Override PartName="/ppt/media/image4.wmf" ContentType="image/x-wmf"/>
  <Override PartName="/ppt/media/image3.wmf" ContentType="image/x-wmf"/>
  <Override PartName="/ppt/media/image29.png" ContentType="image/png"/>
  <Override PartName="/ppt/media/image2.wmf" ContentType="image/x-wmf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25640" y="8600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025640" y="8604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882720" y="4673160"/>
            <a:ext cx="4857840" cy="33800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ktionen = Felder, Funktionen, Fehlermeldun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384760" y="31680"/>
            <a:ext cx="17517600" cy="13639320"/>
            <a:chOff x="-8384760" y="31680"/>
            <a:chExt cx="17517600" cy="1363932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384760" y="31680"/>
              <a:ext cx="16769520" cy="136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0" y="0"/>
                  </a:moveTo>
                  <a:arcTo wR="10800" hR="10800" stAng="-5396746" swAng="53967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0" y="0"/>
                  </a:moveTo>
                  <a:arcTo wR="10800" hR="10800" stAng="-5396746" swAng="5396746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Produktion in der chemischen </a:t>
            </a:r>
            <a:br>
              <a:rPr sz="3200"/>
            </a:b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Industrie mittels R/3 Add-on</a:t>
            </a:r>
            <a:br>
              <a:rPr sz="3200"/>
            </a:br>
            <a:br>
              <a:rPr sz="3200"/>
            </a:b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Dipl. Math. Bernd Mickley</a:t>
            </a:r>
            <a:br>
              <a:rPr sz="2400"/>
            </a:br>
            <a:r>
              <a:rPr b="0" lang="de-DE" sz="1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consulting</a:t>
            </a:r>
            <a:br>
              <a:rPr sz="2400"/>
            </a:br>
            <a:br>
              <a:rPr sz="24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http://www.jwconsulting.de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09320" y="5105160"/>
            <a:ext cx="495324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uppertal, den 28.3.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447920" y="1295280"/>
            <a:ext cx="7391160" cy="76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Produktion in der chemischen Industrie</a:t>
            </a:r>
            <a:br>
              <a:rPr sz="16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2438280"/>
            <a:ext cx="6629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1. Produktion im SAP R/3 Stand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2. Metatransaktion  </a:t>
            </a:r>
            <a:r>
              <a:rPr b="0" lang="de-DE" sz="20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Add-on V 1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3. Weiterentwicklung </a:t>
            </a:r>
            <a:r>
              <a:rPr b="0" lang="de-DE" sz="20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Add-on V 2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4. Nutze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380520"/>
            <a:ext cx="762012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57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de-DE" sz="2800" spc="-1" strike="noStrike">
                <a:solidFill>
                  <a:srgbClr val="fafd00"/>
                </a:solidFill>
                <a:latin typeface="Arial"/>
              </a:rPr>
              <a:t>3. Weiterentwicklung </a:t>
            </a:r>
            <a:r>
              <a:rPr b="0" lang="de-DE" sz="2000" spc="-1" strike="noStrike">
                <a:solidFill>
                  <a:srgbClr val="fafd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fafd00"/>
                </a:solidFill>
                <a:latin typeface="Arial"/>
              </a:rPr>
              <a:t> Add-on Version 2.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7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7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-  Prozeßauftrag anlegen/auswähl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7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-  Vorschlagscharge auswähl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7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-  Produktionsmeng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7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-  Online Hil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784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-  Detailauswahl mit Registerkarten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de-DE" sz="1400" spc="-1" strike="noStrike">
                <a:solidFill>
                  <a:srgbClr val="ffffff"/>
                </a:solidFill>
                <a:latin typeface="Marlett"/>
                <a:ea typeface="Marlett"/>
              </a:rPr>
              <a:t>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ohstoffe der Stücklis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de-DE" sz="1400" spc="-1" strike="noStrike">
                <a:solidFill>
                  <a:srgbClr val="ffffff"/>
                </a:solidFill>
                <a:latin typeface="Marlett"/>
                <a:ea typeface="Marlett"/>
              </a:rPr>
              <a:t>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Energien der Stücklis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de-DE" sz="1400" spc="-1" strike="noStrike">
                <a:solidFill>
                  <a:srgbClr val="ffffff"/>
                </a:solidFill>
                <a:latin typeface="Marlett"/>
                <a:ea typeface="Marlett"/>
              </a:rPr>
              <a:t>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estmengen lose 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7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de-DE" sz="1400" spc="-1" strike="noStrike">
                <a:solidFill>
                  <a:srgbClr val="ffffff"/>
                </a:solidFill>
                <a:latin typeface="Marlett"/>
                <a:ea typeface="Marlett"/>
              </a:rPr>
              <a:t>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Restmengen verpackte Ware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5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de-DE" sz="1400" spc="-1" strike="noStrike">
                <a:solidFill>
                  <a:srgbClr val="ffffff"/>
                </a:solidFill>
                <a:latin typeface="Marlett"/>
                <a:ea typeface="Marlett"/>
              </a:rPr>
              <a:t>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Verpackun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09320" y="5105160"/>
            <a:ext cx="495324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09320" y="5105160"/>
            <a:ext cx="495324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09320" y="5105160"/>
            <a:ext cx="495324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09320" y="5105160"/>
            <a:ext cx="495324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09320" y="5105160"/>
            <a:ext cx="495324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09320" y="5105160"/>
            <a:ext cx="495324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09320" y="5105160"/>
            <a:ext cx="495324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09320" y="5105160"/>
            <a:ext cx="495324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371600" y="762120"/>
            <a:ext cx="63244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afd00"/>
                </a:solidFill>
                <a:latin typeface="Arial"/>
              </a:rPr>
              <a:t>1. Produktion im SAP R/3 Stand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05740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tammdaten sind Vorschlagswerte für d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rozeßauftrag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- Vorteile des Prozeßauftrages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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flexibel für viele Branchen anpaßbar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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volle betriebswirtschaftliche Integ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-  Nachteile des Prozeßauftrag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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nwenderunfreundliche Nummernident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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ufwendige und komplizierte Bedien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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esonderheiten nicht abbildbar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09320" y="5105160"/>
            <a:ext cx="495324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09320" y="5105160"/>
            <a:ext cx="495324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Zusammenfassung der Auswahleingaben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509840" y="2251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2590920"/>
            <a:ext cx="7848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bene 1:  Produk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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bene 2:  Prozeßauftra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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bene 3:  Cha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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bene 4:  Mengen pro Verpack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609480" y="304920"/>
          <a:ext cx="5761080" cy="30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920"/>
                    <a:ext cx="576108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09320" y="5105160"/>
            <a:ext cx="495324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1143000" y="990720"/>
            <a:ext cx="6477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afd00"/>
                </a:solidFill>
                <a:latin typeface="Arial"/>
              </a:rPr>
              <a:t>Beispiele für  Onlinehil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66680" y="2209680"/>
            <a:ext cx="83822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dd-on Hilfe für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Felder/Fehlermeldungen/Funktion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Hilfe Verknüpfung jw Add-on zum R/3 Standard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AP R/3 Hilfe für Standard Aktion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ffffff"/>
                </a:solidFill>
                <a:latin typeface="Braggadocio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09320" y="5105160"/>
            <a:ext cx="495324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09320" y="5105160"/>
            <a:ext cx="495324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09320" y="5105160"/>
            <a:ext cx="495324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09320" y="5105160"/>
            <a:ext cx="495324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09320" y="5105160"/>
            <a:ext cx="495324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09320" y="5105160"/>
            <a:ext cx="495324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1447920" y="1143000"/>
            <a:ext cx="7848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etailauswahl mit Registerkarte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2286000"/>
            <a:ext cx="7010640" cy="26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Marlett"/>
                <a:ea typeface="Marlett"/>
              </a:rPr>
              <a:t>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hstoffe der Stücklis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Marlett"/>
                <a:ea typeface="Marlett"/>
              </a:rPr>
              <a:t>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ergien der Stücklis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Marlett"/>
                <a:ea typeface="Marlett"/>
              </a:rPr>
              <a:t>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tmengen lose 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Marlett"/>
                <a:ea typeface="Marlett"/>
              </a:rPr>
              <a:t>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tmengen verpackte Wa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Marlett"/>
                <a:ea typeface="Marlett"/>
              </a:rPr>
              <a:t>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packun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6094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de-DE" sz="2800" spc="-1" strike="noStrike">
                <a:solidFill>
                  <a:srgbClr val="fafd00"/>
                </a:solidFill>
                <a:latin typeface="Arial"/>
              </a:rPr>
              <a:t>2. Metatransaktion </a:t>
            </a:r>
            <a:r>
              <a:rPr b="0" lang="de-DE" sz="2000" spc="-1" strike="noStrike">
                <a:solidFill>
                  <a:srgbClr val="fafd00"/>
                </a:solidFill>
                <a:latin typeface="Braggadocio"/>
              </a:rPr>
              <a:t>jw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fafd00"/>
                </a:solidFill>
                <a:latin typeface="Arial"/>
              </a:rPr>
              <a:t>Add-on V 1.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-  Produktionskonzep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-  Produktionsmen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-  Metatransak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-  Prozeßaufträge mit jw Add-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209320" y="5105160"/>
            <a:ext cx="495324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09320" y="5105160"/>
            <a:ext cx="495324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09320" y="5105160"/>
            <a:ext cx="495324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09320" y="5105160"/>
            <a:ext cx="495324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209320" y="5105160"/>
            <a:ext cx="495324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533520" y="38736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4. Nutzen (1)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09240" y="61596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304920" y="8532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90720" y="1447920"/>
            <a:ext cx="7848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76920" indent="-376920">
              <a:lnSpc>
                <a:spcPct val="100000"/>
              </a:lnSpc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Vollständige betriebswirtschaftliche Integration (Module  PP, PP-PI, MM, FI, CO, SD)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48520" indent="-2826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Produktkalkulation erfolgt im Modul 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48520" indent="-2826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ereitstellung der Rohstoffe erfolgt im Modul M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48520" indent="-2826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Automatische Buchungen im MM, FI und CO mit  jederzeit transparenten Informationen über alle Warenaus - und eingänge im Modul PP-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48520" indent="-2826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Verkauf erfolgt im Modul S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48520" indent="-2826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Kostendifferenzen, die durch Mengen- und Wertveränderungen in der Materialliste entstehen (Produktkosten - Rohstoffkosten) werden im FI auf ein Differenzenkonto ausgewiesen und sind im CO in der Kostenrechnung/Ergebnisrechnung  sichtbar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537320" y="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609480" y="387360"/>
          <a:ext cx="8261640" cy="304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87360"/>
                    <a:ext cx="8261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209320" y="5105160"/>
            <a:ext cx="495324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 flipH="1">
            <a:off x="457200" y="762120"/>
            <a:ext cx="8610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457200" y="231840"/>
            <a:ext cx="0" cy="528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689960" y="146160"/>
            <a:ext cx="10062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4920" y="768240"/>
            <a:ext cx="8534160" cy="3353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309240" y="61596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09680" y="5111640"/>
            <a:ext cx="495324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304920" y="8532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37320" y="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609480" y="387360"/>
          <a:ext cx="8077320" cy="304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8736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"/>
          <p:cNvSpPr/>
          <p:nvPr/>
        </p:nvSpPr>
        <p:spPr>
          <a:xfrm>
            <a:off x="533520" y="39384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Nutzen (2)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09240" y="62244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04920" y="92160"/>
            <a:ext cx="0" cy="528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90720" y="1073160"/>
            <a:ext cx="7848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5680" indent="-26820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7840" indent="-35784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Kundenorientierte Bedienoberfläche bringt Zeitersparnis und Fehlerreduk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5680" indent="-2682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eigenes Produktionsmen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5680" indent="-2682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Anzeigen von  Auswahltexten anstatt  interne Nummern- idente mit zeitaufwendiger Matchcodesuche für Materialnummern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5680" indent="-2682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nterne SAP Abläufe bleiben dunkelgesteuert, wobei Standardeingaben automatisch erledigt werd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5680" indent="-2682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Abarbeitung aller Prozeßaufträge für die Herstellung und Abfüllung eines Produktes ohne erneute Eingab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5680" indent="-26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5680" indent="-26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000" spc="-1" strike="noStrike">
                <a:solidFill>
                  <a:srgbClr val="fafd00"/>
                </a:solidFill>
                <a:latin typeface="Arial"/>
              </a:rPr>
              <a:t>Gesamte Zeitersparnis gegenüber Standard:   80 - 9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5680" indent="-2682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537320" y="6480"/>
            <a:ext cx="10065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609480" y="393840"/>
          <a:ext cx="8261640" cy="304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93840"/>
                    <a:ext cx="82616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09320" y="5105160"/>
            <a:ext cx="495324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57200" y="914400"/>
            <a:ext cx="8534520" cy="33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Produktion in der chemischen </a:t>
            </a:r>
            <a:br>
              <a:rPr sz="3200"/>
            </a:br>
            <a:r>
              <a:rPr b="1" lang="de-DE" sz="3200" spc="-1" strike="noStrike">
                <a:solidFill>
                  <a:srgbClr val="fafd00"/>
                </a:solidFill>
                <a:latin typeface="Arial"/>
              </a:rPr>
              <a:t>Industrie mittels R/3 Add-on</a:t>
            </a:r>
            <a:br>
              <a:rPr sz="3200"/>
            </a:br>
            <a:br>
              <a:rPr sz="3200"/>
            </a:b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Dipl. Math. Bernd Mickley</a:t>
            </a:r>
            <a:br>
              <a:rPr sz="2400"/>
            </a:br>
            <a:r>
              <a:rPr b="0" lang="de-DE" sz="1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consulting</a:t>
            </a:r>
            <a:br>
              <a:rPr sz="2400"/>
            </a:br>
            <a:br>
              <a:rPr sz="24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http://www.jwconsulting.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461520" y="76212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62320" y="5257800"/>
            <a:ext cx="4952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uppertal, den 28.3.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57200" y="231840"/>
            <a:ext cx="0" cy="528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89960" y="146160"/>
            <a:ext cx="10062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91440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73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de-DE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fafd00"/>
                </a:solidFill>
                <a:latin typeface="Arial"/>
              </a:rPr>
              <a:t>Produktionskonzept in RH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396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96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-   anonyme Lagerproduk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96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-   Prozeßauftrag für ein Produkt wird am  Monatsanfang angelegt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96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-   Teilrückmeldungen erfolgen tägl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96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-   Endrückmeldung erfolgt am Monatsen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96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-   Herstellungsauftra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96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-   Abfüllauftra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96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96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96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06600" y="374760"/>
          <a:ext cx="7864200" cy="39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374760"/>
                    <a:ext cx="786420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3352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09480" y="380880"/>
          <a:ext cx="8077320" cy="3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0773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1T13:23:16Z</dcterms:created>
  <dc:creator>Dr. Winkler</dc:creator>
  <dc:description/>
  <dc:language>en-US</dc:language>
  <cp:lastModifiedBy>Dr.Jochen Winkler</cp:lastModifiedBy>
  <cp:lastPrinted>2000-03-06T19:52:43Z</cp:lastPrinted>
  <dcterms:modified xsi:type="dcterms:W3CDTF">2000-03-24T20:51:52Z</dcterms:modified>
  <cp:revision>272</cp:revision>
  <dc:subject/>
  <dc:title>Round table Wuppertal</dc:title>
</cp:coreProperties>
</file>