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72160" y="47520"/>
            <a:ext cx="17505000" cy="13614120"/>
            <a:chOff x="-8372160" y="47520"/>
            <a:chExt cx="17505000" cy="136141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72160" y="47520"/>
              <a:ext cx="16744320" cy="136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1" swAng="53967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1" swAng="5396741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R/3 LIMS</a:t>
            </a:r>
            <a:br>
              <a:rPr sz="3600"/>
            </a:br>
            <a:r>
              <a:rPr b="1" lang="de-DE" sz="2400" spc="-1" strike="noStrike">
                <a:solidFill>
                  <a:srgbClr val="fafd00"/>
                </a:solidFill>
                <a:latin typeface="Arial"/>
              </a:rPr>
              <a:t>für die </a:t>
            </a:r>
            <a:br>
              <a:rPr sz="2400"/>
            </a:b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Pharmaindustrie</a:t>
            </a:r>
            <a:br>
              <a:rPr sz="3600"/>
            </a:br>
            <a:r>
              <a:rPr b="1" lang="de-DE" sz="2400" spc="-1" strike="noStrike">
                <a:solidFill>
                  <a:srgbClr val="fafd00"/>
                </a:solidFill>
                <a:latin typeface="Arial"/>
              </a:rPr>
              <a:t>und andere Weiterentwicklungen</a:t>
            </a:r>
            <a:br>
              <a:rPr sz="3600"/>
            </a:br>
            <a:br>
              <a:rPr sz="36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r.Jochen Winkler</a:t>
            </a:r>
            <a:br>
              <a:rPr sz="20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ankfurt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7. Februar 2000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52280"/>
          <a:ext cx="1435320" cy="59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435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tabilitätsprüfung (3)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speziell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tabilitätsbericht ABC 10 mg Filmtablet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ackmittel: PVC / Alu Blister (60/2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arameter: Wassergehalt (KF) in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Lagerbedingung: 25 C / 60 % r.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90720" y="2895480"/>
          <a:ext cx="7345080" cy="32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95480"/>
                    <a:ext cx="734508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tabilitätsprüfung(4)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allgemein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513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üfplanung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(Was wird wann unter welchen Bedingungen mit welchen Merkmalen wie geprü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üfungsgegenst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dukte, Wettbewerbsprodukte, Forschungsm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irkstoffe, Zusätze, Lösungsmittel, Verpack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har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üfungsbedingu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Klima, Temperatur, Feuchtigkeit, Bewegung u.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üfzeitpunk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üfplä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üfmerkmale (auch bedingt oder abgeleite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üfaufträge flexibel anpassb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tabilitätsprüfung(5)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allgemein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benzieh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beziehanweisung, Etiketti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ben- und Lagerverwalt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üf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tomatischer Prüfansto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Ergebniserfassung (manuell oder über Kopplung von Analysegeräten, Waagen, 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Elektron. Unterschr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tabilitätsprüfung(6)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allgemein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wertung / Dok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bilitätsbericht (SAP, Wor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phiken (SAP, Exc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Anfra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schluß an Statistik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ch- und Optimierungsfunktion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Stabilitätsprüfung(7)</a:t>
            </a:r>
            <a:br>
              <a:rPr sz="3600"/>
            </a:br>
            <a:r>
              <a:rPr b="1" lang="de-DE" sz="2000" spc="-1" strike="noStrike">
                <a:solidFill>
                  <a:srgbClr val="fafd00"/>
                </a:solidFill>
                <a:latin typeface="Arial"/>
              </a:rPr>
              <a:t>- R/3 Add-on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Stabilitätsmodul besteht au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tammdatenverwaltung (R/3- u. eigene Stammdat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üfplanung / Probezieh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lanungstablea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ervicefunk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üf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onderproben-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it hoher Flexibilität (auch für Forschu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swertung / Doku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Änderungsmanagement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gration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/3 QM, MM, SD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320" y="1712880"/>
            <a:ext cx="10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Validierung</a:t>
            </a:r>
            <a:r>
              <a:rPr b="1" lang="de-DE" sz="3600" spc="-1" strike="noStrike">
                <a:solidFill>
                  <a:srgbClr val="fafd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C Guide for Good Manufacturing Practices for Medical 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DA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Verfügbarkeit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Zusatzfunktionalität QM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4/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LIMS 4.0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6/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hemie komple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harma Basisfunktionalitä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ikrobiologie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6/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bilitätsprüfung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9/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Weiter- und Neuentwicklungen von </a:t>
            </a:r>
            <a:br>
              <a:rPr sz="3600"/>
            </a:br>
            <a:r>
              <a:rPr b="1" lang="de-DE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 Add-ons im R/3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04560" y="68580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orkshop Chemie und Pharma (2)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8.3. Wupper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/3 PP/PI- Addons( 28.3. Wuppertal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E-commerce in der Chem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Elektron. Bestelldatenaustausch über BC u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orkshop Medizin - 29.3. Düsseldor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Klinikapotheke und Eigenherstell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R/3 LIMS</a:t>
            </a:r>
            <a:br>
              <a:rPr sz="3600"/>
            </a:br>
            <a:r>
              <a:rPr b="1" lang="de-DE" sz="2400" spc="-1" strike="noStrike">
                <a:solidFill>
                  <a:srgbClr val="fafd00"/>
                </a:solidFill>
                <a:latin typeface="Arial"/>
              </a:rPr>
              <a:t>für die </a:t>
            </a:r>
            <a:br>
              <a:rPr sz="2400"/>
            </a:b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Pharmaindustrie</a:t>
            </a:r>
            <a:br>
              <a:rPr sz="3600"/>
            </a:br>
            <a:r>
              <a:rPr b="1" lang="de-DE" sz="2400" spc="-1" strike="noStrike">
                <a:solidFill>
                  <a:srgbClr val="fafd00"/>
                </a:solidFill>
                <a:latin typeface="Arial"/>
              </a:rPr>
              <a:t>und andere Weiterentwicklungen</a:t>
            </a:r>
            <a:br>
              <a:rPr sz="3600"/>
            </a:br>
            <a:br>
              <a:rPr sz="36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r.Jochen Winkler</a:t>
            </a:r>
            <a:br>
              <a:rPr sz="20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ankfurt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7. Februar 2000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19040" y="399960"/>
          <a:ext cx="127656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99960"/>
                    <a:ext cx="1276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88360" y="865080"/>
            <a:ext cx="6679800" cy="51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AP R/3-System mit integriertem L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760" y="64738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53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54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0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66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72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78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84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0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96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02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08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14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0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26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32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38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44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0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56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63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69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86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1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196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02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12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afd00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afd00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afd00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65fb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3365fb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3365fb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65fb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3365fb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59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66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72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82080" y="3706920"/>
              <a:ext cx="9694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Investiton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09680" y="2216160"/>
              <a:ext cx="7102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52520" y="3044880"/>
              <a:ext cx="86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cc00"/>
                  </a:solidFill>
                  <a:latin typeface="Arial"/>
                </a:rPr>
                <a:t>Chem. Ind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03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13" name=""/>
          <p:cNvGraphicFramePr/>
          <p:nvPr/>
        </p:nvGraphicFramePr>
        <p:xfrm>
          <a:off x="457200" y="152280"/>
          <a:ext cx="5456160" cy="4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54561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R/3 LIMS (Pharma)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04560" y="68580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üfanforder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unk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alidi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ikrobiolog. Untersuch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bilitäts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ntwicklungspla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eitere Neu- bzw. Weiterentwickl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rüfanforderungen (1)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04560" y="68580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m Wareneingang fü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sgangsstoffe, Zwischenprodukte, Halbfertigware, Fertigware, Handels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ackmit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 der Produktion fü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-process Kontroll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mgebungskontroll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igabekontrollen von Halbfertig-, Bulk-, Fertigware, Wirkstoff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rüfanforderungen (2)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04560" y="91440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 der Materialverwaltung fü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sgangsstoffe, deren Verfallsdatum erreicht 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 der Qualitätskontrolle fü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Einkaufsmu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ettbewerberproduk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tabilitätsmu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tandardsubstanz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orschungsprob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mweltprob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bfallprob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nktionen 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abor als Dienstleister für Forschung, Produktion, Lager, Disposition und 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rbeitsplanung im La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rfassung der Prüfergebn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ichtserstellung, Statisti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orbereiten / Treffen Verwendungsentsche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rstellung der Analysezertifik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stenerfass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Mikrobiolog. Untersuchungen</a:t>
            </a:r>
            <a:r>
              <a:rPr b="1" lang="de-DE" sz="36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-36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ikrobiolog. Umgebungskontro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umlu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Oberfläc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artik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as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swirkung auf produzierte Chargen und auf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duktionsplan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ersonenkontro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bilitätsuntersuch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40384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tabilitätsprüfung (1)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speziell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üfpla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rzneimittel, Charge, Verpackung, Klima, Prüfzeitpunk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üfplan (Prüfmerkmale, z.B. Wirkstoffantei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bezieh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üf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tomatischer Prüfansto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ben- und Lagerverwalt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Ergebniserfass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wer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tabilitätsberic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rafiken: z.B. Wirkstoffanteil über der Zeit bei verschiedenen Chargen (Arzneimittel, Verpackung, Klima fe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tabilitätsprüfung (2)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speziell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bilitätsberi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rzneimittel (enth. Stoffe),Verpackung, Char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emessene Merkmale / Methode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ative Merkmale, z.B. Aussehen, Identitä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ntitative Merkmale: z.B. Dichte, pH-Wer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Gehalt an Stoff A, B,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erkmale zur mikrobiolog. Prüfung: Aerob wachsende Mikroorganismen (GKZ), and. Mikroorganismen (z.B. Hefen, Schimmelpilze, Salmonell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verschiedene Bedingungen: z.B. Temperatur, Feuchtigkeit, halb gefüllte Flaschen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schiedlichen Zeitpunk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hlußfolgeru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Haltbarkeit bei versch. Lagerbedingungen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nach Anbru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54360" y="6486480"/>
            <a:ext cx="104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Jochen Winkler</cp:lastModifiedBy>
  <cp:lastPrinted>2000-02-16T09:12:23Z</cp:lastPrinted>
  <dcterms:modified xsi:type="dcterms:W3CDTF">2000-02-18T22:08:49Z</dcterms:modified>
  <cp:revision>177</cp:revision>
  <dc:subject/>
  <dc:title>Intergriertes SAP R/3 LIMS</dc:title>
</cp:coreProperties>
</file>