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griertes SAP R/3 LIM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forderungen an das SAP R/3 L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rführung einiger Highligh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süm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sk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PZ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447920" y="4083120"/>
          <a:ext cx="761760" cy="18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4083120"/>
                    <a:ext cx="76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orschungsprob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3520" y="18288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meld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planerstell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gabe der Rezept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tomatische Registrier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ßwerterfass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protok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114800" y="2017800"/>
          <a:ext cx="609480" cy="14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2017800"/>
                    <a:ext cx="60948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Prüfplanerstellung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zeptur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Werteerfassung der Forschungs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2362320" y="1774800"/>
          <a:ext cx="8380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1774800"/>
                    <a:ext cx="838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üfprotokol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flege der Stammda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7616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kt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nden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fahrungs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pektspezifik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Spezifikation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209680" y="1523880"/>
          <a:ext cx="685800" cy="1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9680" y="1523880"/>
                    <a:ext cx="68580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143000" y="3200400"/>
          <a:ext cx="762120" cy="146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3200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143000" y="3886200"/>
          <a:ext cx="762120" cy="14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38862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143000" y="4114800"/>
          <a:ext cx="762120" cy="146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43000" y="41148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143000" y="4343400"/>
          <a:ext cx="762120" cy="14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143000" y="43434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143000" y="3657600"/>
          <a:ext cx="762120" cy="14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36576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43000" y="3429000"/>
          <a:ext cx="762120" cy="14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143000" y="3429000"/>
                    <a:ext cx="76212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Spezifikation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forderunge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das SAP R/3 LIMS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9051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reigabe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orschungs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remdmuster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nder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zeßbegleit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mweltpro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flege der Merkmal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mfassende Such- und Auswertefunktionalität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P- Graf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- Graf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- Doku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600200" y="1676520"/>
          <a:ext cx="628560" cy="15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676520"/>
                    <a:ext cx="62856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uswert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esüme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9677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ternehmensweite Aufgabenabdeck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gonomische Bedien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SO-Kompatibilitä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rweiterbarke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Volle Integration in SAP R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urchgängig probenbezogene Prüfu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mfassende Such- und Auswertefunk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nterschiede und Neuerung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nterlegen der Spezifikationen in eigenen Strukt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 Ku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 Produk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efinition von Gültigkeitszeiträumen für 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pezifikationsfind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ilden von Erfahrungs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bilden von Prospektspezifikati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igabeproben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meld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gistrie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eßwerterfass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üfzeugn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2560" y="6486480"/>
            <a:ext cx="921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JW-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Anmelden einer 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3581280" y="2001960"/>
          <a:ext cx="685800" cy="18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2001960"/>
                    <a:ext cx="68580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gistrieren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3657600" y="1766880"/>
          <a:ext cx="1066680" cy="15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1766880"/>
                    <a:ext cx="1066680" cy="1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Registrieren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2362320" y="3505320"/>
          <a:ext cx="647640" cy="1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505320"/>
                    <a:ext cx="647640" cy="1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6bf69"/>
                </a:solidFill>
                <a:latin typeface="Arial"/>
              </a:rPr>
              <a:t>Werteerfassung der Freigabeprob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62520" y="1770120"/>
          <a:ext cx="685800" cy="16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1770120"/>
                    <a:ext cx="68580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üfprotokol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4000" y="6486480"/>
            <a:ext cx="1065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Thomas Mickle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Prototyp SAP LI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809880" y="2025720"/>
          <a:ext cx="762120" cy="18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2025720"/>
                    <a:ext cx="76212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6:24:12Z</dcterms:created>
  <dc:creator>TM</dc:creator>
  <dc:description/>
  <dc:language>en-US</dc:language>
  <cp:lastModifiedBy>Dr.Jochen Winkler</cp:lastModifiedBy>
  <cp:lastPrinted>1999-08-24T16:35:57Z</cp:lastPrinted>
  <dcterms:modified xsi:type="dcterms:W3CDTF">2000-03-02T20:35:41Z</dcterms:modified>
  <cp:revision>112</cp:revision>
  <dc:subject/>
  <dc:title>Intergriertes SAP R/3 LIMS</dc:title>
</cp:coreProperties>
</file>