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219320"/>
            <a:ext cx="9091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D7ED405C-1064-49E6-8926-CACD0AD8A75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7024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um 31.10.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4040" y="7101000"/>
            <a:ext cx="9212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2880" y="7101000"/>
            <a:ext cx="3006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eLab  – Aufbau und Funktionsweise aus technischer Sich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eLab-Aufbau und Funktionsweise 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aus technischer Sich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rl, den 31.10.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9880" y="2666880"/>
          <a:ext cx="838440" cy="60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8384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088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565200" indent="-565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SAP R/3 ist Master bez. aller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Stammdaten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900"/>
            </a:b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Synchronisation mit Webserver periodisch </a:t>
            </a:r>
            <a:br>
              <a:rPr sz="2900"/>
            </a:b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oder auf Anforderun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Kein direkter Zugriff auf SAP-Tabellen vom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900"/>
            </a:b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Webserv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9760" indent="-3808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9760" indent="-3808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ystemarchitektu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undenanbindung B2B und B2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65200" indent="0">
              <a:spcBef>
                <a:spcPts val="77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B2C – Business to Customer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Kunde kommuniziert manuell über Browser  mit dem Webserver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0">
              <a:spcBef>
                <a:spcPts val="700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B2B – Business to Busines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Kundensystem übergibt automatisch Date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624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Kundensystem übernimmt automatisch Daten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undenanbindung B2B und B2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1981080"/>
            <a:ext cx="184320" cy="21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5410080"/>
            <a:ext cx="5143320" cy="1600200"/>
          </a:xfrm>
          <a:prstGeom prst="rect">
            <a:avLst/>
          </a:prstGeom>
          <a:solidFill>
            <a:srgbClr val="a7b5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1828800"/>
            <a:ext cx="18288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3768840"/>
            <a:ext cx="799920" cy="687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n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19440" y="3768840"/>
            <a:ext cx="800280" cy="687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a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5524560"/>
            <a:ext cx="2057400" cy="342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andant Ma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48320" y="5524560"/>
            <a:ext cx="2171520" cy="342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dant Han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5981760"/>
            <a:ext cx="1714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P System P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00400" y="5030640"/>
            <a:ext cx="2971800" cy="3430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onve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2168640"/>
            <a:ext cx="1600200" cy="342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onve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29480" y="2168640"/>
            <a:ext cx="1600200" cy="342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628720" y="2282400"/>
            <a:ext cx="1028520" cy="84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57680" y="2282760"/>
            <a:ext cx="952200" cy="76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2590920"/>
            <a:ext cx="0" cy="57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724280" y="25905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486400" y="2590920"/>
            <a:ext cx="914400" cy="57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715000" y="2590560"/>
            <a:ext cx="95256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4456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076640" y="4456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19640" y="4456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334120" y="4456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1295280"/>
            <a:ext cx="68580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57880" y="1295280"/>
            <a:ext cx="68580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1295280"/>
            <a:ext cx="68580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3352680"/>
            <a:ext cx="114480" cy="1143000"/>
          </a:xfrm>
          <a:custGeom>
            <a:avLst/>
            <a:gdLst>
              <a:gd name="textAreaLeft" fmla="*/ 0 w 114480"/>
              <a:gd name="textAreaRight" fmla="*/ 41400 w 1144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3581280"/>
            <a:ext cx="1371600" cy="80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htung von  Auftrag und Prüfergebnis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90840" y="6261120"/>
            <a:ext cx="2400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1f1f"/>
                </a:solidFill>
                <a:latin typeface="Braggadocio"/>
              </a:rPr>
              <a:t>jw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LIM-System + Vertriebsabwick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19440" y="3425760"/>
            <a:ext cx="2057400" cy="343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72080" y="1825560"/>
            <a:ext cx="18288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P R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15000" y="1825560"/>
            <a:ext cx="18288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n S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opplung Webserver - SA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76280" indent="-476280"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Daten sind redundant und strukturidentisch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auf beiden Systemen vorhande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0">
              <a:lnSpc>
                <a:spcPct val="100000"/>
              </a:lnSpc>
              <a:spcBef>
                <a:spcPts val="181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Wingdings"/>
                <a:ea typeface="Wingdings"/>
              </a:rPr>
              <a:t></a:t>
            </a:r>
            <a:r>
              <a:rPr b="0" lang="en-US" sz="25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Web </a:t>
            </a:r>
            <a:r>
              <a:rPr b="1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SAP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622520" indent="-390600">
              <a:spcBef>
                <a:spcPts val="1312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Auftragsdate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0">
              <a:lnSpc>
                <a:spcPct val="100000"/>
              </a:lnSpc>
              <a:spcBef>
                <a:spcPts val="181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Wingdings"/>
                <a:ea typeface="Wingdings"/>
              </a:rPr>
              <a:t>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AP </a:t>
            </a:r>
            <a:r>
              <a:rPr b="1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Web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622520" indent="-390600">
              <a:spcBef>
                <a:spcPts val="1312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mmdaten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622520" indent="-390600">
              <a:spcBef>
                <a:spcPts val="1312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üfergebnisse und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622520" indent="-390600">
              <a:spcBef>
                <a:spcPts val="1312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kture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0">
              <a:spcBef>
                <a:spcPts val="181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spcBef>
                <a:spcPts val="726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Kopplung Webserver - SA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1828800"/>
            <a:ext cx="9220320" cy="45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565200" indent="-565200">
              <a:lnSpc>
                <a:spcPct val="90000"/>
              </a:lnSpc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Umwandlung der Datensätze in XML-Strea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60000"/>
              </a:lnSpc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Übertragung mittels Remote Function Call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60000"/>
              </a:lnSpc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C++ Programme (Server, Client) für RFC-</a:t>
            </a:r>
            <a:br>
              <a:rPr sz="2900"/>
            </a:b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Handling auf Webserv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90000"/>
              </a:lnSpc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XML – Parser (Web und SAP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Kopplung Webserver - SA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1148" t="11078" r="17414" b="7490"/>
          <a:stretch/>
        </p:blipFill>
        <p:spPr>
          <a:xfrm>
            <a:off x="1079640" y="1219320"/>
            <a:ext cx="7683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Kopplung Webserver - SA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669960" indent="-669960">
              <a:lnSpc>
                <a:spcPct val="130000"/>
              </a:lnSpc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XML-Struktur angelehnt an openTRA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669960" indent="-669960">
              <a:lnSpc>
                <a:spcPct val="130000"/>
              </a:lnSpc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isierung von Geschäftsdokumenten, wie Auftrag, Lieferschein, Rechnung als Grundlage für elektr. System–zu-System-Kommunika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669960" indent="-669960">
              <a:lnSpc>
                <a:spcPct val="100000"/>
              </a:lnSpc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kumentenmanagementsyst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65200" indent="0">
              <a:spcBef>
                <a:spcPts val="200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Dokumente können folgenden Objekten  zugeordnet werden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339920" indent="-479520">
              <a:spcBef>
                <a:spcPts val="181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Auftragskopf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339920" indent="-479520">
              <a:spcBef>
                <a:spcPts val="181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Probe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339920" indent="-479520">
              <a:spcBef>
                <a:spcPts val="181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Stammdaten (Dienstleistungen)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Dokumentenmanagementsyst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1295280"/>
            <a:ext cx="9677520" cy="47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387360" indent="-387360">
              <a:lnSpc>
                <a:spcPct val="130000"/>
              </a:lnSpc>
              <a:spcBef>
                <a:spcPts val="181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Zugriff vom SAP lesend und schreiben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Zugriff vom Webserver über Browser lesend 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und schreiben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erechtigungssteuerun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Dokumentenmanagementsyst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981080"/>
            <a:ext cx="967752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387360" indent="-387360">
              <a:lnSpc>
                <a:spcPct val="130000"/>
              </a:lnSpc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Alle Arten von Dokumenten sind verwendba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Browser lesbare Formate empfohl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Bilder (jpg, gif, bmp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Acrobat (pdf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Word (doc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Excel (xls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usw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520" y="2286000"/>
            <a:ext cx="8991360" cy="4191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13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architektu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undenanbindung B2C und B2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pplung Webserver – S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management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eLab-Aufbau und Funktionsweise 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aus technischer Sic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rstellung Prüfergebnis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265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76280" indent="0">
              <a:spcBef>
                <a:spcPts val="181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enerierung von PDF-Dokumenten aus SAP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Zuordnung dieser Dokumente und weiterer Anlagen zum Auftrag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Übermittlung an Webserver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Information des Kunden per Mail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Versenden des Prüfberichtes und der Anlagen per Mail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spcBef>
                <a:spcPts val="181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rstellung Prüfergebnis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440000"/>
            <a:ext cx="9144000" cy="5418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76280" indent="0">
              <a:spcBef>
                <a:spcPts val="181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Kunde kann 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054080" indent="-387360">
              <a:spcBef>
                <a:spcPts val="1811"/>
              </a:spcBef>
              <a:buClr>
                <a:srgbClr val="ff0000"/>
              </a:buClr>
              <a:buFont typeface="Wingdings" charset="2"/>
              <a:buChar char="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Prüfergebnisse im Browser ansehe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054080" indent="-387360">
              <a:spcBef>
                <a:spcPts val="1811"/>
              </a:spcBef>
              <a:buClr>
                <a:srgbClr val="ff0000"/>
              </a:buClr>
              <a:buFont typeface="Wingdings" charset="2"/>
              <a:buChar char="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auf lokalem Drucker ausgebe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054080" indent="-387360">
              <a:spcBef>
                <a:spcPts val="1811"/>
              </a:spcBef>
              <a:buClr>
                <a:srgbClr val="ff0000"/>
              </a:buClr>
              <a:buFont typeface="Wingdings" charset="2"/>
              <a:buChar char="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auf seinem Rechner speicher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spcBef>
                <a:spcPts val="726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rstellung Prüfergebnis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440000"/>
            <a:ext cx="9144000" cy="5418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76280" indent="0">
              <a:spcBef>
                <a:spcPts val="181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infaches Recherchieren in den Kundenaufträgen möglich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Recherchieren in den Prüfergebnissen durch den Kunden in weiteren Projektphase geplan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spcBef>
                <a:spcPts val="726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Fakturierung von Prüfleist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6520" y="1447920"/>
            <a:ext cx="6400800" cy="5585760"/>
            <a:chOff x="1676520" y="1447920"/>
            <a:chExt cx="6400800" cy="5585760"/>
          </a:xfrm>
        </p:grpSpPr>
        <p:grpSp>
          <p:nvGrpSpPr>
            <p:cNvPr id="141" name=""/>
            <p:cNvGrpSpPr/>
            <p:nvPr/>
          </p:nvGrpSpPr>
          <p:grpSpPr>
            <a:xfrm>
              <a:off x="1676520" y="1447920"/>
              <a:ext cx="2857680" cy="2279160"/>
              <a:chOff x="1676520" y="1447920"/>
              <a:chExt cx="2857680" cy="2279160"/>
            </a:xfrm>
          </p:grpSpPr>
          <p:sp>
            <p:nvSpPr>
              <p:cNvPr id="142" name=""/>
              <p:cNvSpPr/>
              <p:nvPr/>
            </p:nvSpPr>
            <p:spPr>
              <a:xfrm>
                <a:off x="1676520" y="1447920"/>
                <a:ext cx="2857680" cy="2279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476800" y="2017440"/>
                <a:ext cx="114120" cy="1253880"/>
              </a:xfrm>
              <a:custGeom>
                <a:avLst/>
                <a:gdLst>
                  <a:gd name="textAreaLeft" fmla="*/ 0 w 114120"/>
                  <a:gd name="textAreaRight" fmla="*/ 41040 w 114120"/>
                  <a:gd name="textAreaTop" fmla="*/ 32400 h 1253880"/>
                  <a:gd name="textAreaBottom" fmla="*/ 1221480 h 125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676520" y="1447920"/>
              <a:ext cx="6400800" cy="5585760"/>
              <a:chOff x="1676520" y="1447920"/>
              <a:chExt cx="6400800" cy="5585760"/>
            </a:xfrm>
          </p:grpSpPr>
          <p:sp>
            <p:nvSpPr>
              <p:cNvPr id="145" name=""/>
              <p:cNvSpPr/>
              <p:nvPr/>
            </p:nvSpPr>
            <p:spPr>
              <a:xfrm>
                <a:off x="4991400" y="1447920"/>
                <a:ext cx="2057400" cy="1482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334120" y="1903320"/>
                <a:ext cx="2057400" cy="15966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677200" y="2246040"/>
                <a:ext cx="2057400" cy="15951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019920" y="2587320"/>
                <a:ext cx="2057400" cy="15966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991400" y="1447920"/>
                <a:ext cx="2050920" cy="229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robenauftrag 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334120" y="1903320"/>
                <a:ext cx="2051280" cy="229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robenauftrag 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677200" y="2246040"/>
                <a:ext cx="2050920" cy="226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robenauftrag 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019920" y="2587320"/>
                <a:ext cx="2057400" cy="15966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robenauftrag 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eistungen :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H-Wertbestimmun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ussehe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icht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791000" y="4525560"/>
                <a:ext cx="2905200" cy="15951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248200" y="4981320"/>
                <a:ext cx="2905200" cy="15966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705400" y="5438520"/>
                <a:ext cx="2905200" cy="15951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3047760" y="4070160"/>
                <a:ext cx="2971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48120" y="4070160"/>
                <a:ext cx="0" cy="340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34200" y="258732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676520" y="1447920"/>
                <a:ext cx="2857680" cy="22791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Kundenauftrag : 1LW.02..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be 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eistungen: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be 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be 3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PH-Wertbestimm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be 4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Ausseh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ich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be 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791000" y="4525560"/>
                <a:ext cx="2879640" cy="2664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robenauftrag 1 Leistung: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H-Wertbes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248200" y="4981320"/>
                <a:ext cx="2879640" cy="2664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robenauftrag1 Leistung: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Aussehe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705400" y="5438520"/>
                <a:ext cx="2879640" cy="15951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robenauftrag 1 Leistung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Dichtebest.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erkmale + Methode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emperatur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icht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2362320" y="1904760"/>
              <a:ext cx="114480" cy="1333080"/>
            </a:xfrm>
            <a:custGeom>
              <a:avLst/>
              <a:gdLst>
                <a:gd name="textAreaLeft" fmla="*/ 0 w 114480"/>
                <a:gd name="textAreaRight" fmla="*/ 41400 w 114480"/>
                <a:gd name="textAreaTop" fmla="*/ 34560 h 1333080"/>
                <a:gd name="textAreaBottom" fmla="*/ 1298520 h 133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kturierung von Prüfleist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65200" indent="0">
              <a:spcBef>
                <a:spcPts val="181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Kundenauftrag mit mehreren Proben wird auf Webserver erstell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Pro Probe wird ein Probenauftrag im SAP </a:t>
            </a:r>
            <a:br>
              <a:rPr sz="2900"/>
            </a:b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angeleg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CS-Auftrag (externe Kunden) 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65200" indent="0">
              <a:spcBef>
                <a:spcPts val="150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PM-Auftrag (interne Kunden)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kturierung von Prüfleist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65200" indent="0">
              <a:spcBef>
                <a:spcPts val="181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Faktura als Folgebeleg aus CS-Aufträge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65200" indent="0">
              <a:spcBef>
                <a:spcPts val="181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e Verrechnung der PM-Aufträge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65200" indent="0">
              <a:spcBef>
                <a:spcPts val="181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Rechnung geht über EDI, Fax oder Post zum Kunde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Fakturierung von Prüfleist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1600200"/>
            <a:ext cx="92962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476280" indent="-476280">
              <a:lnSpc>
                <a:spcPct val="100000"/>
              </a:lnSpc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Kunde kann sich zusätzlich die Leistungs- </a:t>
            </a:r>
            <a:br>
              <a:rPr sz="2900"/>
            </a:b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aufstellung des Auftrages auf Webserver als </a:t>
            </a:r>
            <a:br>
              <a:rPr sz="2900"/>
            </a:b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PDF-Dokument anzeigen lass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Geschäftsvorfall für Kunden auf Webserver </a:t>
            </a:r>
            <a:br>
              <a:rPr sz="2900"/>
            </a:b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vollständig nachvollziehba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08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Auftra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08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Prüfergebniss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08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Leistungsübersich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76280" indent="-476280"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Verknüpfung modernster Webtechnologie mit den Vorteilen eines integrierten Warenwirtschaftssystem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Nutzung von zukunftsorientierten  Techniken wie XML und openTRAN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Einsatz von Add-On‘s an Stellen wo SAP keine bzw. unzureichende Lösungen ha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Keine Modifikation am SAP-Standard um Releasefähigkeit zu gewährleiste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380880" y="423720"/>
            <a:ext cx="9144000" cy="642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0880" y="144000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476280" indent="-476280">
              <a:lnSpc>
                <a:spcPct val="100000"/>
              </a:lnSpc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nbindung von SAP und Non SAP System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Keine Fehler durch manuelle Bearbeitun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anueller Eingriff ist möglic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Nachvollziehbarkeit aller Transaktion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42372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eLab-Aufbau und Funktionsweise 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aus technischer Sic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44000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rl, den 31.10.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9880" y="2666880"/>
          <a:ext cx="838440" cy="60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8384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3520" y="2286000"/>
            <a:ext cx="8991360" cy="4191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13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rstellung der Prüfergebnis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kturierung von Prüfleistun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kus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380880" y="38052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eLab-Aufbau und Funktionsweise 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aus technischer Sich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architektu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669960" indent="0">
              <a:spcBef>
                <a:spcPts val="799"/>
              </a:spcBef>
              <a:buNone/>
              <a:tabLst>
                <a:tab algn="l" pos="0"/>
                <a:tab algn="l" pos="56520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e Architektur besteht aus folgenden Teilen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9960" indent="0">
              <a:spcBef>
                <a:spcPts val="700"/>
              </a:spcBef>
              <a:buNone/>
              <a:tabLst>
                <a:tab algn="l" pos="0"/>
                <a:tab algn="l" pos="56520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9960" indent="-669960"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56520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Browsergestützter Internet- bzw. Intranetteil 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428840" indent="-568440"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56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Auftragserfassung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428840" indent="-568440"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56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Ergebnisdarstellung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428840" indent="-568440"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56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Rechnungsdarstellung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428840" indent="-568440"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56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Recherchemöglichkeite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428840" indent="0">
              <a:spcBef>
                <a:spcPts val="700"/>
              </a:spcBef>
              <a:buNone/>
              <a:tabLst>
                <a:tab algn="l" pos="56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99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56520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architektu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40000"/>
            <a:ext cx="9144000" cy="503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65200" indent="0">
              <a:lnSpc>
                <a:spcPct val="200000"/>
              </a:lnSpc>
              <a:spcBef>
                <a:spcPts val="726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SAP R/3 – Standard (PM1) Release 4.6C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38088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QM, MM, CS, PM, SD, FI, CO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38088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Braggadocio"/>
                <a:ea typeface="Times New Roman"/>
              </a:rPr>
              <a:t>jw</a:t>
            </a:r>
            <a:r>
              <a:rPr b="1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LIMS (R/3 Add-on)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XML / openTRANS gestützte Kopplung zu Fremdsysteme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65200" indent="0"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0">
              <a:spcBef>
                <a:spcPts val="726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0">
              <a:spcBef>
                <a:spcPts val="726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ystemarchitektu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565200" indent="-565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e Konfiguration des Webserv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Betriebssystem Windows 2000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Datenbank Oracle Version 8.1.7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Laufzeitumgebung im Entwicklungssystem</a:t>
            </a:r>
            <a:br>
              <a:rPr sz="2900"/>
            </a:b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mit Apache Tomc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9760" indent="-3808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9760" indent="-3808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ystemarchitektu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565200" indent="-565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Laufzeitumgebung im Test- und Produktiv-</a:t>
            </a:r>
            <a:br>
              <a:rPr sz="2900"/>
            </a:b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system mit  Websphere Application Server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mierung auf Client-Seite mit HTML</a:t>
            </a:r>
            <a:br>
              <a:rPr sz="2900"/>
            </a:b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und JavaScrip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mierung auf Server-Seite mit</a:t>
            </a:r>
            <a:br>
              <a:rPr sz="2900"/>
            </a:b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JavaServerPages (JSP), Java und C++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9760" indent="-3808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9760" indent="-3808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ystemarchitektu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1447920"/>
            <a:ext cx="9144000" cy="45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523880" y="1905120"/>
            <a:ext cx="6591600" cy="3695760"/>
            <a:chOff x="1523880" y="1905120"/>
            <a:chExt cx="6591600" cy="3695760"/>
          </a:xfrm>
        </p:grpSpPr>
        <p:sp>
          <p:nvSpPr>
            <p:cNvPr id="67" name=""/>
            <p:cNvSpPr/>
            <p:nvPr/>
          </p:nvSpPr>
          <p:spPr>
            <a:xfrm>
              <a:off x="4267080" y="2590920"/>
              <a:ext cx="1600200" cy="18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05720" y="3048120"/>
              <a:ext cx="1257120" cy="1028520"/>
            </a:xfrm>
            <a:prstGeom prst="ca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57400" y="1905120"/>
              <a:ext cx="102888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267080" y="1905120"/>
              <a:ext cx="160020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eb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29400" y="1905120"/>
              <a:ext cx="14860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enb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52480" y="4800600"/>
              <a:ext cx="6058080" cy="80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TML,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SP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avaScript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ava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58000" y="3429000"/>
              <a:ext cx="1028880" cy="457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rac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81560" y="2741760"/>
              <a:ext cx="1333440" cy="1600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pache Tomcat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Websphe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29000" y="3429000"/>
              <a:ext cx="571680" cy="114480"/>
            </a:xfrm>
            <a:prstGeom prst="leftRightArrow">
              <a:avLst>
                <a:gd name="adj1" fmla="val 50000"/>
                <a:gd name="adj2" fmla="val 9941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19920" y="3429000"/>
              <a:ext cx="571320" cy="114480"/>
            </a:xfrm>
            <a:prstGeom prst="leftRightArrow">
              <a:avLst>
                <a:gd name="adj1" fmla="val 50000"/>
                <a:gd name="adj2" fmla="val 99349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" name="HH02126_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523880" y="2590920"/>
              <a:ext cx="1724040" cy="176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1676520" y="6019920"/>
            <a:ext cx="914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6019920"/>
            <a:ext cx="914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0" y="6019920"/>
            <a:ext cx="12952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SQ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ystemarchitektu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523880"/>
            <a:ext cx="96012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476280" indent="-476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ntwicklung der Browsermasken optimiert für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200" indent="-6048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et Explorer 5.5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200" indent="-6048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Bildschirmauflösung: 1024 x 768 Pix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114800"/>
            <a:ext cx="9601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476280" indent="-4762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200" indent="-6048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Netscape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200" indent="-6048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Oper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200" indent="-6048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Thomas Mickley</dc:creator>
  <dc:description/>
  <dc:language>en-US</dc:language>
  <cp:lastModifiedBy>Dr. Jochen Winkler</cp:lastModifiedBy>
  <cp:lastPrinted>2002-09-02T07:59:36Z</cp:lastPrinted>
  <dcterms:modified xsi:type="dcterms:W3CDTF">2002-11-06T23:04:38Z</dcterms:modified>
  <cp:revision>321</cp:revision>
  <dc:subject/>
  <dc:title>Kein Folientitel</dc:title>
</cp:coreProperties>
</file>