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219320"/>
            <a:ext cx="9091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B6B791B-573B-4891-AB96-A0A1C36ADC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24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um 31.10.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3006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Lab  – Aufbau und Funktionsweise aus technischer S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1.10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9880" y="2666880"/>
          <a:ext cx="838440" cy="6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838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ist Master bez. aller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Stammdaten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ynchronisation mit Webserver periodisch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oder auf Anford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ein direkter Zugriff auf SAP-Tabellen vom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77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 kommuniziert manuell über Browser  mit dem Webserv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7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gibt automatisch Da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624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system übernimmt automatisch Daten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981080"/>
            <a:ext cx="184320" cy="2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410080"/>
            <a:ext cx="5143320" cy="1600200"/>
          </a:xfrm>
          <a:prstGeom prst="rect">
            <a:avLst/>
          </a:prstGeom>
          <a:solidFill>
            <a:srgbClr val="a7b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82880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3768840"/>
            <a:ext cx="799920" cy="687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9440" y="3768840"/>
            <a:ext cx="800280" cy="687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5524560"/>
            <a:ext cx="2057400" cy="34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dant M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524560"/>
            <a:ext cx="2171520" cy="342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dant Han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81760"/>
            <a:ext cx="1714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 System P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030640"/>
            <a:ext cx="2971800" cy="343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168640"/>
            <a:ext cx="1600200" cy="34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29480" y="2168640"/>
            <a:ext cx="1600200" cy="34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628720" y="2282400"/>
            <a:ext cx="102852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57680" y="2282760"/>
            <a:ext cx="952200" cy="7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59092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724280" y="25905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86400" y="2590920"/>
            <a:ext cx="91440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15000" y="2590560"/>
            <a:ext cx="952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07664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334120" y="4456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129528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57880" y="129528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29528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352680"/>
            <a:ext cx="114480" cy="1143000"/>
          </a:xfrm>
          <a:custGeom>
            <a:avLst/>
            <a:gdLst>
              <a:gd name="textAreaLeft" fmla="*/ 0 w 114480"/>
              <a:gd name="textAreaRight" fmla="*/ 41400 w 114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3581280"/>
            <a:ext cx="13716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htung von  Auftrag und Prüfergebnis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0840" y="6261120"/>
            <a:ext cx="2400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1f1f"/>
                </a:solidFill>
                <a:latin typeface="Braggadocio"/>
              </a:rPr>
              <a:t>jw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LIM-System + Vertriebsab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9440" y="3425760"/>
            <a:ext cx="2057400" cy="34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72080" y="182556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 R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825560"/>
            <a:ext cx="18288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 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aten sind redundant und strukturidentisch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beiden Systemen vorhand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eb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SA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dat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Wingdings"/>
                <a:ea typeface="Wingdings"/>
              </a:rPr>
              <a:t>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Web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mmdate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üfergebnisse un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22520" indent="-390600">
              <a:spcBef>
                <a:spcPts val="1312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kture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1480" indent="0">
              <a:spcBef>
                <a:spcPts val="181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828800"/>
            <a:ext cx="92203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9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mwandlung der Datensätze in XML-Strea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6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Übertragung mittels Remote Function Call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6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C++ Programme (Server, Client) für RFC-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Handling auf Webser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 – Parser (Web und SAP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148" t="11078" r="17414" b="7490"/>
          <a:stretch/>
        </p:blipFill>
        <p:spPr>
          <a:xfrm>
            <a:off x="1079640" y="1219320"/>
            <a:ext cx="7683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Kopplung Webserver - SA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91440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669960" indent="-6699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-Struktur angelehnt an openTR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sierung von Geschäftsdokumenten, wie Auftrag, Lieferschein, Rechnung als Grundlage für elektr. System–zu-System-Kommunik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81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295280"/>
            <a:ext cx="967752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81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ugriff vom SAP lesend und schreibe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ugriff vom Webserver über Browser lesend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und schreiben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rechtigungssteuer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981080"/>
            <a:ext cx="967752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991360" cy="4191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pplung Webserver –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26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enerierung von PDF-Dokumenten aus SAP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uordnung dieser Dokumente und weiterer Anlagen zum Auftra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Übermittlung an Webserv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formation des Kunden per Mai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ersenden des Prüfberichtes und der Anlagen per Mai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5418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unde kann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 im Browser anseh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lokalem Drucker ausgeb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387360">
              <a:spcBef>
                <a:spcPts val="1811"/>
              </a:spcBef>
              <a:buClr>
                <a:srgbClr val="ff0000"/>
              </a:buClr>
              <a:buFont typeface="Wingdings" charset="2"/>
              <a:buChar char="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 seinem Rechner speicher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stellung Prüfergebnis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5418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infaches Recherchieren in den Kundenaufträgen möglich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cherchieren in den Prüfergebnissen durch den Kunden in weiteren Projektphase geplan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1447920"/>
            <a:ext cx="6400800" cy="5585760"/>
            <a:chOff x="1676520" y="1447920"/>
            <a:chExt cx="6400800" cy="5585760"/>
          </a:xfrm>
        </p:grpSpPr>
        <p:grpSp>
          <p:nvGrpSpPr>
            <p:cNvPr id="141" name=""/>
            <p:cNvGrpSpPr/>
            <p:nvPr/>
          </p:nvGrpSpPr>
          <p:grpSpPr>
            <a:xfrm>
              <a:off x="1676520" y="1447920"/>
              <a:ext cx="2857680" cy="2279160"/>
              <a:chOff x="1676520" y="1447920"/>
              <a:chExt cx="2857680" cy="2279160"/>
            </a:xfrm>
          </p:grpSpPr>
          <p:sp>
            <p:nvSpPr>
              <p:cNvPr id="142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76800" y="2017440"/>
                <a:ext cx="114120" cy="125388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32400 h 1253880"/>
                  <a:gd name="textAreaBottom" fmla="*/ 1221480 h 125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676520" y="1447920"/>
              <a:ext cx="6400800" cy="5585760"/>
              <a:chOff x="1676520" y="1447920"/>
              <a:chExt cx="6400800" cy="5585760"/>
            </a:xfrm>
          </p:grpSpPr>
          <p:sp>
            <p:nvSpPr>
              <p:cNvPr id="145" name=""/>
              <p:cNvSpPr/>
              <p:nvPr/>
            </p:nvSpPr>
            <p:spPr>
              <a:xfrm>
                <a:off x="4991400" y="1447920"/>
                <a:ext cx="2057400" cy="1482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4120" y="1903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77200" y="2246040"/>
                <a:ext cx="2057400" cy="1595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91400" y="1447920"/>
                <a:ext cx="205092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34120" y="1903320"/>
                <a:ext cx="205128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77200" y="2246040"/>
                <a:ext cx="2050920" cy="22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eistungen 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-Wertbestimm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91000" y="452556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48200" y="4981320"/>
                <a:ext cx="2905200" cy="159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05400" y="543852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047760" y="4070160"/>
                <a:ext cx="29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40701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34200" y="25873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undenauftrag : 1LW.02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eistungen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H-Wertbestimm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Ausseh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91000" y="452556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-Wertbes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48200" y="498132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5400" y="5438520"/>
                <a:ext cx="2879640" cy="159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ichtebest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erkmale + Method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mperatu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62320" y="1904760"/>
              <a:ext cx="114480" cy="13330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34560 h 1333080"/>
                <a:gd name="textAreaBottom" fmla="*/ 1298520 h 13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undenauftrag mit mehreren Proben wird auf Webserver erstell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ro Probe wird ein Probenauftrag im SAP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angeleg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CS-Auftrag (externe Kunden)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150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PM-Auftrag (interne Kunden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Faktura als Folgebeleg aus CS-Aufträg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 Verrechnung der PM-Aufträg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181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 geht über EDI, Fax oder Post zum Kund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00200"/>
            <a:ext cx="929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unde kann sich zusätzlich die Leistungs-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aufstellung des Auftrages auf Webserver als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PDF-Dokument anzeigen lass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Geschäftsvorfall für Kunden auf Webserver 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vollständig nachvollziehb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üfergebnis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08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eistungsübersic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Verknüpfung modernster Webtechnologie mit den Vorteilen eines integrierten Warenwirtschaftssystem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Nutzung von zukunftsorientierten  Techniken wie XML und openTRAN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Einsatz von Add-On‘s an Stellen wo SAP keine bzw. unzureichende Lösungen h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Keine Modifikation am SAP-Standard um Releasefähigkeit zu gewährleis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80880" y="42372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bindung von SAP und Non SAP Syste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eine Fehler durch manuelle Bearbeitu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nueller Eingriff ist mögli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8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chvollziehbarkeit aller Transaktion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2372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808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1.10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9880" y="2666880"/>
          <a:ext cx="838440" cy="6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838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991360" cy="4191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stellung der Prüfergebnis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3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Lab-Aufbau und Funktionsweise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us technischer Sic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e Architektur besteht aus folgenden Teil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spcBef>
                <a:spcPts val="700"/>
              </a:spcBef>
              <a:buNone/>
              <a:tabLst>
                <a:tab algn="l" pos="0"/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9960" indent="-66996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gestützter Internet- bzw. Intranetteil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erfass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Ergebni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nungsdarstellung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-568440"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Recherchemöglichkeit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428840" indent="0">
              <a:spcBef>
                <a:spcPts val="700"/>
              </a:spcBef>
              <a:buNone/>
              <a:tabLst>
                <a:tab algn="l" pos="56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99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56520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503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lnSpc>
                <a:spcPct val="200000"/>
              </a:lnSpc>
              <a:spcBef>
                <a:spcPts val="726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SAP R/3 – Standard (PM1) Release 4.6C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QM, MM, CS, PM, SD, FI, CO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808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Braggadocio"/>
                <a:ea typeface="Times New Roman"/>
              </a:rPr>
              <a:t>jw</a:t>
            </a:r>
            <a:r>
              <a:rPr b="1" lang="en-GB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IMS (R/3 Add-on)</a:t>
            </a:r>
            <a:r>
              <a:rPr b="1" lang="de-DE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XML / openTRANS gestützte Kopplung zu Fremdsysteme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26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e Konfiguration des Webserv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etriebssystem Windows 200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atenbank Oracle Version 8.1.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im Entwicklungssystem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mit Apache Tomc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565200" indent="-5652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Laufzeitumgebung im Test- und Produktiv-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system mit  Websphere Application Server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Client-Seite mit HTML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und JavaScrip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erung auf Server-Seite mit</a:t>
            </a:r>
            <a:br>
              <a:rPr sz="2900"/>
            </a:br>
            <a:r>
              <a:rPr b="1" lang="de-DE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JavaServerPages (JSP), Java und C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9760" indent="-3808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447920"/>
            <a:ext cx="914400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208080" indent="-208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23880" y="1905120"/>
            <a:ext cx="6591600" cy="3695760"/>
            <a:chOff x="1523880" y="1905120"/>
            <a:chExt cx="6591600" cy="3695760"/>
          </a:xfrm>
        </p:grpSpPr>
        <p:sp>
          <p:nvSpPr>
            <p:cNvPr id="67" name=""/>
            <p:cNvSpPr/>
            <p:nvPr/>
          </p:nvSpPr>
          <p:spPr>
            <a:xfrm>
              <a:off x="4267080" y="2590920"/>
              <a:ext cx="1600200" cy="18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5720" y="3048120"/>
              <a:ext cx="1257120" cy="1028520"/>
            </a:xfrm>
            <a:prstGeom prst="ca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1905120"/>
              <a:ext cx="10288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1905120"/>
              <a:ext cx="16002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1905120"/>
              <a:ext cx="1486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4800600"/>
              <a:ext cx="60580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ML,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SP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Script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429000"/>
              <a:ext cx="102888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2741760"/>
              <a:ext cx="1333440" cy="1600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ache Tomcat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Web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29000" y="3429000"/>
              <a:ext cx="571680" cy="114480"/>
            </a:xfrm>
            <a:prstGeom prst="leftRightArrow">
              <a:avLst>
                <a:gd name="adj1" fmla="val 50000"/>
                <a:gd name="adj2" fmla="val 994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3429000"/>
              <a:ext cx="571320" cy="114480"/>
            </a:xfrm>
            <a:prstGeom prst="leftRightArrow">
              <a:avLst>
                <a:gd name="adj1" fmla="val 50000"/>
                <a:gd name="adj2" fmla="val 9934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HH02126_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523880" y="2590920"/>
              <a:ext cx="1724040" cy="176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676520" y="601992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6019920"/>
            <a:ext cx="914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6019920"/>
            <a:ext cx="1295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S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ystemarchitektu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523880"/>
            <a:ext cx="9601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ntwicklung der Browsermasken optimiert für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Explorer 5.5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Bildschirmauflösung: 1024 x 768 Pix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9601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476280" indent="-4762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Netscap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Oper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200" indent="-60480">
              <a:lnSpc>
                <a:spcPct val="13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2-09-02T07:59:36Z</cp:lastPrinted>
  <dcterms:modified xsi:type="dcterms:W3CDTF">2002-11-06T23:04:38Z</dcterms:modified>
  <cp:revision>321</cp:revision>
  <dc:subject/>
  <dc:title>Kein Folientitel</dc:title>
</cp:coreProperties>
</file>