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2560" y="412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256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524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0560" y="19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38200" y="19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2560" y="412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0560" y="412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38200" y="412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2200" y="990360"/>
            <a:ext cx="6172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256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24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2560" y="412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2560" y="412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256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24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0560" y="19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200" y="1978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2560" y="412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0560" y="412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200" y="412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2200" y="990360"/>
            <a:ext cx="6172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256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5240" y="412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78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2560" y="412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2200" y="9903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34960" indent="-291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05120" indent="-279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05120" indent="-279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05120" indent="-279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58200" y="6405480"/>
            <a:ext cx="360" cy="18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59400" y="6405480"/>
            <a:ext cx="360" cy="18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454720" y="152280"/>
            <a:ext cx="3537000" cy="1086120"/>
            <a:chOff x="5454720" y="152280"/>
            <a:chExt cx="3537000" cy="108612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5454720" y="152280"/>
              <a:ext cx="1447560" cy="10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3"/>
            <a:stretch/>
          </p:blipFill>
          <p:spPr>
            <a:xfrm>
              <a:off x="7238880" y="225360"/>
              <a:ext cx="990720" cy="2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4"/>
            <a:stretch/>
          </p:blipFill>
          <p:spPr>
            <a:xfrm>
              <a:off x="7848720" y="496800"/>
              <a:ext cx="1143000" cy="2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950440" y="330120"/>
              <a:ext cx="1829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alytisch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chnische Ser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447840"/>
            <a:ext cx="8763120" cy="6410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562720" y="152280"/>
            <a:ext cx="1885680" cy="486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553080" y="609480"/>
            <a:ext cx="2590920" cy="673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70600" y="544824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99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29320" y="2644920"/>
            <a:ext cx="300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99"/>
                </a:solidFill>
                <a:latin typeface="Arial"/>
              </a:rPr>
              <a:t>Analytis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0440" y="3244680"/>
            <a:ext cx="470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333399"/>
                </a:solidFill>
                <a:latin typeface="Arial"/>
              </a:rPr>
              <a:t>Technische 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2560" y="1447920"/>
            <a:ext cx="7772400" cy="42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 dezentral wie möglich – so zentral  wie nöt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7621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Die neue degus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1925640"/>
            <a:ext cx="5257800" cy="4322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905120" y="2049480"/>
            <a:ext cx="1523880" cy="438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114800" y="3276720"/>
            <a:ext cx="12193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105520" y="3200400"/>
            <a:ext cx="1218960" cy="314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191120" y="34034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7119360" y="3298680"/>
            <a:ext cx="109440" cy="6516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9161280" y="3573360"/>
            <a:ext cx="109440" cy="6516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15200" y="3286080"/>
            <a:ext cx="1933560" cy="384120"/>
          </a:xfrm>
          <a:prstGeom prst="flowChartPredefined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757760" y="3657600"/>
            <a:ext cx="1490760" cy="387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724280" y="3772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6553080" y="2819520"/>
            <a:ext cx="2743200" cy="2114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484760" y="3417840"/>
            <a:ext cx="135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tis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isch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320040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7010280" cy="5259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211480" y="2362320"/>
            <a:ext cx="693108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Wir sind ein in den Degussa-Konzern eingebundener, aber</a:t>
            </a:r>
            <a:br>
              <a:rPr sz="1700"/>
            </a:b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unabhängig agierender Dienstleister für analytische und biologische</a:t>
            </a:r>
            <a:br>
              <a:rPr sz="1700"/>
            </a:b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Fragestellung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In einer von den Standort-Gesellschaften 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Infracor in Marl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 und</a:t>
            </a:r>
            <a:br>
              <a:rPr sz="1700"/>
            </a:b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Industriepark Wolfgang in Hanau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 getragenen standortüber-greifenden Organisation beschäftigen wir etwa 340 Mitarbeiter und betreiben räumlich darüber hinaus ein Labor in Gelsenkirchen-</a:t>
            </a:r>
            <a:br>
              <a:rPr sz="1700"/>
            </a:b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Scholven und ein Service-Büro in Frankfurt Höchs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Unsere Märkte sind:</a:t>
            </a:r>
            <a:br>
              <a:rPr sz="1700"/>
            </a:b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- Gesellschaften und Geschäftsfelder des Degussa-Konzerns</a:t>
            </a:r>
            <a:br>
              <a:rPr sz="1700"/>
            </a:b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- andere Unternehmen an den Standorten Marl und Hanau-Wolfgang</a:t>
            </a:r>
            <a:br>
              <a:rPr sz="1700"/>
            </a:b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- externe Kund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724280" y="152280"/>
            <a:ext cx="1886040" cy="486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715000" y="609480"/>
            <a:ext cx="2590920" cy="673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70120" y="1847880"/>
            <a:ext cx="6154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777777"/>
                </a:solidFill>
                <a:latin typeface="Arial"/>
              </a:rPr>
              <a:t>Analytisch Technische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271520"/>
            <a:ext cx="3886200" cy="3148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14400" y="1143000"/>
            <a:ext cx="6019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777777"/>
                </a:solidFill>
                <a:latin typeface="Arial"/>
              </a:rPr>
              <a:t>Analytisch Technische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143000" y="2133720"/>
            <a:ext cx="6857640" cy="4493880"/>
            <a:chOff x="1143000" y="2133720"/>
            <a:chExt cx="6857640" cy="4493880"/>
          </a:xfrm>
        </p:grpSpPr>
        <p:graphicFrame>
          <p:nvGraphicFramePr>
            <p:cNvPr id="111" name=""/>
            <p:cNvGraphicFramePr/>
            <p:nvPr/>
          </p:nvGraphicFramePr>
          <p:xfrm>
            <a:off x="1143000" y="2559600"/>
            <a:ext cx="6857640" cy="3477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43000" y="2559600"/>
                      <a:ext cx="6857640" cy="347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13" name=""/>
            <p:cNvGrpSpPr/>
            <p:nvPr/>
          </p:nvGrpSpPr>
          <p:grpSpPr>
            <a:xfrm>
              <a:off x="1553040" y="2161800"/>
              <a:ext cx="1939680" cy="1248840"/>
              <a:chOff x="1553040" y="2161800"/>
              <a:chExt cx="1939680" cy="1248840"/>
            </a:xfrm>
          </p:grpSpPr>
          <p:sp>
            <p:nvSpPr>
              <p:cNvPr id="114" name=""/>
              <p:cNvSpPr/>
              <p:nvPr/>
            </p:nvSpPr>
            <p:spPr>
              <a:xfrm>
                <a:off x="1553040" y="2161800"/>
                <a:ext cx="1553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xterne Kund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121480" y="2458800"/>
                <a:ext cx="6318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4,0 %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975760" y="2820960"/>
                <a:ext cx="516960" cy="58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693040" y="2133720"/>
              <a:ext cx="1035720" cy="1060560"/>
              <a:chOff x="5693040" y="2133720"/>
              <a:chExt cx="1035720" cy="1060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973480" y="2133720"/>
                <a:ext cx="75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Infrac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032880" y="2428200"/>
                <a:ext cx="6318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1,8 %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5693040" y="2702880"/>
                <a:ext cx="516600" cy="49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4917240" y="5574240"/>
              <a:ext cx="1204560" cy="1053360"/>
              <a:chOff x="4917240" y="5574240"/>
              <a:chExt cx="1204560" cy="1053360"/>
            </a:xfrm>
          </p:grpSpPr>
          <p:sp>
            <p:nvSpPr>
              <p:cNvPr id="122" name=""/>
              <p:cNvSpPr/>
              <p:nvPr/>
            </p:nvSpPr>
            <p:spPr>
              <a:xfrm>
                <a:off x="4917240" y="6119280"/>
                <a:ext cx="1204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Degussa A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232600" y="6383880"/>
                <a:ext cx="6318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64,2 %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 flipV="1">
                <a:off x="4973400" y="5574240"/>
                <a:ext cx="646200" cy="39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5607000" y="76320"/>
            <a:ext cx="3537000" cy="1085760"/>
            <a:chOff x="5607000" y="76320"/>
            <a:chExt cx="3537000" cy="1085760"/>
          </a:xfrm>
        </p:grpSpPr>
        <p:pic>
          <p:nvPicPr>
            <p:cNvPr id="126" name="" descr=""/>
            <p:cNvPicPr/>
            <p:nvPr/>
          </p:nvPicPr>
          <p:blipFill>
            <a:blip r:embed="rId4"/>
            <a:stretch/>
          </p:blipFill>
          <p:spPr>
            <a:xfrm>
              <a:off x="5607000" y="76320"/>
              <a:ext cx="1447920" cy="10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5"/>
            <a:stretch/>
          </p:blipFill>
          <p:spPr>
            <a:xfrm>
              <a:off x="7391520" y="149400"/>
              <a:ext cx="990360" cy="25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6"/>
            <a:stretch/>
          </p:blipFill>
          <p:spPr>
            <a:xfrm>
              <a:off x="8001000" y="420840"/>
              <a:ext cx="1143000" cy="29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247440" y="380880"/>
              <a:ext cx="108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333399"/>
                  </a:solidFill>
                  <a:latin typeface="Arial"/>
                </a:rPr>
                <a:t>Analytis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25200" y="533520"/>
              <a:ext cx="143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333399"/>
                  </a:solidFill>
                  <a:latin typeface="Arial"/>
                </a:rPr>
                <a:t>Technische Serv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6320" y="614520"/>
            <a:ext cx="8534160" cy="6243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124080" y="2514600"/>
            <a:ext cx="60199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777777"/>
                </a:solidFill>
                <a:latin typeface="Arial"/>
              </a:rPr>
              <a:t>Analytisch Technische Services bedienen</a:t>
            </a:r>
            <a:br>
              <a:rPr sz="2400"/>
            </a:br>
            <a:r>
              <a:rPr b="0" lang="de-DE" sz="2400" spc="-1" strike="noStrike">
                <a:solidFill>
                  <a:srgbClr val="777777"/>
                </a:solidFill>
                <a:latin typeface="Arial"/>
              </a:rPr>
              <a:t>Marktseg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3505320"/>
            <a:ext cx="586728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0808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ysikalische Chem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0808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tersuchung von Organi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0808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tersuchung von Anorgani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0808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tersuchung von Umweltmatrices</a:t>
            </a:r>
            <a:br>
              <a:rPr sz="1800"/>
            </a:br>
            <a:br>
              <a:rPr sz="1800"/>
            </a:b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(</a:t>
            </a:r>
            <a:r>
              <a:rPr b="0" lang="de-DE" sz="1600" spc="-1" strike="noStrike">
                <a:solidFill>
                  <a:srgbClr val="808080"/>
                </a:solidFill>
                <a:latin typeface="Wingdings"/>
                <a:ea typeface="Wingdings"/>
              </a:rPr>
              <a:t>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pezielle F&amp;E-Projekte mit analytischem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Schwerpunk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(</a:t>
            </a:r>
            <a:r>
              <a:rPr b="0" lang="de-DE" sz="1600" spc="-1" strike="noStrike">
                <a:solidFill>
                  <a:srgbClr val="808080"/>
                </a:solidFill>
                <a:latin typeface="Wingdings"/>
                <a:ea typeface="Wingdings"/>
              </a:rPr>
              <a:t>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Laborservic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607000" y="76320"/>
            <a:ext cx="3537000" cy="1085760"/>
            <a:chOff x="5607000" y="76320"/>
            <a:chExt cx="3537000" cy="108576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5607000" y="76320"/>
              <a:ext cx="1447920" cy="10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7391520" y="149400"/>
              <a:ext cx="990360" cy="25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4"/>
            <a:stretch/>
          </p:blipFill>
          <p:spPr>
            <a:xfrm>
              <a:off x="8001000" y="420840"/>
              <a:ext cx="1143000" cy="29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6247440" y="380880"/>
              <a:ext cx="108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333399"/>
                  </a:solidFill>
                  <a:latin typeface="Arial"/>
                </a:rPr>
                <a:t>Analytis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25200" y="533520"/>
              <a:ext cx="143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333399"/>
                  </a:solidFill>
                  <a:latin typeface="Arial"/>
                </a:rPr>
                <a:t>Technische Serv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1523880"/>
            <a:ext cx="80010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777777"/>
                </a:solidFill>
                <a:latin typeface="Arial"/>
              </a:rPr>
              <a:t>Analytik an den Standorten </a:t>
            </a:r>
            <a:br>
              <a:rPr sz="2400"/>
            </a:br>
            <a:r>
              <a:rPr b="0" lang="de-DE" sz="2400" spc="-1" strike="noStrike">
                <a:solidFill>
                  <a:srgbClr val="777777"/>
                </a:solidFill>
                <a:latin typeface="Arial"/>
              </a:rPr>
              <a:t>                   Hanau- Wolfgang und Ma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2786040" cy="3581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694200" y="3276720"/>
            <a:ext cx="116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Standort Ma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84920" y="3733920"/>
            <a:ext cx="139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Standort 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Hanau-Wolfg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29400" y="336564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05720" y="382284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2819520"/>
            <a:ext cx="50292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Jährliches Probenvolumen ca. 120.000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Hanau-Wolfgang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Marl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. 12.000 Aufträge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. 25.000 Aufträge 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. 40.000 Prob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. 80.000 Prob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. 12.000 Befund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. 25.000 Befunde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80808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ca. 1.000 Leistungen an jedem Stand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607000" y="76320"/>
            <a:ext cx="3537000" cy="1085760"/>
            <a:chOff x="5607000" y="76320"/>
            <a:chExt cx="3537000" cy="1085760"/>
          </a:xfrm>
        </p:grpSpPr>
        <p:pic>
          <p:nvPicPr>
            <p:cNvPr id="148" name="" descr=""/>
            <p:cNvPicPr/>
            <p:nvPr/>
          </p:nvPicPr>
          <p:blipFill>
            <a:blip r:embed="rId2"/>
            <a:stretch/>
          </p:blipFill>
          <p:spPr>
            <a:xfrm>
              <a:off x="5607000" y="76320"/>
              <a:ext cx="1447920" cy="10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3"/>
            <a:stretch/>
          </p:blipFill>
          <p:spPr>
            <a:xfrm>
              <a:off x="7391520" y="149400"/>
              <a:ext cx="990360" cy="25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4"/>
            <a:stretch/>
          </p:blipFill>
          <p:spPr>
            <a:xfrm>
              <a:off x="8001000" y="420840"/>
              <a:ext cx="1143000" cy="29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247440" y="380880"/>
              <a:ext cx="108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333399"/>
                  </a:solidFill>
                  <a:latin typeface="Arial"/>
                </a:rPr>
                <a:t>Analytis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25200" y="533520"/>
              <a:ext cx="143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333399"/>
                  </a:solidFill>
                  <a:latin typeface="Arial"/>
                </a:rPr>
                <a:t>Technische Serv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486400" y="137160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85800" y="1371600"/>
            <a:ext cx="7754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777777"/>
                </a:solidFill>
                <a:latin typeface="Arial"/>
              </a:rPr>
              <a:t>Unsere Zulass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9051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99ff"/>
              </a:buClr>
              <a:buFont typeface="Wingdings" charset="2"/>
              <a:buChar char="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kkreditierung nach EN 45001 / ISO 170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99ff"/>
              </a:buClr>
              <a:buFont typeface="Wingdings" charset="2"/>
              <a:buChar char="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ute Labor Praxis (GLP)-Bescheinig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99ff"/>
              </a:buClr>
              <a:buFont typeface="Wingdings" charset="2"/>
              <a:buChar char="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erkennung als außerbetriebliche Messstelle nach TRGS 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99ff"/>
              </a:buClr>
              <a:buFont typeface="Wingdings" charset="2"/>
              <a:buChar char="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lassung nach Trinkwasserverord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99ff"/>
              </a:buClr>
              <a:buFont typeface="Wingdings" charset="2"/>
              <a:buChar char="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lassung nach § 19 Bundesseuchengese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99ff"/>
              </a:buClr>
              <a:buFont typeface="Wingdings" charset="2"/>
              <a:buChar char="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lassung nach § 3 Klärschlammverordnung fü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oxinuntersuchungen (NRW und Hambur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99ff"/>
              </a:buClr>
              <a:buFont typeface="Wingdings" charset="2"/>
              <a:buChar char="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lassung nach § 25 Landesabfallgesetz NR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99ff"/>
              </a:buClr>
              <a:buFont typeface="Wingdings" charset="2"/>
              <a:buChar char="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lassung nach §§ 5+6 der hessischen EKVO fü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wasseruntersuch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99ff"/>
              </a:buClr>
              <a:buFont typeface="Wingdings" charset="2"/>
              <a:buChar char="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en nach § 67 Arzneimittelgesetz (G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99ff"/>
              </a:buClr>
              <a:buFont typeface="Wingdings" charset="2"/>
              <a:buChar char="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607000" y="76320"/>
            <a:ext cx="3537000" cy="1085760"/>
            <a:chOff x="5607000" y="76320"/>
            <a:chExt cx="3537000" cy="1085760"/>
          </a:xfrm>
        </p:grpSpPr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5607000" y="76320"/>
              <a:ext cx="1447920" cy="10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7391520" y="149400"/>
              <a:ext cx="990360" cy="25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4"/>
            <a:stretch/>
          </p:blipFill>
          <p:spPr>
            <a:xfrm>
              <a:off x="8001000" y="420840"/>
              <a:ext cx="1143000" cy="29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247440" y="380880"/>
              <a:ext cx="108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333399"/>
                  </a:solidFill>
                  <a:latin typeface="Arial"/>
                </a:rPr>
                <a:t>Analytis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25200" y="533520"/>
              <a:ext cx="143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333399"/>
                  </a:solidFill>
                  <a:latin typeface="Arial"/>
                </a:rPr>
                <a:t>Technische Serv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42674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777777"/>
                </a:solidFill>
                <a:latin typeface="Arial"/>
              </a:rPr>
              <a:t>Ziele</a:t>
            </a: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 des Projektes eLab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28728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nline-Einbindung des Kunden in den Auftagsabwicklungsproz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1125"/>
              </a:spcBef>
              <a:spcAft>
                <a:spcPts val="1125"/>
              </a:spcAft>
              <a:buClr>
                <a:srgbClr val="6699ff"/>
              </a:buClr>
              <a:buSzPct val="125000"/>
              <a:buFont typeface="Wingdings" charset="2"/>
              <a:buChar char=""/>
              <a:tabLst>
                <a:tab algn="l" pos="28728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808080"/>
                </a:solidFill>
                <a:latin typeface="Arial"/>
              </a:rPr>
              <a:t>Auftragsertei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1125"/>
              </a:spcBef>
              <a:spcAft>
                <a:spcPts val="1125"/>
              </a:spcAft>
              <a:buClr>
                <a:srgbClr val="6699ff"/>
              </a:buClr>
              <a:buSzPct val="125000"/>
              <a:buFont typeface="Wingdings" charset="2"/>
              <a:buChar char=""/>
              <a:tabLst>
                <a:tab algn="l" pos="28728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808080"/>
                </a:solidFill>
                <a:latin typeface="Arial"/>
              </a:rPr>
              <a:t>Statusverfolg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1125"/>
              </a:spcBef>
              <a:spcAft>
                <a:spcPts val="1125"/>
              </a:spcAft>
              <a:buClr>
                <a:srgbClr val="6699ff"/>
              </a:buClr>
              <a:buSzPct val="125000"/>
              <a:buFont typeface="Wingdings" charset="2"/>
              <a:buChar char=""/>
              <a:tabLst>
                <a:tab algn="l" pos="28728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808080"/>
                </a:solidFill>
                <a:latin typeface="Arial"/>
              </a:rPr>
              <a:t>Befundübermitt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28728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teile aus Sicht des Kund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1125"/>
              </a:spcBef>
              <a:spcAft>
                <a:spcPts val="1125"/>
              </a:spcAft>
              <a:buClr>
                <a:srgbClr val="6699ff"/>
              </a:buClr>
              <a:buSzPct val="125000"/>
              <a:buFont typeface="Wingdings" charset="2"/>
              <a:buChar char=""/>
              <a:tabLst>
                <a:tab algn="l" pos="287280"/>
                <a:tab algn="l" pos="38088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808080"/>
                </a:solidFill>
                <a:latin typeface="Arial"/>
              </a:rPr>
              <a:t>schnellere, einfachere und transparentere Auftragsabwick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0880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1108080" cy="123840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5607000" y="76320"/>
            <a:ext cx="3537000" cy="1085760"/>
            <a:chOff x="5607000" y="76320"/>
            <a:chExt cx="3537000" cy="1085760"/>
          </a:xfrm>
        </p:grpSpPr>
        <p:pic>
          <p:nvPicPr>
            <p:cNvPr id="167" name="" descr=""/>
            <p:cNvPicPr/>
            <p:nvPr/>
          </p:nvPicPr>
          <p:blipFill>
            <a:blip r:embed="rId2"/>
            <a:stretch/>
          </p:blipFill>
          <p:spPr>
            <a:xfrm>
              <a:off x="5607000" y="76320"/>
              <a:ext cx="1447920" cy="10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7391520" y="149400"/>
              <a:ext cx="990360" cy="25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4"/>
            <a:stretch/>
          </p:blipFill>
          <p:spPr>
            <a:xfrm>
              <a:off x="8001000" y="420840"/>
              <a:ext cx="1143000" cy="29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6247440" y="380880"/>
              <a:ext cx="108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333399"/>
                  </a:solidFill>
                  <a:latin typeface="Arial"/>
                </a:rPr>
                <a:t>Analytis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25200" y="533520"/>
              <a:ext cx="143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333399"/>
                  </a:solidFill>
                  <a:latin typeface="Arial"/>
                </a:rPr>
                <a:t>Technische Serv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5305320"/>
          <a:ext cx="2362320" cy="13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05320"/>
                    <a:ext cx="23623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533520" y="38088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777777"/>
                </a:solidFill>
                <a:latin typeface="Arial"/>
              </a:rPr>
              <a:t>Historie </a:t>
            </a: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e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82680" y="2590920"/>
            <a:ext cx="5676840" cy="3429000"/>
          </a:xfrm>
          <a:custGeom>
            <a:avLst/>
            <a:gdLst/>
            <a:ahLst/>
            <a:rect l="l" t="t" r="r" b="b"/>
            <a:pathLst>
              <a:path w="3576" h="2688">
                <a:moveTo>
                  <a:pt x="0" y="0"/>
                </a:moveTo>
                <a:cubicBezTo>
                  <a:pt x="704" y="20"/>
                  <a:pt x="1408" y="40"/>
                  <a:pt x="1968" y="144"/>
                </a:cubicBezTo>
                <a:cubicBezTo>
                  <a:pt x="2528" y="248"/>
                  <a:pt x="3168" y="360"/>
                  <a:pt x="3360" y="624"/>
                </a:cubicBezTo>
                <a:cubicBezTo>
                  <a:pt x="3552" y="888"/>
                  <a:pt x="3576" y="1384"/>
                  <a:pt x="3120" y="1728"/>
                </a:cubicBezTo>
                <a:cubicBezTo>
                  <a:pt x="2664" y="2072"/>
                  <a:pt x="1644" y="2380"/>
                  <a:pt x="624" y="268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854360" y="6019920"/>
            <a:ext cx="457200" cy="75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7320" y="2463840"/>
            <a:ext cx="609840" cy="228600"/>
          </a:xfrm>
          <a:custGeom>
            <a:avLst/>
            <a:gdLst>
              <a:gd name="textAreaLeft" fmla="*/ 0 w 609840"/>
              <a:gd name="textAreaRight" fmla="*/ 610200 w 6098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7760" y="2389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6699ff"/>
                </a:solidFill>
                <a:latin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5160" y="655308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6699ff"/>
                </a:solidFill>
                <a:latin typeface="Arial"/>
              </a:rPr>
              <a:t>Januar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320840" y="2171520"/>
            <a:ext cx="1066680" cy="419400"/>
            <a:chOff x="1320840" y="2171520"/>
            <a:chExt cx="1066680" cy="419400"/>
          </a:xfrm>
        </p:grpSpPr>
        <p:sp>
          <p:nvSpPr>
            <p:cNvPr id="181" name=""/>
            <p:cNvSpPr/>
            <p:nvPr/>
          </p:nvSpPr>
          <p:spPr>
            <a:xfrm>
              <a:off x="1320840" y="2286000"/>
              <a:ext cx="838080" cy="304920"/>
            </a:xfrm>
            <a:custGeom>
              <a:avLst/>
              <a:gdLst/>
              <a:ahLst/>
              <a:rect l="l" t="t" r="r" b="b"/>
              <a:pathLst>
                <a:path w="528" h="192">
                  <a:moveTo>
                    <a:pt x="0" y="192"/>
                  </a:moveTo>
                  <a:cubicBezTo>
                    <a:pt x="76" y="184"/>
                    <a:pt x="152" y="176"/>
                    <a:pt x="240" y="144"/>
                  </a:cubicBezTo>
                  <a:cubicBezTo>
                    <a:pt x="328" y="112"/>
                    <a:pt x="428" y="56"/>
                    <a:pt x="528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082600" y="2171520"/>
              <a:ext cx="30492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977840" y="1633680"/>
            <a:ext cx="188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ste Idee zu e-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99ff"/>
                </a:solidFill>
                <a:latin typeface="Arial"/>
              </a:rPr>
              <a:t>(März 20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625760" y="2590920"/>
            <a:ext cx="750960" cy="581040"/>
            <a:chOff x="1625760" y="2590920"/>
            <a:chExt cx="750960" cy="581040"/>
          </a:xfrm>
        </p:grpSpPr>
        <p:sp>
          <p:nvSpPr>
            <p:cNvPr id="185" name=""/>
            <p:cNvSpPr/>
            <p:nvPr/>
          </p:nvSpPr>
          <p:spPr>
            <a:xfrm>
              <a:off x="1625760" y="2590920"/>
              <a:ext cx="685800" cy="38088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0" y="0"/>
                  </a:moveTo>
                  <a:cubicBezTo>
                    <a:pt x="132" y="28"/>
                    <a:pt x="264" y="56"/>
                    <a:pt x="336" y="96"/>
                  </a:cubicBezTo>
                  <a:cubicBezTo>
                    <a:pt x="408" y="136"/>
                    <a:pt x="420" y="188"/>
                    <a:pt x="432" y="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71960" y="2847960"/>
              <a:ext cx="104760" cy="32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1776600" y="3276720"/>
            <a:ext cx="120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ildung eines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jektt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99ff"/>
                </a:solidFill>
                <a:latin typeface="Arial"/>
              </a:rPr>
              <a:t>(Oktober 20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073320" y="2209320"/>
            <a:ext cx="1066680" cy="419400"/>
            <a:chOff x="3073320" y="2209320"/>
            <a:chExt cx="1066680" cy="419400"/>
          </a:xfrm>
        </p:grpSpPr>
        <p:sp>
          <p:nvSpPr>
            <p:cNvPr id="189" name=""/>
            <p:cNvSpPr/>
            <p:nvPr/>
          </p:nvSpPr>
          <p:spPr>
            <a:xfrm>
              <a:off x="3073320" y="2323800"/>
              <a:ext cx="838080" cy="304920"/>
            </a:xfrm>
            <a:custGeom>
              <a:avLst/>
              <a:gdLst/>
              <a:ahLst/>
              <a:rect l="l" t="t" r="r" b="b"/>
              <a:pathLst>
                <a:path w="528" h="192">
                  <a:moveTo>
                    <a:pt x="0" y="192"/>
                  </a:moveTo>
                  <a:cubicBezTo>
                    <a:pt x="76" y="184"/>
                    <a:pt x="152" y="176"/>
                    <a:pt x="240" y="144"/>
                  </a:cubicBezTo>
                  <a:cubicBezTo>
                    <a:pt x="328" y="112"/>
                    <a:pt x="428" y="56"/>
                    <a:pt x="528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3835080" y="2209320"/>
              <a:ext cx="30492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4036320" y="1752480"/>
            <a:ext cx="128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raterauswah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99ff"/>
                </a:solidFill>
                <a:latin typeface="Arial"/>
              </a:rPr>
              <a:t>(März 200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733920" y="2666880"/>
            <a:ext cx="750960" cy="581040"/>
            <a:chOff x="3733920" y="2666880"/>
            <a:chExt cx="750960" cy="581040"/>
          </a:xfrm>
        </p:grpSpPr>
        <p:sp>
          <p:nvSpPr>
            <p:cNvPr id="193" name=""/>
            <p:cNvSpPr/>
            <p:nvPr/>
          </p:nvSpPr>
          <p:spPr>
            <a:xfrm>
              <a:off x="3733920" y="2666880"/>
              <a:ext cx="685800" cy="38088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0" y="0"/>
                  </a:moveTo>
                  <a:cubicBezTo>
                    <a:pt x="132" y="28"/>
                    <a:pt x="264" y="56"/>
                    <a:pt x="336" y="96"/>
                  </a:cubicBezTo>
                  <a:cubicBezTo>
                    <a:pt x="408" y="136"/>
                    <a:pt x="420" y="188"/>
                    <a:pt x="432" y="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80120" y="2923920"/>
              <a:ext cx="104760" cy="32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3576600" y="3276720"/>
            <a:ext cx="219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enehmigung d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 Geschäftsführung Infrac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99ff"/>
                </a:solidFill>
                <a:latin typeface="Arial"/>
              </a:rPr>
              <a:t>(Ende September 200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673520" y="2590920"/>
            <a:ext cx="685440" cy="228600"/>
            <a:chOff x="4673520" y="2590920"/>
            <a:chExt cx="685440" cy="228600"/>
          </a:xfrm>
        </p:grpSpPr>
        <p:sp>
          <p:nvSpPr>
            <p:cNvPr id="197" name=""/>
            <p:cNvSpPr/>
            <p:nvPr/>
          </p:nvSpPr>
          <p:spPr>
            <a:xfrm>
              <a:off x="4673520" y="2653200"/>
              <a:ext cx="538920" cy="166320"/>
            </a:xfrm>
            <a:custGeom>
              <a:avLst/>
              <a:gdLst/>
              <a:ahLst/>
              <a:rect l="l" t="t" r="r" b="b"/>
              <a:pathLst>
                <a:path w="528" h="192">
                  <a:moveTo>
                    <a:pt x="0" y="192"/>
                  </a:moveTo>
                  <a:cubicBezTo>
                    <a:pt x="76" y="184"/>
                    <a:pt x="152" y="176"/>
                    <a:pt x="240" y="144"/>
                  </a:cubicBezTo>
                  <a:cubicBezTo>
                    <a:pt x="328" y="112"/>
                    <a:pt x="428" y="56"/>
                    <a:pt x="528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5163120" y="2590920"/>
              <a:ext cx="195840" cy="8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5453280" y="2133720"/>
            <a:ext cx="18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enehmigung d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n erweiterten Vorst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99ff"/>
                </a:solidFill>
                <a:latin typeface="Arial"/>
              </a:rPr>
              <a:t>(Anfang Oktober 200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023880" y="2961360"/>
            <a:ext cx="925200" cy="270360"/>
            <a:chOff x="6023880" y="2961360"/>
            <a:chExt cx="925200" cy="270360"/>
          </a:xfrm>
        </p:grpSpPr>
        <p:sp>
          <p:nvSpPr>
            <p:cNvPr id="201" name=""/>
            <p:cNvSpPr/>
            <p:nvPr/>
          </p:nvSpPr>
          <p:spPr>
            <a:xfrm rot="783600">
              <a:off x="6027120" y="3040920"/>
              <a:ext cx="718200" cy="110880"/>
            </a:xfrm>
            <a:custGeom>
              <a:avLst/>
              <a:gdLst/>
              <a:ahLst/>
              <a:rect l="l" t="t" r="r" b="b"/>
              <a:pathLst>
                <a:path w="528" h="192">
                  <a:moveTo>
                    <a:pt x="0" y="192"/>
                  </a:moveTo>
                  <a:cubicBezTo>
                    <a:pt x="76" y="184"/>
                    <a:pt x="152" y="176"/>
                    <a:pt x="240" y="144"/>
                  </a:cubicBezTo>
                  <a:cubicBezTo>
                    <a:pt x="328" y="112"/>
                    <a:pt x="428" y="56"/>
                    <a:pt x="528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81960" y="3121920"/>
              <a:ext cx="267120" cy="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6877440" y="3017880"/>
            <a:ext cx="2349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schluss des Vorprojek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stellung eines Grobkonzep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99ff"/>
                </a:solidFill>
                <a:latin typeface="Arial"/>
              </a:rPr>
              <a:t>(Anfang Oktober 200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450120" y="3452400"/>
            <a:ext cx="381960" cy="550080"/>
            <a:chOff x="6450120" y="3452400"/>
            <a:chExt cx="381960" cy="550080"/>
          </a:xfrm>
        </p:grpSpPr>
        <p:sp>
          <p:nvSpPr>
            <p:cNvPr id="205" name=""/>
            <p:cNvSpPr/>
            <p:nvPr/>
          </p:nvSpPr>
          <p:spPr>
            <a:xfrm rot="4140600">
              <a:off x="6438600" y="3559680"/>
              <a:ext cx="404640" cy="25380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0" y="0"/>
                  </a:moveTo>
                  <a:cubicBezTo>
                    <a:pt x="132" y="28"/>
                    <a:pt x="264" y="56"/>
                    <a:pt x="336" y="96"/>
                  </a:cubicBezTo>
                  <a:cubicBezTo>
                    <a:pt x="408" y="136"/>
                    <a:pt x="420" y="188"/>
                    <a:pt x="432" y="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484320" y="3871800"/>
              <a:ext cx="179280" cy="13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5408640" y="4008600"/>
            <a:ext cx="120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schluss des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einkonzep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99ff"/>
                </a:solidFill>
                <a:latin typeface="Arial"/>
              </a:rPr>
              <a:t>(April 200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579720" y="4481280"/>
            <a:ext cx="480960" cy="527760"/>
            <a:chOff x="6579720" y="4481280"/>
            <a:chExt cx="480960" cy="527760"/>
          </a:xfrm>
        </p:grpSpPr>
        <p:sp>
          <p:nvSpPr>
            <p:cNvPr id="209" name=""/>
            <p:cNvSpPr/>
            <p:nvPr/>
          </p:nvSpPr>
          <p:spPr>
            <a:xfrm rot="3124800">
              <a:off x="6497280" y="4682880"/>
              <a:ext cx="538920" cy="55440"/>
            </a:xfrm>
            <a:custGeom>
              <a:avLst/>
              <a:gdLst/>
              <a:ahLst/>
              <a:rect l="l" t="t" r="r" b="b"/>
              <a:pathLst>
                <a:path w="528" h="192">
                  <a:moveTo>
                    <a:pt x="0" y="192"/>
                  </a:moveTo>
                  <a:cubicBezTo>
                    <a:pt x="76" y="184"/>
                    <a:pt x="152" y="176"/>
                    <a:pt x="240" y="144"/>
                  </a:cubicBezTo>
                  <a:cubicBezTo>
                    <a:pt x="328" y="112"/>
                    <a:pt x="428" y="56"/>
                    <a:pt x="528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18480" y="4871520"/>
              <a:ext cx="142200" cy="13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013160" y="4952880"/>
            <a:ext cx="114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totyp e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99ff"/>
                </a:solidFill>
                <a:latin typeface="Arial"/>
              </a:rPr>
              <a:t>(August 200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410080" y="5105520"/>
            <a:ext cx="165240" cy="609480"/>
            <a:chOff x="5410080" y="5105520"/>
            <a:chExt cx="165240" cy="609480"/>
          </a:xfrm>
        </p:grpSpPr>
        <p:sp>
          <p:nvSpPr>
            <p:cNvPr id="213" name=""/>
            <p:cNvSpPr/>
            <p:nvPr/>
          </p:nvSpPr>
          <p:spPr>
            <a:xfrm>
              <a:off x="5410080" y="5105520"/>
              <a:ext cx="165240" cy="523440"/>
            </a:xfrm>
            <a:custGeom>
              <a:avLst/>
              <a:gdLst/>
              <a:ahLst/>
              <a:rect l="l" t="t" r="r" b="b"/>
              <a:pathLst>
                <a:path w="152" h="536">
                  <a:moveTo>
                    <a:pt x="152" y="0"/>
                  </a:moveTo>
                  <a:cubicBezTo>
                    <a:pt x="116" y="56"/>
                    <a:pt x="80" y="112"/>
                    <a:pt x="56" y="192"/>
                  </a:cubicBezTo>
                  <a:cubicBezTo>
                    <a:pt x="32" y="272"/>
                    <a:pt x="16" y="424"/>
                    <a:pt x="8" y="480"/>
                  </a:cubicBezTo>
                  <a:cubicBezTo>
                    <a:pt x="0" y="536"/>
                    <a:pt x="8" y="520"/>
                    <a:pt x="8" y="52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18360" y="5621400"/>
              <a:ext cx="0" cy="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4797000" y="5715000"/>
            <a:ext cx="1948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duktivstart für einzel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orreiterlabore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99ff"/>
                </a:solidFill>
                <a:latin typeface="Arial"/>
              </a:rPr>
              <a:t>(November 200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731760" y="5064480"/>
            <a:ext cx="945360" cy="689400"/>
            <a:chOff x="3731760" y="5064480"/>
            <a:chExt cx="945360" cy="689400"/>
          </a:xfrm>
        </p:grpSpPr>
        <p:sp>
          <p:nvSpPr>
            <p:cNvPr id="217" name=""/>
            <p:cNvSpPr/>
            <p:nvPr/>
          </p:nvSpPr>
          <p:spPr>
            <a:xfrm rot="8854200">
              <a:off x="3942360" y="5218560"/>
              <a:ext cx="685800" cy="38088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0" y="0"/>
                  </a:moveTo>
                  <a:cubicBezTo>
                    <a:pt x="132" y="28"/>
                    <a:pt x="264" y="56"/>
                    <a:pt x="336" y="96"/>
                  </a:cubicBezTo>
                  <a:cubicBezTo>
                    <a:pt x="408" y="136"/>
                    <a:pt x="420" y="188"/>
                    <a:pt x="432" y="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3731760" y="5298120"/>
              <a:ext cx="262080" cy="21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543760" y="4846680"/>
            <a:ext cx="126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duktivstart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stliche Lab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6699ff"/>
                </a:solidFill>
                <a:latin typeface="Arial"/>
              </a:rPr>
              <a:t>(Januar 20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320" y="582300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gration der wesentlichen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un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607000" y="76320"/>
            <a:ext cx="3537000" cy="1085760"/>
            <a:chOff x="5607000" y="76320"/>
            <a:chExt cx="3537000" cy="1085760"/>
          </a:xfrm>
        </p:grpSpPr>
        <p:pic>
          <p:nvPicPr>
            <p:cNvPr id="222" name="" descr=""/>
            <p:cNvPicPr/>
            <p:nvPr/>
          </p:nvPicPr>
          <p:blipFill>
            <a:blip r:embed="rId3"/>
            <a:stretch/>
          </p:blipFill>
          <p:spPr>
            <a:xfrm>
              <a:off x="5607000" y="76320"/>
              <a:ext cx="1447920" cy="10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4"/>
            <a:stretch/>
          </p:blipFill>
          <p:spPr>
            <a:xfrm>
              <a:off x="7391520" y="149400"/>
              <a:ext cx="990360" cy="25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5"/>
            <a:stretch/>
          </p:blipFill>
          <p:spPr>
            <a:xfrm>
              <a:off x="8001000" y="420840"/>
              <a:ext cx="1143000" cy="29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247440" y="380880"/>
              <a:ext cx="108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333399"/>
                  </a:solidFill>
                  <a:latin typeface="Arial"/>
                </a:rPr>
                <a:t>Analytis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25200" y="533520"/>
              <a:ext cx="143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333399"/>
                  </a:solidFill>
                  <a:latin typeface="Arial"/>
                </a:rPr>
                <a:t>Technische Serv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08:09:18Z</dcterms:created>
  <dc:creator>Degussa AG</dc:creator>
  <dc:description/>
  <dc:language>en-US</dc:language>
  <cp:lastModifiedBy>Dr. Jochen Winkler</cp:lastModifiedBy>
  <cp:lastPrinted>2002-10-30T12:29:18Z</cp:lastPrinted>
  <dcterms:modified xsi:type="dcterms:W3CDTF">2002-11-11T14:38:17Z</dcterms:modified>
  <cp:revision>72</cp:revision>
  <dc:subject/>
  <dc:title>Das Projekt eLab   Einführung von e-Business bei den Analytisch Technischen Services</dc:title>
</cp:coreProperties>
</file>