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0954-0273-4E50-898A-11E15B6C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4236-550B-43A7-BD5A-89B6AEF7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C893-1986-4F49-8984-046C277E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2E03-EDA3-424B-9A4D-324D56254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D2E6-CFC6-4FE0-B838-472C2F6C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7C4F-6870-45F6-8267-70994931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697A-A9FF-45ED-9A18-7D2A9F0D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B765-24F2-4B38-BA50-7A97F86C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57AD-BEA1-40F4-9185-A7D2D87F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02B9-F89E-45EA-8FA0-AAAB4DF4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725E-2C29-4231-AF8E-4337425C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1265-6A9C-48EE-BF2C-E6085D71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D059167-93B4-435A-A900-0A44B47D2DB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1.10.2002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838080"/>
            <a:ext cx="8001000" cy="55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erzlich Willkommen z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de-DE" sz="3600" spc="-1" strike="noStrike">
                <a:solidFill>
                  <a:srgbClr val="3333cc"/>
                </a:solidFill>
                <a:latin typeface="Impact"/>
              </a:rPr>
              <a:t>eLab</a:t>
            </a:r>
            <a:r>
              <a:rPr b="1" lang="de-DE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Das SAP R/3 integrierte LIMS mit Webportal für Ku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dustriepark Marl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rl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4E26-5927-4463-A8C0-05C49349FD1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1.10.2002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838080"/>
            <a:ext cx="800100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de-DE" sz="3600" spc="-1" strike="noStrike">
                <a:solidFill>
                  <a:srgbClr val="3333cc"/>
                </a:solidFill>
                <a:latin typeface="Impact"/>
              </a:rPr>
              <a:t>eLab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Das SAP R/3 integrierte LIMS mit Webportal für Ku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dustriepark Marl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rl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33EE-D8AD-4264-8DCE-04B5506D6B7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1.10.2002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führung: Analytisch Technische Services - der Analytikdienstleister für die chem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s neue auftragsbasierte LIMS (eLab) für die Analytisch-Technischen Services der Infracor GmbH in Marl und der Industriepark Wolfgang GmbH in Hanau-Wolfgang</a:t>
            </a:r>
            <a:r>
              <a:rPr b="0" lang="de-DE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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agserfassung und Ergebnisdarstellung im Inter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leistungskataloge für Kund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teile des eLab-Programms für Kunden und Auftragslabo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ffizienzsteigerung im Unternehm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24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Arbeit mit eLab im Labor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benverwaltung im 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gebniseingabe und Validierung der Prüfergebnis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zeugnis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ammda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858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A630-84D7-4227-B49A-8D64FAB866E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1.10.2002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2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3333cc"/>
                </a:solidFill>
                <a:latin typeface="Impact"/>
              </a:rPr>
              <a:t>eLab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- Aufbau und Funktionsweise aus technischer Sicht</a:t>
            </a:r>
            <a:r>
              <a:rPr b="0" lang="de-DE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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agsabwick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AP-Web-Kopp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undenanbindung B2C und B2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ung von Standards (openTRA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kturierung von Prüfleist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netzung aller Informationsquellen im Unternehm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275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75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8380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E2BB-5B9D-4320-9B95-DA94C6B872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1.10.2002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92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s Beratungsunternehmen </a:t>
            </a:r>
            <a:r>
              <a:rPr b="1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wurde am 1. Juli 1996 von Dr. Jochen Winkler gegründe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n Anfang an spezialisierte sich das Unternehmen auf die komplette Einführung von SAP R/3-Systemen in Unternehmen der Prozessindust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spektrum heute :  Unternehmensausrichtung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SAP R/3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Chemische Industrie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Add-Ons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Pharmazeut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Web-Applications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Medizi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99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 Start von </a:t>
            </a:r>
            <a:r>
              <a:rPr b="1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33E7-9DFB-4E16-9A6D-87F6C35C8F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1.10.2002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433520" y="1973160"/>
            <a:ext cx="6265800" cy="4292640"/>
            <a:chOff x="1433520" y="1973160"/>
            <a:chExt cx="6265800" cy="4292640"/>
          </a:xfrm>
        </p:grpSpPr>
        <p:grpSp>
          <p:nvGrpSpPr>
            <p:cNvPr id="56" name=""/>
            <p:cNvGrpSpPr/>
            <p:nvPr/>
          </p:nvGrpSpPr>
          <p:grpSpPr>
            <a:xfrm>
              <a:off x="1857240" y="2735280"/>
              <a:ext cx="846360" cy="901800"/>
              <a:chOff x="1857240" y="2735280"/>
              <a:chExt cx="846360" cy="901800"/>
            </a:xfrm>
          </p:grpSpPr>
          <p:sp>
            <p:nvSpPr>
              <p:cNvPr id="57" name=""/>
              <p:cNvSpPr/>
              <p:nvPr/>
            </p:nvSpPr>
            <p:spPr>
              <a:xfrm>
                <a:off x="1857240" y="273672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2280" y="27352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27367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2280" y="31179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3119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4352760" y="1973160"/>
              <a:ext cx="846360" cy="901800"/>
              <a:chOff x="4352760" y="1973160"/>
              <a:chExt cx="846360" cy="901800"/>
            </a:xfrm>
          </p:grpSpPr>
          <p:sp>
            <p:nvSpPr>
              <p:cNvPr id="63" name=""/>
              <p:cNvSpPr/>
              <p:nvPr/>
            </p:nvSpPr>
            <p:spPr>
              <a:xfrm>
                <a:off x="4352760" y="197496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357800" y="19731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776840" y="1974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357800" y="23558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776840" y="2357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6435720" y="3102120"/>
              <a:ext cx="839880" cy="901440"/>
              <a:chOff x="6435720" y="3102120"/>
              <a:chExt cx="839880" cy="901440"/>
            </a:xfrm>
          </p:grpSpPr>
          <p:sp>
            <p:nvSpPr>
              <p:cNvPr id="69" name=""/>
              <p:cNvSpPr/>
              <p:nvPr/>
            </p:nvSpPr>
            <p:spPr>
              <a:xfrm>
                <a:off x="6435720" y="3103560"/>
                <a:ext cx="839880" cy="754200"/>
              </a:xfrm>
              <a:custGeom>
                <a:avLst/>
                <a:gdLst/>
                <a:ahLst/>
                <a:rect l="l" t="t" r="r" b="b"/>
                <a:pathLst>
                  <a:path w="529" h="475">
                    <a:moveTo>
                      <a:pt x="266" y="0"/>
                    </a:moveTo>
                    <a:lnTo>
                      <a:pt x="0" y="238"/>
                    </a:lnTo>
                    <a:lnTo>
                      <a:pt x="266" y="474"/>
                    </a:lnTo>
                    <a:lnTo>
                      <a:pt x="528" y="238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853320" y="310212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435720" y="3103560"/>
                <a:ext cx="41580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53320" y="34844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435720" y="3486240"/>
                <a:ext cx="41580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5"/>
                    </a:lnTo>
                    <a:lnTo>
                      <a:pt x="261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6854760" y="3479760"/>
              <a:ext cx="839880" cy="905040"/>
              <a:chOff x="6854760" y="3479760"/>
              <a:chExt cx="839880" cy="905040"/>
            </a:xfrm>
          </p:grpSpPr>
          <p:sp>
            <p:nvSpPr>
              <p:cNvPr id="75" name=""/>
              <p:cNvSpPr/>
              <p:nvPr/>
            </p:nvSpPr>
            <p:spPr>
              <a:xfrm>
                <a:off x="6854760" y="34830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272360" y="34797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854760" y="3479760"/>
                <a:ext cx="41616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272360" y="386568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854760" y="387036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6435720" y="3855960"/>
              <a:ext cx="839880" cy="905040"/>
              <a:chOff x="6435720" y="3855960"/>
              <a:chExt cx="839880" cy="905040"/>
            </a:xfrm>
          </p:grpSpPr>
          <p:sp>
            <p:nvSpPr>
              <p:cNvPr id="81" name=""/>
              <p:cNvSpPr/>
              <p:nvPr/>
            </p:nvSpPr>
            <p:spPr>
              <a:xfrm>
                <a:off x="6435720" y="38592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853320" y="38559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435720" y="3855960"/>
                <a:ext cx="41580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53320" y="42418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35720" y="42465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6854760" y="4237200"/>
              <a:ext cx="839880" cy="904680"/>
              <a:chOff x="6854760" y="4237200"/>
              <a:chExt cx="839880" cy="904680"/>
            </a:xfrm>
          </p:grpSpPr>
          <p:sp>
            <p:nvSpPr>
              <p:cNvPr id="87" name=""/>
              <p:cNvSpPr/>
              <p:nvPr/>
            </p:nvSpPr>
            <p:spPr>
              <a:xfrm>
                <a:off x="6854760" y="424008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272360" y="4237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854760" y="423720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272360" y="46227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854760" y="462744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2274840" y="2357280"/>
              <a:ext cx="846360" cy="901800"/>
              <a:chOff x="2274840" y="2357280"/>
              <a:chExt cx="846360" cy="901800"/>
            </a:xfrm>
          </p:grpSpPr>
          <p:sp>
            <p:nvSpPr>
              <p:cNvPr id="93" name=""/>
              <p:cNvSpPr/>
              <p:nvPr/>
            </p:nvSpPr>
            <p:spPr>
              <a:xfrm>
                <a:off x="2274840" y="23590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279520" y="23572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69892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279520" y="27399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698920" y="27417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2271600" y="3102120"/>
              <a:ext cx="846360" cy="901440"/>
              <a:chOff x="2271600" y="3102120"/>
              <a:chExt cx="846360" cy="901440"/>
            </a:xfrm>
          </p:grpSpPr>
          <p:sp>
            <p:nvSpPr>
              <p:cNvPr id="99" name=""/>
              <p:cNvSpPr/>
              <p:nvPr/>
            </p:nvSpPr>
            <p:spPr>
              <a:xfrm>
                <a:off x="2271600" y="31035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276640" y="31021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95680" y="31035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76640" y="34844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95680" y="348624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3508200" y="1976400"/>
              <a:ext cx="846360" cy="901800"/>
              <a:chOff x="3508200" y="1976400"/>
              <a:chExt cx="846360" cy="901800"/>
            </a:xfrm>
          </p:grpSpPr>
          <p:sp>
            <p:nvSpPr>
              <p:cNvPr id="105" name=""/>
              <p:cNvSpPr/>
              <p:nvPr/>
            </p:nvSpPr>
            <p:spPr>
              <a:xfrm>
                <a:off x="3508200" y="197820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513240" y="197640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932280" y="197820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51324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932280" y="23605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2693880" y="1981080"/>
              <a:ext cx="846360" cy="901800"/>
              <a:chOff x="2693880" y="1981080"/>
              <a:chExt cx="846360" cy="901800"/>
            </a:xfrm>
          </p:grpSpPr>
          <p:sp>
            <p:nvSpPr>
              <p:cNvPr id="111" name=""/>
              <p:cNvSpPr/>
              <p:nvPr/>
            </p:nvSpPr>
            <p:spPr>
              <a:xfrm>
                <a:off x="2693880" y="19828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698920" y="19810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117960" y="19828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98920" y="23637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17960" y="236520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1851120" y="3476520"/>
              <a:ext cx="846000" cy="901800"/>
              <a:chOff x="1851120" y="3476520"/>
              <a:chExt cx="846000" cy="901800"/>
            </a:xfrm>
          </p:grpSpPr>
          <p:sp>
            <p:nvSpPr>
              <p:cNvPr id="117" name=""/>
              <p:cNvSpPr/>
              <p:nvPr/>
            </p:nvSpPr>
            <p:spPr>
              <a:xfrm>
                <a:off x="1851120" y="3478320"/>
                <a:ext cx="84600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55800" y="347652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74840" y="347832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855800" y="38592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74840" y="38606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1433520" y="3849840"/>
              <a:ext cx="846000" cy="901440"/>
              <a:chOff x="1433520" y="3849840"/>
              <a:chExt cx="846000" cy="901440"/>
            </a:xfrm>
          </p:grpSpPr>
          <p:sp>
            <p:nvSpPr>
              <p:cNvPr id="123" name=""/>
              <p:cNvSpPr/>
              <p:nvPr/>
            </p:nvSpPr>
            <p:spPr>
              <a:xfrm>
                <a:off x="1433520" y="3851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438200" y="3849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857240" y="3851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438200" y="4232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857240" y="4233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1857240" y="4237200"/>
              <a:ext cx="838440" cy="903240"/>
              <a:chOff x="1857240" y="4237200"/>
              <a:chExt cx="838440" cy="903240"/>
            </a:xfrm>
          </p:grpSpPr>
          <p:sp>
            <p:nvSpPr>
              <p:cNvPr id="129" name=""/>
              <p:cNvSpPr/>
              <p:nvPr/>
            </p:nvSpPr>
            <p:spPr>
              <a:xfrm>
                <a:off x="1857240" y="42372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859040" y="42372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278080" y="42400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859040" y="46227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278080" y="46245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5600880" y="2349360"/>
              <a:ext cx="844200" cy="903600"/>
              <a:chOff x="5600880" y="2349360"/>
              <a:chExt cx="844200" cy="903600"/>
            </a:xfrm>
          </p:grpSpPr>
          <p:sp>
            <p:nvSpPr>
              <p:cNvPr id="135" name=""/>
              <p:cNvSpPr/>
              <p:nvPr/>
            </p:nvSpPr>
            <p:spPr>
              <a:xfrm>
                <a:off x="5600880" y="2352600"/>
                <a:ext cx="84420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19920" y="23493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600880" y="235260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019920" y="273528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600880" y="2736720"/>
                <a:ext cx="419040" cy="51624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6018120" y="2727360"/>
              <a:ext cx="843120" cy="900000"/>
              <a:chOff x="6018120" y="2727360"/>
              <a:chExt cx="843120" cy="900000"/>
            </a:xfrm>
          </p:grpSpPr>
          <p:sp>
            <p:nvSpPr>
              <p:cNvPr id="141" name=""/>
              <p:cNvSpPr/>
              <p:nvPr/>
            </p:nvSpPr>
            <p:spPr>
              <a:xfrm>
                <a:off x="6019920" y="2728800"/>
                <a:ext cx="841320" cy="757440"/>
              </a:xfrm>
              <a:custGeom>
                <a:avLst/>
                <a:gdLst/>
                <a:ahLst/>
                <a:rect l="l" t="t" r="r" b="b"/>
                <a:pathLst>
                  <a:path w="530" h="477">
                    <a:moveTo>
                      <a:pt x="266" y="0"/>
                    </a:moveTo>
                    <a:lnTo>
                      <a:pt x="0" y="240"/>
                    </a:lnTo>
                    <a:lnTo>
                      <a:pt x="266" y="476"/>
                    </a:lnTo>
                    <a:lnTo>
                      <a:pt x="529" y="240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435720" y="2727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263" y="323"/>
                    </a:moveTo>
                    <a:lnTo>
                      <a:pt x="263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3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18120" y="272880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324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435720" y="3110040"/>
                <a:ext cx="419040" cy="51732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0"/>
                    </a:moveTo>
                    <a:lnTo>
                      <a:pt x="263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3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18120" y="311148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435720" y="4613400"/>
              <a:ext cx="844560" cy="903240"/>
              <a:chOff x="6435720" y="4613400"/>
              <a:chExt cx="844560" cy="903240"/>
            </a:xfrm>
          </p:grpSpPr>
          <p:sp>
            <p:nvSpPr>
              <p:cNvPr id="147" name=""/>
              <p:cNvSpPr/>
              <p:nvPr/>
            </p:nvSpPr>
            <p:spPr>
              <a:xfrm>
                <a:off x="6435720" y="4613400"/>
                <a:ext cx="844560" cy="76176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858000" y="461340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435720" y="461628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858000" y="4998960"/>
                <a:ext cx="414360" cy="51444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435720" y="500076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6014880" y="4991040"/>
              <a:ext cx="841680" cy="905040"/>
              <a:chOff x="6014880" y="4991040"/>
              <a:chExt cx="841680" cy="905040"/>
            </a:xfrm>
          </p:grpSpPr>
          <p:sp>
            <p:nvSpPr>
              <p:cNvPr id="153" name=""/>
              <p:cNvSpPr/>
              <p:nvPr/>
            </p:nvSpPr>
            <p:spPr>
              <a:xfrm>
                <a:off x="6018120" y="4995720"/>
                <a:ext cx="838440" cy="758880"/>
              </a:xfrm>
              <a:custGeom>
                <a:avLst/>
                <a:gdLst/>
                <a:ahLst/>
                <a:rect l="l" t="t" r="r" b="b"/>
                <a:pathLst>
                  <a:path w="528" h="478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7"/>
                    </a:lnTo>
                    <a:lnTo>
                      <a:pt x="527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431040" y="499104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148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431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1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014880" y="5378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5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5611680" y="5353200"/>
              <a:ext cx="844560" cy="904680"/>
              <a:chOff x="5611680" y="5353200"/>
              <a:chExt cx="844560" cy="904680"/>
            </a:xfrm>
          </p:grpSpPr>
          <p:sp>
            <p:nvSpPr>
              <p:cNvPr id="159" name=""/>
              <p:cNvSpPr/>
              <p:nvPr/>
            </p:nvSpPr>
            <p:spPr>
              <a:xfrm>
                <a:off x="561168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031080" y="535320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611680" y="53578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31080" y="573732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611680" y="573732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7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3111480" y="3111480"/>
              <a:ext cx="417600" cy="515880"/>
            </a:xfrm>
            <a:custGeom>
              <a:avLst/>
              <a:gdLst/>
              <a:ahLst/>
              <a:rect l="l" t="t" r="r" b="b"/>
              <a:pathLst>
                <a:path w="263" h="325">
                  <a:moveTo>
                    <a:pt x="262" y="0"/>
                  </a:moveTo>
                  <a:lnTo>
                    <a:pt x="262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271600" y="3855960"/>
              <a:ext cx="846360" cy="905040"/>
              <a:chOff x="2271600" y="3855960"/>
              <a:chExt cx="846360" cy="905040"/>
            </a:xfrm>
          </p:grpSpPr>
          <p:sp>
            <p:nvSpPr>
              <p:cNvPr id="166" name=""/>
              <p:cNvSpPr/>
              <p:nvPr/>
            </p:nvSpPr>
            <p:spPr>
              <a:xfrm>
                <a:off x="2271600" y="38592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27664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69568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6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276640" y="42418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695680" y="42465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2271600" y="4613400"/>
              <a:ext cx="838440" cy="903240"/>
              <a:chOff x="2271600" y="4613400"/>
              <a:chExt cx="838440" cy="903240"/>
            </a:xfrm>
          </p:grpSpPr>
          <p:sp>
            <p:nvSpPr>
              <p:cNvPr id="172" name=""/>
              <p:cNvSpPr/>
              <p:nvPr/>
            </p:nvSpPr>
            <p:spPr>
              <a:xfrm>
                <a:off x="2271600" y="46134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273400" y="46134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692440" y="46162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273400" y="49989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692440" y="50007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2692440" y="499572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698920" y="4991040"/>
              <a:ext cx="41400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323"/>
                  </a:moveTo>
                  <a:lnTo>
                    <a:pt x="0" y="233"/>
                  </a:lnTo>
                  <a:lnTo>
                    <a:pt x="260" y="0"/>
                  </a:lnTo>
                  <a:lnTo>
                    <a:pt x="260" y="89"/>
                  </a:lnTo>
                  <a:lnTo>
                    <a:pt x="0" y="323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19400" y="499428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325"/>
                  </a:moveTo>
                  <a:lnTo>
                    <a:pt x="261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1" y="325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98920" y="5375160"/>
              <a:ext cx="414000" cy="517680"/>
            </a:xfrm>
            <a:custGeom>
              <a:avLst/>
              <a:gdLst/>
              <a:ahLst/>
              <a:rect l="l" t="t" r="r" b="b"/>
              <a:pathLst>
                <a:path w="261" h="326">
                  <a:moveTo>
                    <a:pt x="0" y="0"/>
                  </a:moveTo>
                  <a:lnTo>
                    <a:pt x="0" y="91"/>
                  </a:lnTo>
                  <a:lnTo>
                    <a:pt x="260" y="325"/>
                  </a:lnTo>
                  <a:lnTo>
                    <a:pt x="260" y="235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19400" y="537840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0"/>
                  </a:moveTo>
                  <a:lnTo>
                    <a:pt x="261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1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3094200" y="5353200"/>
              <a:ext cx="844560" cy="904680"/>
              <a:chOff x="3094200" y="5353200"/>
              <a:chExt cx="844560" cy="904680"/>
            </a:xfrm>
          </p:grpSpPr>
          <p:sp>
            <p:nvSpPr>
              <p:cNvPr id="183" name=""/>
              <p:cNvSpPr/>
              <p:nvPr/>
            </p:nvSpPr>
            <p:spPr>
              <a:xfrm>
                <a:off x="309420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098880" y="5353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519360" y="5357880"/>
                <a:ext cx="41616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098880" y="5737320"/>
                <a:ext cx="41760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519360" y="573732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768920" y="2349360"/>
              <a:ext cx="841320" cy="903600"/>
              <a:chOff x="4768920" y="2349360"/>
              <a:chExt cx="841320" cy="903600"/>
            </a:xfrm>
          </p:grpSpPr>
          <p:sp>
            <p:nvSpPr>
              <p:cNvPr id="189" name=""/>
              <p:cNvSpPr/>
              <p:nvPr/>
            </p:nvSpPr>
            <p:spPr>
              <a:xfrm>
                <a:off x="47689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772160" y="2349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189400" y="2352600"/>
                <a:ext cx="41940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325"/>
                    </a:moveTo>
                    <a:lnTo>
                      <a:pt x="263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3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772160" y="273528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0"/>
                    </a:moveTo>
                    <a:lnTo>
                      <a:pt x="0" y="90"/>
                    </a:lnTo>
                    <a:lnTo>
                      <a:pt x="263" y="325"/>
                    </a:lnTo>
                    <a:lnTo>
                      <a:pt x="263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933720" y="2349360"/>
              <a:ext cx="841320" cy="903600"/>
              <a:chOff x="3933720" y="2349360"/>
              <a:chExt cx="841320" cy="903600"/>
            </a:xfrm>
          </p:grpSpPr>
          <p:sp>
            <p:nvSpPr>
              <p:cNvPr id="194" name=""/>
              <p:cNvSpPr/>
              <p:nvPr/>
            </p:nvSpPr>
            <p:spPr>
              <a:xfrm>
                <a:off x="39337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933720" y="23493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49880" y="2352600"/>
                <a:ext cx="423720" cy="517680"/>
              </a:xfrm>
              <a:custGeom>
                <a:avLst/>
                <a:gdLst/>
                <a:ahLst/>
                <a:rect l="l" t="t" r="r" b="b"/>
                <a:pathLst>
                  <a:path w="267" h="326">
                    <a:moveTo>
                      <a:pt x="266" y="325"/>
                    </a:moveTo>
                    <a:lnTo>
                      <a:pt x="266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6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349880" y="2736720"/>
                <a:ext cx="423720" cy="516240"/>
              </a:xfrm>
              <a:custGeom>
                <a:avLst/>
                <a:gdLst/>
                <a:ahLst/>
                <a:rect l="l" t="t" r="r" b="b"/>
                <a:pathLst>
                  <a:path w="267" h="325">
                    <a:moveTo>
                      <a:pt x="266" y="0"/>
                    </a:moveTo>
                    <a:lnTo>
                      <a:pt x="266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3929040" y="5361120"/>
              <a:ext cx="844560" cy="904680"/>
              <a:chOff x="3929040" y="5361120"/>
              <a:chExt cx="844560" cy="904680"/>
            </a:xfrm>
          </p:grpSpPr>
          <p:sp>
            <p:nvSpPr>
              <p:cNvPr id="199" name=""/>
              <p:cNvSpPr/>
              <p:nvPr/>
            </p:nvSpPr>
            <p:spPr>
              <a:xfrm>
                <a:off x="3929040" y="53658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933720" y="5361120"/>
                <a:ext cx="41616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49880" y="5361120"/>
                <a:ext cx="420480" cy="519120"/>
              </a:xfrm>
              <a:custGeom>
                <a:avLst/>
                <a:gdLst/>
                <a:ahLst/>
                <a:rect l="l" t="t" r="r" b="b"/>
                <a:pathLst>
                  <a:path w="265" h="327">
                    <a:moveTo>
                      <a:pt x="264" y="326"/>
                    </a:moveTo>
                    <a:lnTo>
                      <a:pt x="264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4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933720" y="5745240"/>
                <a:ext cx="41616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49880" y="5748480"/>
                <a:ext cx="420480" cy="517320"/>
              </a:xfrm>
              <a:custGeom>
                <a:avLst/>
                <a:gdLst/>
                <a:ahLst/>
                <a:rect l="l" t="t" r="r" b="b"/>
                <a:pathLst>
                  <a:path w="265" h="326">
                    <a:moveTo>
                      <a:pt x="264" y="0"/>
                    </a:moveTo>
                    <a:lnTo>
                      <a:pt x="264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4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4776840" y="5361120"/>
              <a:ext cx="841320" cy="904680"/>
              <a:chOff x="4776840" y="5361120"/>
              <a:chExt cx="841320" cy="904680"/>
            </a:xfrm>
          </p:grpSpPr>
          <p:sp>
            <p:nvSpPr>
              <p:cNvPr id="205" name=""/>
              <p:cNvSpPr/>
              <p:nvPr/>
            </p:nvSpPr>
            <p:spPr>
              <a:xfrm>
                <a:off x="4776840" y="53658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781520" y="5361120"/>
                <a:ext cx="41580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200560" y="5361120"/>
                <a:ext cx="417600" cy="519120"/>
              </a:xfrm>
              <a:custGeom>
                <a:avLst/>
                <a:gdLst/>
                <a:ahLst/>
                <a:rect l="l" t="t" r="r" b="b"/>
                <a:pathLst>
                  <a:path w="263" h="327">
                    <a:moveTo>
                      <a:pt x="262" y="326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781520" y="574524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200560" y="57484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5189400" y="2736720"/>
              <a:ext cx="419400" cy="51624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263" y="0"/>
                  </a:moveTo>
                  <a:lnTo>
                    <a:pt x="263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33720" y="273528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0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02120" y="3106800"/>
              <a:ext cx="3322440" cy="2268360"/>
            </a:xfrm>
            <a:custGeom>
              <a:avLst/>
              <a:gdLst/>
              <a:ahLst/>
              <a:rect l="l" t="t" r="r" b="b"/>
              <a:pathLst>
                <a:path w="2093" h="1429">
                  <a:moveTo>
                    <a:pt x="800" y="0"/>
                  </a:moveTo>
                  <a:lnTo>
                    <a:pt x="1818" y="0"/>
                  </a:lnTo>
                  <a:lnTo>
                    <a:pt x="2092" y="624"/>
                  </a:lnTo>
                  <a:lnTo>
                    <a:pt x="1593" y="1424"/>
                  </a:lnTo>
                  <a:lnTo>
                    <a:pt x="530" y="1428"/>
                  </a:lnTo>
                  <a:lnTo>
                    <a:pt x="0" y="621"/>
                  </a:lnTo>
                  <a:lnTo>
                    <a:pt x="286" y="0"/>
                  </a:lnTo>
                  <a:lnTo>
                    <a:pt x="800" y="0"/>
                  </a:lnTo>
                </a:path>
              </a:pathLst>
            </a:custGeom>
            <a:solidFill>
              <a:srgbClr val="0066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21160" y="2579760"/>
              <a:ext cx="844560" cy="76176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3527280" y="4986360"/>
              <a:ext cx="844560" cy="904680"/>
              <a:chOff x="3527280" y="4986360"/>
              <a:chExt cx="844560" cy="904680"/>
            </a:xfrm>
          </p:grpSpPr>
          <p:sp>
            <p:nvSpPr>
              <p:cNvPr id="215" name=""/>
              <p:cNvSpPr/>
              <p:nvPr/>
            </p:nvSpPr>
            <p:spPr>
              <a:xfrm>
                <a:off x="3527280" y="49896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532320" y="498636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52800" y="4991040"/>
                <a:ext cx="41616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532320" y="537048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952800" y="537048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30988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46680" y="2957400"/>
              <a:ext cx="415800" cy="51588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527280" y="3335400"/>
              <a:ext cx="419400" cy="51444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263" y="0"/>
                  </a:moveTo>
                  <a:lnTo>
                    <a:pt x="263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0680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87760" y="37130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89"/>
                  </a:lnTo>
                  <a:lnTo>
                    <a:pt x="264" y="325"/>
                  </a:lnTo>
                  <a:lnTo>
                    <a:pt x="264" y="234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87760" y="44672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91"/>
                  </a:lnTo>
                  <a:lnTo>
                    <a:pt x="264" y="325"/>
                  </a:lnTo>
                  <a:lnTo>
                    <a:pt x="264" y="235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06800" y="4840200"/>
              <a:ext cx="414360" cy="51912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0" y="0"/>
                  </a:moveTo>
                  <a:lnTo>
                    <a:pt x="0" y="90"/>
                  </a:lnTo>
                  <a:lnTo>
                    <a:pt x="260" y="326"/>
                  </a:lnTo>
                  <a:lnTo>
                    <a:pt x="260" y="236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36960" y="5211720"/>
              <a:ext cx="843120" cy="755640"/>
            </a:xfrm>
            <a:custGeom>
              <a:avLst/>
              <a:gdLst/>
              <a:ahLst/>
              <a:rect l="l" t="t" r="r" b="b"/>
              <a:pathLst>
                <a:path w="531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0" y="239"/>
                  </a:lnTo>
                  <a:lnTo>
                    <a:pt x="267" y="0"/>
                  </a:lnTo>
                </a:path>
              </a:pathLst>
            </a:custGeom>
            <a:solidFill>
              <a:srgbClr val="b3b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33720" y="5592600"/>
              <a:ext cx="41616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0"/>
                  </a:moveTo>
                  <a:lnTo>
                    <a:pt x="0" y="89"/>
                  </a:lnTo>
                  <a:lnTo>
                    <a:pt x="261" y="324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ad6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52760" y="559764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87760" y="4078440"/>
              <a:ext cx="834840" cy="758520"/>
            </a:xfrm>
            <a:custGeom>
              <a:avLst/>
              <a:gdLst/>
              <a:ahLst/>
              <a:rect l="l" t="t" r="r" b="b"/>
              <a:pathLst>
                <a:path w="526" h="478">
                  <a:moveTo>
                    <a:pt x="264" y="0"/>
                  </a:moveTo>
                  <a:lnTo>
                    <a:pt x="0" y="241"/>
                  </a:lnTo>
                  <a:lnTo>
                    <a:pt x="264" y="477"/>
                  </a:lnTo>
                  <a:lnTo>
                    <a:pt x="525" y="241"/>
                  </a:lnTo>
                  <a:lnTo>
                    <a:pt x="26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07000" y="2957400"/>
              <a:ext cx="846360" cy="7542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2460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8" y="0"/>
                  </a:moveTo>
                  <a:lnTo>
                    <a:pt x="0" y="240"/>
                  </a:lnTo>
                  <a:lnTo>
                    <a:pt x="268" y="477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116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95880" y="4840200"/>
              <a:ext cx="844560" cy="75564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07000" y="3335400"/>
              <a:ext cx="41436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0"/>
                  </a:moveTo>
                  <a:lnTo>
                    <a:pt x="0" y="89"/>
                  </a:lnTo>
                  <a:lnTo>
                    <a:pt x="260" y="323"/>
                  </a:lnTo>
                  <a:lnTo>
                    <a:pt x="260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24600" y="371304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4364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f4546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43640" y="44672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27840" y="4840200"/>
              <a:ext cx="417240" cy="519120"/>
            </a:xfrm>
            <a:custGeom>
              <a:avLst/>
              <a:gdLst/>
              <a:ahLst/>
              <a:rect l="l" t="t" r="r" b="b"/>
              <a:pathLst>
                <a:path w="263" h="327">
                  <a:moveTo>
                    <a:pt x="262" y="0"/>
                  </a:moveTo>
                  <a:lnTo>
                    <a:pt x="262" y="90"/>
                  </a:lnTo>
                  <a:lnTo>
                    <a:pt x="0" y="326"/>
                  </a:lnTo>
                  <a:lnTo>
                    <a:pt x="0" y="236"/>
                  </a:lnTo>
                  <a:lnTo>
                    <a:pt x="262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616720" y="5216400"/>
              <a:ext cx="41580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95880" y="521640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1"/>
                  </a:lnTo>
                  <a:lnTo>
                    <a:pt x="262" y="325"/>
                  </a:lnTo>
                  <a:lnTo>
                    <a:pt x="262" y="235"/>
                  </a:lnTo>
                  <a:lnTo>
                    <a:pt x="0" y="0"/>
                  </a:lnTo>
                </a:path>
              </a:pathLst>
            </a:custGeom>
            <a:solidFill>
              <a:srgbClr val="6a00c2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24600" y="4089240"/>
              <a:ext cx="844560" cy="75744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f0e3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89400" y="2957400"/>
              <a:ext cx="412920" cy="515880"/>
            </a:xfrm>
            <a:custGeom>
              <a:avLst/>
              <a:gdLst/>
              <a:ahLst/>
              <a:rect l="l" t="t" r="r" b="b"/>
              <a:pathLst>
                <a:path w="260" h="325">
                  <a:moveTo>
                    <a:pt x="0" y="0"/>
                  </a:moveTo>
                  <a:lnTo>
                    <a:pt x="0" y="91"/>
                  </a:lnTo>
                  <a:lnTo>
                    <a:pt x="259" y="324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189400" y="25779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437440" y="259380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427720" y="258444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72560" y="282096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64640" y="281304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06400" y="297504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8480" y="296712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74400" y="3025800"/>
              <a:ext cx="484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58760" y="3254400"/>
              <a:ext cx="929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Controll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89840" y="3394080"/>
              <a:ext cx="49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82720" y="2630520"/>
              <a:ext cx="71172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Vertrie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52320" y="358128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Anla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47400" y="5240160"/>
              <a:ext cx="846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ersona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02280" y="3143160"/>
              <a:ext cx="294156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SAP R/3,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dd-Ons u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Web-Applikation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91200" y="4848120"/>
              <a:ext cx="8733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Branch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lösung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623200" y="4529160"/>
              <a:ext cx="81396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W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Workflo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05760" y="4083120"/>
              <a:ext cx="83052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Qualität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2271600" y="3711600"/>
              <a:ext cx="846360" cy="896760"/>
              <a:chOff x="2271600" y="3711600"/>
              <a:chExt cx="846360" cy="896760"/>
            </a:xfrm>
          </p:grpSpPr>
          <p:sp>
            <p:nvSpPr>
              <p:cNvPr id="262" name=""/>
              <p:cNvSpPr/>
              <p:nvPr/>
            </p:nvSpPr>
            <p:spPr>
              <a:xfrm>
                <a:off x="2271600" y="37116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33cc33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276640" y="409428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1852560" y="4092480"/>
              <a:ext cx="841320" cy="73836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65" y="0"/>
                  </a:moveTo>
                  <a:lnTo>
                    <a:pt x="0" y="232"/>
                  </a:lnTo>
                  <a:lnTo>
                    <a:pt x="265" y="464"/>
                  </a:lnTo>
                  <a:lnTo>
                    <a:pt x="529" y="232"/>
                  </a:lnTo>
                  <a:lnTo>
                    <a:pt x="265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57240" y="4465800"/>
              <a:ext cx="416160" cy="500040"/>
            </a:xfrm>
            <a:custGeom>
              <a:avLst/>
              <a:gdLst/>
              <a:ahLst/>
              <a:rect l="l" t="t" r="r" b="b"/>
              <a:pathLst>
                <a:path w="262" h="315">
                  <a:moveTo>
                    <a:pt x="0" y="0"/>
                  </a:moveTo>
                  <a:lnTo>
                    <a:pt x="0" y="87"/>
                  </a:lnTo>
                  <a:lnTo>
                    <a:pt x="261" y="314"/>
                  </a:lnTo>
                  <a:lnTo>
                    <a:pt x="261" y="227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47840" y="3778200"/>
              <a:ext cx="7956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ar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66960" y="4149720"/>
              <a:ext cx="7286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Umwel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chutz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1434960" y="4621320"/>
              <a:ext cx="846360" cy="901440"/>
              <a:chOff x="1434960" y="4621320"/>
              <a:chExt cx="846360" cy="901440"/>
            </a:xfrm>
          </p:grpSpPr>
          <p:sp>
            <p:nvSpPr>
              <p:cNvPr id="269" name=""/>
              <p:cNvSpPr/>
              <p:nvPr/>
            </p:nvSpPr>
            <p:spPr>
              <a:xfrm>
                <a:off x="1434960" y="46227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440000" y="46213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59040" y="46227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440000" y="50036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59040" y="500544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1854360" y="4992840"/>
              <a:ext cx="846000" cy="901440"/>
              <a:chOff x="1854360" y="4992840"/>
              <a:chExt cx="846000" cy="901440"/>
            </a:xfrm>
          </p:grpSpPr>
          <p:sp>
            <p:nvSpPr>
              <p:cNvPr id="275" name=""/>
              <p:cNvSpPr/>
              <p:nvPr/>
            </p:nvSpPr>
            <p:spPr>
              <a:xfrm>
                <a:off x="1854360" y="4994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859040" y="4992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2780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59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278080" y="5376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2855880" y="3019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1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03560" y="2957400"/>
              <a:ext cx="843120" cy="754200"/>
            </a:xfrm>
            <a:custGeom>
              <a:avLst/>
              <a:gdLst/>
              <a:ahLst/>
              <a:rect l="l" t="t" r="r" b="b"/>
              <a:pathLst>
                <a:path w="531" h="475">
                  <a:moveTo>
                    <a:pt x="266" y="0"/>
                  </a:moveTo>
                  <a:lnTo>
                    <a:pt x="0" y="238"/>
                  </a:lnTo>
                  <a:lnTo>
                    <a:pt x="266" y="474"/>
                  </a:lnTo>
                  <a:lnTo>
                    <a:pt x="530" y="238"/>
                  </a:lnTo>
                  <a:lnTo>
                    <a:pt x="266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692440" y="25653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02120" y="21938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58040" y="284004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905920" y="250200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bfal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304440" y="2244600"/>
              <a:ext cx="46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73400" y="3330720"/>
              <a:ext cx="412560" cy="514080"/>
            </a:xfrm>
            <a:custGeom>
              <a:avLst/>
              <a:gdLst/>
              <a:ahLst/>
              <a:rect l="l" t="t" r="r" b="b"/>
              <a:pathLst>
                <a:path w="260" h="324">
                  <a:moveTo>
                    <a:pt x="0" y="0"/>
                  </a:moveTo>
                  <a:lnTo>
                    <a:pt x="0" y="88"/>
                  </a:lnTo>
                  <a:lnTo>
                    <a:pt x="259" y="323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68272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40"/>
                  </a:lnTo>
                  <a:lnTo>
                    <a:pt x="267" y="477"/>
                  </a:lnTo>
                  <a:lnTo>
                    <a:pt x="531" y="240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30480" y="2978280"/>
              <a:ext cx="10119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terialwir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43760" y="3382920"/>
              <a:ext cx="11386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d.-Plan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66920" y="4454640"/>
              <a:ext cx="846000" cy="758880"/>
            </a:xfrm>
            <a:custGeom>
              <a:avLst/>
              <a:gdLst/>
              <a:ahLst/>
              <a:rect l="l" t="t" r="r" b="b"/>
              <a:pathLst>
                <a:path w="533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2" y="239"/>
                  </a:lnTo>
                  <a:lnTo>
                    <a:pt x="267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71600" y="4836960"/>
              <a:ext cx="41760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0"/>
                  </a:moveTo>
                  <a:lnTo>
                    <a:pt x="0" y="89"/>
                  </a:lnTo>
                  <a:lnTo>
                    <a:pt x="262" y="323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690640" y="484200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07880" y="4487760"/>
              <a:ext cx="945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IMS-Funk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ionalität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24400" y="4849920"/>
              <a:ext cx="41724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60800" y="4483080"/>
              <a:ext cx="7272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stand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halt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40400" y="3711600"/>
              <a:ext cx="839880" cy="758880"/>
            </a:xfrm>
            <a:custGeom>
              <a:avLst/>
              <a:gdLst/>
              <a:ahLst/>
              <a:rect l="l" t="t" r="r" b="b"/>
              <a:pathLst>
                <a:path w="529" h="478">
                  <a:moveTo>
                    <a:pt x="266" y="0"/>
                  </a:moveTo>
                  <a:lnTo>
                    <a:pt x="0" y="239"/>
                  </a:lnTo>
                  <a:lnTo>
                    <a:pt x="266" y="477"/>
                  </a:lnTo>
                  <a:lnTo>
                    <a:pt x="528" y="239"/>
                  </a:lnTo>
                  <a:lnTo>
                    <a:pt x="266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858000" y="409428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362280" y="3706920"/>
              <a:ext cx="100908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vestition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38760" y="2216160"/>
              <a:ext cx="841320" cy="73800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71" y="0"/>
                  </a:moveTo>
                  <a:lnTo>
                    <a:pt x="0" y="227"/>
                  </a:lnTo>
                  <a:lnTo>
                    <a:pt x="260" y="464"/>
                  </a:lnTo>
                  <a:lnTo>
                    <a:pt x="529" y="238"/>
                  </a:lnTo>
                  <a:lnTo>
                    <a:pt x="271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357800" y="258912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91320" y="2216160"/>
              <a:ext cx="7484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Kund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68360" y="29462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37400" y="3044880"/>
              <a:ext cx="8992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P-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em. Ind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6854760" y="4994280"/>
              <a:ext cx="844560" cy="903240"/>
              <a:chOff x="6854760" y="4994280"/>
              <a:chExt cx="844560" cy="903240"/>
            </a:xfrm>
          </p:grpSpPr>
          <p:sp>
            <p:nvSpPr>
              <p:cNvPr id="306" name=""/>
              <p:cNvSpPr/>
              <p:nvPr/>
            </p:nvSpPr>
            <p:spPr>
              <a:xfrm>
                <a:off x="6854760" y="4994280"/>
                <a:ext cx="844560" cy="76212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277040" y="499428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854760" y="499752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277040" y="5380200"/>
                <a:ext cx="414360" cy="51408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854760" y="538164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853320" y="484812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424560" y="4465800"/>
              <a:ext cx="844560" cy="75708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f3597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113160" y="4105440"/>
              <a:ext cx="7041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jek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yste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34280" y="4842000"/>
              <a:ext cx="415800" cy="51732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04120" y="4462560"/>
              <a:ext cx="7178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EA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304920" y="7621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as SAP R/3-System, kundenindividuelle Add-Ons und Web-Lös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D053-88BF-43F2-8C1C-90DF409C1AF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1.10.2002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SM Polyolefine GmbH, Gelsenkirch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acker Chemie GmbH, Nünchritz, Burghau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Aerosil &amp; Silanes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Superabsorber, Krefel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fracor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dustriepark Wolfgang GmbH, Hanau-Wolfga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atharinenhospital, Stuttga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innolit GmbH &amp; Co. KG, Isman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XENO Olefinchemie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oldschmidt AG, 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1143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3642-8745-4873-879D-9678F428C1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1.10.2002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zupharma GmbH &amp; Co., Gerli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ventis Pharma Deutschland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Coatings &amp; Colorant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High Performance Polymer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ta Medica AG und Arzneimittelwerk Dresden GmbH (AWD), Radebeul, Künsebeck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, Frankfurt (Charme-Projek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ASF IT Services GmbH, Ludwigshaf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ASF Pigment GmbH (Masterbatch), Köl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KW Stickstoffwerke Piesteritz GmbH, Wittenbe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1211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E8CB-F62C-43EE-8E1C-3FC56CF229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1.10.2002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hre direkten Ansprechpartner sind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www.jwconsulting.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sere Homepage im Internet. Hier finden Sie alles Wissenswerte zu unserem Geschäft, lernen Referenzen und Standorte kennen - Mausklick genüg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724A-9AC8-4F71-A316-39BA66C535F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1.10.2002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iel der Veranst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mitteln von Erfahrungen und Know-h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nehmen von neuen Konta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84DF-D43D-4FDC-B398-4903E665034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08:57:14Z</dcterms:created>
  <dc:creator>ARS</dc:creator>
  <dc:description/>
  <dc:language>en-US</dc:language>
  <cp:lastModifiedBy>Dr. Jochen Winkler</cp:lastModifiedBy>
  <cp:lastPrinted>2001-02-12T08:25:41Z</cp:lastPrinted>
  <dcterms:modified xsi:type="dcterms:W3CDTF">2002-11-06T23:07:08Z</dcterms:modified>
  <cp:revision>129</cp:revision>
  <dc:subject/>
  <dc:title>Kein Folientitel</dc:title>
</cp:coreProperties>
</file>