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9E4-796D-4727-B7AB-5375467C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821-CF04-4BE1-958D-7A7AB46B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166-20EC-46C5-9C3D-658F5E3A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7DA-6CEE-4EC1-B182-C55C4905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95A-FF2A-4DB0-B240-94CF33E1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2AA-9546-4D2B-A190-AA1914CF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1B0-AF72-438F-87B1-3014841A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2B5-77AD-4168-989B-A320EB6F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1D6-9134-4A24-A69D-CBFEF58A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14B-95C0-49BB-B8E8-FA4F0A8B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56D-8450-416A-865E-10D1608D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3AB-AE28-4EAB-BE7B-730F6179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1579C31-710B-401F-B72F-57C1AC3CC11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5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de-DE" sz="36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Das SAP R/3 integrierte LIMS mit Webportal für 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dustriepark Mar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3D1-65BE-4E70-85DB-52A960DF894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838080"/>
            <a:ext cx="800100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de-DE" sz="36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Das SAP R/3 integrierte LIMS mit Webportal für 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dustriepark Marl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257-4BD6-43D4-AE25-A1DFF1A558D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führung: Analytisch Technische Services - der Analytikdienstleister für die chem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neue auftragsbasierte LIMS (eLab) für die Analytisch-Technischen Services der Infracor GmbH in Marl und der Industriepark Wolfgang GmbH in Hanau-Wolfgang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erfassung und Ergebnisdarstellung im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leistungskataloge für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teile des eLab-Programms für Kunden und Auftragslab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ffizienzsteigerung im Unterne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224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Arbeit mit eLab im Labor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enverwaltung im 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ebniseingabe und Validierung der Prüfergeb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zeug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mm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858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5A9-1F39-4E68-AE0B-2EDAB3E8CC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Impact"/>
              </a:rPr>
              <a:t>eLab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- Aufbau und Funktionsweise aus technischer Sicht</a:t>
            </a:r>
            <a:r>
              <a:rPr b="0" lang="de-DE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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tragsab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P-Web-Kopp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ndenanbindung B2C und B2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von Standards (openTRA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kturierung von Prüfleist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netzung aller Informationsquellen im Unterneh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75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75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130-9ED5-4592-9FBF-24EB081182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1. Juli 1996 von Dr. Jochen Winkler gegründ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 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1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03A-9765-4E51-99B2-8A40A3D4B2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56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57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63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69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75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81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87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93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99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05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11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23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29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35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41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47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53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66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72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189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194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199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05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15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62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69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75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06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5AD-3C33-4BF4-96BF-FE687C1BB77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SM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8E6-6858-4FE4-9FD6-E2A82059FC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231-FD07-4E03-A843-38A833720D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D7D-EA91-40BF-983A-C3B335AC30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1.10.2002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1DF-58F5-4F0D-BC44-8CDB24C7D8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2-11-06T23:07:08Z</dcterms:modified>
  <cp:revision>129</cp:revision>
  <dc:subject/>
  <dc:title>Kein Folientitel</dc:title>
</cp:coreProperties>
</file>