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30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0548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5663CA-A4AF-47EE-8F80-EBBC36A887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576920" y="6405480"/>
            <a:ext cx="107820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9E3AFE-D077-44DA-AE0D-316F04182A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6080" y="6400800"/>
            <a:ext cx="59796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A5C6-3604-46CD-9A66-11A73CBC08AD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6800" y="6405480"/>
            <a:ext cx="1611720" cy="1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PW-ATS / Dr. A. Mü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6576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97520" y="914400"/>
            <a:ext cx="2346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64320" y="704880"/>
            <a:ext cx="20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Industriepark Wolf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67480" y="225360"/>
            <a:ext cx="1409760" cy="43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2858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3826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200" y="2165400"/>
            <a:ext cx="6172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7920" y="4266720"/>
            <a:ext cx="441972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. Arndt Mü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dustriepark Wolfgang Gmb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alytisch Technische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rten von Prüfung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, Forsch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e Proben, Wettbewerbsanaly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, Mikrobi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analytik, Eingangs-/Endprodukt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ätsanalytik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143028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3028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m Auftrag zum Labo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523880"/>
          <a:ext cx="770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0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8080" y="5699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Leistung ist eindeutig einem Labor zuge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1430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1828800"/>
            <a:ext cx="4648320" cy="426708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2590920"/>
            <a:ext cx="1523880" cy="236196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2604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e0000"/>
                </a:solidFill>
                <a:latin typeface="Arial"/>
              </a:rPr>
              <a:t>SAP /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2971800"/>
            <a:ext cx="10666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8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ftr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062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919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2"/>
            <a:endCxn id="97" idx="2"/>
          </p:cNvCxnSpPr>
          <p:nvPr/>
        </p:nvCxnSpPr>
        <p:spPr>
          <a:xfrm rot="5400000">
            <a:off x="4285800" y="2152440"/>
            <a:ext cx="305640" cy="5906160"/>
          </a:xfrm>
          <a:prstGeom prst="bentConnector3">
            <a:avLst>
              <a:gd name="adj1" fmla="val 175000"/>
            </a:avLst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4495680" y="3200400"/>
            <a:ext cx="12193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9080" y="335268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-We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2057400"/>
            <a:ext cx="2411640" cy="3200400"/>
            <a:chOff x="380880" y="2057400"/>
            <a:chExt cx="2411640" cy="3200400"/>
          </a:xfrm>
        </p:grpSpPr>
        <p:sp>
          <p:nvSpPr>
            <p:cNvPr id="101" name=""/>
            <p:cNvSpPr/>
            <p:nvPr/>
          </p:nvSpPr>
          <p:spPr>
            <a:xfrm>
              <a:off x="892080" y="3048120"/>
              <a:ext cx="103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057400"/>
              <a:ext cx="2210040" cy="3200400"/>
            </a:xfrm>
            <a:prstGeom prst="rect">
              <a:avLst/>
            </a:prstGeom>
            <a:solidFill>
              <a:srgbClr val="99ff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33520" y="2514600"/>
              <a:ext cx="1361880" cy="17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828800" y="25146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533520" y="4604040"/>
              <a:ext cx="8125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373040" y="4527720"/>
              <a:ext cx="8128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905120" y="412920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B2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0160" y="4536360"/>
              <a:ext cx="780480" cy="3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88" y="153"/>
                  </a:moveTo>
                  <a:arcTo wR="10800" hR="10800" stAng="-5979495" swAng="51970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88" y="153"/>
                  </a:moveTo>
                  <a:arcTo wR="10800" hR="10800" stAng="-5979495" swAng="5197078"/>
                </a:path>
              </a:pathLst>
            </a:custGeom>
            <a:noFill/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6880" y="3352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rgebnis incl. An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90560" y="396252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65760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52680"/>
            <a:ext cx="1904760" cy="0"/>
          </a:xfrm>
          <a:prstGeom prst="line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65760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5181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ktu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486400" y="3276720"/>
            <a:ext cx="205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286000"/>
            <a:ext cx="36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üfauftrag anle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tikett aus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8288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ptauftragnehmer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50120" y="3336840"/>
            <a:ext cx="197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W-ATS-PC / 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LW.02000464 /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0001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2760" y="464832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ilauftragsla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5029200"/>
            <a:ext cx="36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neingang registr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1371600"/>
            <a:ext cx="61722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ie Arbeit mit eLab im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209680"/>
            <a:ext cx="75438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angs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lauf Auftragsabwicklung im Labor mit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eigabeanaly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usverfol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 in 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1143000"/>
            <a:ext cx="8461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uftrag validieren, abschließen und abrechn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440" y="194616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e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0840" y="263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6320" y="2403360"/>
            <a:ext cx="64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rfassung jedes Merkmals wird überprü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eintrag löst Kostenmeldung an CS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aufträge werden einzeln abgeschlo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ine Validierung jedes Prüfw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fakturieren“ schließt diesen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44956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P-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5400" y="4952880"/>
            <a:ext cx="52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r Prüfwert wird einzeln valid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setzung des „Vier-Augen-Prinzips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blauf / Auftragsabwicklung Sonderprob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14400" y="1447920"/>
          <a:ext cx="731520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Prüfberichte / Befunde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66560" y="1752480"/>
            <a:ext cx="71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rksprüfzeugnis und Analysenzertifi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N 10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üfmerkmal / Prüfverfahren / Analysenergebnisse / Spezifik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rz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bellarische Ergebnisdarstel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 Texte: SAP-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be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gebundenes Word-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Probentab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uschaltbare Ergebnistab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0">
              <a:spcBef>
                <a:spcPts val="1250"/>
              </a:spcBef>
              <a:buNone/>
              <a:tabLst>
                <a:tab algn="l" pos="0"/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knüpfung mit Web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-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133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zsteigerung durch Vereinfach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uftragserfass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mmdaten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rechnungswes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richts-/Befundwesen, Ergebnisweiterleit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2200" y="990360"/>
            <a:ext cx="7242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 und Ziele für die Einführung vo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8240" y="144792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- never change a winning hors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89120" y="1066680"/>
          <a:ext cx="5764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1066680"/>
                    <a:ext cx="5764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Freigabeanalytik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523880"/>
            <a:ext cx="721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benah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auftragung Rohstoff-/Endproduktkontrollen durch Auftragge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beitsvorrat Probenah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enahmeprotokoll vor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ückstellmusterverwaltung nach der 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oder mehrere Prüfmerk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hält Spezifikationen, vom System geprü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in Prüfplan pro Prüf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lidierung Einzelprüfwerte / Prüfauftrag - Vier-Augen-Prin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dvalidierung und Freigabe Kundenauftr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reigabeentscheid B2B oder Prüf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828800"/>
            <a:ext cx="792468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undenauftr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FERENZ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nur als Kopiervorlage d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LEG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 wurde gesichert und wird noch weiterbearb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FRAG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der Kunde noch nicht beauftragt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EBO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n AS dem Kunden anbie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TEIL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von beiden Seiten verbindlichen Charakter h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ORN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trag, der abgesagt wur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INGA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destens eine Probe des Auftrages ist eingeg. und regis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UEFU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 mindestens einer Probe wurde mit Werterfassung begonn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RTI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ung abgeschlo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E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Proben endvalidiert (nur bei GMP, Valebene 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üfbericht freigeg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AKTURIE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Auftrag wurde abgeschlossen und eine Faktura erstel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ti in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-/Probenauf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r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ollständig geprüft und alle Werte validiert 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geschlo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Korrektur befindli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üfw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gele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einge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ert validie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nur bei GMP, Valebene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kip (Wert wurde nicht gemess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öschverme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Stammdaten für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geber (Kunden, Debitor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, Ansprech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material (SAP M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katalog (Leistungen, Merkmale, Methoden, Preis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lä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rkmale, Stammprüf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DIN, ISO, SOP, Hausmethode, LM usw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einh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cc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en, z. B. Labors, key account,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uftraggeberstammda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256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tamm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zentral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ebitor, Name + Anschrift usw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uchungskrei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ntierungsinformatio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mpfänger / Ansprech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262800">
              <a:spcBef>
                <a:spcPts val="1250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rden von ATS im SAP gepfleg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ordnung zum Debito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Name, Anrede, Tite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bteilung, Fun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ccff"/>
                </a:solidFill>
                <a:latin typeface="Arial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ommunikation (Tel., Fax, Mail)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057400"/>
            <a:ext cx="7315200" cy="373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   (z. B. Mikroskopi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20415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                  (Transmissionselektronenmikroskopi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2438280"/>
            <a:ext cx="6934320" cy="3124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242244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                        (EDX-Analyse am TEM, M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2819520"/>
            <a:ext cx="6553080" cy="2514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280368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prüfmerkmale                    (Elementvertei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3200400"/>
            <a:ext cx="6172200" cy="18288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320040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pfle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uordnung zu Produktfamilien und Produk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rkmal und Method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0" lang="en-US" sz="20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lt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hält alle Leistungen für Standard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katal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 Leistungen für einzelne Kund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ccff"/>
                </a:solidFill>
                <a:latin typeface="SAPDings"/>
                <a:ea typeface="SAPDings"/>
              </a:rPr>
              <a:t>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zifischer 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Stationen der LIMS - Entwickl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676520"/>
            <a:ext cx="2351160" cy="2181240"/>
            <a:chOff x="685800" y="1676520"/>
            <a:chExt cx="2351160" cy="2181240"/>
          </a:xfrm>
        </p:grpSpPr>
        <p:graphicFrame>
          <p:nvGraphicFramePr>
            <p:cNvPr id="123" name=""/>
            <p:cNvGraphicFramePr/>
            <p:nvPr/>
          </p:nvGraphicFramePr>
          <p:xfrm>
            <a:off x="685800" y="1676520"/>
            <a:ext cx="2351160" cy="21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76520"/>
                      <a:ext cx="235116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067040" y="21337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00400" y="18129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der Oberfläche / Hum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ando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16480" y="2451240"/>
            <a:ext cx="2350800" cy="2656440"/>
            <a:chOff x="3516480" y="2451240"/>
            <a:chExt cx="2350800" cy="2656440"/>
          </a:xfrm>
        </p:grpSpPr>
        <p:graphicFrame>
          <p:nvGraphicFramePr>
            <p:cNvPr id="129" name=""/>
            <p:cNvGraphicFramePr/>
            <p:nvPr/>
          </p:nvGraphicFramePr>
          <p:xfrm>
            <a:off x="3516480" y="2451240"/>
            <a:ext cx="2350800" cy="21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245124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3821040" y="272736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nsak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ingabe ___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8760" y="47088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nü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48520" y="3505320"/>
            <a:ext cx="2361960" cy="2640240"/>
            <a:chOff x="6248520" y="3505320"/>
            <a:chExt cx="2361960" cy="2640240"/>
          </a:xfrm>
        </p:grpSpPr>
        <p:graphicFrame>
          <p:nvGraphicFramePr>
            <p:cNvPr id="134" name=""/>
            <p:cNvGraphicFramePr/>
            <p:nvPr/>
          </p:nvGraphicFramePr>
          <p:xfrm>
            <a:off x="6259680" y="3505320"/>
            <a:ext cx="2350800" cy="2181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59680" y="3505320"/>
                      <a:ext cx="235080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640560" y="3781440"/>
              <a:ext cx="1131840" cy="580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inga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4320" y="4251240"/>
              <a:ext cx="1447560" cy="8240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enster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usgabe xxx</a:t>
              </a:r>
              <a:br>
                <a:rPr sz="1600"/>
              </a:b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ingabe 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48520" y="574668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nster-Techni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769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Einige Features wurden nicht behandelt...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ellmusterverwaltung / Stabilitäts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 tei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risierungen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xtraktion (z.B. in EXCEL) für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z.B. Trendanalysen, Regelkar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0920" y="17524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erfüllt Anforderungen der Labors an modernes LIM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Funktionen, Oberfläch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lektronisches System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ab ist in der Lage, sehr unterschiedliche Aufträge und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en Anforderungen abzudecken (Forschungsprobe, GM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Integration in SA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efinition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590920"/>
            <a:ext cx="2895840" cy="1752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ordaten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3581280"/>
            <a:ext cx="297180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523880"/>
            <a:ext cx="3048120" cy="1828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581280"/>
            <a:ext cx="3048120" cy="1752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600200"/>
            <a:ext cx="2971800" cy="17524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tützung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blä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962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au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8892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ßdaten-verarbeitung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ätesteu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148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on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Funktionen eines LIM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32004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641680"/>
            <a:ext cx="3200400" cy="3022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Ausführung Analy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öffentli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057400"/>
            <a:ext cx="32004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pheriefun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666880"/>
            <a:ext cx="3200400" cy="34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rech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mittelverwal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M-Doku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ätean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kalien / Rückstellm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, Regelk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8232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ie Analytisch Technischen Services</a:t>
            </a:r>
            <a:br>
              <a:rPr sz="2400"/>
            </a:b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an den Standorten 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0 Labor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den Schwerpunkt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organische Stoff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analytik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ochemie / Spezielle F + 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37800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200 Mitarbeiter in den analytischen Labor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hrzahl der Mitarbeiter arbeitet direkt im LIM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Analytik an den Standorten </a:t>
            </a:r>
            <a:br>
              <a:rPr sz="2400"/>
            </a:b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arl und Wolfg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977840"/>
            <a:ext cx="7620120" cy="34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ährliches Probenvolumen ca. 12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80000 Marl / 40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37000 Aufträge mit entsprechender Anzah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funde / Prüfberichte (25000 Marl / 12000 Wolfga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a. 1.000 Leistungen an jedem Stand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08:40:23Z</dcterms:created>
  <dc:creator>Birgit Schneevogl</dc:creator>
  <dc:description>PowerPoint97
Infracor GmbH, IN-PK-KC-KOM, Ellen Weber
18.01.2001</dc:description>
  <dc:language>en-US</dc:language>
  <cp:lastModifiedBy>Dr. Jochen Winkler</cp:lastModifiedBy>
  <cp:lastPrinted>2002-08-26T15:13:20Z</cp:lastPrinted>
  <dcterms:modified xsi:type="dcterms:W3CDTF">2002-11-06T23:08:35Z</dcterms:modified>
  <cp:revision>86</cp:revision>
  <dc:subject/>
  <dc:title>Die Arbeit mit elab im Labor</dc:title>
</cp:coreProperties>
</file>