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gif" ContentType="image/gif"/>
  <Override PartName="/ppt/media/image3.png" ContentType="image/png"/>
  <Override PartName="/ppt/media/image4.wmf" ContentType="image/x-wmf"/>
  <Override PartName="/ppt/media/image5.wmf" ContentType="image/x-wmf"/>
  <Override PartName="/ppt/media/image10.png" ContentType="image/png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777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0461A-3451-4B2E-B39C-181835F89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3E06D-EF14-4562-9763-A5B2837B2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14616-2680-41EC-8672-818524034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C1E0F-FAE0-4A34-B436-12D247A97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11163-E5B1-4930-A914-68D465A8D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7CF12-BF83-45A5-80D6-E00C01695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EC54A-A89B-4D2C-8E84-98890E4C6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4143B-218A-4A59-B78A-A71489E8A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38428-D8BF-438E-B1B5-4DEFDBB8A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685800" y="130320"/>
            <a:ext cx="7772400" cy="97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8ECE5-2176-4560-B1EF-68373BB17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139BC-B5B1-4CE7-B636-6681EB221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22D3E-64CA-4A50-9382-F568253A8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8658E-11DB-4F04-BABE-52E75F20E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C56FC-6420-4C2A-A121-1D5433194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0027E-3EA5-4CF2-96A7-70AED2899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A8131-1267-42F1-B201-C7F2CA544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DB94A-946D-4F41-890C-CCE4993D6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BD8B7-2F0E-496C-96DB-A1B3463D6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A8B17-415E-44E9-9F6A-56FCA8CF1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FAD73-A068-4B34-8B9A-F84D6FB4C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130320"/>
            <a:ext cx="7772400" cy="97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055D3-47F3-46C5-97D0-B5EC35301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2149B-D36C-4419-9E11-030F43405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17618-C035-418F-BDF3-11D743295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7F30D-5487-4D58-B40A-991BAD086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74A1C-9C42-49EF-B3A0-72ABA535CE33}" type="slidenum">
              <a:rPr b="0" lang="de-D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9" name="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B83BB-C5AB-4C96-8300-01610A8D18C4}" type="slidenum">
              <a:rPr b="0" lang="de-D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328680"/>
            <a:ext cx="8534160" cy="27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ffcc00"/>
                </a:solidFill>
                <a:latin typeface="Arial"/>
              </a:rPr>
              <a:t>EDV-System zur beleglosen Anforderung –</a:t>
            </a:r>
            <a:br>
              <a:rPr sz="4400"/>
            </a:br>
            <a:r>
              <a:rPr b="1" lang="de-DE" sz="4400" spc="-1" strike="noStrike">
                <a:solidFill>
                  <a:srgbClr val="ffcc00"/>
                </a:solidFill>
                <a:latin typeface="Arial"/>
              </a:rPr>
              <a:t> </a:t>
            </a:r>
            <a:br>
              <a:rPr sz="4400"/>
            </a:br>
            <a:r>
              <a:rPr b="1" lang="de-DE" sz="4400" spc="-1" strike="noStrike">
                <a:solidFill>
                  <a:srgbClr val="ffcc00"/>
                </a:solidFill>
                <a:latin typeface="Arial"/>
              </a:rPr>
              <a:t>„Mainzer Specials“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3657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r. Annette Sattl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otheke des Klinikums der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ohannes Gutenberg-Universität Mainz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ünchen, den 08.06.20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Sonderanforderung/Sonderbestellung: Kommentare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76320" y="1700280"/>
          <a:ext cx="9029520" cy="3903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1700280"/>
                    <a:ext cx="9029520" cy="390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1" name=""/>
          <p:cNvSpPr/>
          <p:nvPr/>
        </p:nvSpPr>
        <p:spPr>
          <a:xfrm>
            <a:off x="457200" y="6308640"/>
            <a:ext cx="80931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ffcc00"/>
                </a:solidFill>
                <a:latin typeface="Arial"/>
              </a:rPr>
              <a:t>Dr. A. Sattler: „Mainzer Specials“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Von der ärztlichen Verordnung bis zum Kommissionierautomaten –</a:t>
            </a: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Visionen zur beleglosen Anforderung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"/>
          <p:cNvSpPr/>
          <p:nvPr/>
        </p:nvSpPr>
        <p:spPr>
          <a:xfrm>
            <a:off x="457200" y="6308640"/>
            <a:ext cx="80931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Dr. A. Sattler: „Mainzer Visionen“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Vom Patientenbett zur Apotheke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Ärztliche Verordnu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2663a0"/>
              </a:buClr>
              <a:buSzPct val="60000"/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AML? BTM? OA-pflichtig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Überprüfung Bestand auf S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2663a0"/>
              </a:buClr>
              <a:buSzPct val="60000"/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Bereitstellen oder anfordern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forderung an Apothek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514600" y="2438280"/>
            <a:ext cx="0" cy="106704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514600" y="4267080"/>
            <a:ext cx="0" cy="106704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" y="6308640"/>
            <a:ext cx="80931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Dr. A. Sattler: „Mainzer Visionen“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Überlegung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DV-gestützt: Ärztliche Anordnung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pothekenanforderu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tientendaten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bisherige Anordnun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zneimittelliste + bekannte OA-pflichtige A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reits für andere Patienten angeordnete A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reits zur Anforderung erfasste A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>
              <a:spcBef>
                <a:spcPts val="2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line-Übertragung in elektronische Patientenak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57200" y="6308640"/>
            <a:ext cx="80931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Dr. A. Sattler: „Mainzer Visionen“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Ausstattung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Programmierbare Handgerä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Tastatur zum Erfassen der Verordnu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Scanner zum Erfassen der Anforderung für Stationsvorr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Anbindung an alle relevanten Daten aus SAP inkl. Add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Funknetz ? </a:t>
            </a:r>
            <a:r>
              <a:rPr b="0" lang="de-DE" sz="28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 stets aktuelle Dat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Docking-Station ? </a:t>
            </a:r>
            <a:r>
              <a:rPr b="0" lang="de-DE" sz="28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 technisch „sicherer“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57200" y="6324480"/>
            <a:ext cx="80931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Dr. A. Sattler: „Mainzer Visionen“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ffcc00"/>
                </a:solidFill>
                <a:latin typeface="Arial"/>
              </a:rPr>
              <a:t>Zytostatikaherstellung –</a:t>
            </a:r>
            <a:br>
              <a:rPr sz="4400"/>
            </a:br>
            <a:br>
              <a:rPr sz="4400"/>
            </a:br>
            <a:r>
              <a:rPr b="1" lang="de-DE" sz="4400" spc="-1" strike="noStrike">
                <a:solidFill>
                  <a:srgbClr val="ffcc00"/>
                </a:solidFill>
                <a:latin typeface="Arial"/>
              </a:rPr>
              <a:t>was bietet jwChemotherapie, </a:t>
            </a:r>
            <a:br>
              <a:rPr sz="4400"/>
            </a:br>
            <a:r>
              <a:rPr b="1" lang="de-DE" sz="4400" spc="-1" strike="noStrike">
                <a:solidFill>
                  <a:srgbClr val="ffcc00"/>
                </a:solidFill>
                <a:latin typeface="Arial"/>
              </a:rPr>
              <a:t>was andere nicht bieten?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6" name=""/>
          <p:cNvSpPr/>
          <p:nvPr/>
        </p:nvSpPr>
        <p:spPr>
          <a:xfrm>
            <a:off x="457200" y="6308640"/>
            <a:ext cx="80931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ffcc00"/>
                </a:solidFill>
                <a:latin typeface="Arial"/>
              </a:rPr>
              <a:t>Dr. A. Sattler: jwChemotherapi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Auf den ersten Blick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EDV-gestützte Erfassung v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Therapieschema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Patientendat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Zytostatikaverordung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Zytostatikaherstellu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Stationsabrechnu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... „das Übliche“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57200" y="6308640"/>
            <a:ext cx="80931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ffcc00"/>
                </a:solidFill>
                <a:latin typeface="Arial"/>
              </a:rPr>
              <a:t>Dr. A. Sattler: jwChemotherapi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464760"/>
            <a:ext cx="7772400" cy="754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Therapieschemata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1" name=""/>
          <p:cNvSpPr/>
          <p:nvPr/>
        </p:nvSpPr>
        <p:spPr>
          <a:xfrm>
            <a:off x="457200" y="6308640"/>
            <a:ext cx="80931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ffcc00"/>
                </a:solidFill>
                <a:latin typeface="Arial"/>
              </a:rPr>
              <a:t>Dr. A. Sattler: jwChemotherapi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544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464760"/>
            <a:ext cx="7772400" cy="754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Therapieschemata modifizieren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4" name=""/>
          <p:cNvSpPr/>
          <p:nvPr/>
        </p:nvSpPr>
        <p:spPr>
          <a:xfrm>
            <a:off x="457200" y="6308640"/>
            <a:ext cx="80931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ffcc00"/>
                </a:solidFill>
                <a:latin typeface="Arial"/>
              </a:rPr>
              <a:t>Dr. A. Sattler: jwChemotherapi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0" y="1754280"/>
            <a:ext cx="9144000" cy="39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464760"/>
            <a:ext cx="7772400" cy="754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Patientendaten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" y="6308640"/>
            <a:ext cx="80931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ffcc00"/>
                </a:solidFill>
                <a:latin typeface="Arial"/>
              </a:rPr>
              <a:t>Dr. A. Sattler: jwChemotherapi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990720" y="1092240"/>
            <a:ext cx="7238880" cy="58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Organisatorische Vorgaben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Apotheke: mehrere kommissionierende Untereinheit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Arzneimittelausgab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Medizinprodukteausgab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Infusions- und Desinfektionsmittelausgab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Laborversorgu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Klinikum in Pavillon-Bauwei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Belieferung nach Fahrplan durch Hol- und Bringedienst der Apothek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57200" y="6308640"/>
            <a:ext cx="80931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ffcc00"/>
                </a:solidFill>
                <a:latin typeface="Arial"/>
              </a:rPr>
              <a:t>Dr. A. Sattler: „Mainzer Specials“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464760"/>
            <a:ext cx="7772400" cy="754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Verordnung erfassen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0" name=""/>
          <p:cNvSpPr/>
          <p:nvPr/>
        </p:nvSpPr>
        <p:spPr>
          <a:xfrm>
            <a:off x="457200" y="6308640"/>
            <a:ext cx="80931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ffcc00"/>
                </a:solidFill>
                <a:latin typeface="Arial"/>
              </a:rPr>
              <a:t>Dr. A. Sattler: jwChemotherapi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838080" y="1219320"/>
            <a:ext cx="7315200" cy="639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464760"/>
            <a:ext cx="7772400" cy="754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Verordnung anzeigen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3" name=""/>
          <p:cNvSpPr/>
          <p:nvPr/>
        </p:nvSpPr>
        <p:spPr>
          <a:xfrm>
            <a:off x="457200" y="6308640"/>
            <a:ext cx="80931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ffcc00"/>
                </a:solidFill>
                <a:latin typeface="Arial"/>
              </a:rPr>
              <a:t>Dr. A. Sattler: jwChemotherapi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0" y="1523880"/>
            <a:ext cx="9906120" cy="70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464760"/>
            <a:ext cx="7772400" cy="754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Verordnung modifizieren I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6" name=""/>
          <p:cNvSpPr/>
          <p:nvPr/>
        </p:nvSpPr>
        <p:spPr>
          <a:xfrm>
            <a:off x="457200" y="6308640"/>
            <a:ext cx="80931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ffcc00"/>
                </a:solidFill>
                <a:latin typeface="Arial"/>
              </a:rPr>
              <a:t>Dr. A. Sattler: jwChemotherapi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0" y="1252440"/>
            <a:ext cx="9144000" cy="557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464760"/>
            <a:ext cx="7772400" cy="754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Verordnung modifizieren II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" y="6308640"/>
            <a:ext cx="80931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ffcc00"/>
                </a:solidFill>
                <a:latin typeface="Arial"/>
              </a:rPr>
              <a:t>Dr. A. Sattler: jwChemotherapi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0" y="1225440"/>
            <a:ext cx="914400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Beim näheren Hinsehen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Online-Zugriff auf SAP-Date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Patienten-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Materialwirtschaf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Finanzbuchhaltu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85000"/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Keine doppelte Datenpfle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85000"/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Keine Fehlermappen bei Datenübergab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Zubereitungs-ID auch als Barc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85000"/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Dokumentation der Applikation durch Abscannen auf Station möglich </a:t>
            </a:r>
            <a:r>
              <a:rPr b="0" lang="de-DE" sz="24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online-Dokument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57200" y="6308640"/>
            <a:ext cx="80931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ffcc00"/>
                </a:solidFill>
                <a:latin typeface="Arial"/>
              </a:rPr>
              <a:t>Dr. A. Sattler: jwChemotherapi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273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... und was haben wir davon?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3048120"/>
            <a:ext cx="7772400" cy="304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beiten „in SAP“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i Bedarf Anpassung an individuelle Gegebenheit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ederzeit Weiterentwicklungen mögli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57200" y="6308640"/>
            <a:ext cx="80931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Dr. A. Sattler: Quintessen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Ausgangssituation: </a:t>
            </a:r>
            <a:br>
              <a:rPr sz="3600"/>
            </a:b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Anforderung auf Papier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049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EDV-erstellte Hitlisten pro Kostenstelle, zusätzliche Präparate händig ergänz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049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Transport der Anforderungen per Hol- und Bringedienst oder per Fa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049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Mehrere Formulare für Hauslisten-Produkte, Arztunterschrif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049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Formular für Sonderanforderungen, Oberarztunterschrif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57200" y="6308640"/>
            <a:ext cx="80931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ffcc00"/>
                </a:solidFill>
                <a:latin typeface="Arial"/>
              </a:rPr>
              <a:t>Dr. A. Sattler: „Mainzer Specials“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71320" y="609120"/>
            <a:ext cx="7962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Ausgangssituation:</a:t>
            </a:r>
            <a:br>
              <a:rPr sz="3600"/>
            </a:b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 EDV-technische Erfassung in der Apotheke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zneimittelanforderungen: Am Computer per Tastaturlesestift bzw. Matchcode, dann automatische Kommissionierung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nstige Anforderungen: Mit mobilen Datenerfassungsgeräten während der manuellen Kommissionieru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57200" y="6308640"/>
            <a:ext cx="80931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ffcc00"/>
                </a:solidFill>
                <a:latin typeface="Arial"/>
              </a:rPr>
              <a:t>Dr. A. Sattler: „Mainzer Specials“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ffcc00"/>
                </a:solidFill>
                <a:latin typeface="Arial"/>
              </a:rPr>
              <a:t>Vorgaben für jwConsulting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tion: SAPGU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rfassung: Handgerät oder am Compu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aotische Erfassung aller Listen-Präparate in einer Mask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f98d43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utomatische Sortierung nach Apotheken-Berei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zneimittel-Kommissionierung per Automat (auch bei Schalterabgab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57200" y="6308640"/>
            <a:ext cx="80931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ffcc00"/>
                </a:solidFill>
                <a:latin typeface="Arial"/>
              </a:rPr>
              <a:t>Dr. A. Sattler: „Mainzer Specials“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Herausforderungen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Erfassungsgerät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System-kompatibel, programmierb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„</a:t>
            </a: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Belegkennzeichen“ für jeden Apothekenberei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AML </a:t>
            </a:r>
            <a:r>
              <a:rPr b="1" lang="de-DE" sz="2800" spc="-1" strike="noStrike">
                <a:solidFill>
                  <a:srgbClr val="ffffff"/>
                </a:solidFill>
                <a:latin typeface="Symbol"/>
                <a:ea typeface="Symbol"/>
              </a:rPr>
              <a:t></a:t>
            </a:r>
            <a:r>
              <a:rPr b="1" lang="de-DE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OA-pflichtig </a:t>
            </a:r>
            <a:r>
              <a:rPr b="0" lang="de-DE" sz="2800" spc="-1" strike="noStrike">
                <a:solidFill>
                  <a:srgbClr val="ffffff"/>
                </a:solidFill>
                <a:latin typeface="Symbol"/>
                <a:ea typeface="Symbol"/>
              </a:rPr>
              <a:t></a:t>
            </a: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 „unbekannt“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Anbindung des Kommissionierautomate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Datenübergabe jw an Auto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Rückmeldung Automat an jw, Nachkommissionierlis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" y="6308640"/>
            <a:ext cx="80931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ffcc00"/>
                </a:solidFill>
                <a:latin typeface="Arial"/>
              </a:rPr>
              <a:t>Dr. A. Sattler: „Mainzer Specials“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Sonderanforderung/Sonderbestellung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76320" y="990720"/>
          <a:ext cx="9029520" cy="581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990720"/>
                    <a:ext cx="9029520" cy="581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69608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Sichtung in der Apotheke:</a:t>
            </a:r>
            <a:br>
              <a:rPr sz="3200"/>
            </a:b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Gesendete Anforderungen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38160" y="1928880"/>
          <a:ext cx="9105840" cy="410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160" y="1928880"/>
                    <a:ext cx="9105840" cy="41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3" name=""/>
          <p:cNvSpPr/>
          <p:nvPr/>
        </p:nvSpPr>
        <p:spPr>
          <a:xfrm>
            <a:off x="457200" y="6308640"/>
            <a:ext cx="80931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ffcc00"/>
                </a:solidFill>
                <a:latin typeface="Arial"/>
              </a:rPr>
              <a:t>Dr. A. Sattler: „Mainzer Specials“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Sonderanforderung/Sonderbestellung: Substitution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76320" y="1623960"/>
          <a:ext cx="9029520" cy="441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1623960"/>
                    <a:ext cx="9029520" cy="441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7" name=""/>
          <p:cNvSpPr/>
          <p:nvPr/>
        </p:nvSpPr>
        <p:spPr>
          <a:xfrm>
            <a:off x="457200" y="6308640"/>
            <a:ext cx="80931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ffcc00"/>
                </a:solidFill>
                <a:latin typeface="Arial"/>
              </a:rPr>
              <a:t>Dr. A. Sattler: „Mainzer Specials“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18T18:54:12Z</dcterms:created>
  <dc:creator>Bernd Sattler</dc:creator>
  <dc:description/>
  <dc:language>en-US</dc:language>
  <cp:lastModifiedBy>Dr. Jochen Winkler</cp:lastModifiedBy>
  <cp:lastPrinted>2001-06-22T21:44:38Z</cp:lastPrinted>
  <dcterms:modified xsi:type="dcterms:W3CDTF">2002-06-08T05:58:12Z</dcterms:modified>
  <cp:revision>20</cp:revision>
  <dc:subject/>
  <dc:title>Einführung eines EDV-Systems zur beleglosen Anforderung </dc:title>
</cp:coreProperties>
</file>