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wmf" ContentType="image/x-wmf"/>
  <Override PartName="/ppt/media/image10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10B-3CF8-478D-9C4A-05961437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93B-7D53-4302-891F-C83EB29A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AAA0-D3FC-4CEE-BBF0-65686AC5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FF4-9260-4A1D-9A28-4C335F3C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2A4F-AF67-49B2-B2D1-0C0E7575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D665-73A3-4A96-BB72-F95CACF7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C7AF-B2B2-4EC5-A682-F55B5ED1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1F40-C062-4606-BD9A-85DC9D76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FEFF-F4B0-4AD0-A403-273B480F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7808-CF7E-42A5-8D56-C1C7C3FC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B12E-D88A-4BA1-BD4F-422F8D42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695-AB20-45EF-B2E2-437FB1B7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DBA4-44B6-4618-AA2B-8631038A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B464-5BDC-47A6-82BE-0414164D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1391-DBB5-48FE-97FA-2916A7B8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192B-57BD-46AC-9ECB-F4A4251F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7BF8-0246-4259-AD7A-ACB7BD65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A4D-D13F-41AC-A5AB-26E5B18D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CAF-046F-4346-A57A-FF654E06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B7B-F7FA-429E-9780-7AEE33D3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A7E-66DD-464E-9963-8C97FFD7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5E03-43BE-4435-92B1-8189E488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B9C-09A4-4F18-906A-C1DC6545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1DE-3012-432B-B3FD-7C44FF29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FF39-0D68-4C73-862F-59A828BFB6DE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74ED-3704-47A2-9845-89E2DD82A467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28680"/>
            <a:ext cx="853416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00"/>
                </a:solidFill>
                <a:latin typeface="Arial"/>
              </a:rPr>
              <a:t>EDV-System zur beleglosen Anforderung –</a:t>
            </a:r>
            <a:br>
              <a:rPr sz="4400"/>
            </a:br>
            <a:r>
              <a:rPr b="1" lang="de-DE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1" lang="de-DE" sz="4400" spc="-1" strike="noStrike">
                <a:solidFill>
                  <a:srgbClr val="ffcc00"/>
                </a:solidFill>
                <a:latin typeface="Arial"/>
              </a:rPr>
              <a:t>„Mainzer Specials“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Annette Satt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theke des Klinikums d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annes Gutenberg-Universität Main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ünchen, den 08.06.2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onderanforderung/Sonderbestellung: Kommenta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320" y="1700280"/>
          <a:ext cx="9029520" cy="39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700280"/>
                    <a:ext cx="9029520" cy="39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„Mainzer Specials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on der ärztlichen Verordnung bis zum Kommissionierautomaten –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isionen zur beleglosen Anforderu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r. A. Sattler: „Mainzer Visionen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Vom Patientenbett zur Apothek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Ärztliche Verordn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663a0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ML? BTM? OA-pflichti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Überprüfung Bestand auf S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663a0"/>
              </a:buClr>
              <a:buSzPct val="6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reitstellen oder anforder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forderung an Apothe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2438280"/>
            <a:ext cx="0" cy="1067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4267080"/>
            <a:ext cx="0" cy="10670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r. A. Sattler: „Mainzer Visionen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Überlegung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V-gestützt: Ärztliche Anordnun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othekenanforder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endate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isherige Anordnu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zneimittelliste + bekannte OA-pflichtige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eits für andere Patienten angeordnete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eits zur Anforderung erfasste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-Übertragung in elektronische Patientenak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r. A. Sattler: „Mainzer Visionen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usstattung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ogrammierbare Handgerä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astatur zum Erfassen der Verordn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canner zum Erfassen der Anforderung für Stationsvorr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bindung an alle relevanten Daten aus SAP inkl. Add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unknetz ?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stets aktuelle D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ocking-Station ?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technisch „sicherer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632448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r. A. Sattler: „Mainzer Visionen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00"/>
                </a:solidFill>
                <a:latin typeface="Arial"/>
              </a:rPr>
              <a:t>Zytostatikaherstellung –</a:t>
            </a:r>
            <a:br>
              <a:rPr sz="4400"/>
            </a:br>
            <a:br>
              <a:rPr sz="4400"/>
            </a:br>
            <a:r>
              <a:rPr b="1" lang="de-DE" sz="4400" spc="-1" strike="noStrike">
                <a:solidFill>
                  <a:srgbClr val="ffcc00"/>
                </a:solidFill>
                <a:latin typeface="Arial"/>
              </a:rPr>
              <a:t>was bietet jwChemotherapie, </a:t>
            </a:r>
            <a:br>
              <a:rPr sz="4400"/>
            </a:br>
            <a:r>
              <a:rPr b="1" lang="de-DE" sz="4400" spc="-1" strike="noStrike">
                <a:solidFill>
                  <a:srgbClr val="ffcc00"/>
                </a:solidFill>
                <a:latin typeface="Arial"/>
              </a:rPr>
              <a:t>was andere nicht biete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uf den ersten Blick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DV-gestützte Erfassung v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apieschem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atientend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ytostatikaverordu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ytostatikaherstell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ationsabrechn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... „das Übliche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herapieschemat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herapieschemata modifiziere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1754280"/>
            <a:ext cx="914400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atientendate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90720" y="1092240"/>
            <a:ext cx="723888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rganisatorische Vorgabe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potheke: mehrere kommissionierende Untereinhe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rzneimittelausga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izinprodukteausga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fusions- und Desinfektionsmittelausga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borversorg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linikum in Pavillon-Bauwe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lieferung nach Fahrplan durch Hol- und Bringedienst der Apothe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„Mainzer Specials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Verordnung erfasse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1520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Verordnung anzeige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906120" cy="70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Verordnung modifizieren I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252440"/>
            <a:ext cx="914400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Verordnung modifizieren II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225440"/>
            <a:ext cx="91440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eim näheren Hinsehe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line-Zugriff auf SAP-Dat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atienten-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aterialwirtsch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inanzbuchhalt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eine doppelte Datenpf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eine Fehlermappen bei Datenüberga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bereitungs-ID auch als Bar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okumentation der Applikation durch Abscannen auf Station möglich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online-Dok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jwChemothera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... und was haben wir davo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beiten „in SAP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 Bedarf Anpassung an individuelle Gegebenhe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derzeit Weiterentwicklungen mögl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r. A. Sattler: Quintessen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usgangssituation: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nforderung auf Papier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DV-erstellte Hitlisten pro Kostenstelle, zusätzliche Präparate händig ergänz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ransport der Anforderungen per Hol- und Bringedienst oder per F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hrere Formulare für Hauslisten-Produkte, Arztunterschr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ormular für Sonderanforderungen, Oberarztunterschr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„Mainzer Specials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1320" y="6091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usgangssituation: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EDV-technische Erfassung in der Apothek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zneimittelanforderungen: Am Computer per Tastaturlesestift bzw. Matchcode, dann automatische Kommissionieru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stige Anforderungen: Mit mobilen Datenerfassungsgeräten während der manuellen Kommissionier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„Mainzer Specials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00"/>
                </a:solidFill>
                <a:latin typeface="Arial"/>
              </a:rPr>
              <a:t>Vorgaben für jwConsulting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on: SAP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fassung: Handgerät oder am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otische Erfassung aller Listen-Präparate in einer Mas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sche Sortierung nach Apotheken-Bere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zneimittel-Kommissionierung per Automat (auch bei Schalterabgab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„Mainzer Specials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erausforderunge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Erfassungsgerä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ystem-kompatibel, programmier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legkennzeichen“ für jeden Apothekenbere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ML </a:t>
            </a:r>
            <a:r>
              <a:rPr b="1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A-pflichtig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„unbekannt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nbindung des Kommissionierautomat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atenübergabe jw an Auto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ückmeldung Automat an jw, Nachkommissionierli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„Mainzer Specials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onderanforderung/Sonderbestellu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320" y="990720"/>
          <a:ext cx="9029520" cy="58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990720"/>
                    <a:ext cx="902952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69608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ichtung in der Apotheke: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esendete Anforderung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160" y="1928880"/>
          <a:ext cx="910584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1928880"/>
                    <a:ext cx="910584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„Mainzer Specials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onderanforderung/Sonderbestellung: Substitu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6320" y="1623960"/>
          <a:ext cx="902952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623960"/>
                    <a:ext cx="902952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57200" y="6308640"/>
            <a:ext cx="8093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Dr. A. Sattler: „Mainzer Specials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18:54:12Z</dcterms:created>
  <dc:creator>Bernd Sattler</dc:creator>
  <dc:description/>
  <dc:language>en-US</dc:language>
  <cp:lastModifiedBy>Dr. Jochen Winkler</cp:lastModifiedBy>
  <cp:lastPrinted>2001-06-22T21:44:38Z</cp:lastPrinted>
  <dcterms:modified xsi:type="dcterms:W3CDTF">2002-06-08T05:58:12Z</dcterms:modified>
  <cp:revision>20</cp:revision>
  <dc:subject/>
  <dc:title>Einführung eines EDV-Systems zur beleglosen Anforderung </dc:title>
</cp:coreProperties>
</file>