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190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6389B1A4-EDA9-4802-AF15-990BB6BE127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420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.06.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86600"/>
            <a:ext cx="33210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52880" y="71010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blick 200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ünchen, den 08.06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e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rategie von mySAP.co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Infra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AP Web Application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change Infrast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Portal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rowsergestütz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nowledge Management, Unification Server, Portal Server, LDAP, SAP Integ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-Sign-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P Web Application Ser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ava (J2EE) &amp; ABA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plikationen (z.B. SCM, CRM,...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xchange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-Busi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Vorhandene 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Geplante 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Techn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tz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ersparnis auf der Station, in der Apotheke, in der Wirtschaftsabteilung und im Labor bei der Auftragserfas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he Akzepta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ringer Schulungs- und Wartungsaufw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e betriebswirtschaftliche und logistische Einbindung in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atz modernster Techn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ze Amortisationszeit  durch Nutzung bestehender Add-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blick 200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ünchen, den 08.06.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handene 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Geplante 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Techn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handene Lös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onsanforderung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ür Arzneimittel und Materiali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bbrows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APgu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ch patientenindividuelle Anforderung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leiche Masken für Apotheke und Wirtschaftsabtei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othe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BD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cht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ission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oboteranbind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slief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genher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hemotherap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64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6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handene Lösungen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othek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haltung Transfusionsgeset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atientenbezogene Kostenerfass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eferapothek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ersonalverkau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stellungen beim Hersteller über X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pplung fremde Häuser über X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bereitstellung für Krankenhausforschung u.v.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irtschaftsabteil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odul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entrallag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mmission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ersandsteuerung u.v.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Vorhandene 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plante 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Techn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plante Lös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irtschaftsabteilung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nstleistungsanforderungen (Reparature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inkau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okumenten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ugriff auf alle Klinikdokumente über den Webbrows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liniklab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tragserfass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benflu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alyti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chn. und med.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fundgenerier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eistungsabrechnung (intern, exter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Vorhandene 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Geplante 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Nutz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bbrowser auf St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ernet Explorer 5.5 aufwä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indows 2000 / XP oder Linu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racle oder MySQL oder and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HP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SS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AP Kopp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redundanz (bei R/3 Ausfal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AP R/3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bserver Kopp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jwAdd-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räte-Onl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tenredundanz bei Webserver  Ausfa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e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en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efunde u.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nabhängiger Zugriff von R/3 und vom Web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 Kopplun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atientenverwaltung (Non R/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atalo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S Office u.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terne Kopplung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/3 Business Connector (Lieferanten, Kunde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00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2-05-22T19:55:29Z</dcterms:modified>
  <cp:revision>679</cp:revision>
  <dc:subject/>
  <dc:title>Kein Folientitel</dc:title>
</cp:coreProperties>
</file>