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0F0E233-5197-4561-84C1-8D9E128DAE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.06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blick 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ünchen, den 08.06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rategie von mySAP.c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Infr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P Web Application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change Infrast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rtal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owsergestütz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nowledge Management, Unification Server, Portal Server, LDAP, SAP Integ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P Web Application 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va (J2EE) &amp; AB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kationen (z.B. SCM, CRM,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change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Busi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rsparnis auf der Station, in der Apotheke, in der Wirtschaftsabteilung und im Labor bei der Auftragserfas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he Akzept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inger Schulungs- und Wart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 betriebswirtschaftliche und logistische Einbindung i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 modernster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e Amortisationszeit  durch Nutzung bestehender Add-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blick 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ünchen, den 08.06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handene Lös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onsanforderung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ür Arzneimittel und 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ch patientenindividuelle Anforder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leiche Masken für Apotheke und Wirtschaftsabtei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othe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is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oboteranbin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her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handene Lösunge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haltung Transfusionsgeset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bezogene Kostenerfass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pothek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rsonalverkau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en beim Hersteller über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pplung fremde Häuser über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ereitstellung für Krankenhausforschung u.v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ntralla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is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andsteuerung u.v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plante Lös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tschaftsabteilung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nstleistungsanforderungen (Reparatur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kau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griff auf alle Klinikdokumente über den Webbrow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inik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tragserfass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enflu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aly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chn. und med.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fundgener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stungsabrechnung (intern, exte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Nut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browser auf S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 Explorer 5.5 aufwä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dows 2000 / XP oder Lin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acle oder MySQL oder and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HP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S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P Kopp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redundanz (bei R/3 Ausfal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bserver Kopp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wAdd-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räte-Onl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redundanz bei Webserver  Ausf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funde u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abhängiger Zugriff von R/3 und vom Web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verwaltung (Non R/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talo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S Office u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terne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/3 Business Connector (Lieferanten, Kund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2-05-22T19:55:29Z</dcterms:modified>
  <cp:revision>679</cp:revision>
  <dc:subject/>
  <dc:title>Kein Folientitel</dc:title>
</cp:coreProperties>
</file>