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26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9.png" ContentType="image/png"/>
  <Override PartName="/ppt/media/image2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25640" y="8600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84760" y="31680"/>
            <a:ext cx="17517600" cy="13639320"/>
            <a:chOff x="-8384760" y="31680"/>
            <a:chExt cx="17517600" cy="136393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84760" y="31680"/>
              <a:ext cx="16769520" cy="136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46" swAng="53967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46" swAng="5396746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SAP R/3 Add-ons für die</a:t>
            </a:r>
            <a:br>
              <a:rPr sz="3200"/>
            </a:b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Klinik-Apotheke</a:t>
            </a:r>
            <a:br>
              <a:rPr sz="3200"/>
            </a:b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consulting</a:t>
            </a: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ttp://www.jwconsulting.de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ünchen, den 13.4.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533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Logistik für externe Stationen </a:t>
            </a:r>
            <a:br>
              <a:rPr sz="32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 aus Sicht der fremden Häuser -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rfassung der Stationsanforderungen (Scannen PZ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utomatische Übergabe der Daten an die Lieferapotheke (ALE oder Interne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nlegen Bestellanforde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areneingang von Lieferapothe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Übernahme Lieferdaten mit Chargen / Haltbarkeit (ALE oder Interne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echnungseingang (Monatsen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Übernahme Rechnungsdaten (ALE oder Interne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etoure (analo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720" y="6521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533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Logistik für externe Stationen </a:t>
            </a:r>
            <a:br>
              <a:rPr sz="32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 aus Sicht der Lieferapotheke -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utomatische Übernahme der Bestelldaten (Station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(ALE oder Interne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nlegen SD-Auftra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ichtung durch Apothe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ommissionie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usliefe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Übergabe Lieferdaten mit Chargen / Haltbarkeit (ALE oder Interne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aktura (Monatsen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Übergabe Fakturadaten (ALE oder Interne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etoure (analo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720" y="6521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Weitere Logistik- Funktionen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estandsfüh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ewer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Lagerverwal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is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inkau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it / ohne Materialstamm (Sonderanforderu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echnungsprüf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vent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potheken- Repo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20" y="6521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Einkauf über Internet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estell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Liefersche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echn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inkaufskorb / Information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über Business Connector / XM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zum bzw. vom Pharmaliefera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720" y="6521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SAP R/3 Module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880" y="6480000"/>
            <a:ext cx="104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odul MM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ür Materialwirtschaft (-IM, -PU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odul PI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ür Rezeptur, Defektur, Zytostat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odul SD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ür Lieferapothe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odul CO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ür Contro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odul FI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ür Rechnungswe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( Modul IS-H optional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Beispiele für Menüs und Screen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880" y="6480000"/>
            <a:ext cx="104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onsmen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Menü Apothekenlei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Menü Sachbearbeiter Apothe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Menü Eigen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Menü Chemotherap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0"/>
          <a:ext cx="914400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458200" cy="1447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ufgaben der Klinik - Apotheke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tationsanforder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2. Apotheken - Logist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3. Herstellung von Defekturen und Rezeptu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4. Herstellung von Zubereitungen für 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hemotherap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5. Belieferung fremder Hä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6. Integration in das Krankenh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20" y="6521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Beispiele für Menüs und Screen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80" y="6480000"/>
            <a:ext cx="104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Stationsmen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ü Apothekenlei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Menü Sachbearbeiter Apothe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Menü Eigen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Menü Chemotherap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458200" cy="1447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rämissen (1)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ollständige betriebswirtschaftliche Integ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0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 Rechnungswes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0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 Logisti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0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 Mediz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2. Umfassende Funktionalitä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0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 besser als herkömmliche Syste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3. Einfache Handhab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0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 Fachsprache, Personalisie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0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 Anwenderorientierte Menü- und Oberflächengestalt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0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 Rationalisierung bei der Erfassung auf Station (5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0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d  in Apotheke (8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20" y="6521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Beispiele für Menüs und Screen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880" y="6480000"/>
            <a:ext cx="104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Stationsmen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Menü Apothekenlei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ü Sachbearbeiter Apothe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Menü Eigen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Menü Chemotherap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Beispiele für Menüs und Screen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880" y="6480000"/>
            <a:ext cx="104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Stationsmen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Menü Apothekenlei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Menü Sachbearbeiter Apothe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ü Eigen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Menü Chemotherap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 flipH="1">
            <a:off x="-36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 flipH="1">
            <a:off x="-36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514600" y="0"/>
          <a:ext cx="46292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0"/>
                    <a:ext cx="462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Beispiele für Menüs und Screen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880" y="6480000"/>
            <a:ext cx="104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Stationsmen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Menü Apothekenlei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Menü Sachbearbeiter Apothe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Menü Eigen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ü Chemotherap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458200" cy="1447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rämissen (2)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4. Datenerfassung an der Qu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 Stationen (incl. Sonderanforderungen, Arztfreigab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 fremde Hä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5. Datenkonsistenz über alle Funktio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 nur eine Datenba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 keine bidirektionalen Kopplu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6. Vermeidung von Eingabefehle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 umfassende Eingabehilfen und -prüfu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7. Releasefähigkeit - keine Modifikationen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720" y="6521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533520" y="2666880"/>
            <a:ext cx="693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447920"/>
            <a:ext cx="5486400" cy="3809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1523880"/>
            <a:ext cx="5257800" cy="4305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Katharinenhospital - Apotheke Zentrale Zytostatikazubereitu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tation:</a:t>
            </a: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AAN                                 Patientennummer : 50000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Hund                    An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eburtsdatum: 12.06.1920            Therapieschema: CEMOTAB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KOF: 1,996m²       KGR: 180,0cm      KG: 80 k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chemadosis pro m² Körperoberfläche 100,00m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Etoposidphosphat 836mg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38,6ml Stammlösung/Fertiglösu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nfusion  NaCl  0,9%  25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rapietag: 03.02.2000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Haltbar bis: 04.02.200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emperatur: 2-8°C                       Raumbedingung: Lichtgeschütz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h-B: 000000000077                   Herst: Hb+Ri+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Zubereitungs ID: 000040000306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4038480"/>
            <a:ext cx="457200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560" y="682560"/>
            <a:ext cx="41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eispiel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ines Etiket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3352680"/>
            <a:ext cx="457200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3962520" y="4876920"/>
            <a:ext cx="1371600" cy="1904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SAP R/3 Add-ons für die</a:t>
            </a:r>
            <a:br>
              <a:rPr sz="3200"/>
            </a:b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Klinik-Apotheke</a:t>
            </a:r>
            <a:br>
              <a:rPr sz="3200"/>
            </a:b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consulting</a:t>
            </a: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ttp://www.jwconsulting.de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ünchen, den 13.4.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458200" cy="1447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rämissen (3)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8. Einhaltung des Transfusionsgesetz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29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 Chargenverfolgung, Patientenbind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9. Abbildung der Stationslagerbestä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29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 Verbrauchsbuchungen (sofort, verzögert, exa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29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 Vereinfachung der Stationsinvent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10. Abbildung Arzneimittelli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 Lauertaxe u.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11. Chargenverfolg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  streng oder nach FIFO (pro Arzneimitt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12. Apothekenspezifisches Repo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720" y="6521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534520" cy="5638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Im Winter 1998 / 99 gab es kein System, das den genannten Anforderungen auch nur annähernd entsprach !</a:t>
            </a:r>
            <a:br>
              <a:rPr sz="3200"/>
            </a:br>
            <a:br>
              <a:rPr sz="3200"/>
            </a:br>
            <a:r>
              <a:rPr b="1" lang="de-DE" sz="1800" spc="-1" strike="noStrike">
                <a:solidFill>
                  <a:srgbClr val="fafd00"/>
                </a:solidFill>
                <a:latin typeface="Arial"/>
              </a:rPr>
              <a:t>( Studie des Katharinenhospitals vom Dezember 1998 )</a:t>
            </a:r>
            <a:br>
              <a:rPr sz="3200"/>
            </a:br>
            <a:br>
              <a:rPr sz="3200"/>
            </a:br>
            <a:endParaRPr b="0" lang="en-US" sz="1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720" y="6521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533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Logistik für interne Stationen</a:t>
            </a:r>
            <a:br>
              <a:rPr sz="3200"/>
            </a:br>
            <a:r>
              <a:rPr b="1" lang="de-DE" sz="2000" spc="-1" strike="noStrike">
                <a:solidFill>
                  <a:srgbClr val="fafd00"/>
                </a:solidFill>
                <a:latin typeface="Arial"/>
              </a:rPr>
              <a:t>- Fremdarzneimittel, Defekturen -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rfassung der Stationsanforderungen (Scannen PZ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entsprechend Arzneimittellis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onderanforderungen (mit / ohne Materialstam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ichtung der Anforderungen durch Apothe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ommissionieru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uslieferung an Statio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bgabe an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eitergabe von Station an ander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ückgabe an Apothe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chalterabga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720" y="6521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610480" cy="533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Logistik für interne Stationen</a:t>
            </a:r>
            <a:br>
              <a:rPr sz="3200"/>
            </a:br>
            <a:r>
              <a:rPr b="1" lang="de-DE" sz="2000" spc="-1" strike="noStrike">
                <a:solidFill>
                  <a:srgbClr val="fafd00"/>
                </a:solidFill>
                <a:latin typeface="Arial"/>
              </a:rPr>
              <a:t>- Rezepturen -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rfassung  Sonderanforde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ichtung der Anforderungen durch Apothe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Übergabe des Auftrages an die Eigen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igen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ommissionie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uslieferung an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720" y="6521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610480" cy="533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Logistik für interne Stationen</a:t>
            </a:r>
            <a:br>
              <a:rPr sz="32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 Chemotherapie -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rfassung  Chemotherapie für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ichtung durch Apothe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Übergabe des Auftrages an die Eigen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igen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tammlös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ytostatika - Zubereitung für Pat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uslieferung an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fusion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trenge Chargenpflic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arc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20" y="6521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3:23:16Z</dcterms:created>
  <dc:creator>Dr. Winkler</dc:creator>
  <dc:description/>
  <dc:language>en-US</dc:language>
  <cp:lastModifiedBy>Dr.Jochen Winkler</cp:lastModifiedBy>
  <cp:lastPrinted>2000-03-06T19:52:43Z</cp:lastPrinted>
  <dcterms:modified xsi:type="dcterms:W3CDTF">2000-04-18T15:44:47Z</dcterms:modified>
  <cp:revision>276</cp:revision>
  <dc:subject/>
  <dc:title>Round table Wuppertal</dc:title>
</cp:coreProperties>
</file>