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72160" y="47520"/>
            <a:ext cx="17505000" cy="13614120"/>
            <a:chOff x="-8372160" y="47520"/>
            <a:chExt cx="17505000" cy="136141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72160" y="47520"/>
              <a:ext cx="16744320" cy="136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41" swAng="53967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41" swAng="5396741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Unternehmen im Wandel - </a:t>
            </a:r>
            <a:br>
              <a:rPr sz="4400"/>
            </a:b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und immer die passende </a:t>
            </a:r>
            <a:br>
              <a:rPr sz="4400"/>
            </a:b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R/3-Umgebung ?</a:t>
            </a:r>
            <a:br>
              <a:rPr sz="4400"/>
            </a:br>
            <a:br>
              <a:rPr sz="4400"/>
            </a:b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Dr. Jochen Winkler</a:t>
            </a:r>
            <a:br>
              <a:rPr sz="2400"/>
            </a:br>
            <a:r>
              <a:rPr b="1" lang="de-DE" sz="2000" spc="-1" strike="noStrike">
                <a:solidFill>
                  <a:srgbClr val="00ffff"/>
                </a:solidFill>
                <a:latin typeface="Arial Rounded MT Bold"/>
              </a:rPr>
              <a:t>http://www.jw-consulting.com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Frankfurt</a:t>
            </a:r>
            <a:br>
              <a:rPr sz="2400"/>
            </a:b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7. September 1999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19040" y="399960"/>
          <a:ext cx="127656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99960"/>
                    <a:ext cx="1276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Übergabe Lieferdaten an eine zentrale Transportdisposi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48960" indent="-282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Mater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48960" indent="-282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Debito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Bewegung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48960" indent="-282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Lieferung (Transportbedarfe-Transportdispositio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4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Papierschreibung Zoll /Gefahrgut /Ladepapie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48960" indent="-282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Warenausg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4. Zentrale Transportabwicklung</a:t>
            </a:r>
            <a:br>
              <a:rPr sz="4400"/>
            </a:br>
            <a:r>
              <a:rPr b="1" lang="en-US" sz="2800" spc="-1" strike="noStrike">
                <a:solidFill>
                  <a:srgbClr val="00ffff"/>
                </a:solidFill>
                <a:latin typeface="Arial Rounded MT Bold"/>
              </a:rPr>
              <a:t>- Kopplung TM/3 -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880" y="648000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Übergabe Lieferdaten direkt an Spediteur (ALE / ED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Transportdisposition und Papierschreibung erfolgt durch Spedit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Material (evtl. Stoffdat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Debito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Bewegung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Lief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5. Kopplung Spedition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880" y="648000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Zentrales EH&amp;S 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Datenbank und Preprozessor für Logistiksyst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(Zentrale Pflege - Dienstleistu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Entladung im Batch an dez. Syst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Dezentrale EH&amp;S fü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Logistik (Etikette, Transportpapiere, Auswertungen,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Stoff- und Sicherheitsda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6. Zentrales EH&amp;S -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Dezentrale EH&amp;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iehe Vortrag von Herrn Christian Ba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7. Zentrale Instandhaltung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066320" y="26665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Zentrale Bestandsinformation über techn.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zwecks Senkung der Bestä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Material klassifiziert (zentr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Material referenziert auf zentr. Matnummer (dezentr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Bewegung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Bestände (Werke, Lageror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8. Zentrale Bestandsinformation -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Technisches Material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880" y="648000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Zentrale Datenbank über Forschungsprojek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und über Literat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Merkmale, Schlagwörter, (Thesauru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Projekte (klassifizi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PSP Elemente (klassifizi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ewegung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Bewertete Merkmale, Schlagwörter der Projekte / PSP Ele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9. Zentrale Recherche -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 Forschung / Entwicklung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880" y="648000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Zentrales Rechnungswesen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Dezentrales Rechnungswesen (Schattenbuchhaltu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46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Zentr. / Dez. Kostenstellenrechn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46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Ko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46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Kostenstell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46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Material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46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Kreditoren, Debito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Bewegung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46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Salden, Einzelp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46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Ist- / Plan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46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CO PA Objek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10. Zentrales Rechnungswesen- </a:t>
            </a:r>
            <a:br>
              <a:rPr sz="4000"/>
            </a:b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Dezentrale Logistik (1)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880" y="648000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1142640" y="21333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Unterschiedliche Buchungskre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Konsolidi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9360" indent="-3693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Einheitlicher Buchungskr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Zentral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Dez. Logistiksyst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Unterschiedl. Geschäftsbereiche an einem Stand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9360" indent="-3693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Mehrere Buchungskre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Zentralsystem (Konsolidieru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Dez. Logistiksysteme (mit Bukr. Zugehörigkei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Untersch. Geschäftsbereiche an einem Stand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1447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10. Zentrales Rechnungswesen - </a:t>
            </a:r>
            <a:br>
              <a:rPr sz="4000"/>
            </a:b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Dezentrale Logistik (2)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880" y="648000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Globale Eb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BIW, (AP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tammdaten- u. Konsolidierungs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Regionale Eb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BIW, (AP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Regionales (z.B. Deutsches) Rechnungswe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Regionale Logisti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Standorteb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(Dezentrales / Schatten-) Rechnungswe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Logisti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Beachte: unterschiedliche GB auf einem Stand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11. Globale Struktur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880" y="648000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286000" y="23623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Stammdaten z.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Debitoren, Kredito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Mate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Kontrak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Steuerinforma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ewegung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Idente (1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880" y="648000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Agend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7816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81520" indent="-281520">
              <a:lnSpc>
                <a:spcPct val="100000"/>
              </a:lnSpc>
              <a:spcBef>
                <a:spcPts val="1037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Rounded MT Bold"/>
              </a:rPr>
              <a:t>Tr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100000"/>
              </a:lnSpc>
              <a:spcBef>
                <a:spcPts val="1037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Rounded MT Bold"/>
              </a:rPr>
              <a:t>Erfahr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100000"/>
              </a:lnSpc>
              <a:spcBef>
                <a:spcPts val="1037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Rounded MT Bold"/>
              </a:rPr>
              <a:t>Szenari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100000"/>
              </a:lnSpc>
              <a:spcBef>
                <a:spcPts val="1037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Rounded MT Bold"/>
              </a:rPr>
              <a:t>Id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4360" y="648648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523520" y="2362320"/>
            <a:ext cx="716292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ternstrukt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ein zentrales System, mehrere dezentrale SSyst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Baumstrukt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ein Zentralsystem, mehrere regionale und darunter mehrere Standortsyst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Netzstrukt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z.b. Kunden-Lieferantenbeziehu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Idente (2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1523520" y="21333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Gleiche Idente mit Master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1360" indent="-2653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Verteilung von Stamm- und Steuerda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1360" indent="-2653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für Stern- und Baumstrukturen geeig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Unterschiedliche Idente mit Master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1360" indent="-2653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Mappingtabelle,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1360" indent="-2653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für Sternstrukturen geeig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Unterschiedliche Idente ohne Master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1360" indent="-2653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Verteilung von Mappingtabellen,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1360" indent="-2653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besser: EAN / PZN, Betriebsnumm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1360" indent="-2653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für Netzstrukturen geeig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Idente (3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Unternehmen im Wandel - </a:t>
            </a:r>
            <a:br>
              <a:rPr sz="4400"/>
            </a:b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und immer die passende </a:t>
            </a:r>
            <a:br>
              <a:rPr sz="4400"/>
            </a:b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R/3-Umgebung ?</a:t>
            </a:r>
            <a:br>
              <a:rPr sz="4400"/>
            </a:br>
            <a:br>
              <a:rPr sz="4400"/>
            </a:b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Dr. Jochen Winkler</a:t>
            </a:r>
            <a:br>
              <a:rPr sz="2400"/>
            </a:br>
            <a:r>
              <a:rPr b="1" lang="de-DE" sz="2000" spc="-1" strike="noStrike">
                <a:solidFill>
                  <a:srgbClr val="00ffff"/>
                </a:solidFill>
                <a:latin typeface="Arial Rounded MT Bold"/>
              </a:rPr>
              <a:t>http://www.jw-consulting.com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Frankfurt</a:t>
            </a:r>
            <a:br>
              <a:rPr sz="2400"/>
            </a:b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7. September 1999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419040" y="399960"/>
          <a:ext cx="127656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99960"/>
                    <a:ext cx="1276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Trend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7816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1037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Rounded MT Bold"/>
              </a:rPr>
              <a:t>Strukturänderungen der Konzer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160" indent="-335160">
              <a:lnSpc>
                <a:spcPct val="100000"/>
              </a:lnSpc>
              <a:spcBef>
                <a:spcPts val="1037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Rounded MT Bold"/>
              </a:rPr>
              <a:t>Business über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160" indent="-335160">
              <a:lnSpc>
                <a:spcPct val="100000"/>
              </a:lnSpc>
              <a:spcBef>
                <a:spcPts val="1037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Rounded MT Bold"/>
              </a:rPr>
              <a:t>Globalisier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4360" y="648648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DSM GmbH, Gelsenkir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Wacker Chemie GmbH, Nünchr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Hüls Sivento Chemie GmbH, Rheinfel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Infracor GmbH, Ma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Katharinenhospital, Stuttg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Vinnolit GmbH, Mün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Hüls-Degussa AG (Creanova), Ma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Asta Medica, Radebe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Hüls-Degussa AG,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Erfahrungen</a:t>
            </a:r>
            <a:br>
              <a:rPr sz="4400"/>
            </a:br>
            <a:r>
              <a:rPr b="1" lang="en-US" sz="2400" spc="-1" strike="noStrike">
                <a:solidFill>
                  <a:srgbClr val="00ffff"/>
                </a:solidFill>
                <a:latin typeface="Arial Rounded MT Bold"/>
              </a:rPr>
              <a:t>- Auswahl -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880" y="648000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96520" y="865080"/>
            <a:ext cx="7862400" cy="820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ffff"/>
                </a:solidFill>
                <a:latin typeface="Arial Rounded MT Bold"/>
              </a:rPr>
              <a:t>SAP R/3-Systeme der Sivento Chemie Gmb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ff"/>
                </a:solidFill>
                <a:latin typeface="Arial Rounded MT Bold"/>
              </a:rPr>
              <a:t>an den Standorten Nünchritz und Rheinfel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02480" y="-12600"/>
            <a:ext cx="1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760" y="647388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80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81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87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93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99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105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11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17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29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35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41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47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53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59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65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71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77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83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90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96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07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13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23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39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afd00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afd00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afd00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65fb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3365fb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3365fb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65fb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3365fb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86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93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99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82080" y="3706920"/>
              <a:ext cx="9694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Investiton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09680" y="2216160"/>
              <a:ext cx="7102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52520" y="3044880"/>
              <a:ext cx="86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cc00"/>
                  </a:solidFill>
                  <a:latin typeface="Arial"/>
                </a:rPr>
                <a:t>Chem. Ind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30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74400" y="0"/>
            <a:ext cx="5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Szenari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Einka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Verka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Versand / Spe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Stoffdatenba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Instandhalt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Klassifizierung / Recher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Dezentrale Logist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Globale Strukt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037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037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54360" y="648648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Einkauf direkt (Druck, Fax, EDI) oder über Dienstleister (A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9360" indent="-3693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tammdaten (unterschiedl. Nummernkrei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Mate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Kred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Kontrak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9360" indent="-3693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Bewegungsdaten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Bestellanforderu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Bestellu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29880" indent="-276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Wareneingä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93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93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1. Zentraleinkauf</a:t>
            </a:r>
            <a:br>
              <a:rPr sz="4400"/>
            </a:br>
            <a:r>
              <a:rPr b="1" lang="de-DE" sz="36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r>
              <a:rPr b="1" lang="de-DE" sz="2800" spc="-1" strike="noStrike">
                <a:solidFill>
                  <a:srgbClr val="00ffff"/>
                </a:solidFill>
                <a:latin typeface="Arial Rounded MT Bold"/>
              </a:rPr>
              <a:t>( Sivento - Infracor )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Einkauf direkt beim Lieferanten (A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Material  (PZ Nummern - Preise / Kond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Liefera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Bewegung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Bestellu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(Liefersche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Rechn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2. Lieferantenkopplung</a:t>
            </a:r>
            <a:br>
              <a:rPr sz="4400"/>
            </a:br>
            <a:r>
              <a:rPr b="1" lang="de-DE" sz="2800" spc="-1" strike="noStrike">
                <a:solidFill>
                  <a:srgbClr val="00ffff"/>
                </a:solidFill>
                <a:latin typeface="Arial Rounded MT Bold"/>
              </a:rPr>
              <a:t>(Klinikapotheke - Pharmahersteller)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42640" y="12189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16080" indent="-3160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Zentrale Verkaufsorgan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600" indent="-236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mit eigenen (Normalbestellu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600" indent="-236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oder ohne eigene Waren (Streckenbestellu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600" indent="-236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Material (Preise - Kond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600" indent="-236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Deb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Bewegung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600" indent="-236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Auftrag / Anfrage an Verkau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600" indent="-236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Bestellung an Herste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600" indent="-236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Bestellbestätigung vom Herste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600" indent="-236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Auftragsbestätigung an Kun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600" indent="-236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Lieferavis vom Herste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600" indent="-236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Faktura vom Verkauf an Kun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600" indent="-236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Faktura vom Hersteller an Verkau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Rounded MT Bold"/>
              </a:rPr>
              <a:t>3. Zentralverkauf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880" y="6480000"/>
            <a:ext cx="104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Dr. Jochen Winkler</dc:creator>
  <dc:description/>
  <dc:language>en-US</dc:language>
  <cp:lastModifiedBy>Dr. Jochen Winkler</cp:lastModifiedBy>
  <cp:lastPrinted>1999-09-05T11:57:40Z</cp:lastPrinted>
  <dcterms:modified xsi:type="dcterms:W3CDTF">1999-09-09T18:33:42Z</dcterms:modified>
  <cp:revision>68</cp:revision>
  <dc:subject/>
  <dc:title>Konzerne im Wandel</dc:title>
</cp:coreProperties>
</file>