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griertes SAP R/3 LIM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forderungen an das SAP R/3 L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führung einiger Highligh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süm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sk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PZ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447920" y="4114800"/>
          <a:ext cx="761760" cy="1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4114800"/>
                    <a:ext cx="761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schungsprob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meld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planerstel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gabe der Rezept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tomatische Registrier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ßwerterfass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protok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114800" y="2017800"/>
          <a:ext cx="609480" cy="14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2017800"/>
                    <a:ext cx="60948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üfplanerstellun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zeptur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Werteerfassung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362320" y="1774800"/>
          <a:ext cx="8380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774800"/>
                    <a:ext cx="838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üfprotokol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flege der Stammda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7616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kt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nden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hrungs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kt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Spezifikation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209680" y="1523880"/>
          <a:ext cx="685800" cy="1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523880"/>
                    <a:ext cx="68580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143000" y="3200400"/>
          <a:ext cx="762120" cy="14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3200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143000" y="3886200"/>
          <a:ext cx="762120" cy="1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38862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143000" y="4114800"/>
          <a:ext cx="762120" cy="14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41148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143000" y="4343400"/>
          <a:ext cx="762120" cy="14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343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143000" y="3657600"/>
          <a:ext cx="762120" cy="14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36576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xgelb" descr=""/>
          <p:cNvPicPr/>
          <p:nvPr/>
        </p:nvPicPr>
        <p:blipFill>
          <a:blip r:embed="rId16"/>
          <a:stretch/>
        </p:blipFill>
        <p:spPr>
          <a:xfrm>
            <a:off x="1143000" y="3429000"/>
            <a:ext cx="762120" cy="1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Spezifikation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forderunge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das SAP R/3 LIM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reigabe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orschungs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remdmuster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nder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zeßbegleit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mwelt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Merkmal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fassende Such- und Auswertefunktionalitä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P- Graf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- Graf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- Dok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600200" y="1676520"/>
          <a:ext cx="628560" cy="15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676520"/>
                    <a:ext cx="62856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Xwgrahel" descr=""/>
          <p:cNvPicPr/>
          <p:nvPr/>
        </p:nvPicPr>
        <p:blipFill>
          <a:blip r:embed="rId4"/>
          <a:stretch/>
        </p:blipFill>
        <p:spPr>
          <a:xfrm>
            <a:off x="2971800" y="914400"/>
            <a:ext cx="685800" cy="21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Xweiss" descr=""/>
          <p:cNvPicPr/>
          <p:nvPr/>
        </p:nvPicPr>
        <p:blipFill>
          <a:blip r:embed="rId4"/>
          <a:stretch/>
        </p:blipFill>
        <p:spPr>
          <a:xfrm flipH="1" rot="10800000">
            <a:off x="3581280" y="914040"/>
            <a:ext cx="533520" cy="1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üme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9677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ternehmensweite Aufgabenabdeck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gonomische Bedien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O-Kompatibilitä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k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lle Integration in SAP R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gängig probenbezogene Prüf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mfassende Such- und Auswertefunk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terschiede und Neuer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nterlegen der Spezifikationen in eigenen Strukt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 Ku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 Produ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finition von Gültigkeitszeiträumen für 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pezifikationsfind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ilden von Erfahrungs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ilden von Prospekt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igabeprob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mel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gistri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ßwerterfass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zeugn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einer 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581280" y="2001960"/>
          <a:ext cx="685800" cy="18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2001960"/>
                    <a:ext cx="68580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gistrieren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657600" y="1766880"/>
          <a:ext cx="1066680" cy="15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1766880"/>
                    <a:ext cx="106668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gistrieren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362320" y="3505320"/>
          <a:ext cx="647640" cy="1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505320"/>
                    <a:ext cx="64764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Werteerfassung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62520" y="1770120"/>
          <a:ext cx="685800" cy="16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770120"/>
                    <a:ext cx="68580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üfprotokol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5800" y="6486480"/>
            <a:ext cx="100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809880" y="2057400"/>
          <a:ext cx="685800" cy="11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057400"/>
                    <a:ext cx="685800" cy="1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TM</dc:creator>
  <dc:description/>
  <dc:language>en-US</dc:language>
  <cp:lastModifiedBy>666</cp:lastModifiedBy>
  <cp:lastPrinted>1999-08-24T16:35:57Z</cp:lastPrinted>
  <dcterms:modified xsi:type="dcterms:W3CDTF">2000-05-02T17:08:34Z</dcterms:modified>
  <cp:revision>126</cp:revision>
  <dc:subject/>
  <dc:title>Intergriertes SAP R/3 LIMS</dc:title>
</cp:coreProperties>
</file>