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359560" y="63360"/>
            <a:ext cx="17492400" cy="13588920"/>
            <a:chOff x="-8359560" y="63360"/>
            <a:chExt cx="17492400" cy="1358892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359560" y="63360"/>
              <a:ext cx="16719120" cy="1358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0" y="0"/>
                  </a:moveTo>
                  <a:arcTo wR="10800" hR="10800" stAng="-5396736" swAng="539673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0" y="0"/>
                  </a:moveTo>
                  <a:arcTo wR="10800" hR="10800" stAng="-5396736" swAng="5396736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Kundeninformationsdatenbank</a:t>
            </a:r>
            <a:br>
              <a:rPr sz="4400"/>
            </a:br>
            <a:br>
              <a:rPr sz="4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http://www.jwconsulting.de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42900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9810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uppertal, den 28.3.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Ansprechpartner ändern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54000" y="6486480"/>
            <a:ext cx="1065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SAP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390840" y="1066680"/>
            <a:ext cx="5753160" cy="544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Firmenstruktur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54000" y="6486480"/>
            <a:ext cx="1065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SAP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dukt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54000" y="6486480"/>
            <a:ext cx="1065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SAP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dukt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54000" y="6486480"/>
            <a:ext cx="1065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SAP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ktivitäten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23520" y="18288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52560" y="6486480"/>
            <a:ext cx="921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Aktivitäten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54000" y="6486480"/>
            <a:ext cx="1065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SAP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828800" y="914400"/>
            <a:ext cx="6781680" cy="51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Kreditmanagemen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4000" y="6486480"/>
            <a:ext cx="1065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SAP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Dokumentenverwaltung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54000" y="6486480"/>
            <a:ext cx="1065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SAP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Dokumentenverwaltung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54000" y="6486480"/>
            <a:ext cx="1065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SAP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1676520" y="160020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esüme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96775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gepaßte Lösung für Marketing und Vertrie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rgonomische Bedien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mbination von Stammdaten und neuen Zusatzda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nzentration auf notwendige Informati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rweiterbarke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Volle Integration in SAP R/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52560" y="6486480"/>
            <a:ext cx="921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Kundeninformationsdatenbank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24379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forderungen an die Kundendatenban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Vorführung einiger Highligh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Resüm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sku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52560" y="6486480"/>
            <a:ext cx="921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Kundeninformationsdatenbank</a:t>
            </a:r>
            <a:br>
              <a:rPr sz="4400"/>
            </a:br>
            <a:br>
              <a:rPr sz="4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http://www.jwconsulting.de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42900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19810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uppertal, den 28.3.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Anforderungen an die Kundeninformationsdatenbank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440" y="24379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en über Kunden für den Innen- und Außendien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rstellung in kompakter und übersichtlicher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flege von Stammda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flege von Zusatzinformati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52560" y="6486480"/>
            <a:ext cx="921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Anforderungen an die Kundeninformationsdatenbank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24379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fassung von Interessent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mwandlung von Interessenten zu Kun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52560" y="6486480"/>
            <a:ext cx="921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52560" y="6486480"/>
            <a:ext cx="921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Einstiegsbild in KIDB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523520" y="19051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886200" y="2362320"/>
            <a:ext cx="3400560" cy="36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Überblick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52560" y="6486480"/>
            <a:ext cx="921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Übersicht und Kom.-daten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4920" y="20574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52560" y="6486480"/>
            <a:ext cx="921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2209680" y="2590920"/>
            <a:ext cx="561996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Ansprechpartner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54000" y="6486480"/>
            <a:ext cx="1065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SAP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Ansprechpartner ändern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54000" y="6486480"/>
            <a:ext cx="1065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SAP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1T16:24:12Z</dcterms:created>
  <dc:creator>TM</dc:creator>
  <dc:description/>
  <dc:language>en-US</dc:language>
  <cp:lastModifiedBy>Dr.Jochen Winkler</cp:lastModifiedBy>
  <cp:lastPrinted>2000-03-26T16:08:28Z</cp:lastPrinted>
  <dcterms:modified xsi:type="dcterms:W3CDTF">2000-03-30T17:18:58Z</dcterms:modified>
  <cp:revision>157</cp:revision>
  <dc:subject/>
  <dc:title>Intergriertes SAP R/3 LIMS</dc:title>
</cp:coreProperties>
</file>