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278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2D4F9-149D-406B-AE42-BBF0FE2D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33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3769920"/>
            <a:ext cx="8433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39A57-1A11-4EEE-9D63-37ACFC80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376992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1960" y="376992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00C7D-BDEF-4634-8BA3-456BC76E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1720" y="114300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14300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376992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1720" y="376992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76992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F2F46-92EB-43B9-B575-8DBFB345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AE7E4-72A4-46A3-8D30-C27FAD72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33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88572-DA58-45C7-BE51-84C6C67F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33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DBB6E-A503-45B4-8AEC-90772231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D1857-9FB1-44FE-8F9F-1E849D2B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007CA-B35A-4C42-8EA0-4EDE6F25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6705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D10A6-3DDD-4ADC-8188-B761F586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6992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24392-2F09-43D7-82D2-542CE2B9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33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7B8FA-2529-47BD-9100-DB5C8CCD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1960" y="376992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54E82-C607-4019-AAFC-A260C115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520" y="3769920"/>
            <a:ext cx="8433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C7564-0609-4095-BAD2-2C9ECC7B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33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0520" y="3769920"/>
            <a:ext cx="8433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C8AD8-A929-454C-9071-12197B89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520" y="376992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1960" y="376992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D0876-6BE4-4D93-A95B-1F05BAF8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1720" y="114300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82920" y="114300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0520" y="376992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1720" y="376992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82920" y="376992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21F3F-9CCD-497C-9800-12A5EC8D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33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C8A7A-EB00-4837-9BDE-EEAB7E8E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F15C2-11C1-41BF-9EB2-B7ECF7A3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8339-EEF8-452E-9772-28086DD9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6705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8C8F8-2E87-4C35-BC98-D96C87B7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376992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8E0E-1FB4-4DCB-871E-11CCFE71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1960" y="376992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01CBE-5F25-48C1-951A-165D1409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769920"/>
            <a:ext cx="8433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A962-A3F1-4D67-A956-CB9F3514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33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550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99c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54840" y="6409800"/>
            <a:ext cx="985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b3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A767-0FA3-4DFC-AA01-9ADB1091DF8A}" type="datetime">
              <a:rPr b="0" lang="en-US" sz="800" spc="-1" strike="noStrike">
                <a:solidFill>
                  <a:srgbClr val="003b3b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625480" y="6409800"/>
            <a:ext cx="6332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b3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b3b"/>
                </a:solidFill>
                <a:latin typeface="Arial"/>
              </a:rPr>
              <a:t>Seite </a:t>
            </a:r>
            <a:fld id="{EBDEE0F6-9305-4D53-9CCE-5A9FB89E7D66}" type="slidenum">
              <a:rPr b="0" lang="en-US" sz="800" spc="-1" strike="noStrike">
                <a:solidFill>
                  <a:srgbClr val="003b3b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485280" y="6418080"/>
            <a:ext cx="2109960" cy="27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3b3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b3b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3b3b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SLOG" descr=""/>
          <p:cNvPicPr/>
          <p:nvPr/>
        </p:nvPicPr>
        <p:blipFill>
          <a:blip r:embed="rId2"/>
          <a:stretch/>
        </p:blipFill>
        <p:spPr>
          <a:xfrm>
            <a:off x="7315200" y="444600"/>
            <a:ext cx="1579680" cy="60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6324480"/>
            <a:ext cx="8534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838080"/>
            <a:ext cx="6934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8960" y="1676160"/>
            <a:ext cx="796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954840" y="6409800"/>
            <a:ext cx="985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D362-4264-4221-A31A-E5DF74E4A8C3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2625480" y="6409800"/>
            <a:ext cx="6332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1A7A7DE0-DB7F-4156-968A-ABCDED6BE00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485280" y="6418080"/>
            <a:ext cx="2109960" cy="27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SLOG" descr=""/>
          <p:cNvPicPr/>
          <p:nvPr/>
        </p:nvPicPr>
        <p:blipFill>
          <a:blip r:embed="rId2"/>
          <a:stretch/>
        </p:blipFill>
        <p:spPr>
          <a:xfrm>
            <a:off x="7315200" y="444600"/>
            <a:ext cx="1579680" cy="60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838080"/>
            <a:ext cx="6934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6324480"/>
            <a:ext cx="8534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17416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E-Business in der chemischen Industrie</a:t>
            </a:r>
            <a:br>
              <a:rPr sz="3000"/>
            </a:br>
            <a:br>
              <a:rPr sz="30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uswirkungen der aktuellen Entwicklungen auf die zukünftige Gestaltung der Geschäftsprozesse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99840" y="4876920"/>
            <a:ext cx="5908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8.03.2000 in Wupper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7FDD257-0589-4CF4-92C2-A13F33C660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cc"/>
                </a:solidFill>
                <a:latin typeface="Arial"/>
              </a:rPr>
              <a:t>Erfolgsfaktoren für e-business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33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lächendeckendes und voll integriertes ERP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Infrastruktur bei den Basissyst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Kommunikationsplat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chäftsleitung als Trei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-business Verantwortlicher im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cus auf Geschäftsprozesse, die Strategien und Kunden-Lieferanten Partner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ußtsein bei allen Mitarb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rze Entscheidung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nelle Pilotpro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3809880"/>
            <a:ext cx="3581280" cy="15156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3b3b"/>
            </a:solidFill>
            <a:miter/>
          </a:ln>
          <a:effectLst>
            <a:outerShdw dist="107932" dir="2700000" blurRad="0" rotWithShape="0">
              <a:srgbClr val="003b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ährend Sie rennen müssen Sie auch denke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ter Zencke, Vorstandsmitglied SAP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6760" y="5638680"/>
            <a:ext cx="565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nelligkeit geht vor 100 % Lösung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cc"/>
                </a:solidFill>
                <a:latin typeface="Wingdings"/>
                <a:ea typeface="Wingdings"/>
              </a:rPr>
              <a:t>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E8B12-D7D8-4A8D-8A52-DADAF194E2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836280" y="5181480"/>
            <a:ext cx="76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Vielen Dank für Ihre Aufmerksamkeit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1295280"/>
            <a:ext cx="6356520" cy="342036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der die größte, noch die stärkste oder die intelligenteste Art wird überleben, sondern einz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jenige, die sich am besten an wandelnde Beding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paßt“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2A0B9-EF1A-45F4-9D14-A0A922F5E4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Inhalt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33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4762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- Zahlen und Fak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4762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- IT Infrastrukt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4762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griffsdefini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4762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ekte von e-bus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4762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hancen und Risiken von e-bus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4762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 e-business Bauste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4762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-business im Jahr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4762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olgsfaktor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C62D2-7C3D-4466-8018-D6ABACD092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47760" y="1198440"/>
            <a:ext cx="8381880" cy="4946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8640" y="226548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8640" y="180828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8640" y="272268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8640" y="310356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640" y="348444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640" y="400536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8640" y="433548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295280"/>
            <a:ext cx="8317080" cy="481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mengründung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1. Juli 1993 als 50:50 Joint Venture der Hoechst A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( jetzt Celanese AG) und der Wacker-Chemie Gmb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680" y="1828800"/>
            <a:ext cx="8316720" cy="38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mensitz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Ismaning bei Münc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2680" y="2286000"/>
            <a:ext cx="8316720" cy="38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satz (1998)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881 Mio D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2680" y="2743200"/>
            <a:ext cx="8316720" cy="360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tarbeiter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ca. 13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124080"/>
            <a:ext cx="8317080" cy="28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ionsstätten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Burghausen, Gendorf, Knapsack und Köl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505320"/>
            <a:ext cx="8317080" cy="481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ktionskapazität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V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570 kt / Ja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CM (2000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285 kt / Ja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2680" y="4394160"/>
            <a:ext cx="8316720" cy="481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wand für Forschung und Anwendungstechnik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ca. 18 Mio DM / Jah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737240"/>
            <a:ext cx="8317080" cy="28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wand im Bereich Umweltschutz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ca. 15 Mio DM / Ja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4064040"/>
            <a:ext cx="8317080" cy="28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VC-Exportantei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&gt; 52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8640" y="470376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8640" y="500868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680" y="5029200"/>
            <a:ext cx="8316720" cy="579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ätsmanagement-Zertifik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1995 nach DIN EN ISO 900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640" y="561816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5638680"/>
            <a:ext cx="8317080" cy="530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G-Öko-Audit und Zertifizierung aller Produktionsstandorte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199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 DIN EN ISO 14001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Vinnolit Zahlen und Fakten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F034C-C5CF-4889-B991-76FE97FEF3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52280" y="709560"/>
          <a:ext cx="807732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09560"/>
                    <a:ext cx="807732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62481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Vinnolit - IT Infrastruktur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B31B3-67D3-43D3-B96E-86ECFAA9BD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62481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Begriffsdefinition und Fakten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85341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1250"/>
              </a:spcAft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8 von 50 chemischen Konzernen haben einen Direktor fü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-business beauftra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1250"/>
              </a:spcAft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-business hat das Thema Y2K als das wichtigste Thema bei IT abgelö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Aktuellste Me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, BASF, Degussa-Hüls, Henkel und Metallgesellschaft wollen ein Unternehmen für den Handel via Internet gründen. 22.03.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143000"/>
            <a:ext cx="7772400" cy="11912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3b3b"/>
            </a:solidFill>
            <a:miter/>
          </a:ln>
          <a:effectLst>
            <a:outerShdw dist="107932" dir="2700000" blurRad="0" rotWithShape="0">
              <a:srgbClr val="003b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lectronic Busines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- ist der kommerzielle Austausch von Waren, Dienstleistungen und Informationen unter Beteiligung des Inter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EA34F-27F7-4D19-904D-DBADE99AAB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cc"/>
                </a:solidFill>
                <a:latin typeface="Arial"/>
              </a:rPr>
              <a:t>Effekte von e-business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33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eue Marktmode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unehmende Preistransparen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höhter Preisdruck u.a. durch Bildung von Allianzen auf Kundense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undenorientierung anstatt Produktorientier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ärkere Differenzierung von Spezialitäten und Commod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lobaler Wettbewerb (the world never sleep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eue Marktteilneh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nellere Strukturänderu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72A37-5A21-469F-8918-0BF0F4E0CB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75120" y="6477120"/>
            <a:ext cx="20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. Diebold „DBS-Survey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5680" y="1036440"/>
            <a:ext cx="8491320" cy="5136120"/>
            <a:chOff x="355680" y="1036440"/>
            <a:chExt cx="8491320" cy="5136120"/>
          </a:xfrm>
        </p:grpSpPr>
        <p:sp>
          <p:nvSpPr>
            <p:cNvPr id="125" name=""/>
            <p:cNvSpPr/>
            <p:nvPr/>
          </p:nvSpPr>
          <p:spPr>
            <a:xfrm>
              <a:off x="3379680" y="1986120"/>
              <a:ext cx="79560" cy="3373200"/>
            </a:xfrm>
            <a:custGeom>
              <a:avLst/>
              <a:gdLst/>
              <a:ahLst/>
              <a:rect l="l" t="t" r="r" b="b"/>
              <a:pathLst>
                <a:path w="47" h="2125">
                  <a:moveTo>
                    <a:pt x="0" y="2125"/>
                  </a:moveTo>
                  <a:lnTo>
                    <a:pt x="47" y="2101"/>
                  </a:lnTo>
                  <a:lnTo>
                    <a:pt x="47" y="0"/>
                  </a:lnTo>
                  <a:lnTo>
                    <a:pt x="0" y="24"/>
                  </a:lnTo>
                  <a:lnTo>
                    <a:pt x="0" y="21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79680" y="5321160"/>
              <a:ext cx="5419800" cy="38160"/>
            </a:xfrm>
            <a:custGeom>
              <a:avLst/>
              <a:gdLst/>
              <a:ahLst/>
              <a:rect l="l" t="t" r="r" b="b"/>
              <a:pathLst>
                <a:path w="3152" h="24">
                  <a:moveTo>
                    <a:pt x="0" y="24"/>
                  </a:moveTo>
                  <a:lnTo>
                    <a:pt x="3105" y="24"/>
                  </a:lnTo>
                  <a:lnTo>
                    <a:pt x="3152" y="0"/>
                  </a:lnTo>
                  <a:lnTo>
                    <a:pt x="47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59240" y="1986120"/>
              <a:ext cx="5340240" cy="33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379320" y="5321160"/>
              <a:ext cx="795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379320" y="4768920"/>
              <a:ext cx="795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379320" y="4206960"/>
              <a:ext cx="7956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379320" y="3652920"/>
              <a:ext cx="795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79320" y="3090960"/>
              <a:ext cx="7956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79320" y="2538360"/>
              <a:ext cx="795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79320" y="1986120"/>
              <a:ext cx="7956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59240" y="5321160"/>
              <a:ext cx="514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459240" y="4757400"/>
              <a:ext cx="51498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9240" y="4206960"/>
              <a:ext cx="516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59240" y="3652920"/>
              <a:ext cx="5137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59240" y="3090960"/>
              <a:ext cx="516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59240" y="2538360"/>
              <a:ext cx="514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59240" y="1986120"/>
              <a:ext cx="516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79680" y="1986120"/>
              <a:ext cx="79560" cy="3373200"/>
            </a:xfrm>
            <a:custGeom>
              <a:avLst/>
              <a:gdLst/>
              <a:ahLst/>
              <a:rect l="l" t="t" r="r" b="b"/>
              <a:pathLst>
                <a:path w="47" h="2125">
                  <a:moveTo>
                    <a:pt x="47" y="0"/>
                  </a:moveTo>
                  <a:lnTo>
                    <a:pt x="0" y="24"/>
                  </a:lnTo>
                  <a:lnTo>
                    <a:pt x="0" y="2125"/>
                  </a:lnTo>
                  <a:lnTo>
                    <a:pt x="47" y="2101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79680" y="5284800"/>
              <a:ext cx="5254560" cy="74520"/>
            </a:xfrm>
            <a:custGeom>
              <a:avLst/>
              <a:gdLst/>
              <a:ahLst/>
              <a:rect l="l" t="t" r="r" b="b"/>
              <a:pathLst>
                <a:path w="3152" h="24">
                  <a:moveTo>
                    <a:pt x="0" y="24"/>
                  </a:moveTo>
                  <a:lnTo>
                    <a:pt x="3105" y="24"/>
                  </a:lnTo>
                  <a:lnTo>
                    <a:pt x="3152" y="0"/>
                  </a:lnTo>
                  <a:lnTo>
                    <a:pt x="47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59240" y="1986120"/>
              <a:ext cx="5149800" cy="333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79680" y="5083200"/>
              <a:ext cx="997200" cy="162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76880" y="5045040"/>
              <a:ext cx="81000" cy="200160"/>
            </a:xfrm>
            <a:custGeom>
              <a:avLst/>
              <a:gdLst/>
              <a:ahLst/>
              <a:rect l="l" t="t" r="r" b="b"/>
              <a:pathLst>
                <a:path w="47" h="126">
                  <a:moveTo>
                    <a:pt x="47" y="102"/>
                  </a:moveTo>
                  <a:lnTo>
                    <a:pt x="0" y="126"/>
                  </a:lnTo>
                  <a:lnTo>
                    <a:pt x="0" y="24"/>
                  </a:lnTo>
                  <a:lnTo>
                    <a:pt x="47" y="0"/>
                  </a:lnTo>
                  <a:lnTo>
                    <a:pt x="47" y="102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379680" y="4883040"/>
              <a:ext cx="4016520" cy="200160"/>
              <a:chOff x="3379680" y="4883040"/>
              <a:chExt cx="4016520" cy="200160"/>
            </a:xfrm>
          </p:grpSpPr>
          <p:sp>
            <p:nvSpPr>
              <p:cNvPr id="148" name=""/>
              <p:cNvSpPr/>
              <p:nvPr/>
            </p:nvSpPr>
            <p:spPr>
              <a:xfrm>
                <a:off x="3379680" y="5045040"/>
                <a:ext cx="1078200" cy="38160"/>
              </a:xfrm>
              <a:custGeom>
                <a:avLst/>
                <a:gdLst/>
                <a:ahLst/>
                <a:rect l="l" t="t" r="r" b="b"/>
                <a:pathLst>
                  <a:path w="627" h="24">
                    <a:moveTo>
                      <a:pt x="0" y="24"/>
                    </a:moveTo>
                    <a:lnTo>
                      <a:pt x="580" y="24"/>
                    </a:lnTo>
                    <a:lnTo>
                      <a:pt x="627" y="0"/>
                    </a:lnTo>
                    <a:lnTo>
                      <a:pt x="47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379680" y="4883040"/>
                <a:ext cx="4016520" cy="47880"/>
              </a:xfrm>
              <a:custGeom>
                <a:avLst/>
                <a:gdLst/>
                <a:ahLst/>
                <a:rect l="l" t="t" r="r" b="b"/>
                <a:pathLst>
                  <a:path w="2336" h="30">
                    <a:moveTo>
                      <a:pt x="0" y="30"/>
                    </a:moveTo>
                    <a:lnTo>
                      <a:pt x="2289" y="30"/>
                    </a:lnTo>
                    <a:lnTo>
                      <a:pt x="2336" y="0"/>
                    </a:lnTo>
                    <a:lnTo>
                      <a:pt x="4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3600" bIns="3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379680" y="4930920"/>
                <a:ext cx="3935520" cy="15228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15200" y="4883040"/>
                <a:ext cx="81000" cy="200160"/>
              </a:xfrm>
              <a:custGeom>
                <a:avLst/>
                <a:gdLst/>
                <a:ahLst/>
                <a:rect l="l" t="t" r="r" b="b"/>
                <a:pathLst>
                  <a:path w="47" h="126">
                    <a:moveTo>
                      <a:pt x="47" y="102"/>
                    </a:moveTo>
                    <a:lnTo>
                      <a:pt x="0" y="126"/>
                    </a:lnTo>
                    <a:lnTo>
                      <a:pt x="0" y="30"/>
                    </a:lnTo>
                    <a:lnTo>
                      <a:pt x="47" y="0"/>
                    </a:lnTo>
                    <a:lnTo>
                      <a:pt x="47" y="102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379680" y="4530600"/>
              <a:ext cx="1873440" cy="162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3120" y="4492800"/>
              <a:ext cx="68040" cy="199800"/>
            </a:xfrm>
            <a:custGeom>
              <a:avLst/>
              <a:gdLst/>
              <a:ahLst/>
              <a:rect l="l" t="t" r="r" b="b"/>
              <a:pathLst>
                <a:path w="39" h="126">
                  <a:moveTo>
                    <a:pt x="39" y="96"/>
                  </a:moveTo>
                  <a:lnTo>
                    <a:pt x="0" y="126"/>
                  </a:lnTo>
                  <a:lnTo>
                    <a:pt x="0" y="24"/>
                  </a:lnTo>
                  <a:lnTo>
                    <a:pt x="39" y="0"/>
                  </a:lnTo>
                  <a:lnTo>
                    <a:pt x="39" y="96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3379680" y="4330800"/>
              <a:ext cx="4219560" cy="199800"/>
              <a:chOff x="3379680" y="4330800"/>
              <a:chExt cx="4219560" cy="199800"/>
            </a:xfrm>
          </p:grpSpPr>
          <p:sp>
            <p:nvSpPr>
              <p:cNvPr id="155" name=""/>
              <p:cNvSpPr/>
              <p:nvPr/>
            </p:nvSpPr>
            <p:spPr>
              <a:xfrm>
                <a:off x="3379680" y="4492800"/>
                <a:ext cx="1941480" cy="37800"/>
              </a:xfrm>
              <a:custGeom>
                <a:avLst/>
                <a:gdLst/>
                <a:ahLst/>
                <a:rect l="l" t="t" r="r" b="b"/>
                <a:pathLst>
                  <a:path w="1129" h="24">
                    <a:moveTo>
                      <a:pt x="0" y="24"/>
                    </a:moveTo>
                    <a:lnTo>
                      <a:pt x="1090" y="24"/>
                    </a:lnTo>
                    <a:lnTo>
                      <a:pt x="1129" y="0"/>
                    </a:lnTo>
                    <a:lnTo>
                      <a:pt x="47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79680" y="4330800"/>
                <a:ext cx="4219560" cy="38160"/>
              </a:xfrm>
              <a:custGeom>
                <a:avLst/>
                <a:gdLst/>
                <a:ahLst/>
                <a:rect l="l" t="t" r="r" b="b"/>
                <a:pathLst>
                  <a:path w="2454" h="24">
                    <a:moveTo>
                      <a:pt x="0" y="24"/>
                    </a:moveTo>
                    <a:lnTo>
                      <a:pt x="2407" y="24"/>
                    </a:lnTo>
                    <a:lnTo>
                      <a:pt x="2454" y="0"/>
                    </a:lnTo>
                    <a:lnTo>
                      <a:pt x="47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6120" bIns="-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379680" y="4368960"/>
                <a:ext cx="4138560" cy="1616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518240" y="4330800"/>
                <a:ext cx="81000" cy="199800"/>
              </a:xfrm>
              <a:custGeom>
                <a:avLst/>
                <a:gdLst/>
                <a:ahLst/>
                <a:rect l="l" t="t" r="r" b="b"/>
                <a:pathLst>
                  <a:path w="47" h="126">
                    <a:moveTo>
                      <a:pt x="47" y="102"/>
                    </a:moveTo>
                    <a:lnTo>
                      <a:pt x="0" y="126"/>
                    </a:lnTo>
                    <a:lnTo>
                      <a:pt x="0" y="24"/>
                    </a:lnTo>
                    <a:lnTo>
                      <a:pt x="47" y="0"/>
                    </a:lnTo>
                    <a:lnTo>
                      <a:pt x="47" y="102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3379680" y="3967200"/>
              <a:ext cx="739800" cy="1634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19480" y="3929040"/>
              <a:ext cx="68400" cy="201600"/>
            </a:xfrm>
            <a:custGeom>
              <a:avLst/>
              <a:gdLst/>
              <a:ahLst/>
              <a:rect l="l" t="t" r="r" b="b"/>
              <a:pathLst>
                <a:path w="39" h="127">
                  <a:moveTo>
                    <a:pt x="39" y="102"/>
                  </a:moveTo>
                  <a:lnTo>
                    <a:pt x="0" y="127"/>
                  </a:lnTo>
                  <a:lnTo>
                    <a:pt x="0" y="24"/>
                  </a:lnTo>
                  <a:lnTo>
                    <a:pt x="39" y="0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3379680" y="3767040"/>
              <a:ext cx="4016520" cy="200160"/>
              <a:chOff x="3379680" y="3767040"/>
              <a:chExt cx="4016520" cy="200160"/>
            </a:xfrm>
          </p:grpSpPr>
          <p:sp>
            <p:nvSpPr>
              <p:cNvPr id="162" name=""/>
              <p:cNvSpPr/>
              <p:nvPr/>
            </p:nvSpPr>
            <p:spPr>
              <a:xfrm>
                <a:off x="3379680" y="3929040"/>
                <a:ext cx="808200" cy="38160"/>
              </a:xfrm>
              <a:custGeom>
                <a:avLst/>
                <a:gdLst/>
                <a:ahLst/>
                <a:rect l="l" t="t" r="r" b="b"/>
                <a:pathLst>
                  <a:path w="470" h="24">
                    <a:moveTo>
                      <a:pt x="0" y="24"/>
                    </a:moveTo>
                    <a:lnTo>
                      <a:pt x="431" y="24"/>
                    </a:lnTo>
                    <a:lnTo>
                      <a:pt x="470" y="0"/>
                    </a:lnTo>
                    <a:lnTo>
                      <a:pt x="47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379680" y="3767040"/>
                <a:ext cx="4016520" cy="47880"/>
              </a:xfrm>
              <a:custGeom>
                <a:avLst/>
                <a:gdLst/>
                <a:ahLst/>
                <a:rect l="l" t="t" r="r" b="b"/>
                <a:pathLst>
                  <a:path w="2336" h="30">
                    <a:moveTo>
                      <a:pt x="0" y="30"/>
                    </a:moveTo>
                    <a:lnTo>
                      <a:pt x="2289" y="30"/>
                    </a:lnTo>
                    <a:lnTo>
                      <a:pt x="2336" y="0"/>
                    </a:lnTo>
                    <a:lnTo>
                      <a:pt x="4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3600" bIns="3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79680" y="3814920"/>
                <a:ext cx="3935520" cy="15228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315200" y="3767040"/>
                <a:ext cx="81000" cy="200160"/>
              </a:xfrm>
              <a:custGeom>
                <a:avLst/>
                <a:gdLst/>
                <a:ahLst/>
                <a:rect l="l" t="t" r="r" b="b"/>
                <a:pathLst>
                  <a:path w="47" h="126">
                    <a:moveTo>
                      <a:pt x="47" y="102"/>
                    </a:moveTo>
                    <a:lnTo>
                      <a:pt x="0" y="126"/>
                    </a:lnTo>
                    <a:lnTo>
                      <a:pt x="0" y="30"/>
                    </a:lnTo>
                    <a:lnTo>
                      <a:pt x="47" y="0"/>
                    </a:lnTo>
                    <a:lnTo>
                      <a:pt x="47" y="102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379680" y="3414600"/>
              <a:ext cx="1063800" cy="162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43480" y="3376440"/>
              <a:ext cx="81000" cy="200160"/>
            </a:xfrm>
            <a:custGeom>
              <a:avLst/>
              <a:gdLst/>
              <a:ahLst/>
              <a:rect l="l" t="t" r="r" b="b"/>
              <a:pathLst>
                <a:path w="47" h="126">
                  <a:moveTo>
                    <a:pt x="47" y="96"/>
                  </a:moveTo>
                  <a:lnTo>
                    <a:pt x="0" y="126"/>
                  </a:lnTo>
                  <a:lnTo>
                    <a:pt x="0" y="24"/>
                  </a:lnTo>
                  <a:lnTo>
                    <a:pt x="47" y="0"/>
                  </a:lnTo>
                  <a:lnTo>
                    <a:pt x="47" y="96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379680" y="3214800"/>
              <a:ext cx="4219560" cy="199800"/>
              <a:chOff x="3379680" y="3214800"/>
              <a:chExt cx="4219560" cy="199800"/>
            </a:xfrm>
          </p:grpSpPr>
          <p:sp>
            <p:nvSpPr>
              <p:cNvPr id="169" name=""/>
              <p:cNvSpPr/>
              <p:nvPr/>
            </p:nvSpPr>
            <p:spPr>
              <a:xfrm>
                <a:off x="3379680" y="3376440"/>
                <a:ext cx="1144800" cy="38160"/>
              </a:xfrm>
              <a:custGeom>
                <a:avLst/>
                <a:gdLst/>
                <a:ahLst/>
                <a:rect l="l" t="t" r="r" b="b"/>
                <a:pathLst>
                  <a:path w="666" h="24">
                    <a:moveTo>
                      <a:pt x="0" y="24"/>
                    </a:moveTo>
                    <a:lnTo>
                      <a:pt x="619" y="24"/>
                    </a:lnTo>
                    <a:lnTo>
                      <a:pt x="666" y="0"/>
                    </a:lnTo>
                    <a:lnTo>
                      <a:pt x="47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379680" y="3214800"/>
                <a:ext cx="4219560" cy="38160"/>
              </a:xfrm>
              <a:custGeom>
                <a:avLst/>
                <a:gdLst/>
                <a:ahLst/>
                <a:rect l="l" t="t" r="r" b="b"/>
                <a:pathLst>
                  <a:path w="2454" h="24">
                    <a:moveTo>
                      <a:pt x="0" y="24"/>
                    </a:moveTo>
                    <a:lnTo>
                      <a:pt x="2407" y="24"/>
                    </a:lnTo>
                    <a:lnTo>
                      <a:pt x="2454" y="0"/>
                    </a:lnTo>
                    <a:lnTo>
                      <a:pt x="47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6120" bIns="-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379680" y="3252960"/>
                <a:ext cx="4138560" cy="1616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18240" y="3214800"/>
                <a:ext cx="81000" cy="199800"/>
              </a:xfrm>
              <a:custGeom>
                <a:avLst/>
                <a:gdLst/>
                <a:ahLst/>
                <a:rect l="l" t="t" r="r" b="b"/>
                <a:pathLst>
                  <a:path w="47" h="126">
                    <a:moveTo>
                      <a:pt x="47" y="102"/>
                    </a:moveTo>
                    <a:lnTo>
                      <a:pt x="0" y="126"/>
                    </a:lnTo>
                    <a:lnTo>
                      <a:pt x="0" y="24"/>
                    </a:lnTo>
                    <a:lnTo>
                      <a:pt x="47" y="0"/>
                    </a:lnTo>
                    <a:lnTo>
                      <a:pt x="47" y="102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3379680" y="2852640"/>
              <a:ext cx="336600" cy="162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16280" y="2814480"/>
              <a:ext cx="66600" cy="200160"/>
            </a:xfrm>
            <a:custGeom>
              <a:avLst/>
              <a:gdLst/>
              <a:ahLst/>
              <a:rect l="l" t="t" r="r" b="b"/>
              <a:pathLst>
                <a:path w="39" h="126">
                  <a:moveTo>
                    <a:pt x="39" y="102"/>
                  </a:moveTo>
                  <a:lnTo>
                    <a:pt x="0" y="126"/>
                  </a:lnTo>
                  <a:lnTo>
                    <a:pt x="0" y="24"/>
                  </a:lnTo>
                  <a:lnTo>
                    <a:pt x="39" y="0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3379680" y="2652840"/>
              <a:ext cx="2548080" cy="199800"/>
              <a:chOff x="3379680" y="2652840"/>
              <a:chExt cx="2548080" cy="199800"/>
            </a:xfrm>
          </p:grpSpPr>
          <p:sp>
            <p:nvSpPr>
              <p:cNvPr id="176" name=""/>
              <p:cNvSpPr/>
              <p:nvPr/>
            </p:nvSpPr>
            <p:spPr>
              <a:xfrm>
                <a:off x="3379680" y="2814480"/>
                <a:ext cx="403200" cy="38160"/>
              </a:xfrm>
              <a:custGeom>
                <a:avLst/>
                <a:gdLst/>
                <a:ahLst/>
                <a:rect l="l" t="t" r="r" b="b"/>
                <a:pathLst>
                  <a:path w="235" h="24">
                    <a:moveTo>
                      <a:pt x="0" y="24"/>
                    </a:moveTo>
                    <a:lnTo>
                      <a:pt x="196" y="24"/>
                    </a:lnTo>
                    <a:lnTo>
                      <a:pt x="235" y="0"/>
                    </a:lnTo>
                    <a:lnTo>
                      <a:pt x="47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79680" y="2652840"/>
                <a:ext cx="2548080" cy="47520"/>
              </a:xfrm>
              <a:custGeom>
                <a:avLst/>
                <a:gdLst/>
                <a:ahLst/>
                <a:rect l="l" t="t" r="r" b="b"/>
                <a:pathLst>
                  <a:path w="1482" h="30">
                    <a:moveTo>
                      <a:pt x="0" y="30"/>
                    </a:moveTo>
                    <a:lnTo>
                      <a:pt x="1435" y="30"/>
                    </a:lnTo>
                    <a:lnTo>
                      <a:pt x="1482" y="0"/>
                    </a:lnTo>
                    <a:lnTo>
                      <a:pt x="4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79680" y="2700360"/>
                <a:ext cx="2467080" cy="15228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846760" y="2652840"/>
                <a:ext cx="81000" cy="199800"/>
              </a:xfrm>
              <a:custGeom>
                <a:avLst/>
                <a:gdLst/>
                <a:ahLst/>
                <a:rect l="l" t="t" r="r" b="b"/>
                <a:pathLst>
                  <a:path w="47" h="126">
                    <a:moveTo>
                      <a:pt x="47" y="102"/>
                    </a:moveTo>
                    <a:lnTo>
                      <a:pt x="0" y="126"/>
                    </a:lnTo>
                    <a:lnTo>
                      <a:pt x="0" y="30"/>
                    </a:lnTo>
                    <a:lnTo>
                      <a:pt x="47" y="0"/>
                    </a:lnTo>
                    <a:lnTo>
                      <a:pt x="47" y="102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3379680" y="2262240"/>
              <a:ext cx="2548080" cy="38160"/>
            </a:xfrm>
            <a:custGeom>
              <a:avLst/>
              <a:gdLst/>
              <a:ahLst/>
              <a:rect l="l" t="t" r="r" b="b"/>
              <a:pathLst>
                <a:path w="1482" h="24">
                  <a:moveTo>
                    <a:pt x="0" y="24"/>
                  </a:moveTo>
                  <a:lnTo>
                    <a:pt x="1435" y="24"/>
                  </a:lnTo>
                  <a:lnTo>
                    <a:pt x="1482" y="0"/>
                  </a:lnTo>
                  <a:lnTo>
                    <a:pt x="47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79680" y="2300400"/>
              <a:ext cx="2467080" cy="161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46760" y="2262240"/>
              <a:ext cx="81000" cy="199800"/>
            </a:xfrm>
            <a:custGeom>
              <a:avLst/>
              <a:gdLst/>
              <a:ahLst/>
              <a:rect l="l" t="t" r="r" b="b"/>
              <a:pathLst>
                <a:path w="47" h="126">
                  <a:moveTo>
                    <a:pt x="47" y="96"/>
                  </a:moveTo>
                  <a:lnTo>
                    <a:pt x="0" y="126"/>
                  </a:lnTo>
                  <a:lnTo>
                    <a:pt x="0" y="24"/>
                  </a:lnTo>
                  <a:lnTo>
                    <a:pt x="47" y="0"/>
                  </a:lnTo>
                  <a:lnTo>
                    <a:pt x="47" y="96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79680" y="5359320"/>
              <a:ext cx="5211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79680" y="5359320"/>
              <a:ext cx="180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13120" y="5359320"/>
              <a:ext cx="180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8360" y="5359320"/>
              <a:ext cx="144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85040" y="5359320"/>
              <a:ext cx="144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578800" y="5372280"/>
              <a:ext cx="18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98680" y="5473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38520" y="5473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72320" y="5473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09000" y="5473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43880" y="5473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379680" y="2023560"/>
              <a:ext cx="1800" cy="333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309840" y="5359320"/>
              <a:ext cx="69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309840" y="4807080"/>
              <a:ext cx="6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309840" y="4254480"/>
              <a:ext cx="6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309840" y="3691080"/>
              <a:ext cx="6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309840" y="3138480"/>
              <a:ext cx="6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309840" y="2576520"/>
              <a:ext cx="6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309840" y="2023920"/>
              <a:ext cx="69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92640" y="5857920"/>
              <a:ext cx="122040" cy="856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93160" y="5829480"/>
              <a:ext cx="870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 Quartal 1999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92640" y="6048360"/>
              <a:ext cx="120600" cy="856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  <a:effectLst>
              <a:outerShdw dist="17819" dir="2700000" blurRad="0" rotWithShape="0">
                <a:srgbClr val="0000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1400" bIns="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93160" y="6019920"/>
              <a:ext cx="870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 Quartal 1999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2232360" y="3564000"/>
              <a:ext cx="157356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  <a:effectLst>
              <a:outerShdw dist="17819" dir="2700000" blurRad="0" rotWithShape="0">
                <a:srgbClr val="0000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nnungen in 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5680" y="1892160"/>
              <a:ext cx="2503440" cy="39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iß nich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bwerben von Kund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urch Wettbewerb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rhöhung d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undenbindung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undenloyalitä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in Wettbewerbsvorteil im eigenen Markt kann erreicht werd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ue Kundensegmente können erschlossen werd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ue Wettbewerb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eten in den Markt ei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34440" y="2031840"/>
              <a:ext cx="412560" cy="3812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434440" y="2565360"/>
              <a:ext cx="412560" cy="380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34440" y="3124080"/>
              <a:ext cx="412560" cy="3812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434440" y="3695760"/>
              <a:ext cx="412560" cy="380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434440" y="4241880"/>
              <a:ext cx="412560" cy="380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434440" y="4838760"/>
              <a:ext cx="412560" cy="380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0880" y="1036440"/>
              <a:ext cx="82915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lche Chancen und Risiken sehen Sie durch Digital Business ?</a:t>
              </a:r>
              <a:r>
                <a:rPr b="1" lang="en-US" sz="34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cc"/>
                </a:solidFill>
                <a:latin typeface="Arial"/>
              </a:rPr>
              <a:t>Chancen und Risiken von e-busines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588DA-C18C-4757-8E7B-490DE54C81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62481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cc"/>
                </a:solidFill>
                <a:latin typeface="Arial"/>
              </a:rPr>
              <a:t>10 e-business Bausteine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219320"/>
            <a:ext cx="81536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1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Produktkatalo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2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Sicherheitsdatenblätter, Analysezertifika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3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Online Anwendungsberatung und -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4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Commun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5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Katalogsystem mit Bestellmöglichke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6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B2B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7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Order-Track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8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Supplier Managed Invento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9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Elektronische Marktplätz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10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Auktion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52E85-FB97-446D-9A66-EF491460CB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67760" cy="480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ür 2002 wird eine vollständige Internet-Durchdringung der Unternehmen prognostizi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 Kontaktperson beim Kunden hat Zugang zum Internet und nutzt dieses als zentralen Bestandteil seiner Arbeitsumgeb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Reaktionszeit von max. 6 h nach einem elektronischen Kontakt ist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nden erwarten jederzeit online vollständige Transparenz über alle die Geschäftsbeziehung betreffenden Aspekte (Ansprechpartner, Produkte, Aufträge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ereitschaft zu Internet-basiertem Supply Chain Management wird von Key Accounts erwartet. Transaktionssysteme sind internetfäh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ektronische Marktplätze für Commodities haben sich etabli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6200" y="6477120"/>
            <a:ext cx="104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. Dieb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049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cc"/>
                </a:solidFill>
                <a:latin typeface="Arial"/>
              </a:rPr>
              <a:t>e-business im Jahr 2002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BABA4-FC5A-4AE5-92CA-C6E01A31C8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5T13:00:21Z</dcterms:created>
  <dc:creator>Administrator</dc:creator>
  <dc:description/>
  <dc:language>en-US</dc:language>
  <cp:lastModifiedBy>Dr.Jochen Winkler</cp:lastModifiedBy>
  <cp:lastPrinted>2000-02-14T14:32:26Z</cp:lastPrinted>
  <dcterms:modified xsi:type="dcterms:W3CDTF">2000-04-03T20:49:04Z</dcterms:modified>
  <cp:revision>53</cp:revision>
  <dc:subject/>
  <dc:title>Kein Folientitel</dc:title>
</cp:coreProperties>
</file>