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278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8A87E-BD8C-4E35-AB78-01A0D829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56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206960"/>
            <a:ext cx="8356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F030D-1F3C-47F3-A4C3-9321CDD7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38680" y="2057400"/>
            <a:ext cx="40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206960"/>
            <a:ext cx="40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38680" y="4206960"/>
            <a:ext cx="40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E7358-C10C-4B1F-8455-E95915851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69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82480" y="2057400"/>
            <a:ext cx="269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8120" y="2057400"/>
            <a:ext cx="269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206960"/>
            <a:ext cx="269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82480" y="4206960"/>
            <a:ext cx="269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8120" y="4206960"/>
            <a:ext cx="269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087ED-7B42-4883-8FE4-83E757CA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EF871-58ED-40D4-9988-942951A37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3FF52-5E85-4888-AF09-99E9DC78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8D9BB-B5C1-49FE-A9F2-4CF2E736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8680" y="2057400"/>
            <a:ext cx="40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4E763-7B5A-40CD-A157-C59928E1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23276-63DF-4F29-A247-A5DFC65C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1066320"/>
            <a:ext cx="83566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8B263-663C-4950-AB77-464677DB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38680" y="2057400"/>
            <a:ext cx="40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06960"/>
            <a:ext cx="40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72D0B-53B4-4E21-8D7C-845B6059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FC662-62D5-4050-B474-4913137F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38680" y="2057400"/>
            <a:ext cx="40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38680" y="4206960"/>
            <a:ext cx="40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AD391-D164-4A7B-B44E-D805C9CF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8680" y="2057400"/>
            <a:ext cx="40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206960"/>
            <a:ext cx="8356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CAA4F-A349-45D0-BCF8-6C68A985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56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206960"/>
            <a:ext cx="8356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D1B7A-B24E-48F4-9324-D63FBF29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8680" y="2057400"/>
            <a:ext cx="40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206960"/>
            <a:ext cx="40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38680" y="4206960"/>
            <a:ext cx="40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D98EC-9D12-41EE-860D-9E3F424B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69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2480" y="2057400"/>
            <a:ext cx="269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08120" y="2057400"/>
            <a:ext cx="269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206960"/>
            <a:ext cx="269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2480" y="4206960"/>
            <a:ext cx="269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08120" y="4206960"/>
            <a:ext cx="269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62AFC-7833-4BB6-AEA1-D469881AE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81AA7-2310-49A1-8468-7204D1A1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8680" y="2057400"/>
            <a:ext cx="40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98228-C68B-4137-A7EB-A94402FF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C1A58-91ED-4785-9964-F52C30E4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066320"/>
            <a:ext cx="83566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9C7FE-84D4-4658-9558-65A15270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8680" y="2057400"/>
            <a:ext cx="40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206960"/>
            <a:ext cx="40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67945-2B04-4B25-9144-2A562747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8680" y="2057400"/>
            <a:ext cx="40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38680" y="4206960"/>
            <a:ext cx="40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54CF2-C901-4569-92C5-60641541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8680" y="2057400"/>
            <a:ext cx="40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206960"/>
            <a:ext cx="8356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A57A3-82A8-4A75-A575-FEBD2CF2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499"/>
              </a:spcBef>
              <a:buClr>
                <a:srgbClr val="d60093"/>
              </a:buClr>
              <a:buSzPct val="6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c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54840" y="6409800"/>
            <a:ext cx="9856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3b3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FD87-F70A-45D2-BFBD-1398FA406497}" type="datetime">
              <a:rPr b="0" lang="en-US" sz="800" spc="-1" strike="noStrike">
                <a:solidFill>
                  <a:srgbClr val="003b3b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2625480" y="6409800"/>
            <a:ext cx="63324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3b3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b3b"/>
                </a:solidFill>
                <a:latin typeface="Arial"/>
              </a:rPr>
              <a:t>Seite </a:t>
            </a:r>
            <a:fld id="{8924BBFB-F9A2-4A2B-B32A-98D04A4B2DE4}" type="slidenum">
              <a:rPr b="0" lang="en-US" sz="800" spc="-1" strike="noStrike">
                <a:solidFill>
                  <a:srgbClr val="003b3b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485280" y="6418080"/>
            <a:ext cx="2109960" cy="27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3b3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b3b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3b3b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SLOG" descr=""/>
          <p:cNvPicPr/>
          <p:nvPr/>
        </p:nvPicPr>
        <p:blipFill>
          <a:blip r:embed="rId2"/>
          <a:stretch/>
        </p:blipFill>
        <p:spPr>
          <a:xfrm>
            <a:off x="7315200" y="444600"/>
            <a:ext cx="1579680" cy="6062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80880" y="6324480"/>
            <a:ext cx="8534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80880" y="838080"/>
            <a:ext cx="6934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8960" y="1676160"/>
            <a:ext cx="796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954840" y="6409800"/>
            <a:ext cx="9856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0B79-66CE-407C-AD77-D2EE0F4CFFB6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2625480" y="6409800"/>
            <a:ext cx="63324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A78F8674-A7C8-4F42-92FB-F0C2AD6C2AB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6"/>
          </p:nvPr>
        </p:nvSpPr>
        <p:spPr>
          <a:xfrm>
            <a:off x="485280" y="6418080"/>
            <a:ext cx="2109960" cy="27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066680"/>
            <a:ext cx="8534160" cy="0"/>
          </a:xfrm>
          <a:prstGeom prst="line">
            <a:avLst/>
          </a:prstGeom>
          <a:ln w="50760">
            <a:solidFill>
              <a:srgbClr val="e000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LOGO0497" descr=""/>
          <p:cNvPicPr/>
          <p:nvPr/>
        </p:nvPicPr>
        <p:blipFill>
          <a:blip r:embed="rId2"/>
          <a:stretch/>
        </p:blipFill>
        <p:spPr>
          <a:xfrm>
            <a:off x="7058160" y="181080"/>
            <a:ext cx="1792080" cy="500040"/>
          </a:xfrm>
          <a:prstGeom prst="rect">
            <a:avLst/>
          </a:prstGeom>
          <a:ln w="0">
            <a:noFill/>
          </a:ln>
        </p:spPr>
      </p:pic>
      <p:pic>
        <p:nvPicPr>
          <p:cNvPr id="50" name="LOGOSLOG" descr=""/>
          <p:cNvPicPr/>
          <p:nvPr/>
        </p:nvPicPr>
        <p:blipFill>
          <a:blip r:embed="rId3"/>
          <a:stretch/>
        </p:blipFill>
        <p:spPr>
          <a:xfrm>
            <a:off x="6553080" y="0"/>
            <a:ext cx="2341800" cy="898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6324480"/>
            <a:ext cx="8534160" cy="0"/>
          </a:xfrm>
          <a:prstGeom prst="line">
            <a:avLst/>
          </a:prstGeom>
          <a:ln w="50760">
            <a:solidFill>
              <a:srgbClr val="e8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60093"/>
              </a:buClr>
              <a:buSzPct val="6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c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752120"/>
            <a:ext cx="817416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Ablösung des „Alt“-Systems für die Qualitätssicherung und Forschung </a:t>
            </a:r>
            <a:br>
              <a:rPr sz="3000"/>
            </a:b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durch</a:t>
            </a:r>
            <a:br>
              <a:rPr sz="3000"/>
            </a:b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Einführung des SAP R/3 QM Implantats von jw-consulting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99840" y="4876920"/>
            <a:ext cx="59086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.02.2000 in Frankfu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B54D675-B379-4DC9-9FA2-C05521BEF0D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Zusammenfassung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56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2160" indent="-92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m 01.01.2000 war komplettes System produkt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führung der Chargenpflicht war größtes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konnte schrittweise produktiv gesetz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r durch das QM-I konnten die Anforderungen 100 % abgedeck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e Historiedaten konnten übernommen werden (kein Bruch bei Langzeitauswertung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he Akzeptanz der Anw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sere Auswertemöglichkeiten als vor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iräume für weitere Nutzungsmöglichkeiten (Prozessbegleitende Prüfungen. Kundenspezifische Prüfpläne) sind vorha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hr gute Betreuung durch jw-consul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44A609-F889-47F2-BA3E-E694D1F8C3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Vorteile durch neues System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86400" indent="-864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kung der laufenden Hardwarebetriebskosten um 250 TDM / 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6400" indent="-864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kung des Administrationsaufwan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6400" indent="-864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heitliche Stammdatenpf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6400" indent="-864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ine Schnittstelle zu Fremd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6400" indent="-864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 in Logistikprozess im S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6400" indent="-864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es unter einer Oberfläche im SAP R/3 integri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6400" indent="-864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ine Zusatzsoftware mehr am PC notwen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6400" indent="-864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in Medienbruch bei Historie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6400" indent="-864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baufähigkeit für Erweiterungen wie Prozessdaten, Daten aus Anwendungstechnik, Ermittlung Qualitätsko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6400" indent="-864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he Akzeptanz bei den Anwend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64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27BDF1-1E73-4851-A81D-9B07CB94DC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4000" y="2666880"/>
            <a:ext cx="76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Vielen Dank für Ihre Aufmerksamkeit 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DBD221-3A23-4418-9584-A8270CEAD4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74840" y="1295280"/>
            <a:ext cx="8381880" cy="4946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5720" y="2362320"/>
            <a:ext cx="813600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5720" y="1905120"/>
            <a:ext cx="813600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5720" y="2819520"/>
            <a:ext cx="813600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5720" y="3200400"/>
            <a:ext cx="813600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5720" y="3581280"/>
            <a:ext cx="813600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5720" y="4102200"/>
            <a:ext cx="813600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5720" y="4432320"/>
            <a:ext cx="813600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7960" y="1392120"/>
            <a:ext cx="83170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mengründu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1. Juli 1993 als 50:50 Joint Venture der Hoechst AG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( jetzt Celanese AG) und der Wacker-Chemie Gmb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9760" y="1925640"/>
            <a:ext cx="83167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mensitz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Ismaning bei Münch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9760" y="2382840"/>
            <a:ext cx="83167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msatz (1998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881 Mio DM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9760" y="2840040"/>
            <a:ext cx="831672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tarbeit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ca. 13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7960" y="3220920"/>
            <a:ext cx="83170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ktionsstätt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Burghausen, Gendorf, Knapsack und Köl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7960" y="3602160"/>
            <a:ext cx="83170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ktionskapazität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V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570 kt / Jah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CM (2000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285 kt / Jah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9760" y="4491000"/>
            <a:ext cx="83167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fwand für Forschung und Anwendungstechni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ca. 18 Mio DM / Jah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7960" y="4834080"/>
            <a:ext cx="83170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fwand im Bereich Umweltschutz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ca. 15 Mio DM / Jah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7960" y="4160880"/>
            <a:ext cx="83170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VC-Exportanteil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&gt; 52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800" y="836640"/>
            <a:ext cx="4267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Vinnolit - Zahlen und Fak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5720" y="4800600"/>
            <a:ext cx="813600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5720" y="5105520"/>
            <a:ext cx="813600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9760" y="5126040"/>
            <a:ext cx="8316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ätsmanagement-Zertifika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1995 nach DIN EN ISO 900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5720" y="5715000"/>
            <a:ext cx="813600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7960" y="5735520"/>
            <a:ext cx="8317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G-Öko-Audit und Zertifizierung aller Produktionsstandor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199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ch DIN EN ISO 1400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AB0BB-DC04-4C5D-8226-80B6E4C7DD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80880" y="762120"/>
          <a:ext cx="6858000" cy="547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62120"/>
                    <a:ext cx="6858000" cy="54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BC150C-BEA0-4E24-AC54-571873B8B9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0666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„</a:t>
            </a: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Alt“-System für QS und F&amp;E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56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entwicklung (UNIFACE) mit Auswertemöglichkeit (Java basiert) über WEB Browser mi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chnittstelle zu SA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ch SAP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ätsstufe pro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 SAP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anddaten (Produkt, Kunde, Menge, Charg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efersche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gengerü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 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. 800 PVKs in S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0 Ku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000 APZ / 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00 Qualitätsvereinbarungen (incl. Historie) mit Ku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6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CD1A2D-23FF-4258-A196-9F95D54CA4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56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Aufgaben ALT System</a:t>
            </a: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56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waltung Qualitätsvereinbarungen mit Ku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waltung von Produktspezifika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enregistrierung und Meßwerterfassung (Endprodukt, F&amp;E, Frem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igabe von Char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Z (Abnahmeprüfzeugnis) Verwalt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waltung von Forschungsdaten (Rezepturen, Ansätz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fangreiche Auswertemöglichkeiten und Statisti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e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zess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e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ten aus Anwendungstechnischen Versuchen (Burghaus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DB5057-694E-4EF1-8ED2-C8140C2101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Ausgangssituation 1998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ünde für Ablös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ine Jahr2000 Kompatibilitä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ine Integration in SAP Prozesske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riebskosten der Hardware- und Softwareplattform mittelfristig zu h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 starke Wissenskonzentration (Fachbereich und Informati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ünde gegen Ablös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% der Anforderungen (für QS und F&amp;E) implementi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vorragende Auswertemöglich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e Historiedaten (seit 197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 von F&amp;E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232C34-A6D5-42CA-BE82-7B77AAC753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566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Variantenbewertung (01-04‘1998)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566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ariante 1: Alt-System portieren auf neue Plat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nell machbar, geringste Entwicklungsko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e Hardware, neues SW Know How notwendig, keine SA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ariante 2: In SAP mittels ABAP/4 komplett selbst entwick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ale Anpassung mögl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her Entwicklungsaufwand-(Kost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5800" y="4280040"/>
            <a:ext cx="8499600" cy="1882800"/>
          </a:xfrm>
          <a:prstGeom prst="rect">
            <a:avLst/>
          </a:prstGeom>
          <a:solidFill>
            <a:srgbClr val="fcfdc6"/>
          </a:solidFill>
          <a:ln w="12600">
            <a:solidFill>
              <a:srgbClr val="003b3b"/>
            </a:solidFill>
            <a:miter/>
          </a:ln>
          <a:effectLst>
            <a:outerShdw dist="107932" dir="2700000" blurRad="0" rotWithShape="0">
              <a:srgbClr val="003b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ariante 3: QM Modul + Add-Ons für fehlende Funktionalitä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e laufende Kosten, schneller implementierbar, gute Anpassu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ögli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P QM nicht ausgereift, ABAP/4 Programmieraufwand, interne SA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nittste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3860A2-760A-47D0-8E36-C0CFD9B456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Variantenauswahl (05‘1998-02‘1999)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566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9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AP QM Funktionalität im Rel. 3.0F unzureiche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000" indent="-90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npflicht zwingend notwen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000" indent="-90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wertemöglichkeiten nur bedingt taug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000" indent="-90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inerlei Funktionalität für F&amp;E, Fremdprodukte (ohne Materialstamm im S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z. 1999: Besuch bei sivento Chemie in Rheinfel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000" indent="-90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P QM plus QM-I von jw-consulting schien die geeignete Lösung für Vinnolit zu s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000" indent="-90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ebr. 1999: Besuch bei Wettbewerber, der Standard QM einsetz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000" indent="-90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ht für Vinnolit taug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53AB70-3516-474E-8720-11B8856BBA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1066680"/>
            <a:ext cx="8356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Meilensteine des Projekt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1752480"/>
            <a:ext cx="6172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bkonzept für Ablösu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.04.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sibility Studie SAP Q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.05.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utachtung Sivento Lösu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‘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uch Wettbewerb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‘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scheidung für jw-Consulting QM-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2‘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ktst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.03.9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inkonzep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.03.9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tigstellung Prototy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.10.99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tivstart F&amp;E Teil u. Chargenpflic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.11.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ulu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12.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tivstart (mit Parallelbetrieb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.12.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chaltung Alt Syste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.12.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kten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.01.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1066680"/>
            <a:ext cx="2743200" cy="4060080"/>
          </a:xfrm>
          <a:prstGeom prst="rect">
            <a:avLst/>
          </a:prstGeom>
          <a:solidFill>
            <a:srgbClr val="fcfdc6"/>
          </a:solidFill>
          <a:ln w="12600">
            <a:solidFill>
              <a:srgbClr val="003b3b"/>
            </a:solidFill>
            <a:miter/>
          </a:ln>
          <a:effectLst>
            <a:outerShdw dist="107932" dir="2700000" blurRad="0" rotWithShape="0">
              <a:srgbClr val="003b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ktteam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KA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Engelman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Fritzsch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Grau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itung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 Maier, C. Hein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nnolit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. Schütz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r. Keul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r. Gruber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r. Eberherr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r. Speng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w-consulting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Winkler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r. Fante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r. Mickley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r. Nestl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Knipp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FC183E-1503-4A26-8218-E5FDEC2CED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5T13:00:21Z</dcterms:created>
  <dc:creator>Administrator</dc:creator>
  <dc:description/>
  <dc:language>en-US</dc:language>
  <cp:lastModifiedBy>ARS</cp:lastModifiedBy>
  <cp:lastPrinted>2000-02-14T14:32:26Z</cp:lastPrinted>
  <dcterms:modified xsi:type="dcterms:W3CDTF">2000-02-21T15:37:32Z</dcterms:modified>
  <cp:revision>25</cp:revision>
  <dc:subject/>
  <dc:title>Kein Folientitel</dc:title>
</cp:coreProperties>
</file>