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278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BAD27-3BDF-43C5-B691-C639CC7D9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56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206960"/>
            <a:ext cx="8356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080F2-EB32-42AC-BC3C-E58323BC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38680" y="2057400"/>
            <a:ext cx="40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206960"/>
            <a:ext cx="40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38680" y="4206960"/>
            <a:ext cx="40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5097D-30F4-4CFD-B0EC-E523E1A38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69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82480" y="2057400"/>
            <a:ext cx="269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8120" y="2057400"/>
            <a:ext cx="269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206960"/>
            <a:ext cx="269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82480" y="4206960"/>
            <a:ext cx="269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8120" y="4206960"/>
            <a:ext cx="269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35E0C-555C-426D-B270-68ADE5177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ED004-353F-4449-9850-6629CA562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8356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3CC25F-E2C4-4DC3-BEE4-925FF227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56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55002-D5D0-4813-8114-BC13D951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77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8680" y="2057400"/>
            <a:ext cx="4077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DB154-6C26-4118-9E3D-AFCBAC77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B5564-2B51-41AA-B601-58B20634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1066320"/>
            <a:ext cx="83566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A9553-ACAC-4582-AD4D-9F52937F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38680" y="2057400"/>
            <a:ext cx="4077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06960"/>
            <a:ext cx="40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41F0E-C4E7-4F43-A9BD-33805FF5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8356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61F2B-2F35-4A97-8F66-DE36F852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77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38680" y="2057400"/>
            <a:ext cx="40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38680" y="4206960"/>
            <a:ext cx="40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95C75-4317-42DB-AD3B-282FACC6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8680" y="2057400"/>
            <a:ext cx="40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206960"/>
            <a:ext cx="8356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CFE43-07E7-48D7-9D63-7353DFA5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56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206960"/>
            <a:ext cx="8356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32302-81E6-4F37-BAD4-68BBFDC4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8680" y="2057400"/>
            <a:ext cx="40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206960"/>
            <a:ext cx="40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38680" y="4206960"/>
            <a:ext cx="40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88D9D-92AE-4A0A-944C-7518FB3C9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69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2480" y="2057400"/>
            <a:ext cx="269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08120" y="2057400"/>
            <a:ext cx="269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206960"/>
            <a:ext cx="269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2480" y="4206960"/>
            <a:ext cx="269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08120" y="4206960"/>
            <a:ext cx="2690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4623F-16F5-40C9-A093-F878E098D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56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77403-ED95-4440-99F4-B470A158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77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38680" y="2057400"/>
            <a:ext cx="4077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4B812-B3ED-4FE1-A4EE-72D3D297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532E5-525C-4009-8850-934BE375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066320"/>
            <a:ext cx="83566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CF239-C65E-4756-8745-8F39C81E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8680" y="2057400"/>
            <a:ext cx="4077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206960"/>
            <a:ext cx="40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A3C49-81B2-477F-B8CC-A5099481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77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8680" y="2057400"/>
            <a:ext cx="40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38680" y="4206960"/>
            <a:ext cx="40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1B8E0-7C24-41D1-AFE3-3743AAC8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8680" y="2057400"/>
            <a:ext cx="40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206960"/>
            <a:ext cx="8356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D2B35-3738-49B8-B745-DE6E614E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057400"/>
            <a:ext cx="8356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499"/>
              </a:spcBef>
              <a:buClr>
                <a:srgbClr val="d60093"/>
              </a:buClr>
              <a:buSzPct val="6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c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54840" y="6409800"/>
            <a:ext cx="9856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3b3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45DB-E49B-465D-BA91-E3A0F55F1439}" type="datetime">
              <a:rPr b="0" lang="en-US" sz="800" spc="-1" strike="noStrike">
                <a:solidFill>
                  <a:srgbClr val="003b3b"/>
                </a:solidFill>
                <a:latin typeface="Arial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2625480" y="6409800"/>
            <a:ext cx="63324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3b3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b3b"/>
                </a:solidFill>
                <a:latin typeface="Arial"/>
              </a:rPr>
              <a:t>Seite </a:t>
            </a:r>
            <a:fld id="{0A0A4930-2845-4BA3-95E3-8F33C24EABA8}" type="slidenum">
              <a:rPr b="0" lang="en-US" sz="800" spc="-1" strike="noStrike">
                <a:solidFill>
                  <a:srgbClr val="003b3b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485280" y="6418080"/>
            <a:ext cx="2109960" cy="27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3b3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b3b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3b3b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SLOG" descr=""/>
          <p:cNvPicPr/>
          <p:nvPr/>
        </p:nvPicPr>
        <p:blipFill>
          <a:blip r:embed="rId2"/>
          <a:stretch/>
        </p:blipFill>
        <p:spPr>
          <a:xfrm>
            <a:off x="7315200" y="444600"/>
            <a:ext cx="1579680" cy="6062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80880" y="6324480"/>
            <a:ext cx="8534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80880" y="838080"/>
            <a:ext cx="6934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8960" y="1676160"/>
            <a:ext cx="796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954840" y="6409800"/>
            <a:ext cx="9856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1C93-FF86-4F92-A228-D3460D3720EB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5"/>
          </p:nvPr>
        </p:nvSpPr>
        <p:spPr>
          <a:xfrm>
            <a:off x="2625480" y="6409800"/>
            <a:ext cx="63324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35C32BD1-6E28-49B4-A4A4-91C3BC7DDB3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6"/>
          </p:nvPr>
        </p:nvSpPr>
        <p:spPr>
          <a:xfrm>
            <a:off x="485280" y="6418080"/>
            <a:ext cx="2109960" cy="27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066680"/>
            <a:ext cx="8534160" cy="0"/>
          </a:xfrm>
          <a:prstGeom prst="line">
            <a:avLst/>
          </a:prstGeom>
          <a:ln w="50760">
            <a:solidFill>
              <a:srgbClr val="e000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LOGO0497" descr=""/>
          <p:cNvPicPr/>
          <p:nvPr/>
        </p:nvPicPr>
        <p:blipFill>
          <a:blip r:embed="rId2"/>
          <a:stretch/>
        </p:blipFill>
        <p:spPr>
          <a:xfrm>
            <a:off x="7058160" y="181080"/>
            <a:ext cx="1792080" cy="500040"/>
          </a:xfrm>
          <a:prstGeom prst="rect">
            <a:avLst/>
          </a:prstGeom>
          <a:ln w="0">
            <a:noFill/>
          </a:ln>
        </p:spPr>
      </p:pic>
      <p:pic>
        <p:nvPicPr>
          <p:cNvPr id="50" name="LOGOSLOG" descr=""/>
          <p:cNvPicPr/>
          <p:nvPr/>
        </p:nvPicPr>
        <p:blipFill>
          <a:blip r:embed="rId3"/>
          <a:stretch/>
        </p:blipFill>
        <p:spPr>
          <a:xfrm>
            <a:off x="6553080" y="0"/>
            <a:ext cx="2341800" cy="898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6324480"/>
            <a:ext cx="8534160" cy="0"/>
          </a:xfrm>
          <a:prstGeom prst="line">
            <a:avLst/>
          </a:prstGeom>
          <a:ln w="50760">
            <a:solidFill>
              <a:srgbClr val="e800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60093"/>
              </a:buClr>
              <a:buSzPct val="6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cc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752120"/>
            <a:ext cx="817416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Ablösung des „Alt“-Systems für die Qualitätssicherung und Forschung </a:t>
            </a:r>
            <a:br>
              <a:rPr sz="3000"/>
            </a:b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durch</a:t>
            </a:r>
            <a:br>
              <a:rPr sz="3000"/>
            </a:b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Einführung des SAP R/3 QM Implantats von jw-consulting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99840" y="4876920"/>
            <a:ext cx="59086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.02.2000 in Frankfu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2E862B3-FD45-4F06-A78C-2CAC39FB52B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Zusammenfassung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56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2160" indent="-92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m 01.01.2000 war komplettes System produkt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führung der Chargenpflicht war größtes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konnte schrittweise produktiv gesetz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r durch das QM-I konnten die Anforderungen 100 % abgedeck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e Historiedaten konnten übernommen werden (kein Bruch bei Langzeitauswertung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he Akzeptanz der Anw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sere Auswertemöglichkeiten als vor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iräume für weitere Nutzungsmöglichkeiten (Prozessbegleitende Prüfungen. Kundenspezifische Prüfpläne) sind vorha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hr gute Betreuung durch jw-consul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0D2D07-8051-4C58-9CEF-9EAD66D1287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Vorteile durch neues System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356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86400" indent="-864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kung der laufenden Hardwarebetriebskosten um 250 TDM / Ja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6400" indent="-864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kung des Administrationsaufwan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6400" indent="-864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heitliche Stammdatenpfl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6400" indent="-864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ine Schnittstelle zu Fremd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6400" indent="-864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on in Logistikprozess im S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6400" indent="-864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es unter einer Oberfläche im SAP R/3 integri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6400" indent="-864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ine Zusatzsoftware mehr am PC notwend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6400" indent="-864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in Medienbruch bei Historie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6400" indent="-864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baufähigkeit für Erweiterungen wie Prozessdaten, Daten aus Anwendungstechnik, Ermittlung Qualitätsko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6400" indent="-864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he Akzeptanz bei den Anwend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64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91A810-A29D-4782-8D74-F979E7621A3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4000" y="2666880"/>
            <a:ext cx="76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Vielen Dank für Ihre Aufmerksamkeit 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0EAF57-4178-4427-92A3-EB4AC2F95D9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74840" y="1295280"/>
            <a:ext cx="8381880" cy="4946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5720" y="2362320"/>
            <a:ext cx="813600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5720" y="1905120"/>
            <a:ext cx="813600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5720" y="2819520"/>
            <a:ext cx="813600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5720" y="3200400"/>
            <a:ext cx="813600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5720" y="3581280"/>
            <a:ext cx="813600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5720" y="4102200"/>
            <a:ext cx="813600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5720" y="4432320"/>
            <a:ext cx="813600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7960" y="1392120"/>
            <a:ext cx="83170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mengründu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1. Juli 1993 als 50:50 Joint Venture der Hoechst AG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( jetzt Celanese AG) und der Wacker-Chemie Gmb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9760" y="1925640"/>
            <a:ext cx="83167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mensitz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Ismaning bei Münch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9760" y="2382840"/>
            <a:ext cx="83167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msatz (1998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881 Mio DM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9760" y="2840040"/>
            <a:ext cx="831672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tarbeit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ca. 13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7960" y="3220920"/>
            <a:ext cx="83170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ktionsstätt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Burghausen, Gendorf, Knapsack und Köl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7960" y="3602160"/>
            <a:ext cx="83170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ktionskapazität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V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570 kt / Jah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CM (2000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285 kt / Jah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9760" y="4491000"/>
            <a:ext cx="83167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fwand für Forschung und Anwendungstechni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ca. 18 Mio DM / Jah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7960" y="4834080"/>
            <a:ext cx="83170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fwand im Bereich Umweltschutz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ca. 15 Mio DM / Jah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7960" y="4160880"/>
            <a:ext cx="83170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VC-Exportanteil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&gt; 52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800" y="836640"/>
            <a:ext cx="4267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Vinnolit - Zahlen und Fak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5720" y="4800600"/>
            <a:ext cx="813600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5720" y="5105520"/>
            <a:ext cx="813600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9760" y="5126040"/>
            <a:ext cx="8316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ätsmanagement-Zertifika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1995 nach DIN EN ISO 9001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5720" y="5715000"/>
            <a:ext cx="813600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7960" y="5735520"/>
            <a:ext cx="8317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G-Öko-Audit und Zertifizierung aller Produktionsstandor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199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ch DIN EN ISO 14001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9A8DB9-B6A9-4610-94BE-F79EF479EF6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80880" y="762120"/>
          <a:ext cx="6858000" cy="547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762120"/>
                    <a:ext cx="6858000" cy="54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BE2D62-E7DE-4D91-B7ED-FB62E7F860D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066680"/>
            <a:ext cx="83566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„</a:t>
            </a: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Alt“-System für QS und F&amp;E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56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entwicklung (UNIFACE) mit Auswertemöglichkeit (Java basiert) über WEB Browser mi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chnittstelle zu SA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ch SAP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ätsstufe pro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 SAP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anddaten (Produkt, Kunde, Menge, Charg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efersche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gengerü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 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. 800 PVKs in S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0 Ku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000 APZ / Ja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00 Qualitätsvereinbarungen (incl. Historie) mit Ku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6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E17B19-513D-4A86-BECA-5827B2415E3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56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Aufgaben ALT System</a:t>
            </a: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56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waltung Qualitätsvereinbarungen mit Ku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waltung von Produktspezifika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enregistrierung und Meßwerterfassung (Endprodukt, F&amp;E, Frem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igabe von Char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Z (Abnahmeprüfzeugnis) Verwaltu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zepturverwal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waltung von Forschungsdaten (Rezepturen, Ansätz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fangreiche Auswertemöglichkeiten und Statisti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ke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zess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ke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ten aus Anwendungstechnischen Versuchen (Burghaus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4060FE-1F02-475B-873D-2D6F27AA432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56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Ausgangssituation 1998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ünde für Ablösu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ine Jahr2000 Kompatibilitä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ine Integration in SAP Prozesske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riebskosten der Hardware- und Softwareplattform mittelfristig zu ho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 starke Wissenskonzentration (Fachbereich und Informati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ünde gegen Ablösu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% der Anforderungen (für QS und F&amp;E) implementi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vorragende Auswertemöglich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e Historiedaten (seit 197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on von F&amp;E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788B07-7DC3-43DB-99FC-ABF934160A8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566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Variantenbewertung (01-04‘1998)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566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ariante 1: Alt-System portieren auf neue Plat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nell machbar, geringste Entwicklungsko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e Hardware, neues SW Know How notwendig, keine SA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ariante 2: In SAP mittels ABAP/4 komplett selbst entwicke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ale Anpassung mögl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her Entwicklungsaufwand-(Kost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5800" y="4280040"/>
            <a:ext cx="8499600" cy="1882800"/>
          </a:xfrm>
          <a:prstGeom prst="rect">
            <a:avLst/>
          </a:prstGeom>
          <a:solidFill>
            <a:srgbClr val="fcfdc6"/>
          </a:solidFill>
          <a:ln w="12600">
            <a:solidFill>
              <a:srgbClr val="003b3b"/>
            </a:solidFill>
            <a:miter/>
          </a:ln>
          <a:effectLst>
            <a:outerShdw dist="107932" dir="2700000" blurRad="0" rotWithShape="0">
              <a:srgbClr val="003b3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ariante 3: QM Modul + Add-Ons für fehlende Funktionalitä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e laufende Kosten, schneller implementierbar, gute Anpassu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ögli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P QM nicht ausgereift, ABAP/4 Programmieraufwand, interne SA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nittste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565B96-C26B-44DB-A785-5D3E5A8092E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566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Variantenauswahl (05‘1998-02‘1999)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566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9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AP QM Funktionalität im Rel. 3.0F unzureiche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000" indent="-90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npflicht zwingend notwend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000" indent="-90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wertemöglichkeiten nur bedingt taug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000" indent="-90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inerlei Funktionalität für F&amp;E, Fremdprodukte (ohne Materialstamm im S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z. 1999: Besuch bei sivento Chemie in Rheinfel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000" indent="-90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P QM plus QM-I von jw-consulting schien die geeignete Lösung für Vinnolit zu s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000" indent="-90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ebr. 1999: Besuch bei Wettbewerber, der Standard QM einsetz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000" indent="-90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ht für Vinnolit taug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49ECDC-77FB-4A98-80C8-E5C0B6E4CC9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1066680"/>
            <a:ext cx="8356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Meilensteine des Projekt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1752480"/>
            <a:ext cx="6172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bkonzept für Ablösu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.04.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sibility Studie SAP Q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.05.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utachtung Sivento Lösu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‘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uch Wettbewerb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‘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scheidung für jw-Consulting QM-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2‘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ktst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.03.9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inkonzep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.03.9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tigstellung Prototy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.10.99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ktivstart F&amp;E Teil u. Chargenpflich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.11.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ulu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12.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ktivstart (mit Parallelbetrieb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.12.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chaltung Alt Syste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.12.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kten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.01.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1066680"/>
            <a:ext cx="2743200" cy="4060080"/>
          </a:xfrm>
          <a:prstGeom prst="rect">
            <a:avLst/>
          </a:prstGeom>
          <a:solidFill>
            <a:srgbClr val="fcfdc6"/>
          </a:solidFill>
          <a:ln w="12600">
            <a:solidFill>
              <a:srgbClr val="003b3b"/>
            </a:solidFill>
            <a:miter/>
          </a:ln>
          <a:effectLst>
            <a:outerShdw dist="107932" dir="2700000" blurRad="0" rotWithShape="0">
              <a:srgbClr val="003b3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ktteam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KA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Engelman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Fritzsch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Grau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itung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 Maier, C. Heinz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nnolit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. Schütz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r. Keul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r. Gruber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r. Eberherr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r. Speng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w-consulting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Winkler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r. Fante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r. Mickley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r. Nestl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Knipp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5CEA59-1B76-4B1F-9889-92509411A5A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5T13:00:21Z</dcterms:created>
  <dc:creator>Administrator</dc:creator>
  <dc:description/>
  <dc:language>en-US</dc:language>
  <cp:lastModifiedBy>ARS</cp:lastModifiedBy>
  <cp:lastPrinted>2000-02-14T14:32:26Z</cp:lastPrinted>
  <dcterms:modified xsi:type="dcterms:W3CDTF">2000-02-21T15:37:32Z</dcterms:modified>
  <cp:revision>25</cp:revision>
  <dc:subject/>
  <dc:title>Kein Folientitel</dc:title>
</cp:coreProperties>
</file>