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erzlich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illkommen zum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SAP QM-Intensivworkshop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m Lindner Congress Hotel Frankfur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13.04.2000</a:t>
            </a:r>
            <a:r>
              <a:rPr b="1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63244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 /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as SAP R/3-System und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Add-Ons von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98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99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111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17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23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29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35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41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53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59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65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71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77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83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208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214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25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31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36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47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304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17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48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04920" y="6248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0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15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esonderheit der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7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t in der Lage, viele SAP R/3 Module in kurzer Zeit mit hoher Qualität und Funktionalität einzufüh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etet on top dem Kunden release-feste Add-ons zur Einführung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1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Ziel der Veranstaltu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zeigen von R/3-Funktionalitäten im Standard und darüber hinaus mit Hilfe von Add-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mitteln von Erfahrungen und Know-h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nehmen von neuen Kontak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2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6400800"/>
            <a:ext cx="934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2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335232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P R/3 QM und das integrierte 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unden-, Lieferanten- und andere Spezifik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genverwendungsnachw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gen in der  logistischen K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eferantenbeurtei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-process Kontr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609480"/>
            <a:ext cx="7239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P QM-Intensivworksho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ür die chemische und pharmazeutische Industrie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400800"/>
            <a:ext cx="934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3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327672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82760" indent="-4827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iertes LIMS auch für die Forsch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welt- und Abfall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endaten 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kussion mit den Teilnehmern zu weiteren Themen sowie Fragen hinsichtlich der jeweiligen unternehmenseigenen Anforder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09480"/>
            <a:ext cx="7239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P QM-Intensivworksho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ür die chemische und pharmazeutische Industrie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r Start von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Beratungsunternehmen </a:t>
            </a:r>
            <a:r>
              <a:rPr b="0" lang="en-US" sz="32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consul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urde am 1. Juli 1996 von Dr. Jochen Winkler gegründ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48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4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479760"/>
            <a:ext cx="77724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Anfang an spezialisierte sich das Unternehmen auf die komplette Einfüh-rung von SAP R/3 Systemen in Unter-nehmen der chemischen Indust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766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5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514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2286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5146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htigstes Ziel der </a:t>
            </a:r>
            <a:r>
              <a:rPr b="0" lang="en-US" sz="3200" spc="-1" strike="noStrike">
                <a:solidFill>
                  <a:srgbClr val="ff0066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nsul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t ein sicherer Produktivstart und eine hohe Akzeptanz der Anwen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laufstelle für Fragen zum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ternehmen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hre direkten Ansprechpartner sin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. Jochen Wink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xel Rötheme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ttp://www.jwconsulting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6324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6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ternehmensausrichtung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nd heute: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che Indus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zeutische Indus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bensmittelindustrie (in der Startphas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324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7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M Polyolefine GmbH, Gelsenkir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cker Chemie GmbH, Nünchritz, Burghau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üls Sivento Chemie GmbH, Rheinfel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cor GmbH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harinenhospital, Stuttg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nolit Kunststoff GmbH, Ism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AG (Creanova)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a Medica AG und Arzneimittelwerk Dresden GmbH (AWD), Radebeul, Künsebeck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AG, Frankfurt (Charme-Proj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rfahrungen</a:t>
            </a:r>
            <a:br>
              <a:rPr sz="40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Auswahl -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360" y="6248520"/>
            <a:ext cx="93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8 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1:20:53Z</dcterms:created>
  <dc:creator>ARS</dc:creator>
  <dc:description/>
  <dc:language>en-US</dc:language>
  <cp:lastModifiedBy>Dr.Jochen Winkler</cp:lastModifiedBy>
  <cp:lastPrinted>2000-02-11T08:45:24Z</cp:lastPrinted>
  <dcterms:modified xsi:type="dcterms:W3CDTF">2000-04-20T08:41:33Z</dcterms:modified>
  <cp:revision>63</cp:revision>
  <dc:subject/>
  <dc:title>SAP QM-Workshop der  jw consulting  17. 02.2000 </dc:title>
</cp:coreProperties>
</file>