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SAP R/3 QM Workshop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folgsfaktoren für S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raussetzungen für ein integriertes SAP-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forderungen an ein solches 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folgsfaktoren für die Einfüh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wicklungsprinzipien </a:t>
            </a:r>
            <a:r>
              <a:rPr b="0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rstellung ausgewählter Projek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ku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eich Forschung &amp; Entwickl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enabwick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knüpfung von beliebigen Dokum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mdmuster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tätsprüfungen (in Plan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erte Projektabwicklung über Modul PS     (in Plan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tere Bereiche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weltschu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enabwick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sches, automatisches Anlegen von 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stellen von Berich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sche Prüfkostenabrech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tere Bereiche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dhaltung (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üfmittelverwaltung innerhalb Q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librierpla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librieraufträ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librier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ktionsplanung und -abwicklung innerhalb PM mittels Prüfaufträgen in Q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tere Bereiche (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 / FI (in Entwickl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l integrierte automatische Abwicklung für Dienstleistungslab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bindung von Kunden über Intra- und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- und GMP-kompati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Erfolgsfaktoren bei der Realisierung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bau auf einem erprobten Prototy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chen Know-H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fahrenes, eingespieltes Berater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ale Unterstützung durch 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Entwicklungsprinzipien (I)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ine Modifikation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le Releasefähig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ktive Modellierung komplexer technologischer Proz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nung Oberfläche von  Daten und Funk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utzerdefinierte Menüs und Mas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führliche Funktions- und Anwendungsdok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Entwicklungsprinzipien (II)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der Geschäftsprozesse (z.B. LI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öglichst Vermeidung von bidirektionalen Kopplun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ierte Einbindung von Pre- und Postprozesso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zwerke von Systemen (ALE/IDO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zenten (z.B. Chemiewer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nstleister (z.B. Zentraleinkau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nden, Liefera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wicklung aller anfallenden Prüf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igabe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zessbegleitende 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welt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schungs- und Entwicklungs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der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ndanzfreie Q-Sicht auf Bestä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ntrale Datenh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22860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chgängig probenbezogene Prüf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enregistri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enverw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en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sourcen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fassende Such- und Auswertefunk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22860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I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t-Trail-Funk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ugriffsschutz / Datensicherh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enahmeplan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ellarische Werteerfass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zifikationsverw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sche Prüfkostenabrechn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Projekte (I)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zialisierung auf Prozeßindustrie seit 19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olen GmbH, Gelsenkir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üls AG, Mar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üls Silicone GmbH, Nünchr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A GmbH, Nünchr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vento Chemie Rheinfelden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vento Chemie GmbH, Düsseldo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IV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scher Zertifikatsdr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gleich aller Bestände bei Spezifikationsänder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 ungeplanten Proben sind alle Prüfparameter bis zur Ergebniseingabe modifizi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üfumfang ungeplanter Proben kann aus allen Prüfplänen und / oder Spezifikationen frei zusammengestellt werd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V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üfung (VE) gegen alle Spezifikationen eines Stoff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stellung des Verwendungsentscheids für alle Spezifikationen eines Stoff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ierte Änderungsfunktion für Haltbar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üfrhythmen für alle Merkm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bildung, mit automatischer Mittelwertberechnung der Prüfwerte und automatischen Materialumbuchung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Freigabeprobe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rcRect l="0" t="0" r="0" b="26800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Sonderprobe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rcRect l="0" t="0" r="0" b="22114"/>
          <a:stretch/>
        </p:blipFill>
        <p:spPr>
          <a:xfrm>
            <a:off x="228600" y="838080"/>
            <a:ext cx="86868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Sonderprobe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Parameterauswahl (I)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3"/>
          <a:srcRect l="0" t="0" r="0" b="20003"/>
          <a:stretch/>
        </p:blipFill>
        <p:spPr>
          <a:xfrm>
            <a:off x="304920" y="1295280"/>
            <a:ext cx="8610480" cy="5166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Sonderprobe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Parameterauswahl (II)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rcRect l="0" t="0" r="0" b="21573"/>
          <a:stretch/>
        </p:blipFill>
        <p:spPr>
          <a:xfrm>
            <a:off x="304920" y="1371600"/>
            <a:ext cx="8686800" cy="511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Werteeingabe Sonderprobe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rcRect l="0" t="0" r="0" b="24448"/>
          <a:stretch/>
        </p:blipFill>
        <p:spPr>
          <a:xfrm>
            <a:off x="457200" y="11430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V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weiterungen im Projekt CHAR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scher, periodischer Prüfansto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Valid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zeptionelle Erweiterungen 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ationsstrukturen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üfungen über mehrere Lab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wicklung fremdvergebener 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üfmittel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libr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Freigabeprobe 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neu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rcRect l="0" t="0" r="0" b="39543"/>
          <a:stretch/>
        </p:blipFill>
        <p:spPr>
          <a:xfrm>
            <a:off x="228600" y="1295280"/>
            <a:ext cx="8686800" cy="5145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ivento Chemie Rhf. GmbH (V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spiele für mögliche funktionelle Erweiter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engefäß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ückstellmuster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waltung von Hilfsstoffen und Reagenzi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chluß von Meßgeräten / Barcodeles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Projekte (II)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0948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nolit Kunststoff Gmb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GB Creanova Lackrohstof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GB Creanova Technische Kunststof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A Medica 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DH GB Creanova Lackrohstoff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ktumf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isierung der 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wicklung Produktend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sche Chargenf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sch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elle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teübergabe an „Verpackte Charge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sche Übernahme von Prüfwer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xible Zusammenfassung von Zertifikatswer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DH GB Creanova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echnische Kunststoff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ktumf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isierung der 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wicklung aller Prüfungen in der logistischen K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sche Chargenf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sch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nahme recherchierbarer Historiendaten aus diversen Altsyst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elle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ierte Funktion zur Prüfkörperherstellung und -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STA Medica A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ktumfa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bindung externes LI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wicklung aller Prüfungen entlang der logistischen K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elle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weiterte Chargenzustands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weiterte, manuell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scher Chargenspl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weiterte Funktionen zur Nachuntersuch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Manuelle Zertifikat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rcRect l="0" t="0" r="31732" b="0"/>
          <a:stretch/>
        </p:blipFill>
        <p:spPr>
          <a:xfrm>
            <a:off x="914400" y="914400"/>
            <a:ext cx="7391520" cy="5715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Vorteile des integrierten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SAP-LIMS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here Produktionsstarts durch Aufbau auf Prototy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ze Einführungsz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elle Funktionalitä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meidung von Schnittstel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ine Datenredundan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heitliche Daten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Vorteile des integrierten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SAP-LIMS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ine zusätzlich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ine zusätzliche 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elle Masken, aber Standard SAP Oberflä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elle Bedien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weiterbar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Ergebn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an die individuellen Prozesse und Bedürfnisse des Kunden angepaßtes Syst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tel- und langfristig erheblichen Kostenvortei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eckung aller Geschäftsproz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ernehmensweite einheitliche Daten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ernehmensweite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nkonsist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ine ungewollten Redundan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chgängige Transparenz der Proz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erung von Proze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zung von Synergi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enreduzi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nittste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stige lfd.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zienzsteig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einfachung von technologischen Up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fügbarkeit und Qualität von Information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über den gesamten Produktlebenszyk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lang des gesamten primären logistischen Proz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Voraussetzungen für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erstützung aller unternehmensweit anfallenden Anforderung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zfristig verfüg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ukunftssicheres Konz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ahlb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ienb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eich Logistik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gungsbegleitende 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igabe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sch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derprüfungen (ungepla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sche Überwachung Haltbar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sche Lieferantenbeurtei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eich Logistik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stellen und Bearbeiten v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ferantenreklam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ndenreklam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n Problemmeld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zifikationserstellung und -bearb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zifikations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en-US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ARS</cp:lastModifiedBy>
  <cp:lastPrinted>1998-06-23T09:46:52Z</cp:lastPrinted>
  <dcterms:modified xsi:type="dcterms:W3CDTF">2000-02-21T15:35:29Z</dcterms:modified>
  <cp:revision>90</cp:revision>
  <dc:subject/>
  <dc:title>Intergriertes SAP R/3 LIMS</dc:title>
</cp:coreProperties>
</file>