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7280" y="6459480"/>
            <a:ext cx="1379520" cy="27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D35848E-1DB7-4156-8B47-0D7E22519DD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66040" y="6477120"/>
            <a:ext cx="6174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v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5104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30. Nov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66680" y="1523880"/>
            <a:ext cx="2514600" cy="2590920"/>
            <a:chOff x="1066680" y="1523880"/>
            <a:chExt cx="2514600" cy="2590920"/>
          </a:xfrm>
        </p:grpSpPr>
        <p:sp>
          <p:nvSpPr>
            <p:cNvPr id="158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15238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800" y="2057400"/>
            <a:ext cx="1828800" cy="1145160"/>
            <a:chOff x="685800" y="2057400"/>
            <a:chExt cx="1828800" cy="1145160"/>
          </a:xfrm>
        </p:grpSpPr>
        <p:sp>
          <p:nvSpPr>
            <p:cNvPr id="162" name=""/>
            <p:cNvSpPr/>
            <p:nvPr/>
          </p:nvSpPr>
          <p:spPr>
            <a:xfrm rot="18942600">
              <a:off x="1447920" y="220968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990000">
              <a:off x="1969920" y="273960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5800" y="2895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1600" y="220968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1523880" y="205740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81480" y="1752480"/>
            <a:ext cx="3505320" cy="2768760"/>
            <a:chOff x="5181480" y="1752480"/>
            <a:chExt cx="3505320" cy="2768760"/>
          </a:xfrm>
        </p:grpSpPr>
        <p:sp>
          <p:nvSpPr>
            <p:cNvPr id="168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gradFill rotWithShape="0">
              <a:gsLst>
                <a:gs pos="0">
                  <a:srgbClr val="b1e4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2247840"/>
              <a:ext cx="2438640" cy="22734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4320" y="17524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5800" y="1143000"/>
            <a:ext cx="1371600" cy="1278000"/>
            <a:chOff x="685800" y="1143000"/>
            <a:chExt cx="1371600" cy="1278000"/>
          </a:xfrm>
        </p:grpSpPr>
        <p:sp>
          <p:nvSpPr>
            <p:cNvPr id="175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1143000"/>
              <a:ext cx="1371600" cy="12780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84373"/>
          <a:stretch/>
        </p:blipFill>
        <p:spPr>
          <a:xfrm>
            <a:off x="700200" y="990720"/>
            <a:ext cx="7772400" cy="911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0" r="0" b="83068"/>
          <a:stretch/>
        </p:blipFill>
        <p:spPr>
          <a:xfrm>
            <a:off x="690480" y="2743200"/>
            <a:ext cx="7799400" cy="99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8080" y="3809880"/>
            <a:ext cx="743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914400"/>
            <a:ext cx="792504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48223" b="66663"/>
          <a:stretch/>
        </p:blipFill>
        <p:spPr>
          <a:xfrm>
            <a:off x="728640" y="1084320"/>
            <a:ext cx="7696080" cy="3716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820400">
            <a:off x="6324480" y="1752120"/>
            <a:ext cx="304920" cy="533520"/>
          </a:xfrm>
          <a:prstGeom prst="upArrow">
            <a:avLst>
              <a:gd name="adj1" fmla="val 26731"/>
              <a:gd name="adj2" fmla="val 11012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gradFill rotWithShape="0">
            <a:gsLst>
              <a:gs pos="0">
                <a:srgbClr val="ace9a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gradFill rotWithShape="0">
            <a:gsLst>
              <a:gs pos="0">
                <a:srgbClr val="fe9f9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gradFill rotWithShape="0">
            <a:gsLst>
              <a:gs pos="0">
                <a:srgbClr val="fefe8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9" idx="2"/>
            <a:endCxn id="190" idx="0"/>
          </p:cNvCxnSpPr>
          <p:nvPr/>
        </p:nvCxnSpPr>
        <p:spPr>
          <a:xfrm>
            <a:off x="6514920" y="3048120"/>
            <a:ext cx="10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0" idx="2"/>
            <a:endCxn id="191" idx="0"/>
          </p:cNvCxnSpPr>
          <p:nvPr/>
        </p:nvCxnSpPr>
        <p:spPr>
          <a:xfrm>
            <a:off x="6514920" y="4343040"/>
            <a:ext cx="10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0" idx="2"/>
            <a:endCxn id="195" idx="3"/>
          </p:cNvCxnSpPr>
          <p:nvPr/>
        </p:nvCxnSpPr>
        <p:spPr>
          <a:xfrm flipV="1" rot="16200000">
            <a:off x="6052680" y="3880800"/>
            <a:ext cx="915120" cy="10440"/>
          </a:xfrm>
          <a:prstGeom prst="bentConnector4">
            <a:avLst>
              <a:gd name="adj1" fmla="val -37465"/>
              <a:gd name="adj2" fmla="val -156821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98680" y="22856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1143000"/>
            <a:ext cx="1478880" cy="1295280"/>
            <a:chOff x="685800" y="1143000"/>
            <a:chExt cx="1478880" cy="1295280"/>
          </a:xfrm>
        </p:grpSpPr>
        <p:sp>
          <p:nvSpPr>
            <p:cNvPr id="199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ace9ac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gradFill rotWithShape="0">
              <a:gsLst>
                <a:gs pos="0">
                  <a:srgbClr val="fe9f9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199" idx="2"/>
              <a:endCxn id="200" idx="0"/>
            </p:cNvCxnSpPr>
            <p:nvPr/>
          </p:nvCxnSpPr>
          <p:spPr>
            <a:xfrm>
              <a:off x="1257120" y="13633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3" name=""/>
            <p:cNvCxnSpPr>
              <a:stCxn id="200" idx="2"/>
              <a:endCxn id="201" idx="0"/>
            </p:cNvCxnSpPr>
            <p:nvPr/>
          </p:nvCxnSpPr>
          <p:spPr>
            <a:xfrm>
              <a:off x="1257120" y="19015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4" name=""/>
            <p:cNvCxnSpPr>
              <a:stCxn id="200" idx="2"/>
              <a:endCxn id="205" idx="3"/>
            </p:cNvCxnSpPr>
            <p:nvPr/>
          </p:nvCxnSpPr>
          <p:spPr>
            <a:xfrm flipV="1" rot="16200000">
              <a:off x="1064880" y="1708920"/>
              <a:ext cx="380160" cy="5760"/>
            </a:xfrm>
            <a:prstGeom prst="bentConnector4">
              <a:avLst>
                <a:gd name="adj1" fmla="val -38009"/>
                <a:gd name="adj2" fmla="val -16800000"/>
              </a:avLst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05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s Menü und Personalisierter Screen werden vo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71831"/>
          <a:stretch/>
        </p:blipFill>
        <p:spPr>
          <a:xfrm>
            <a:off x="685800" y="990720"/>
            <a:ext cx="78199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5268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as Add-on zur Bearbeitung von Prozessaufträgen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71831"/>
          <a:stretch/>
        </p:blipFill>
        <p:spPr>
          <a:xfrm>
            <a:off x="685800" y="990720"/>
            <a:ext cx="78199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33520" y="914400"/>
            <a:ext cx="8076960" cy="5143680"/>
            <a:chOff x="533520" y="914400"/>
            <a:chExt cx="8076960" cy="5143680"/>
          </a:xfrm>
        </p:grpSpPr>
        <p:sp>
          <p:nvSpPr>
            <p:cNvPr id="213" name=""/>
            <p:cNvSpPr/>
            <p:nvPr/>
          </p:nvSpPr>
          <p:spPr>
            <a:xfrm>
              <a:off x="533520" y="914400"/>
              <a:ext cx="8076960" cy="1828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2361960" cy="4991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5334120"/>
            <a:ext cx="7431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28920"/>
          <a:stretch/>
        </p:blipFill>
        <p:spPr>
          <a:xfrm>
            <a:off x="685800" y="990720"/>
            <a:ext cx="781992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4648320" y="1447920"/>
            <a:ext cx="3849480" cy="3352680"/>
            <a:chOff x="4648320" y="1447920"/>
            <a:chExt cx="3849480" cy="3352680"/>
          </a:xfrm>
        </p:grpSpPr>
        <p:sp>
          <p:nvSpPr>
            <p:cNvPr id="219" name=""/>
            <p:cNvSpPr/>
            <p:nvPr/>
          </p:nvSpPr>
          <p:spPr>
            <a:xfrm>
              <a:off x="4648320" y="1447920"/>
              <a:ext cx="3733560" cy="335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1905120"/>
              <a:ext cx="35449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Hohe Akt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Auswahl des Produkts wird ei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rozessauftrag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oder ausgewä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73172"/>
          <a:stretch/>
        </p:blipFill>
        <p:spPr>
          <a:xfrm>
            <a:off x="685800" y="990720"/>
            <a:ext cx="7819920" cy="1523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09480" y="914400"/>
            <a:ext cx="7925040" cy="4343400"/>
            <a:chOff x="609480" y="914400"/>
            <a:chExt cx="7925040" cy="4343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rcRect l="0" t="0" r="0" b="70389"/>
            <a:stretch/>
          </p:blipFill>
          <p:spPr>
            <a:xfrm>
              <a:off x="685800" y="3575160"/>
              <a:ext cx="781992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09480" y="914400"/>
              <a:ext cx="7925040" cy="1676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979560"/>
            <a:ext cx="8076960" cy="9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Erfahrungen und Vis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mit SAP R/3 in der Produk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362320"/>
            <a:ext cx="7391520" cy="332496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für die 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als Add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zur Bearbeitung von Prozessaufträ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42316"/>
          <a:stretch/>
        </p:blipFill>
        <p:spPr>
          <a:xfrm>
            <a:off x="685800" y="990720"/>
            <a:ext cx="78199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6802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990720"/>
          <a:ext cx="780084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0084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75440" cy="3697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8152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81520" cy="121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562720" y="296856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7372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 Standard-Transaktionen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0666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muß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066760"/>
            <a:ext cx="6705360" cy="3089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Zeitaufwand im Vergleich zum Standard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80-90% reduzier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vom Betriebspersonal bedien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System erstellt einen täglichen Arbeitplan und macht Vorschläge zu seiner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ückmel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kurzfristig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65104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30. Nov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5800" y="3324240"/>
            <a:ext cx="4267080" cy="1280160"/>
            <a:chOff x="685800" y="3324240"/>
            <a:chExt cx="4267080" cy="1280160"/>
          </a:xfrm>
        </p:grpSpPr>
        <p:sp>
          <p:nvSpPr>
            <p:cNvPr id="53" name=""/>
            <p:cNvSpPr/>
            <p:nvPr/>
          </p:nvSpPr>
          <p:spPr>
            <a:xfrm>
              <a:off x="685800" y="4267080"/>
              <a:ext cx="2666880" cy="33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3324240"/>
              <a:ext cx="312408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969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143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d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1905120"/>
            <a:ext cx="7772400" cy="3124080"/>
            <a:chOff x="685800" y="1905120"/>
            <a:chExt cx="7772400" cy="3124080"/>
          </a:xfrm>
        </p:grpSpPr>
        <p:sp>
          <p:nvSpPr>
            <p:cNvPr id="59" name=""/>
            <p:cNvSpPr/>
            <p:nvPr/>
          </p:nvSpPr>
          <p:spPr>
            <a:xfrm>
              <a:off x="3733920" y="41148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334120" y="32004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320040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086600" y="190512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6600" y="190512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733920" y="41148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50292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er Aufwand zur Abbildung der Produkti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708360"/>
            <a:ext cx="5410080" cy="990720"/>
          </a:xfrm>
          <a:prstGeom prst="rightArrow">
            <a:avLst>
              <a:gd name="adj1" fmla="val 66444"/>
              <a:gd name="adj2" fmla="val 50638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40440" y="283752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05120" y="2565360"/>
            <a:ext cx="5410080" cy="1022400"/>
            <a:chOff x="1905120" y="2565360"/>
            <a:chExt cx="5410080" cy="1022400"/>
          </a:xfrm>
        </p:grpSpPr>
        <p:sp>
          <p:nvSpPr>
            <p:cNvPr id="73" name=""/>
            <p:cNvSpPr/>
            <p:nvPr/>
          </p:nvSpPr>
          <p:spPr>
            <a:xfrm>
              <a:off x="1905120" y="2565360"/>
              <a:ext cx="5410080" cy="1022400"/>
            </a:xfrm>
            <a:prstGeom prst="rightArrow">
              <a:avLst>
                <a:gd name="adj1" fmla="val 66463"/>
                <a:gd name="adj2" fmla="val 49069"/>
              </a:avLst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gradFill rotWithShape="0">
              <a:gsLst>
                <a:gs pos="0">
                  <a:srgbClr val="fe898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5120" y="1397160"/>
            <a:ext cx="5410080" cy="1022040"/>
            <a:chOff x="1905120" y="1397160"/>
            <a:chExt cx="5410080" cy="1022040"/>
          </a:xfrm>
        </p:grpSpPr>
        <p:sp>
          <p:nvSpPr>
            <p:cNvPr id="76" name=""/>
            <p:cNvSpPr/>
            <p:nvPr/>
          </p:nvSpPr>
          <p:spPr>
            <a:xfrm>
              <a:off x="1905120" y="1397160"/>
              <a:ext cx="5410080" cy="1022040"/>
            </a:xfrm>
            <a:prstGeom prst="rightArrow">
              <a:avLst>
                <a:gd name="adj1" fmla="val 66769"/>
                <a:gd name="adj2" fmla="val 49087"/>
              </a:avLst>
            </a:prstGeom>
            <a:gradFill rotWithShape="0">
              <a:gsLst>
                <a:gs pos="0">
                  <a:srgbClr val="fefe8d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gradFill rotWithShape="0">
              <a:gsLst>
                <a:gs pos="0">
                  <a:srgbClr val="fe8d8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rot="20427600">
            <a:off x="6171840" y="1980720"/>
            <a:ext cx="1676520" cy="1067040"/>
          </a:xfrm>
          <a:prstGeom prst="ellipse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033440" y="1066320"/>
            <a:ext cx="2672280" cy="2671560"/>
            <a:chOff x="4033440" y="1066320"/>
            <a:chExt cx="2672280" cy="2671560"/>
          </a:xfrm>
        </p:grpSpPr>
        <p:cxnSp>
          <p:nvCxnSpPr>
            <p:cNvPr id="80" name=""/>
            <p:cNvCxnSpPr>
              <a:stCxn id="81" idx="0"/>
              <a:endCxn id="82" idx="3"/>
            </p:cNvCxnSpPr>
            <p:nvPr/>
          </p:nvCxnSpPr>
          <p:spPr>
            <a:xfrm flipH="1">
              <a:off x="4033440" y="1066320"/>
              <a:ext cx="1681920" cy="267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1" name=""/>
            <p:cNvSpPr/>
            <p:nvPr/>
          </p:nvSpPr>
          <p:spPr>
            <a:xfrm>
              <a:off x="4724280" y="106668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38280" y="1066680"/>
            <a:ext cx="2672280" cy="2672280"/>
            <a:chOff x="2438280" y="1066680"/>
            <a:chExt cx="2672280" cy="2672280"/>
          </a:xfrm>
        </p:grpSpPr>
        <p:cxnSp>
          <p:nvCxnSpPr>
            <p:cNvPr id="84" name=""/>
            <p:cNvCxnSpPr>
              <a:stCxn id="85" idx="0"/>
              <a:endCxn id="82" idx="5"/>
            </p:cNvCxnSpPr>
            <p:nvPr/>
          </p:nvCxnSpPr>
          <p:spPr>
            <a:xfrm>
              <a:off x="3429000" y="106668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2661840"/>
            <a:ext cx="2672280" cy="2672280"/>
            <a:chOff x="2438280" y="2661840"/>
            <a:chExt cx="2672280" cy="2672280"/>
          </a:xfrm>
        </p:grpSpPr>
        <p:cxnSp>
          <p:nvCxnSpPr>
            <p:cNvPr id="87" name=""/>
            <p:cNvCxnSpPr>
              <a:stCxn id="88" idx="2"/>
              <a:endCxn id="82" idx="7"/>
            </p:cNvCxnSpPr>
            <p:nvPr/>
          </p:nvCxnSpPr>
          <p:spPr>
            <a:xfrm flipV="1">
              <a:off x="3429000" y="266184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2438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033800" y="2662200"/>
            <a:ext cx="2671920" cy="2672280"/>
            <a:chOff x="4033800" y="2662200"/>
            <a:chExt cx="2671920" cy="2672280"/>
          </a:xfrm>
        </p:grpSpPr>
        <p:cxnSp>
          <p:nvCxnSpPr>
            <p:cNvPr id="90" name=""/>
            <p:cNvCxnSpPr>
              <a:stCxn id="82" idx="1"/>
              <a:endCxn id="91" idx="2"/>
            </p:cNvCxnSpPr>
            <p:nvPr/>
          </p:nvCxnSpPr>
          <p:spPr>
            <a:xfrm>
              <a:off x="4033800" y="266220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724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9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 im Zusammenspiel mit anderen Modul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5562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Stoffströme gekennzeichnet. Parallel müssen Forderungen anderer Module berücksichtig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e8c8c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040" y="2285640"/>
            <a:ext cx="834120" cy="1828800"/>
            <a:chOff x="3200040" y="2285640"/>
            <a:chExt cx="834120" cy="1828800"/>
          </a:xfrm>
        </p:grpSpPr>
        <p:cxnSp>
          <p:nvCxnSpPr>
            <p:cNvPr id="96" name=""/>
            <p:cNvCxnSpPr>
              <a:stCxn id="97" idx="3"/>
              <a:endCxn id="82" idx="1"/>
            </p:cNvCxnSpPr>
            <p:nvPr/>
          </p:nvCxnSpPr>
          <p:spPr>
            <a:xfrm>
              <a:off x="3429000" y="2285640"/>
              <a:ext cx="605520" cy="37692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98" name=""/>
            <p:cNvCxnSpPr>
              <a:stCxn id="99" idx="3"/>
              <a:endCxn id="82" idx="2"/>
            </p:cNvCxnSpPr>
            <p:nvPr/>
          </p:nvCxnSpPr>
          <p:spPr>
            <a:xfrm>
              <a:off x="3200040" y="3200040"/>
              <a:ext cx="610200" cy="108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0" name=""/>
            <p:cNvCxnSpPr>
              <a:stCxn id="101" idx="3"/>
              <a:endCxn id="82" idx="3"/>
            </p:cNvCxnSpPr>
            <p:nvPr/>
          </p:nvCxnSpPr>
          <p:spPr>
            <a:xfrm flipV="1">
              <a:off x="3429000" y="3737880"/>
              <a:ext cx="605520" cy="37692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5638680" y="1981080"/>
            <a:ext cx="2286000" cy="2438280"/>
            <a:chOff x="5638680" y="1981080"/>
            <a:chExt cx="2286000" cy="2438280"/>
          </a:xfrm>
        </p:grpSpPr>
        <p:sp>
          <p:nvSpPr>
            <p:cNvPr id="103" name=""/>
            <p:cNvSpPr/>
            <p:nvPr/>
          </p:nvSpPr>
          <p:spPr>
            <a:xfrm>
              <a:off x="586728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10200" y="2285280"/>
            <a:ext cx="757080" cy="1829520"/>
            <a:chOff x="5110200" y="2285280"/>
            <a:chExt cx="757080" cy="1829520"/>
          </a:xfrm>
        </p:grpSpPr>
        <p:cxnSp>
          <p:nvCxnSpPr>
            <p:cNvPr id="107" name=""/>
            <p:cNvCxnSpPr>
              <a:stCxn id="82" idx="7"/>
              <a:endCxn id="105" idx="1"/>
            </p:cNvCxnSpPr>
            <p:nvPr/>
          </p:nvCxnSpPr>
          <p:spPr>
            <a:xfrm flipV="1">
              <a:off x="5110200" y="2285280"/>
              <a:ext cx="529200" cy="37692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08" name=""/>
            <p:cNvCxnSpPr>
              <a:stCxn id="82" idx="6"/>
              <a:endCxn id="103" idx="1"/>
            </p:cNvCxnSpPr>
            <p:nvPr/>
          </p:nvCxnSpPr>
          <p:spPr>
            <a:xfrm>
              <a:off x="5333760" y="3200040"/>
              <a:ext cx="533880" cy="108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09" name=""/>
            <p:cNvCxnSpPr>
              <a:stCxn id="82" idx="5"/>
              <a:endCxn id="104" idx="1"/>
            </p:cNvCxnSpPr>
            <p:nvPr/>
          </p:nvCxnSpPr>
          <p:spPr>
            <a:xfrm>
              <a:off x="5110200" y="3738240"/>
              <a:ext cx="529200" cy="37692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1143000" y="1981080"/>
            <a:ext cx="2286000" cy="2438280"/>
            <a:chOff x="1143000" y="1981080"/>
            <a:chExt cx="2286000" cy="2438280"/>
          </a:xfrm>
        </p:grpSpPr>
        <p:sp>
          <p:nvSpPr>
            <p:cNvPr id="99" name=""/>
            <p:cNvSpPr/>
            <p:nvPr/>
          </p:nvSpPr>
          <p:spPr>
            <a:xfrm>
              <a:off x="114300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senken den Bedienaufwan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640440" y="284400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05120" y="1676520"/>
            <a:ext cx="5410080" cy="2895480"/>
            <a:chOff x="1905120" y="1676520"/>
            <a:chExt cx="5410080" cy="2895480"/>
          </a:xfrm>
        </p:grpSpPr>
        <p:grpSp>
          <p:nvGrpSpPr>
            <p:cNvPr id="116" name=""/>
            <p:cNvGrpSpPr/>
            <p:nvPr/>
          </p:nvGrpSpPr>
          <p:grpSpPr>
            <a:xfrm>
              <a:off x="1905120" y="3549600"/>
              <a:ext cx="5410080" cy="1022400"/>
              <a:chOff x="1905120" y="3549600"/>
              <a:chExt cx="5410080" cy="1022400"/>
            </a:xfrm>
          </p:grpSpPr>
          <p:sp>
            <p:nvSpPr>
              <p:cNvPr id="117" name=""/>
              <p:cNvSpPr/>
              <p:nvPr/>
            </p:nvSpPr>
            <p:spPr>
              <a:xfrm>
                <a:off x="1905120" y="354960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</a:t>
                </a: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05120" y="3727440"/>
                <a:ext cx="1447560" cy="66852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905120" y="1676520"/>
              <a:ext cx="5410080" cy="1022400"/>
              <a:chOff x="1905120" y="1676520"/>
              <a:chExt cx="5410080" cy="102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905120" y="167652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          </a:t>
                </a: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1854360"/>
                <a:ext cx="1447560" cy="66816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898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24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5" y="0"/>
                  </a:lnTo>
                  <a:lnTo>
                    <a:pt x="21600" y="10800"/>
                  </a:lnTo>
                  <a:lnTo>
                    <a:pt x="186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743200" y="1600200"/>
            <a:ext cx="3352680" cy="3124080"/>
            <a:chOff x="2743200" y="1600200"/>
            <a:chExt cx="3352680" cy="3124080"/>
          </a:xfrm>
        </p:grpSpPr>
        <p:sp>
          <p:nvSpPr>
            <p:cNvPr id="127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gradFill rotWithShape="0">
              <a:gsLst>
                <a:gs pos="0">
                  <a:srgbClr val="b8e6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1600200"/>
              <a:ext cx="3352680" cy="3124080"/>
            </a:xfrm>
            <a:prstGeom prst="donut">
              <a:avLst>
                <a:gd name="adj" fmla="val 33078"/>
              </a:avLst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17524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gradFill rotWithShape="0">
            <a:gsLst>
              <a:gs pos="0">
                <a:srgbClr val="a0e6a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209680"/>
            <a:ext cx="6059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triebliche Abläufe müssen nicht angepass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38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39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059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lasten von Routine- 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in die Entwicklung einbeziehen. Key-User als Mitglieder der Projekt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48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49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09-11T06:16:39Z</cp:lastPrinted>
  <dcterms:modified xsi:type="dcterms:W3CDTF">2001-02-02T17:23:30Z</dcterms:modified>
  <cp:revision>35</cp:revision>
  <dc:subject/>
  <dc:title>Musterfolie Degussa-Hüls, farbig, TNR 32</dc:title>
</cp:coreProperties>
</file>