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834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750708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88760" y="3997080"/>
            <a:ext cx="750708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35720" y="172836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88760" y="399708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5720" y="399708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24170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7120" y="1728360"/>
            <a:ext cx="24170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65480" y="1728360"/>
            <a:ext cx="24170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788760" y="3997080"/>
            <a:ext cx="24170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7120" y="3997080"/>
            <a:ext cx="24170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65480" y="3997080"/>
            <a:ext cx="24170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788760" y="1728360"/>
            <a:ext cx="7507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75070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366336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5720" y="1728360"/>
            <a:ext cx="366336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5720" y="1728360"/>
            <a:ext cx="366336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88760" y="399708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366336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5720" y="172836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35720" y="399708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5720" y="172836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88760" y="3997080"/>
            <a:ext cx="750708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380880"/>
            <a:ext cx="8229600" cy="594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88760" y="1728360"/>
            <a:ext cx="750708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33440" indent="-190440"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7648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7648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7648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47720" y="914400"/>
            <a:ext cx="7398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38360" y="9144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07280" y="6459480"/>
            <a:ext cx="1379520" cy="271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340560" y="6477120"/>
            <a:ext cx="906840" cy="21060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1E7DDB2B-2E48-49FE-AA93-032F0D579358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66040" y="6477120"/>
            <a:ext cx="617400" cy="21060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Nov 2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839960" y="6477120"/>
            <a:ext cx="1141560" cy="21060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V-OS-ES / Dr. Ho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3023640" y="6477120"/>
            <a:ext cx="3317760" cy="21060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AP R/3 Workshop für die chemische und pharmazeutische Industr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09480" y="838080"/>
            <a:ext cx="79250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968400"/>
            <a:ext cx="807696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Rounded MT Bold"/>
              </a:rPr>
              <a:t>SAP R/3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Rounded MT Bold"/>
              </a:rPr>
              <a:t>für die chemische und pharmazeutische Indust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51040"/>
            <a:ext cx="7925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 Rounded MT Bold"/>
              </a:rPr>
              <a:t>Dr. Michael Ho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 Rounded MT Bold"/>
              </a:rPr>
              <a:t>Degussa-Hüls 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55627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Rounded MT Bold"/>
              </a:rPr>
              <a:t>Frankfurt, den 30. November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Warum Zusatzprogramme als Add-on?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5334120"/>
            <a:ext cx="750744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Ein integriertes Zusatzprogramm (Add-on) benötigt naturgemäß keine Schnittstellen zum SAP-Stand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066680" y="1523880"/>
            <a:ext cx="2514600" cy="2590920"/>
            <a:chOff x="1066680" y="1523880"/>
            <a:chExt cx="2514600" cy="2590920"/>
          </a:xfrm>
        </p:grpSpPr>
        <p:sp>
          <p:nvSpPr>
            <p:cNvPr id="158" name=""/>
            <p:cNvSpPr/>
            <p:nvPr/>
          </p:nvSpPr>
          <p:spPr>
            <a:xfrm>
              <a:off x="1066680" y="1752480"/>
              <a:ext cx="762120" cy="762120"/>
            </a:xfrm>
            <a:prstGeom prst="ellipse">
              <a:avLst/>
            </a:prstGeom>
            <a:gradFill rotWithShape="0">
              <a:gsLst>
                <a:gs pos="0">
                  <a:srgbClr val="fe9898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57400" y="2666880"/>
              <a:ext cx="1523880" cy="1447920"/>
            </a:xfrm>
            <a:prstGeom prst="ellipse">
              <a:avLst/>
            </a:prstGeom>
            <a:gradFill rotWithShape="0">
              <a:gsLst>
                <a:gs pos="0">
                  <a:srgbClr val="c1e9fe"/>
                </a:gs>
                <a:gs pos="100000">
                  <a:srgbClr val="66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SAP R/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828800" y="1523880"/>
              <a:ext cx="1752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xternes Zusatzprogram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685800" y="2057400"/>
            <a:ext cx="1828800" cy="1145160"/>
            <a:chOff x="685800" y="2057400"/>
            <a:chExt cx="1828800" cy="1145160"/>
          </a:xfrm>
        </p:grpSpPr>
        <p:sp>
          <p:nvSpPr>
            <p:cNvPr id="162" name=""/>
            <p:cNvSpPr/>
            <p:nvPr/>
          </p:nvSpPr>
          <p:spPr>
            <a:xfrm rot="18942600">
              <a:off x="1447920" y="2209680"/>
              <a:ext cx="457200" cy="304920"/>
            </a:xfrm>
            <a:prstGeom prst="ellipse">
              <a:avLst/>
            </a:prstGeom>
            <a:solidFill>
              <a:srgbClr val="33cc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18990000">
              <a:off x="1969920" y="2739600"/>
              <a:ext cx="457200" cy="304920"/>
            </a:xfrm>
            <a:prstGeom prst="ellipse">
              <a:avLst/>
            </a:prstGeom>
            <a:solidFill>
              <a:srgbClr val="33cc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85800" y="289548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chnittstell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371600" y="2209680"/>
              <a:ext cx="99072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 flipV="1">
              <a:off x="1523880" y="2057400"/>
              <a:ext cx="99072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5181480" y="1752480"/>
            <a:ext cx="3505320" cy="2768760"/>
            <a:chOff x="5181480" y="1752480"/>
            <a:chExt cx="3505320" cy="2768760"/>
          </a:xfrm>
        </p:grpSpPr>
        <p:sp>
          <p:nvSpPr>
            <p:cNvPr id="168" name=""/>
            <p:cNvSpPr/>
            <p:nvPr/>
          </p:nvSpPr>
          <p:spPr>
            <a:xfrm>
              <a:off x="5562720" y="2552760"/>
              <a:ext cx="1676160" cy="1676520"/>
            </a:xfrm>
            <a:prstGeom prst="rect">
              <a:avLst/>
            </a:prstGeom>
            <a:gradFill rotWithShape="0">
              <a:gsLst>
                <a:gs pos="0">
                  <a:srgbClr val="b1e4fe"/>
                </a:gs>
                <a:gs pos="100000">
                  <a:srgbClr val="66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SAP R/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81480" y="2247840"/>
              <a:ext cx="2438640" cy="2273400"/>
            </a:xfrm>
            <a:prstGeom prst="donut">
              <a:avLst>
                <a:gd name="adj" fmla="val 17967"/>
              </a:avLst>
            </a:prstGeom>
            <a:gradFill rotWithShape="0">
              <a:gsLst>
                <a:gs pos="0">
                  <a:srgbClr val="fe8383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34320" y="1752480"/>
              <a:ext cx="1752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Integriertes Zusatzprogram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00800" y="24382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Warum Zusatzprogramme als Add-on?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437920" y="2361960"/>
            <a:ext cx="5907240" cy="37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Add-on´s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 nutzen systemeigene Tabellen und Routin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Add-on´s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 arbeiten mit anderen integrierten Zusatzprogrammen zusamm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Add-on´s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 und SAP R/3 sind mit der gleichen Programmiersprache erstel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Add-on´s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 sind zukunftssicher, release-stab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Add-on´s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 sind individu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85800" y="1143000"/>
            <a:ext cx="1371600" cy="1278000"/>
            <a:chOff x="685800" y="1143000"/>
            <a:chExt cx="1371600" cy="1278000"/>
          </a:xfrm>
        </p:grpSpPr>
        <p:sp>
          <p:nvSpPr>
            <p:cNvPr id="175" name=""/>
            <p:cNvSpPr/>
            <p:nvPr/>
          </p:nvSpPr>
          <p:spPr>
            <a:xfrm>
              <a:off x="900000" y="1314360"/>
              <a:ext cx="943200" cy="943200"/>
            </a:xfrm>
            <a:prstGeom prst="rect">
              <a:avLst/>
            </a:prstGeom>
            <a:gradFill rotWithShape="0">
              <a:gsLst>
                <a:gs pos="0">
                  <a:srgbClr val="c1e9fe"/>
                </a:gs>
                <a:gs pos="100000">
                  <a:srgbClr val="66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85800" y="1143000"/>
              <a:ext cx="1371600" cy="1278000"/>
            </a:xfrm>
            <a:prstGeom prst="donut">
              <a:avLst>
                <a:gd name="adj" fmla="val 17967"/>
              </a:avLst>
            </a:prstGeom>
            <a:gradFill rotWithShape="0">
              <a:gsLst>
                <a:gs pos="0">
                  <a:srgbClr val="fe8383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Personalisierte Menüs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4311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Anwender aus der Produktion akzeptieren das SAP-Standardmenü nic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rcRect l="0" t="0" r="0" b="84373"/>
          <a:stretch/>
        </p:blipFill>
        <p:spPr>
          <a:xfrm>
            <a:off x="700200" y="990720"/>
            <a:ext cx="7772400" cy="9111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rcRect l="0" t="0" r="0" b="83068"/>
          <a:stretch/>
        </p:blipFill>
        <p:spPr>
          <a:xfrm>
            <a:off x="690480" y="2743200"/>
            <a:ext cx="7799400" cy="9907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838080" y="3809880"/>
            <a:ext cx="743112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Anwenderbezogen designte Menüs sind übersichtlic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Auf alle wichtigen Funktionen kann schnell und ohne Umwege zugegriffen wer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Menüs können auf Standardtransaktionen und auf Add-ons verweis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Personalisierte Menüs entsprechen dem Berechtigungsprofil und werden vom Anwender angenomme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914400"/>
            <a:ext cx="7925040" cy="10666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rcRect l="0" t="0" r="48223" b="66663"/>
          <a:stretch/>
        </p:blipFill>
        <p:spPr>
          <a:xfrm>
            <a:off x="728640" y="1084320"/>
            <a:ext cx="7696080" cy="371628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Personalisierte Menüs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2120" y="5181120"/>
            <a:ext cx="74311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Der Weg zur Prozessauftragsbearbeitung ist denkbar kur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19820400">
            <a:off x="6324480" y="1752120"/>
            <a:ext cx="304920" cy="533520"/>
          </a:xfrm>
          <a:prstGeom prst="upArrow">
            <a:avLst>
              <a:gd name="adj1" fmla="val 26731"/>
              <a:gd name="adj2" fmla="val 110126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Abwicklung der Produktion über Prozessaufträge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4154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Alle </a:t>
            </a: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Standardoperationen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 in der Produktion werden mit Prozessaufträgen abgebild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Herstellen Loser 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Abfüllen zu Verpackter 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Umfül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Entpac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Zu berücksichtigen s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Bestands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Chargenverwal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Retrograde Rohstoffentnah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34120" y="2514600"/>
            <a:ext cx="2361960" cy="533520"/>
          </a:xfrm>
          <a:prstGeom prst="rect">
            <a:avLst/>
          </a:prstGeom>
          <a:gradFill rotWithShape="0">
            <a:gsLst>
              <a:gs pos="0">
                <a:srgbClr val="ace9ac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nle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34120" y="3809880"/>
            <a:ext cx="2361960" cy="533520"/>
          </a:xfrm>
          <a:prstGeom prst="rect">
            <a:avLst/>
          </a:prstGeom>
          <a:gradFill rotWithShape="0">
            <a:gsLst>
              <a:gs pos="0">
                <a:srgbClr val="fe9f9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eilrückmel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4120" y="5105520"/>
            <a:ext cx="2361960" cy="533160"/>
          </a:xfrm>
          <a:prstGeom prst="rect">
            <a:avLst/>
          </a:prstGeom>
          <a:gradFill rotWithShape="0">
            <a:gsLst>
              <a:gs pos="0">
                <a:srgbClr val="fefe89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ndrückmel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"/>
          <p:cNvCxnSpPr>
            <a:stCxn id="189" idx="2"/>
            <a:endCxn id="190" idx="0"/>
          </p:cNvCxnSpPr>
          <p:nvPr/>
        </p:nvCxnSpPr>
        <p:spPr>
          <a:xfrm>
            <a:off x="6514920" y="3048120"/>
            <a:ext cx="1080" cy="76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3" name=""/>
          <p:cNvCxnSpPr>
            <a:stCxn id="190" idx="2"/>
            <a:endCxn id="191" idx="0"/>
          </p:cNvCxnSpPr>
          <p:nvPr/>
        </p:nvCxnSpPr>
        <p:spPr>
          <a:xfrm>
            <a:off x="6514920" y="4343040"/>
            <a:ext cx="1080" cy="762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4" name=""/>
          <p:cNvCxnSpPr>
            <a:stCxn id="190" idx="2"/>
            <a:endCxn id="195" idx="3"/>
          </p:cNvCxnSpPr>
          <p:nvPr/>
        </p:nvCxnSpPr>
        <p:spPr>
          <a:xfrm flipV="1" rot="16200000">
            <a:off x="6052680" y="3880800"/>
            <a:ext cx="915120" cy="10440"/>
          </a:xfrm>
          <a:prstGeom prst="bentConnector4">
            <a:avLst>
              <a:gd name="adj1" fmla="val -37465"/>
              <a:gd name="adj2" fmla="val -15682142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5972040" y="327672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Abwicklung der Produktion über Prozessaufträge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398680" y="2285640"/>
            <a:ext cx="60595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Prozessaufträge zur Herstellung Loser Ware werden einmal monatlich angeleg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Beim Anlegen eines Prozessauftrags wird die Produktionsplanung berücksichtig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Teilrückmeldungen erfolgen tägli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Die Endrückmeldung erfolgt zum Monatsen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685800" y="1143000"/>
            <a:ext cx="1478880" cy="1295280"/>
            <a:chOff x="685800" y="1143000"/>
            <a:chExt cx="1478880" cy="1295280"/>
          </a:xfrm>
        </p:grpSpPr>
        <p:sp>
          <p:nvSpPr>
            <p:cNvPr id="199" name=""/>
            <p:cNvSpPr/>
            <p:nvPr/>
          </p:nvSpPr>
          <p:spPr>
            <a:xfrm>
              <a:off x="685800" y="1143000"/>
              <a:ext cx="1143000" cy="220680"/>
            </a:xfrm>
            <a:prstGeom prst="rect">
              <a:avLst/>
            </a:prstGeom>
            <a:gradFill rotWithShape="0">
              <a:gsLst>
                <a:gs pos="0">
                  <a:srgbClr val="ace9ac"/>
                </a:gs>
                <a:gs pos="100000">
                  <a:srgbClr val="33cc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85800" y="1679400"/>
              <a:ext cx="1143000" cy="222480"/>
            </a:xfrm>
            <a:prstGeom prst="rect">
              <a:avLst/>
            </a:prstGeom>
            <a:gradFill rotWithShape="0">
              <a:gsLst>
                <a:gs pos="0">
                  <a:srgbClr val="fe9f9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85800" y="2217600"/>
              <a:ext cx="1143000" cy="220680"/>
            </a:xfrm>
            <a:prstGeom prst="rect">
              <a:avLst/>
            </a:prstGeom>
            <a:gradFill rotWithShape="0">
              <a:gsLst>
                <a:gs pos="0">
                  <a:srgbClr val="fefe89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2" name=""/>
            <p:cNvCxnSpPr>
              <a:stCxn id="199" idx="2"/>
              <a:endCxn id="200" idx="0"/>
            </p:cNvCxnSpPr>
            <p:nvPr/>
          </p:nvCxnSpPr>
          <p:spPr>
            <a:xfrm>
              <a:off x="1257120" y="1363320"/>
              <a:ext cx="1080" cy="3164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203" name=""/>
            <p:cNvCxnSpPr>
              <a:stCxn id="200" idx="2"/>
              <a:endCxn id="201" idx="0"/>
            </p:cNvCxnSpPr>
            <p:nvPr/>
          </p:nvCxnSpPr>
          <p:spPr>
            <a:xfrm>
              <a:off x="1257120" y="1901520"/>
              <a:ext cx="1080" cy="3164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204" name=""/>
            <p:cNvCxnSpPr>
              <a:stCxn id="200" idx="2"/>
              <a:endCxn id="205" idx="3"/>
            </p:cNvCxnSpPr>
            <p:nvPr/>
          </p:nvCxnSpPr>
          <p:spPr>
            <a:xfrm flipV="1" rot="16200000">
              <a:off x="1064880" y="1708920"/>
              <a:ext cx="380160" cy="5760"/>
            </a:xfrm>
            <a:prstGeom prst="bentConnector4">
              <a:avLst>
                <a:gd name="adj1" fmla="val -38009"/>
                <a:gd name="adj2" fmla="val -16800000"/>
              </a:avLst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205" name=""/>
            <p:cNvSpPr/>
            <p:nvPr/>
          </p:nvSpPr>
          <p:spPr>
            <a:xfrm>
              <a:off x="995400" y="1459080"/>
              <a:ext cx="25704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Personalisierte Screens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2120" y="289512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Prozessaufträge werden auf einem für eine </a:t>
            </a: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Anwendergruppe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 spezifischen Screen abgewicke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Dieser Screen wird durch Berücksichtigung der Benutzerdaten  zum </a:t>
            </a: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Personalisierten Screen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Personalisiertes Menü und Personalisierter Screen werden vom </a:t>
            </a: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Add-on zur Abwicklung von Prozessaufträgen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 gesteue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0" t="0" r="0" b="71831"/>
          <a:stretch/>
        </p:blipFill>
        <p:spPr>
          <a:xfrm>
            <a:off x="685800" y="990720"/>
            <a:ext cx="781992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Personalisierte Screens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352680" y="2819160"/>
            <a:ext cx="510552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Dem Anwender steht das Add-on zur Bearbeitung von Prozessaufträgen zur Verfügu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Der Anwender ist über einen Eintrag in den Benutzervorgaben mit seinem Betrieb verknüpf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Er bekommt deshalb auch nur die Produkte seines Betriebes zur Bearbeitung angebo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71831"/>
          <a:stretch/>
        </p:blipFill>
        <p:spPr>
          <a:xfrm>
            <a:off x="685800" y="990720"/>
            <a:ext cx="7819920" cy="1600200"/>
          </a:xfrm>
          <a:prstGeom prst="rect">
            <a:avLst/>
          </a:prstGeom>
          <a:ln w="0">
            <a:noFill/>
          </a:ln>
        </p:spPr>
      </p:pic>
      <p:grpSp>
        <p:nvGrpSpPr>
          <p:cNvPr id="212" name=""/>
          <p:cNvGrpSpPr/>
          <p:nvPr/>
        </p:nvGrpSpPr>
        <p:grpSpPr>
          <a:xfrm>
            <a:off x="533520" y="914400"/>
            <a:ext cx="8076960" cy="5143680"/>
            <a:chOff x="533520" y="914400"/>
            <a:chExt cx="8076960" cy="5143680"/>
          </a:xfrm>
        </p:grpSpPr>
        <p:sp>
          <p:nvSpPr>
            <p:cNvPr id="213" name=""/>
            <p:cNvSpPr/>
            <p:nvPr/>
          </p:nvSpPr>
          <p:spPr>
            <a:xfrm>
              <a:off x="533520" y="914400"/>
              <a:ext cx="8076960" cy="1828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4" name="" descr=""/>
            <p:cNvPicPr/>
            <p:nvPr/>
          </p:nvPicPr>
          <p:blipFill>
            <a:blip r:embed="rId2"/>
            <a:stretch/>
          </p:blipFill>
          <p:spPr>
            <a:xfrm>
              <a:off x="762120" y="1066680"/>
              <a:ext cx="2361960" cy="49914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Personalisierte Screens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5334120"/>
            <a:ext cx="74311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Nutzer des QM-Moduls melden ihre Produkte über einen </a:t>
            </a: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Personalisierten Screen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 zur Freigabeanalyse 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28920"/>
          <a:stretch/>
        </p:blipFill>
        <p:spPr>
          <a:xfrm>
            <a:off x="685800" y="990720"/>
            <a:ext cx="7819920" cy="4038480"/>
          </a:xfrm>
          <a:prstGeom prst="rect">
            <a:avLst/>
          </a:prstGeom>
          <a:ln w="0">
            <a:noFill/>
          </a:ln>
        </p:spPr>
      </p:pic>
      <p:grpSp>
        <p:nvGrpSpPr>
          <p:cNvPr id="218" name=""/>
          <p:cNvGrpSpPr/>
          <p:nvPr/>
        </p:nvGrpSpPr>
        <p:grpSpPr>
          <a:xfrm>
            <a:off x="4648320" y="1447920"/>
            <a:ext cx="3849480" cy="3352680"/>
            <a:chOff x="4648320" y="1447920"/>
            <a:chExt cx="3849480" cy="3352680"/>
          </a:xfrm>
        </p:grpSpPr>
        <p:sp>
          <p:nvSpPr>
            <p:cNvPr id="219" name=""/>
            <p:cNvSpPr/>
            <p:nvPr/>
          </p:nvSpPr>
          <p:spPr>
            <a:xfrm>
              <a:off x="4648320" y="1447920"/>
              <a:ext cx="3733560" cy="3352680"/>
            </a:xfrm>
            <a:prstGeom prst="rect">
              <a:avLst/>
            </a:prstGeom>
            <a:solidFill>
              <a:srgbClr val="66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952880" y="1905120"/>
              <a:ext cx="3544920" cy="25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190440" indent="-19044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Wingdings" charset="2"/>
                <a:buChar char="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 Rounded MT Bold"/>
                </a:rPr>
                <a:t>Nur notwendige Daten werden abgefragt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Wingdings" charset="2"/>
                <a:buChar char="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 Rounded MT Bold"/>
                </a:rPr>
                <a:t>Die Masken verwenden Begriffe aus der Welt der Anwende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Wingdings" charset="2"/>
                <a:buChar char="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 Rounded MT Bold"/>
                </a:rPr>
                <a:t>Geringer Lernaufw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Wingdings" charset="2"/>
                <a:buChar char="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 Rounded MT Bold"/>
                </a:rPr>
                <a:t>Hohe Akteptanz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Das Add-on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Nach Auswahl des Produkts wird ein </a:t>
            </a: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Prozessauftrag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 angelegt oder ausgewäh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rcRect l="0" t="0" r="0" b="73172"/>
          <a:stretch/>
        </p:blipFill>
        <p:spPr>
          <a:xfrm>
            <a:off x="685800" y="990720"/>
            <a:ext cx="7819920" cy="15238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685800" y="53341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Eine </a:t>
            </a: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Charge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 wird angegeben oder ausgewählt. Zahlreiche Prüfungen werden vorgenomm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609480" y="914400"/>
            <a:ext cx="7925040" cy="4343400"/>
            <a:chOff x="609480" y="914400"/>
            <a:chExt cx="7925040" cy="4343400"/>
          </a:xfrm>
        </p:grpSpPr>
        <p:pic>
          <p:nvPicPr>
            <p:cNvPr id="226" name="" descr=""/>
            <p:cNvPicPr/>
            <p:nvPr/>
          </p:nvPicPr>
          <p:blipFill>
            <a:blip r:embed="rId2"/>
            <a:srcRect l="0" t="0" r="0" b="70389"/>
            <a:stretch/>
          </p:blipFill>
          <p:spPr>
            <a:xfrm>
              <a:off x="685800" y="3575160"/>
              <a:ext cx="7819920" cy="16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609480" y="914400"/>
              <a:ext cx="7925040" cy="16765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979560"/>
            <a:ext cx="8076960" cy="93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Erfahrungen und Vision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 Rounded MT Bold"/>
              </a:rPr>
              <a:t>mit SAP R/3 in der Produk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14400" y="2362320"/>
            <a:ext cx="7391520" cy="3324960"/>
          </a:xfrm>
          <a:prstGeom prst="rect">
            <a:avLst/>
          </a:prstGeom>
          <a:noFill/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0" rIns="162000" tIns="118800" bIns="118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Zusatzprogrammierungen für die Produk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Zusatzprogrammierungen als Add-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Personalisierte Menü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Personalisierte Scre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Das Add-on zur Bearbeitung von Prozessaufträg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Nutz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Ausbli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Das Add-on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440" y="4571640"/>
            <a:ext cx="771516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Die </a:t>
            </a: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Mengen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 der hergestellten Materialien werden angegeb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Damit sind alle Angaben zu den hergestellten Materialien gemacht (</a:t>
            </a: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ZIEL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rcRect l="0" t="0" r="0" b="42316"/>
          <a:stretch/>
        </p:blipFill>
        <p:spPr>
          <a:xfrm>
            <a:off x="685800" y="990720"/>
            <a:ext cx="7819920" cy="32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Das Add-on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4952520"/>
            <a:ext cx="768024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184680" indent="-1846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Die </a:t>
            </a: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Einsatzmengen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 der werden zur retrograden Entnahme änderbar vorgeschla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4680" indent="-184680"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Es werden alle Angaben zu den eingesetzten Materialien gemacht (</a:t>
            </a: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QUELLE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685800" y="990720"/>
          <a:ext cx="7800840" cy="38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90720"/>
                    <a:ext cx="7800840" cy="38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981080" y="2514600"/>
            <a:ext cx="5275440" cy="36972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1871640" y="2438280"/>
            <a:ext cx="5486400" cy="381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Das Add-on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184680" indent="-1846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Nach Start der Transaktion wird auf den Prozessauftrag für die </a:t>
            </a: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Lose Ware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 teilrückgemeld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4680" indent="-1846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Ggf. werden Prozessaufträge zur Herstellung der </a:t>
            </a: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Verpackten Ware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 angelegt und endrückgemeld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685800" y="2895480"/>
            <a:ext cx="4781520" cy="12193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" y="4648320"/>
            <a:ext cx="4781520" cy="12189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5562720" y="2968560"/>
            <a:ext cx="2895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ach Anlegen einer neuen Charge wird zum Anlegen der </a:t>
            </a:r>
            <a:r>
              <a:rPr b="0" lang="de-DE" sz="1600" spc="-1" strike="noStrike">
                <a:solidFill>
                  <a:srgbClr val="ff0000"/>
                </a:solidFill>
                <a:latin typeface="Arial Rounded MT Bold"/>
              </a:rPr>
              <a:t>Freigabeanalyse</a:t>
            </a: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 verzweig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562720" y="473724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Für Verpackte Ware wird die </a:t>
            </a:r>
            <a:r>
              <a:rPr b="0" lang="de-DE" sz="1600" spc="-1" strike="noStrike">
                <a:solidFill>
                  <a:srgbClr val="ff0000"/>
                </a:solidFill>
                <a:latin typeface="Arial Rounded MT Bold"/>
              </a:rPr>
              <a:t>Umlagerung</a:t>
            </a: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 in das Zentrale Lager angebot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2819520"/>
            <a:ext cx="4953240" cy="1371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Das Add-on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Das Add-on 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Informationen aus dem System gezog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Auswahllisten zusammengestel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Das Add-on hat Eingabedat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gesammelt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verglichen und geprüf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verknüpf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umgewande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Das Add-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ruft als </a:t>
            </a:r>
            <a:r>
              <a:rPr b="1" lang="de-DE" sz="1600" spc="-1" strike="noStrike">
                <a:solidFill>
                  <a:srgbClr val="ff0000"/>
                </a:solidFill>
                <a:latin typeface="Arial Rounded MT Bold"/>
              </a:rPr>
              <a:t>Metatransaktion</a:t>
            </a: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 Standard-Transaktionen auf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schreibt Daten in Standard-Screen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wertet Rückgabedaten au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Das Add-on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Das Add-on biet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Benutzerspezifische Auswahlmöglichkeit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Personalisierte Menüs und Screen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die Steuerung von Metatransaktion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Das Add-on vermeidet Fehlbedienung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Das Add-on senkt den Bedienaufwand dramatis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Nutzen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9" name=""/>
          <p:cNvSpPr/>
          <p:nvPr/>
        </p:nvSpPr>
        <p:spPr>
          <a:xfrm>
            <a:off x="609480" y="1066680"/>
            <a:ext cx="79250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Im </a:t>
            </a:r>
            <a:r>
              <a:rPr b="0" lang="de-DE" sz="2000" spc="-1" strike="noStrike">
                <a:solidFill>
                  <a:srgbClr val="ff0000"/>
                </a:solidFill>
                <a:latin typeface="Arial Rounded MT Bold"/>
              </a:rPr>
              <a:t>SAP-Standard</a:t>
            </a: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 muß der Anwender in der Produktion für d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Abwicklung seiner produktionsbezogenen Geschäf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Arial Rounded MT Bold"/>
              </a:rPr>
              <a:t>30-40 Standardeingabemasken</a:t>
            </a: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 benutz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3124080"/>
            <a:ext cx="7315200" cy="911520"/>
          </a:xfrm>
          <a:prstGeom prst="rect">
            <a:avLst/>
          </a:prstGeom>
          <a:noFill/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Das vorgestellte Add-on verlangt die Bedien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nur einer einzigen Mask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Nutzen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2066760"/>
            <a:ext cx="6705360" cy="3089520"/>
          </a:xfrm>
          <a:prstGeom prst="rect">
            <a:avLst/>
          </a:prstGeom>
          <a:noFill/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0" bIns="154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Rounded MT Bold"/>
              </a:rPr>
              <a:t>Durch die Zusatzprogrammierung wird 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 Rounded MT Bold"/>
              </a:rPr>
              <a:t>Zeitaufwand im Vergleich zum Standard 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 Rounded MT Bold"/>
              </a:rPr>
              <a:t>80-90% reduziert</a:t>
            </a:r>
            <a:r>
              <a:rPr b="0" lang="de-DE" sz="24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Rounded MT Bold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Rounded MT Bold"/>
              </a:rPr>
              <a:t>Die Zusatzprogramme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 Rounded MT Bold"/>
              </a:rPr>
              <a:t>vom Betriebspersonal bedient</a:t>
            </a:r>
            <a:r>
              <a:rPr b="0" lang="de-DE" sz="24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Ausblick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Kopplung SAP/Add-on - PL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elektronische Verfolgung der Materialbewegung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Das System erstellt einen täglichen Arbeitplan und macht Vorschläge zu seiner Abarbeitu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Rückmeld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Bestandsbeobach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Rohstoffanforder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Anlagenbelegung/Kapazitä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Berücksichtigung des Personalangeb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kurzfristige Planänder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533520" y="968400"/>
            <a:ext cx="807696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Rounded MT Bold"/>
              </a:rPr>
              <a:t>SAP R/3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Rounded MT Bold"/>
              </a:rPr>
              <a:t>für die chemische und pharmazeutische Indust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2651040"/>
            <a:ext cx="7925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 Rounded MT Bold"/>
              </a:rPr>
              <a:t>Dr. Michael Ho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 Rounded MT Bold"/>
              </a:rPr>
              <a:t>Degussa-Hüls 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33520" y="55627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Rounded MT Bold"/>
              </a:rPr>
              <a:t>Frankfurt, den 30. November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685800" y="3324240"/>
            <a:ext cx="4267080" cy="1280160"/>
            <a:chOff x="685800" y="3324240"/>
            <a:chExt cx="4267080" cy="1280160"/>
          </a:xfrm>
        </p:grpSpPr>
        <p:sp>
          <p:nvSpPr>
            <p:cNvPr id="53" name=""/>
            <p:cNvSpPr/>
            <p:nvPr/>
          </p:nvSpPr>
          <p:spPr>
            <a:xfrm>
              <a:off x="685800" y="4267080"/>
              <a:ext cx="2666880" cy="3373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83"/>
                </a:gs>
                <a:gs pos="100000">
                  <a:srgbClr val="ffff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bsatzplanu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828800" y="3324240"/>
              <a:ext cx="3124080" cy="3988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83"/>
                </a:gs>
                <a:gs pos="100000">
                  <a:srgbClr val="ffff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Produktionsplanu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Die Produktion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2057400"/>
            <a:ext cx="3581640" cy="7621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e969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duk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4120" y="1143000"/>
            <a:ext cx="3124080" cy="398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efe8d"/>
              </a:gs>
              <a:gs pos="100000">
                <a:srgbClr val="ffff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eriodenabschlu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685800" y="1905120"/>
            <a:ext cx="7772400" cy="3124080"/>
            <a:chOff x="685800" y="1905120"/>
            <a:chExt cx="7772400" cy="3124080"/>
          </a:xfrm>
        </p:grpSpPr>
        <p:sp>
          <p:nvSpPr>
            <p:cNvPr id="59" name=""/>
            <p:cNvSpPr/>
            <p:nvPr/>
          </p:nvSpPr>
          <p:spPr>
            <a:xfrm>
              <a:off x="3733920" y="4114800"/>
              <a:ext cx="1600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5334120" y="3200400"/>
              <a:ext cx="0" cy="914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34120" y="3200400"/>
              <a:ext cx="1752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7086600" y="1905120"/>
              <a:ext cx="0" cy="1295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086600" y="1905120"/>
              <a:ext cx="1371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3733920" y="4114800"/>
              <a:ext cx="0" cy="914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5800" y="5029200"/>
              <a:ext cx="30481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5334120"/>
            <a:ext cx="750744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 Rounded MT Bold"/>
              </a:rPr>
              <a:t>Die realitätsnahe Abbildung der Produktion erfordert im Vergleich den höchsten Aufw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Der Aufwand zur Abbildung der Produktion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5334120"/>
            <a:ext cx="750744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Der Bedienungsaufwand lässt sich durch optimierten Systemaufwand begrenz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05120" y="3708360"/>
            <a:ext cx="5410080" cy="990720"/>
          </a:xfrm>
          <a:prstGeom prst="rightArrow">
            <a:avLst>
              <a:gd name="adj1" fmla="val 66444"/>
              <a:gd name="adj2" fmla="val 50638"/>
            </a:avLst>
          </a:prstGeom>
          <a:gradFill rotWithShape="0">
            <a:gsLst>
              <a:gs pos="0">
                <a:srgbClr val="fefefe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w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-640440" y="2837520"/>
            <a:ext cx="3722760" cy="459720"/>
          </a:xfrm>
          <a:prstGeom prst="rect">
            <a:avLst/>
          </a:prstGeom>
          <a:gradFill rotWithShape="0">
            <a:gsLst>
              <a:gs pos="0">
                <a:srgbClr val="afeaaf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gangs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16200000">
            <a:off x="6057360" y="2862360"/>
            <a:ext cx="3733920" cy="459720"/>
          </a:xfrm>
          <a:prstGeom prst="rect">
            <a:avLst/>
          </a:prstGeom>
          <a:gradFill rotWithShape="0">
            <a:gsLst>
              <a:gs pos="0">
                <a:srgbClr val="afeaaf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spru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905120" y="2565360"/>
            <a:ext cx="5410080" cy="1022400"/>
            <a:chOff x="1905120" y="2565360"/>
            <a:chExt cx="5410080" cy="1022400"/>
          </a:xfrm>
        </p:grpSpPr>
        <p:sp>
          <p:nvSpPr>
            <p:cNvPr id="73" name=""/>
            <p:cNvSpPr/>
            <p:nvPr/>
          </p:nvSpPr>
          <p:spPr>
            <a:xfrm>
              <a:off x="1905120" y="2565360"/>
              <a:ext cx="5410080" cy="1022400"/>
            </a:xfrm>
            <a:prstGeom prst="rightArrow">
              <a:avLst>
                <a:gd name="adj1" fmla="val 66463"/>
                <a:gd name="adj2" fmla="val 49069"/>
              </a:avLst>
            </a:prstGeom>
            <a:gradFill rotWithShape="0">
              <a:gsLst>
                <a:gs pos="0">
                  <a:srgbClr val="fefe89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                </a:t>
              </a: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Bedienu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05120" y="2743200"/>
              <a:ext cx="1523880" cy="668160"/>
            </a:xfrm>
            <a:prstGeom prst="rect">
              <a:avLst/>
            </a:prstGeom>
            <a:gradFill rotWithShape="0">
              <a:gsLst>
                <a:gs pos="0">
                  <a:srgbClr val="fe8989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1905120" y="1397160"/>
            <a:ext cx="5410080" cy="1022040"/>
            <a:chOff x="1905120" y="1397160"/>
            <a:chExt cx="5410080" cy="1022040"/>
          </a:xfrm>
        </p:grpSpPr>
        <p:sp>
          <p:nvSpPr>
            <p:cNvPr id="76" name=""/>
            <p:cNvSpPr/>
            <p:nvPr/>
          </p:nvSpPr>
          <p:spPr>
            <a:xfrm>
              <a:off x="1905120" y="1397160"/>
              <a:ext cx="5410080" cy="1022040"/>
            </a:xfrm>
            <a:prstGeom prst="rightArrow">
              <a:avLst>
                <a:gd name="adj1" fmla="val 66769"/>
                <a:gd name="adj2" fmla="val 49087"/>
              </a:avLst>
            </a:prstGeom>
            <a:gradFill rotWithShape="0">
              <a:gsLst>
                <a:gs pos="0">
                  <a:srgbClr val="fefe8d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</a:t>
              </a: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Bedienu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908000" y="1574640"/>
              <a:ext cx="3030840" cy="669960"/>
            </a:xfrm>
            <a:prstGeom prst="rect">
              <a:avLst/>
            </a:prstGeom>
            <a:gradFill rotWithShape="0">
              <a:gsLst>
                <a:gs pos="0">
                  <a:srgbClr val="fe8d8d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 rot="20427600">
            <a:off x="6171840" y="1980720"/>
            <a:ext cx="1676520" cy="1067040"/>
          </a:xfrm>
          <a:prstGeom prst="ellipse">
            <a:avLst/>
          </a:prstGeom>
          <a:solidFill>
            <a:srgbClr val="66ccff">
              <a:alpha val="50000"/>
            </a:srgbClr>
          </a:solidFill>
          <a:ln w="1260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Zeitaufw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Qualifik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4033440" y="1066320"/>
            <a:ext cx="2672280" cy="2671560"/>
            <a:chOff x="4033440" y="1066320"/>
            <a:chExt cx="2672280" cy="2671560"/>
          </a:xfrm>
        </p:grpSpPr>
        <p:cxnSp>
          <p:nvCxnSpPr>
            <p:cNvPr id="80" name=""/>
            <p:cNvCxnSpPr>
              <a:stCxn id="81" idx="0"/>
              <a:endCxn id="82" idx="3"/>
            </p:cNvCxnSpPr>
            <p:nvPr/>
          </p:nvCxnSpPr>
          <p:spPr>
            <a:xfrm flipH="1">
              <a:off x="4033440" y="1066320"/>
              <a:ext cx="1681920" cy="2671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81" name=""/>
            <p:cNvSpPr/>
            <p:nvPr/>
          </p:nvSpPr>
          <p:spPr>
            <a:xfrm>
              <a:off x="4724280" y="1066680"/>
              <a:ext cx="1981440" cy="609480"/>
            </a:xfrm>
            <a:prstGeom prst="rect">
              <a:avLst/>
            </a:prstGeom>
            <a:gradFill rotWithShape="0">
              <a:gsLst>
                <a:gs pos="0">
                  <a:srgbClr val="fefe9f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estands- und Warehousemanag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2438280" y="1066680"/>
            <a:ext cx="2672280" cy="2672280"/>
            <a:chOff x="2438280" y="1066680"/>
            <a:chExt cx="2672280" cy="2672280"/>
          </a:xfrm>
        </p:grpSpPr>
        <p:cxnSp>
          <p:nvCxnSpPr>
            <p:cNvPr id="84" name=""/>
            <p:cNvCxnSpPr>
              <a:stCxn id="85" idx="0"/>
              <a:endCxn id="82" idx="5"/>
            </p:cNvCxnSpPr>
            <p:nvPr/>
          </p:nvCxnSpPr>
          <p:spPr>
            <a:xfrm>
              <a:off x="3429000" y="1066680"/>
              <a:ext cx="1681920" cy="26726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85" name=""/>
            <p:cNvSpPr/>
            <p:nvPr/>
          </p:nvSpPr>
          <p:spPr>
            <a:xfrm>
              <a:off x="2438280" y="1066680"/>
              <a:ext cx="1981440" cy="609840"/>
            </a:xfrm>
            <a:prstGeom prst="rect">
              <a:avLst/>
            </a:prstGeom>
            <a:gradFill rotWithShape="0">
              <a:gsLst>
                <a:gs pos="0">
                  <a:srgbClr val="fefe9f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Controll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Finanzbuchhaltu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2438280" y="2661840"/>
            <a:ext cx="2672280" cy="2672280"/>
            <a:chOff x="2438280" y="2661840"/>
            <a:chExt cx="2672280" cy="2672280"/>
          </a:xfrm>
        </p:grpSpPr>
        <p:cxnSp>
          <p:nvCxnSpPr>
            <p:cNvPr id="87" name=""/>
            <p:cNvCxnSpPr>
              <a:stCxn id="88" idx="2"/>
              <a:endCxn id="82" idx="7"/>
            </p:cNvCxnSpPr>
            <p:nvPr/>
          </p:nvCxnSpPr>
          <p:spPr>
            <a:xfrm flipV="1">
              <a:off x="3429000" y="2661840"/>
              <a:ext cx="1681920" cy="26726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88" name=""/>
            <p:cNvSpPr/>
            <p:nvPr/>
          </p:nvSpPr>
          <p:spPr>
            <a:xfrm>
              <a:off x="2438280" y="4724640"/>
              <a:ext cx="1981440" cy="609480"/>
            </a:xfrm>
            <a:prstGeom prst="rect">
              <a:avLst/>
            </a:prstGeom>
            <a:gradFill rotWithShape="0">
              <a:gsLst>
                <a:gs pos="0">
                  <a:srgbClr val="fefe9f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Marke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Vertrie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4033800" y="2662200"/>
            <a:ext cx="2671920" cy="2672280"/>
            <a:chOff x="4033800" y="2662200"/>
            <a:chExt cx="2671920" cy="2672280"/>
          </a:xfrm>
        </p:grpSpPr>
        <p:cxnSp>
          <p:nvCxnSpPr>
            <p:cNvPr id="90" name=""/>
            <p:cNvCxnSpPr>
              <a:stCxn id="82" idx="1"/>
              <a:endCxn id="91" idx="2"/>
            </p:cNvCxnSpPr>
            <p:nvPr/>
          </p:nvCxnSpPr>
          <p:spPr>
            <a:xfrm>
              <a:off x="4033800" y="2662200"/>
              <a:ext cx="1681920" cy="26726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91" name=""/>
            <p:cNvSpPr/>
            <p:nvPr/>
          </p:nvSpPr>
          <p:spPr>
            <a:xfrm>
              <a:off x="4724280" y="4724640"/>
              <a:ext cx="1981440" cy="609480"/>
            </a:xfrm>
            <a:prstGeom prst="rect">
              <a:avLst/>
            </a:prstGeom>
            <a:gradFill rotWithShape="0">
              <a:gsLst>
                <a:gs pos="0">
                  <a:srgbClr val="fefe9f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Qualitätsmanag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3632040" y="2257560"/>
            <a:ext cx="1882800" cy="18828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efe90"/>
              </a:gs>
            </a:gsLst>
            <a:lin ang="81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Die Produktion im Zusammenspiel mit anderen Modulen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5562360"/>
            <a:ext cx="81536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182520" indent="-1825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Die Produktion ist nicht nur durch Stoffströme gekennzeichnet. Parallel müssen Forderungen anderer Module berücksichtigt wer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438280"/>
            <a:ext cx="1524240" cy="1524240"/>
          </a:xfrm>
          <a:prstGeom prst="ellipse">
            <a:avLst/>
          </a:prstGeom>
          <a:gradFill rotWithShape="0">
            <a:gsLst>
              <a:gs pos="0">
                <a:srgbClr val="fe8c8c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200040" y="2285640"/>
            <a:ext cx="834120" cy="1828800"/>
            <a:chOff x="3200040" y="2285640"/>
            <a:chExt cx="834120" cy="1828800"/>
          </a:xfrm>
        </p:grpSpPr>
        <p:cxnSp>
          <p:nvCxnSpPr>
            <p:cNvPr id="96" name=""/>
            <p:cNvCxnSpPr>
              <a:stCxn id="97" idx="3"/>
              <a:endCxn id="82" idx="1"/>
            </p:cNvCxnSpPr>
            <p:nvPr/>
          </p:nvCxnSpPr>
          <p:spPr>
            <a:xfrm>
              <a:off x="3429000" y="2285640"/>
              <a:ext cx="605520" cy="376920"/>
            </a:xfrm>
            <a:prstGeom prst="straightConnector1">
              <a:avLst/>
            </a:prstGeom>
            <a:ln w="19080">
              <a:solidFill>
                <a:srgbClr val="66ccff"/>
              </a:solidFill>
              <a:miter/>
              <a:tailEnd len="sm" type="stealth" w="sm"/>
            </a:ln>
          </p:spPr>
        </p:cxnSp>
        <p:cxnSp>
          <p:nvCxnSpPr>
            <p:cNvPr id="98" name=""/>
            <p:cNvCxnSpPr>
              <a:stCxn id="99" idx="3"/>
              <a:endCxn id="82" idx="2"/>
            </p:cNvCxnSpPr>
            <p:nvPr/>
          </p:nvCxnSpPr>
          <p:spPr>
            <a:xfrm>
              <a:off x="3200040" y="3200040"/>
              <a:ext cx="610200" cy="1080"/>
            </a:xfrm>
            <a:prstGeom prst="straightConnector1">
              <a:avLst/>
            </a:prstGeom>
            <a:ln w="19080">
              <a:solidFill>
                <a:srgbClr val="66ccff"/>
              </a:solidFill>
              <a:miter/>
              <a:tailEnd len="sm" type="stealth" w="sm"/>
            </a:ln>
          </p:spPr>
        </p:cxnSp>
        <p:cxnSp>
          <p:nvCxnSpPr>
            <p:cNvPr id="100" name=""/>
            <p:cNvCxnSpPr>
              <a:stCxn id="101" idx="3"/>
              <a:endCxn id="82" idx="3"/>
            </p:cNvCxnSpPr>
            <p:nvPr/>
          </p:nvCxnSpPr>
          <p:spPr>
            <a:xfrm flipV="1">
              <a:off x="3429000" y="3737880"/>
              <a:ext cx="605520" cy="376920"/>
            </a:xfrm>
            <a:prstGeom prst="straightConnector1">
              <a:avLst/>
            </a:prstGeom>
            <a:ln w="19080">
              <a:solidFill>
                <a:srgbClr val="66ccff"/>
              </a:solidFill>
              <a:miter/>
              <a:tailEnd len="sm" type="stealth" w="sm"/>
            </a:ln>
          </p:spPr>
        </p:cxnSp>
      </p:grpSp>
      <p:grpSp>
        <p:nvGrpSpPr>
          <p:cNvPr id="102" name=""/>
          <p:cNvGrpSpPr/>
          <p:nvPr/>
        </p:nvGrpSpPr>
        <p:grpSpPr>
          <a:xfrm>
            <a:off x="5638680" y="1981080"/>
            <a:ext cx="2286000" cy="2438280"/>
            <a:chOff x="5638680" y="1981080"/>
            <a:chExt cx="2286000" cy="2438280"/>
          </a:xfrm>
        </p:grpSpPr>
        <p:sp>
          <p:nvSpPr>
            <p:cNvPr id="103" name=""/>
            <p:cNvSpPr/>
            <p:nvPr/>
          </p:nvSpPr>
          <p:spPr>
            <a:xfrm>
              <a:off x="5867280" y="2895480"/>
              <a:ext cx="2057400" cy="609480"/>
            </a:xfrm>
            <a:prstGeom prst="rect">
              <a:avLst/>
            </a:prstGeom>
            <a:gradFill rotWithShape="0">
              <a:gsLst>
                <a:gs pos="0">
                  <a:srgbClr val="ddfebd"/>
                </a:gs>
                <a:gs pos="100000">
                  <a:srgbClr val="99ff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Zwischenproduk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638680" y="3809880"/>
              <a:ext cx="2057400" cy="609480"/>
            </a:xfrm>
            <a:prstGeom prst="rect">
              <a:avLst/>
            </a:prstGeom>
            <a:gradFill rotWithShape="0">
              <a:gsLst>
                <a:gs pos="0">
                  <a:srgbClr val="ddfebd"/>
                </a:gs>
                <a:gs pos="100000">
                  <a:srgbClr val="99ff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An- und Abfäl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638680" y="1981080"/>
              <a:ext cx="2057400" cy="609480"/>
            </a:xfrm>
            <a:prstGeom prst="rect">
              <a:avLst/>
            </a:prstGeom>
            <a:gradFill rotWithShape="0">
              <a:gsLst>
                <a:gs pos="0">
                  <a:srgbClr val="ddfebd"/>
                </a:gs>
                <a:gs pos="100000">
                  <a:srgbClr val="99ff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Endproduk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110200" y="2285280"/>
            <a:ext cx="757080" cy="1829520"/>
            <a:chOff x="5110200" y="2285280"/>
            <a:chExt cx="757080" cy="1829520"/>
          </a:xfrm>
        </p:grpSpPr>
        <p:cxnSp>
          <p:nvCxnSpPr>
            <p:cNvPr id="107" name=""/>
            <p:cNvCxnSpPr>
              <a:stCxn id="82" idx="7"/>
              <a:endCxn id="105" idx="1"/>
            </p:cNvCxnSpPr>
            <p:nvPr/>
          </p:nvCxnSpPr>
          <p:spPr>
            <a:xfrm flipV="1">
              <a:off x="5110200" y="2285280"/>
              <a:ext cx="529200" cy="376920"/>
            </a:xfrm>
            <a:prstGeom prst="straightConnector1">
              <a:avLst/>
            </a:prstGeom>
            <a:ln w="19080">
              <a:solidFill>
                <a:srgbClr val="99ff33"/>
              </a:solidFill>
              <a:miter/>
              <a:tailEnd len="sm" type="stealth" w="sm"/>
            </a:ln>
          </p:spPr>
        </p:cxnSp>
        <p:cxnSp>
          <p:nvCxnSpPr>
            <p:cNvPr id="108" name=""/>
            <p:cNvCxnSpPr>
              <a:stCxn id="82" idx="6"/>
              <a:endCxn id="103" idx="1"/>
            </p:cNvCxnSpPr>
            <p:nvPr/>
          </p:nvCxnSpPr>
          <p:spPr>
            <a:xfrm>
              <a:off x="5333760" y="3200040"/>
              <a:ext cx="533880" cy="1080"/>
            </a:xfrm>
            <a:prstGeom prst="straightConnector1">
              <a:avLst/>
            </a:prstGeom>
            <a:ln w="19080">
              <a:solidFill>
                <a:srgbClr val="99ff33"/>
              </a:solidFill>
              <a:miter/>
              <a:tailEnd len="sm" type="stealth" w="sm"/>
            </a:ln>
          </p:spPr>
        </p:cxnSp>
        <p:cxnSp>
          <p:nvCxnSpPr>
            <p:cNvPr id="109" name=""/>
            <p:cNvCxnSpPr>
              <a:stCxn id="82" idx="5"/>
              <a:endCxn id="104" idx="1"/>
            </p:cNvCxnSpPr>
            <p:nvPr/>
          </p:nvCxnSpPr>
          <p:spPr>
            <a:xfrm>
              <a:off x="5110200" y="3738240"/>
              <a:ext cx="529200" cy="376920"/>
            </a:xfrm>
            <a:prstGeom prst="straightConnector1">
              <a:avLst/>
            </a:prstGeom>
            <a:ln w="19080">
              <a:solidFill>
                <a:srgbClr val="99ff33"/>
              </a:solidFill>
              <a:miter/>
              <a:tailEnd len="sm" type="stealth" w="sm"/>
            </a:ln>
          </p:spPr>
        </p:cxnSp>
      </p:grpSp>
      <p:grpSp>
        <p:nvGrpSpPr>
          <p:cNvPr id="110" name=""/>
          <p:cNvGrpSpPr/>
          <p:nvPr/>
        </p:nvGrpSpPr>
        <p:grpSpPr>
          <a:xfrm>
            <a:off x="1143000" y="1981080"/>
            <a:ext cx="2286000" cy="2438280"/>
            <a:chOff x="1143000" y="1981080"/>
            <a:chExt cx="2286000" cy="2438280"/>
          </a:xfrm>
        </p:grpSpPr>
        <p:sp>
          <p:nvSpPr>
            <p:cNvPr id="99" name=""/>
            <p:cNvSpPr/>
            <p:nvPr/>
          </p:nvSpPr>
          <p:spPr>
            <a:xfrm>
              <a:off x="1143000" y="2895480"/>
              <a:ext cx="2057400" cy="609480"/>
            </a:xfrm>
            <a:prstGeom prst="rect">
              <a:avLst/>
            </a:prstGeom>
            <a:gradFill rotWithShape="0">
              <a:gsLst>
                <a:gs pos="0">
                  <a:srgbClr val="d0eefe"/>
                </a:gs>
                <a:gs pos="100000">
                  <a:srgbClr val="66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Energi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371600" y="3809880"/>
              <a:ext cx="2057400" cy="609480"/>
            </a:xfrm>
            <a:prstGeom prst="rect">
              <a:avLst/>
            </a:prstGeom>
            <a:gradFill rotWithShape="0">
              <a:gsLst>
                <a:gs pos="0">
                  <a:srgbClr val="d0eefe"/>
                </a:gs>
                <a:gs pos="100000">
                  <a:srgbClr val="66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Anlagen und Perso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371600" y="1981080"/>
              <a:ext cx="2057400" cy="609480"/>
            </a:xfrm>
            <a:prstGeom prst="rect">
              <a:avLst/>
            </a:prstGeom>
            <a:gradFill rotWithShape="0">
              <a:gsLst>
                <a:gs pos="0">
                  <a:srgbClr val="d0eefe"/>
                </a:gs>
                <a:gs pos="100000">
                  <a:srgbClr val="66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Rohstoffe und Zwischenproduk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Zusatzprogrammierungen senken den Bedienaufwand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5257440"/>
            <a:ext cx="75074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155880" indent="-1558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Bei fixer Leistung des Systemstandards hat das Ausmaß der Zusatzprogrammierung den entscheidenden Einfluß auf die gesamte System-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-640440" y="2844000"/>
            <a:ext cx="3722760" cy="459720"/>
          </a:xfrm>
          <a:prstGeom prst="rect">
            <a:avLst/>
          </a:prstGeom>
          <a:gradFill rotWithShape="0">
            <a:gsLst>
              <a:gs pos="0">
                <a:srgbClr val="afeaaf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gangs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6200000">
            <a:off x="6057360" y="2862360"/>
            <a:ext cx="3733920" cy="459720"/>
          </a:xfrm>
          <a:prstGeom prst="rect">
            <a:avLst/>
          </a:prstGeom>
          <a:gradFill rotWithShape="0">
            <a:gsLst>
              <a:gs pos="0">
                <a:srgbClr val="afeaaf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spru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905120" y="1676520"/>
            <a:ext cx="5410080" cy="2895480"/>
            <a:chOff x="1905120" y="1676520"/>
            <a:chExt cx="5410080" cy="2895480"/>
          </a:xfrm>
        </p:grpSpPr>
        <p:grpSp>
          <p:nvGrpSpPr>
            <p:cNvPr id="116" name=""/>
            <p:cNvGrpSpPr/>
            <p:nvPr/>
          </p:nvGrpSpPr>
          <p:grpSpPr>
            <a:xfrm>
              <a:off x="1905120" y="3549600"/>
              <a:ext cx="5410080" cy="1022400"/>
              <a:chOff x="1905120" y="3549600"/>
              <a:chExt cx="5410080" cy="1022400"/>
            </a:xfrm>
          </p:grpSpPr>
          <p:sp>
            <p:nvSpPr>
              <p:cNvPr id="117" name=""/>
              <p:cNvSpPr/>
              <p:nvPr/>
            </p:nvSpPr>
            <p:spPr>
              <a:xfrm>
                <a:off x="1905120" y="3549600"/>
                <a:ext cx="5410080" cy="1022400"/>
              </a:xfrm>
              <a:prstGeom prst="rightArrow">
                <a:avLst>
                  <a:gd name="adj1" fmla="val 66463"/>
                  <a:gd name="adj2" fmla="val 49069"/>
                </a:avLst>
              </a:prstGeom>
              <a:gradFill rotWithShape="0">
                <a:gsLst>
                  <a:gs pos="0">
                    <a:srgbClr val="fefe98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                                                    </a:t>
                </a: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Bedienu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905120" y="3727440"/>
                <a:ext cx="1447560" cy="668520"/>
              </a:xfrm>
              <a:prstGeom prst="rect">
                <a:avLst/>
              </a:prstGeom>
              <a:gradFill rotWithShape="0">
                <a:gsLst>
                  <a:gs pos="0">
                    <a:srgbClr val="c1e9fe"/>
                  </a:gs>
                  <a:gs pos="100000">
                    <a:srgbClr val="66ccff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SAP R/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Standar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1905120" y="1676520"/>
              <a:ext cx="5410080" cy="1022400"/>
              <a:chOff x="1905120" y="1676520"/>
              <a:chExt cx="5410080" cy="1022400"/>
            </a:xfrm>
          </p:grpSpPr>
          <p:sp>
            <p:nvSpPr>
              <p:cNvPr id="120" name=""/>
              <p:cNvSpPr/>
              <p:nvPr/>
            </p:nvSpPr>
            <p:spPr>
              <a:xfrm>
                <a:off x="1905120" y="1676520"/>
                <a:ext cx="5410080" cy="1022400"/>
              </a:xfrm>
              <a:prstGeom prst="rightArrow">
                <a:avLst>
                  <a:gd name="adj1" fmla="val 66463"/>
                  <a:gd name="adj2" fmla="val 49069"/>
                </a:avLst>
              </a:prstGeom>
              <a:gradFill rotWithShape="0">
                <a:gsLst>
                  <a:gs pos="0">
                    <a:srgbClr val="fefe98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100" spc="-1" strike="noStrike">
                    <a:solidFill>
                      <a:srgbClr val="000000"/>
                    </a:solidFill>
                    <a:latin typeface="Arial"/>
                  </a:rPr>
                  <a:t>                                                                                                          </a:t>
                </a:r>
                <a:r>
                  <a:rPr b="1" lang="de-DE" sz="1100" spc="-1" strike="noStrike">
                    <a:solidFill>
                      <a:srgbClr val="000000"/>
                    </a:solidFill>
                    <a:latin typeface="Arial"/>
                  </a:rPr>
                  <a:t>Bedienun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905120" y="1854360"/>
                <a:ext cx="1447560" cy="668160"/>
              </a:xfrm>
              <a:prstGeom prst="rect">
                <a:avLst/>
              </a:prstGeom>
              <a:gradFill rotWithShape="0">
                <a:gsLst>
                  <a:gs pos="0">
                    <a:srgbClr val="c1e9fe"/>
                  </a:gs>
                  <a:gs pos="100000">
                    <a:srgbClr val="66ccff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SAP R/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Standar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352680" y="3727440"/>
            <a:ext cx="1524240" cy="66852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668520"/>
              <a:gd name="textAreaBottom" fmla="*/ 668880 h 668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055" y="0"/>
                </a:lnTo>
                <a:lnTo>
                  <a:pt x="21600" y="10800"/>
                </a:lnTo>
                <a:lnTo>
                  <a:pt x="1705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8989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Zusatz-programmie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828800" y="1854360"/>
            <a:ext cx="5486400" cy="2732040"/>
            <a:chOff x="1828800" y="1854360"/>
            <a:chExt cx="5486400" cy="2732040"/>
          </a:xfrm>
        </p:grpSpPr>
        <p:sp>
          <p:nvSpPr>
            <p:cNvPr id="124" name=""/>
            <p:cNvSpPr/>
            <p:nvPr/>
          </p:nvSpPr>
          <p:spPr>
            <a:xfrm>
              <a:off x="3352680" y="1854360"/>
              <a:ext cx="2438640" cy="668160"/>
            </a:xfrm>
            <a:custGeom>
              <a:avLst/>
              <a:gdLst>
                <a:gd name="textAreaLeft" fmla="*/ 0 w 2438640"/>
                <a:gd name="textAreaRight" fmla="*/ 2438640 w 2438640"/>
                <a:gd name="textAreaTop" fmla="*/ 0 h 668160"/>
                <a:gd name="textAreaBottom" fmla="*/ 668520 h 668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605" y="0"/>
                  </a:lnTo>
                  <a:lnTo>
                    <a:pt x="21600" y="10800"/>
                  </a:lnTo>
                  <a:lnTo>
                    <a:pt x="18605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e9898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Zusatz-programmieru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828800" y="3519360"/>
              <a:ext cx="5486400" cy="10670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2743200" y="1600200"/>
            <a:ext cx="3352680" cy="3124080"/>
            <a:chOff x="2743200" y="1600200"/>
            <a:chExt cx="3352680" cy="3124080"/>
          </a:xfrm>
        </p:grpSpPr>
        <p:sp>
          <p:nvSpPr>
            <p:cNvPr id="127" name=""/>
            <p:cNvSpPr/>
            <p:nvPr/>
          </p:nvSpPr>
          <p:spPr>
            <a:xfrm>
              <a:off x="3784680" y="2590920"/>
              <a:ext cx="1295280" cy="1143000"/>
            </a:xfrm>
            <a:prstGeom prst="rect">
              <a:avLst/>
            </a:prstGeom>
            <a:gradFill rotWithShape="0">
              <a:gsLst>
                <a:gs pos="0">
                  <a:srgbClr val="b8e6fe"/>
                </a:gs>
                <a:gs pos="100000">
                  <a:srgbClr val="66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SAP R/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743200" y="1600200"/>
              <a:ext cx="3352680" cy="3124080"/>
            </a:xfrm>
            <a:prstGeom prst="donut">
              <a:avLst>
                <a:gd name="adj" fmla="val 33078"/>
              </a:avLst>
            </a:prstGeom>
            <a:gradFill rotWithShape="0">
              <a:gsLst>
                <a:gs pos="0">
                  <a:srgbClr val="fe9898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971800" y="1752480"/>
              <a:ext cx="2895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Zusatz-programmier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Zusatzprogrammierung als Ergänzung zum SAP-Standard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5334120"/>
            <a:ext cx="750744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Zusatzprogrammierungen sollen den SAP-Standard sinnvoll ergänz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438280" y="2666880"/>
            <a:ext cx="1524240" cy="685800"/>
          </a:xfrm>
          <a:prstGeom prst="rect">
            <a:avLst/>
          </a:prstGeom>
          <a:gradFill rotWithShape="0">
            <a:gsLst>
              <a:gs pos="0">
                <a:srgbClr val="fefe94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ersonalisierte Menü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76920" y="2666880"/>
            <a:ext cx="1523880" cy="685800"/>
          </a:xfrm>
          <a:prstGeom prst="rect">
            <a:avLst/>
          </a:prstGeom>
          <a:gradFill rotWithShape="0">
            <a:gsLst>
              <a:gs pos="0">
                <a:srgbClr val="fefe94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ersonalisierte Scree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657600" y="3581280"/>
            <a:ext cx="1523880" cy="685800"/>
          </a:xfrm>
          <a:prstGeom prst="rect">
            <a:avLst/>
          </a:prstGeom>
          <a:gradFill rotWithShape="0">
            <a:gsLst>
              <a:gs pos="0">
                <a:srgbClr val="a0e6a0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eta-transaktion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Zusatzprogrammierung als Ergänzung zum SAP-Standard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09680" y="2209680"/>
            <a:ext cx="60595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188280" indent="-1882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Zusatzprogrammierungen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 berücksichtigen die Abläufe in den Bereichen, für die sie erstellt wur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8280" indent="-1882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Zusatzprogrammierungen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 erweitern das Standard-SAP um Ihre betrieblichen Abläuf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8280" indent="-1882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Zusatzprogrammierungen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 entfalten ihre Vorteile bei Neueinführung von SAP R/3 oder in einer bestehenden Systemumgebu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82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8280" indent="-1882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Betriebliche Abläufe müssen nicht angepasst wer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82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85800" y="1143000"/>
            <a:ext cx="1440000" cy="1136520"/>
            <a:chOff x="685800" y="1143000"/>
            <a:chExt cx="1440000" cy="1136520"/>
          </a:xfrm>
        </p:grpSpPr>
        <p:grpSp>
          <p:nvGrpSpPr>
            <p:cNvPr id="138" name=""/>
            <p:cNvGrpSpPr/>
            <p:nvPr/>
          </p:nvGrpSpPr>
          <p:grpSpPr>
            <a:xfrm>
              <a:off x="796320" y="1143000"/>
              <a:ext cx="1218240" cy="1136520"/>
              <a:chOff x="796320" y="1143000"/>
              <a:chExt cx="1218240" cy="1136520"/>
            </a:xfrm>
          </p:grpSpPr>
          <p:sp>
            <p:nvSpPr>
              <p:cNvPr id="139" name=""/>
              <p:cNvSpPr/>
              <p:nvPr/>
            </p:nvSpPr>
            <p:spPr>
              <a:xfrm>
                <a:off x="1174680" y="1503360"/>
                <a:ext cx="470520" cy="415800"/>
              </a:xfrm>
              <a:prstGeom prst="rect">
                <a:avLst/>
              </a:prstGeom>
              <a:gradFill rotWithShape="0">
                <a:gsLst>
                  <a:gs pos="0">
                    <a:srgbClr val="b8e6fe"/>
                  </a:gs>
                  <a:gs pos="100000">
                    <a:srgbClr val="66cc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96320" y="1143000"/>
                <a:ext cx="1218240" cy="1136520"/>
              </a:xfrm>
              <a:prstGeom prst="donut">
                <a:avLst>
                  <a:gd name="adj" fmla="val 33078"/>
                </a:avLst>
              </a:prstGeom>
              <a:gradFill rotWithShape="0">
                <a:gsLst>
                  <a:gs pos="0">
                    <a:srgbClr val="fe9898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79120" y="1190160"/>
                <a:ext cx="1052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Arial"/>
                  </a:rPr>
                  <a:t>Zusatz-programmierun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685800" y="1531080"/>
              <a:ext cx="553680" cy="249480"/>
            </a:xfrm>
            <a:prstGeom prst="rect">
              <a:avLst/>
            </a:prstGeom>
            <a:gradFill rotWithShape="0">
              <a:gsLst>
                <a:gs pos="0">
                  <a:srgbClr val="fefe94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72120" y="1531080"/>
              <a:ext cx="553680" cy="249480"/>
            </a:xfrm>
            <a:prstGeom prst="rect">
              <a:avLst/>
            </a:prstGeom>
            <a:gradFill rotWithShape="0">
              <a:gsLst>
                <a:gs pos="0">
                  <a:srgbClr val="fefe94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128960" y="1863720"/>
              <a:ext cx="553680" cy="249480"/>
            </a:xfrm>
            <a:prstGeom prst="rect">
              <a:avLst/>
            </a:prstGeom>
            <a:gradFill rotWithShape="0">
              <a:gsLst>
                <a:gs pos="0">
                  <a:srgbClr val="a0e6a0"/>
                </a:gs>
                <a:gs pos="100000">
                  <a:srgbClr val="33cc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Zusatzprogrammierung als Ergänzung zum SAP-Standard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09680" y="2209320"/>
            <a:ext cx="605952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Zusatzprogrammierungen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 berücksichtigen die Qualifikation der Anwen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Zusatzprogrammierungen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 entlasten von Routine- eingab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Zusatzprogrammierungen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 vermeiden unnötige Systembedienungen und Fehleingab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Anwender in die Entwicklung einbeziehen. Key-User als Mitglieder der Projektorganis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685800" y="1143000"/>
            <a:ext cx="1440000" cy="1136520"/>
            <a:chOff x="685800" y="1143000"/>
            <a:chExt cx="1440000" cy="1136520"/>
          </a:xfrm>
        </p:grpSpPr>
        <p:grpSp>
          <p:nvGrpSpPr>
            <p:cNvPr id="148" name=""/>
            <p:cNvGrpSpPr/>
            <p:nvPr/>
          </p:nvGrpSpPr>
          <p:grpSpPr>
            <a:xfrm>
              <a:off x="796320" y="1143000"/>
              <a:ext cx="1218240" cy="1136520"/>
              <a:chOff x="796320" y="1143000"/>
              <a:chExt cx="1218240" cy="1136520"/>
            </a:xfrm>
          </p:grpSpPr>
          <p:sp>
            <p:nvSpPr>
              <p:cNvPr id="149" name=""/>
              <p:cNvSpPr/>
              <p:nvPr/>
            </p:nvSpPr>
            <p:spPr>
              <a:xfrm>
                <a:off x="1174680" y="1503360"/>
                <a:ext cx="470520" cy="415800"/>
              </a:xfrm>
              <a:prstGeom prst="rect">
                <a:avLst/>
              </a:prstGeom>
              <a:gradFill rotWithShape="0">
                <a:gsLst>
                  <a:gs pos="0">
                    <a:srgbClr val="b8e6fe"/>
                  </a:gs>
                  <a:gs pos="100000">
                    <a:srgbClr val="66cc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96320" y="1143000"/>
                <a:ext cx="1218240" cy="1136520"/>
              </a:xfrm>
              <a:prstGeom prst="donut">
                <a:avLst>
                  <a:gd name="adj" fmla="val 33078"/>
                </a:avLst>
              </a:prstGeom>
              <a:gradFill rotWithShape="0">
                <a:gsLst>
                  <a:gs pos="0">
                    <a:srgbClr val="fe9898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79120" y="1190160"/>
                <a:ext cx="1052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Arial"/>
                  </a:rPr>
                  <a:t>Zusatz-programmierun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685800" y="1531080"/>
              <a:ext cx="553680" cy="249480"/>
            </a:xfrm>
            <a:prstGeom prst="rect">
              <a:avLst/>
            </a:prstGeom>
            <a:gradFill rotWithShape="0">
              <a:gsLst>
                <a:gs pos="0">
                  <a:srgbClr val="fefe94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572120" y="1531080"/>
              <a:ext cx="553680" cy="249480"/>
            </a:xfrm>
            <a:prstGeom prst="rect">
              <a:avLst/>
            </a:prstGeom>
            <a:gradFill rotWithShape="0">
              <a:gsLst>
                <a:gs pos="0">
                  <a:srgbClr val="fefe94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128960" y="1863720"/>
              <a:ext cx="553680" cy="249480"/>
            </a:xfrm>
            <a:prstGeom prst="rect">
              <a:avLst/>
            </a:prstGeom>
            <a:gradFill rotWithShape="0">
              <a:gsLst>
                <a:gs pos="0">
                  <a:srgbClr val="a0e6a0"/>
                </a:gs>
                <a:gs pos="100000">
                  <a:srgbClr val="33cc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1:26:31Z</dcterms:created>
  <dc:creator>Degussa AG</dc:creator>
  <dc:description/>
  <dc:language>en-US</dc:language>
  <cp:lastModifiedBy>Dr. Jochen Winkler</cp:lastModifiedBy>
  <cp:lastPrinted>2000-09-11T06:16:39Z</cp:lastPrinted>
  <dcterms:modified xsi:type="dcterms:W3CDTF">2001-02-02T17:23:30Z</dcterms:modified>
  <cp:revision>35</cp:revision>
  <dc:subject/>
  <dc:title>Musterfolie Degussa-Hüls, farbig, TNR 32</dc:title>
</cp:coreProperties>
</file>