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04520" y="304560"/>
            <a:ext cx="7643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3f3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304920"/>
            <a:ext cx="822960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38880" y="6459480"/>
            <a:ext cx="1379520" cy="27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635C38B-E2C2-4BF0-BFFB-E8583BD8FAB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166040" y="6477120"/>
            <a:ext cx="6174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ov 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839960" y="6477120"/>
            <a:ext cx="11415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V-OS-ES / Dr. H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Absatzplan -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196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rd vom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Vertrieb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arbei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lan-Absätze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Primärbeda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s können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Mindest-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efinier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1371600"/>
            <a:ext cx="35812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rd von der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arbeit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Kann-Absätze</a:t>
            </a:r>
            <a:br>
              <a:rPr sz="2200"/>
            </a:b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Sekundärbedarf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werden berücksicht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Mail-Benachrichtigung aus dem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666880"/>
            <a:ext cx="792504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Produktions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relevanten Änderung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Kann-Absatz werden in den Absatzsplan übernommen und dort ggf. farblich gekennzeich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ondere Kennzeichnung, wenn der Kann-Absatz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ch unter den Plan-Absatz veränd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2776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0120" y="5257800"/>
            <a:ext cx="838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15960" y="992160"/>
          <a:ext cx="7891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92160"/>
                    <a:ext cx="7891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Sonderfunkt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362320"/>
            <a:ext cx="62596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Rohstoffbedarf wird für das Werk ermitte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819520"/>
            <a:ext cx="6259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zu erwartenden Mengen an An- und Abfällen können aufgelis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Produktionsplan für das Werk oder jeden einzelnen Betrieb wird zusammengestel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4419720"/>
            <a:ext cx="6259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ezielle Bilanzierungen können bearbei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rcRect l="0" t="0" r="0" b="9709"/>
          <a:stretch/>
        </p:blipFill>
        <p:spPr>
          <a:xfrm>
            <a:off x="615960" y="995400"/>
            <a:ext cx="789948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615960" y="992160"/>
          <a:ext cx="789156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992160"/>
                    <a:ext cx="7891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08040" y="990720"/>
          <a:ext cx="7899480" cy="518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040" y="990720"/>
                    <a:ext cx="7899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Weitere Möglichkeit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schlagswerte für Plan-Absatz aus vorliegenden Bestellungen ermittel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276720"/>
            <a:ext cx="7925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sbau zur Kapazitäts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ampagnenoptim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ung von Bestellanford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Von der Planung zum Monatsabschluß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5194080"/>
            <a:ext cx="64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69200" indent="-1692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 die Prozeßauftragsbearbeitung schließt sich zum Monatsende der Periodenabschluß und die Auswertung der Bestandsbewegungen 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1219320"/>
            <a:ext cx="6353280" cy="2760480"/>
            <a:chOff x="685800" y="1219320"/>
            <a:chExt cx="6353280" cy="2760480"/>
          </a:xfrm>
        </p:grpSpPr>
        <p:sp>
          <p:nvSpPr>
            <p:cNvPr id="155" name=""/>
            <p:cNvSpPr/>
            <p:nvPr/>
          </p:nvSpPr>
          <p:spPr>
            <a:xfrm>
              <a:off x="685800" y="1219320"/>
              <a:ext cx="914400" cy="676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4680" y="3303720"/>
              <a:ext cx="914400" cy="67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5400" y="1219320"/>
              <a:ext cx="108432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25960" y="2273400"/>
              <a:ext cx="110484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5" idx="6"/>
              <a:endCxn id="157" idx="1"/>
            </p:cNvCxnSpPr>
            <p:nvPr/>
          </p:nvCxnSpPr>
          <p:spPr>
            <a:xfrm>
              <a:off x="1600200" y="1557000"/>
              <a:ext cx="2955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0" name=""/>
            <p:cNvSpPr/>
            <p:nvPr/>
          </p:nvSpPr>
          <p:spPr>
            <a:xfrm>
              <a:off x="4622760" y="3303720"/>
              <a:ext cx="108756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60" idx="3"/>
              <a:endCxn id="156" idx="2"/>
            </p:cNvCxnSpPr>
            <p:nvPr/>
          </p:nvCxnSpPr>
          <p:spPr>
            <a:xfrm>
              <a:off x="5709960" y="3641400"/>
              <a:ext cx="415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3321000" y="3303720"/>
              <a:ext cx="914400" cy="676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0" idx="1"/>
              <a:endCxn id="162" idx="6"/>
            </p:cNvCxnSpPr>
            <p:nvPr/>
          </p:nvCxnSpPr>
          <p:spPr>
            <a:xfrm flipH="1">
              <a:off x="4235040" y="3641400"/>
              <a:ext cx="388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64" name=""/>
            <p:cNvCxnSpPr>
              <a:stCxn id="162" idx="0"/>
              <a:endCxn id="158" idx="2"/>
            </p:cNvCxnSpPr>
            <p:nvPr/>
          </p:nvCxnSpPr>
          <p:spPr>
            <a:xfrm flipV="1">
              <a:off x="3777840" y="294912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3321000" y="1219320"/>
              <a:ext cx="914400" cy="676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2"/>
              <a:endCxn id="157" idx="3"/>
            </p:cNvCxnSpPr>
            <p:nvPr/>
          </p:nvCxnSpPr>
          <p:spPr>
            <a:xfrm flipH="1">
              <a:off x="2979360" y="155700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67" name=""/>
            <p:cNvCxnSpPr>
              <a:stCxn id="158" idx="0"/>
              <a:endCxn id="165" idx="4"/>
            </p:cNvCxnSpPr>
            <p:nvPr/>
          </p:nvCxnSpPr>
          <p:spPr>
            <a:xfrm flipV="1">
              <a:off x="3777840" y="1895040"/>
              <a:ext cx="108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4710240" y="2273400"/>
              <a:ext cx="914400" cy="676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58" idx="3"/>
              <a:endCxn id="168" idx="2"/>
            </p:cNvCxnSpPr>
            <p:nvPr/>
          </p:nvCxnSpPr>
          <p:spPr>
            <a:xfrm>
              <a:off x="4330800" y="2611080"/>
              <a:ext cx="380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0" name=""/>
            <p:cNvCxnSpPr>
              <a:stCxn id="168" idx="4"/>
              <a:endCxn id="160" idx="0"/>
            </p:cNvCxnSpPr>
            <p:nvPr/>
          </p:nvCxnSpPr>
          <p:spPr>
            <a:xfrm>
              <a:off x="5167080" y="294948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1981080" y="2274840"/>
              <a:ext cx="914400" cy="67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" name=""/>
            <p:cNvCxnSpPr>
              <a:stCxn id="157" idx="2"/>
              <a:endCxn id="171" idx="0"/>
            </p:cNvCxnSpPr>
            <p:nvPr/>
          </p:nvCxnSpPr>
          <p:spPr>
            <a:xfrm>
              <a:off x="2437920" y="1895400"/>
              <a:ext cx="1080" cy="3801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3" name=""/>
            <p:cNvCxnSpPr>
              <a:stCxn id="171" idx="6"/>
              <a:endCxn id="158" idx="1"/>
            </p:cNvCxnSpPr>
            <p:nvPr/>
          </p:nvCxnSpPr>
          <p:spPr>
            <a:xfrm>
              <a:off x="2895480" y="2611080"/>
              <a:ext cx="331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74" name=""/>
          <p:cNvGrpSpPr/>
          <p:nvPr/>
        </p:nvGrpSpPr>
        <p:grpSpPr>
          <a:xfrm>
            <a:off x="3778200" y="3979440"/>
            <a:ext cx="3348000" cy="1054440"/>
            <a:chOff x="3778200" y="3979440"/>
            <a:chExt cx="3348000" cy="1054440"/>
          </a:xfrm>
        </p:grpSpPr>
        <p:sp>
          <p:nvSpPr>
            <p:cNvPr id="175" name=""/>
            <p:cNvSpPr/>
            <p:nvPr/>
          </p:nvSpPr>
          <p:spPr>
            <a:xfrm>
              <a:off x="6039000" y="4357800"/>
              <a:ext cx="1087200" cy="676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chlu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" name=""/>
            <p:cNvCxnSpPr>
              <a:stCxn id="156" idx="4"/>
              <a:endCxn id="175" idx="0"/>
            </p:cNvCxnSpPr>
            <p:nvPr/>
          </p:nvCxnSpPr>
          <p:spPr>
            <a:xfrm>
              <a:off x="6581880" y="3979800"/>
              <a:ext cx="216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77" name=""/>
            <p:cNvCxnSpPr>
              <a:stCxn id="162" idx="4"/>
              <a:endCxn id="175" idx="1"/>
            </p:cNvCxnSpPr>
            <p:nvPr/>
          </p:nvCxnSpPr>
          <p:spPr>
            <a:xfrm flipH="1" rot="16200000">
              <a:off x="4550400" y="3207240"/>
              <a:ext cx="716760" cy="22611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78" name=""/>
          <p:cNvGrpSpPr/>
          <p:nvPr/>
        </p:nvGrpSpPr>
        <p:grpSpPr>
          <a:xfrm>
            <a:off x="7126200" y="4357800"/>
            <a:ext cx="1255680" cy="676080"/>
            <a:chOff x="7126200" y="4357800"/>
            <a:chExt cx="1255680" cy="676080"/>
          </a:xfrm>
        </p:grpSpPr>
        <p:sp>
          <p:nvSpPr>
            <p:cNvPr id="179" name=""/>
            <p:cNvSpPr/>
            <p:nvPr/>
          </p:nvSpPr>
          <p:spPr>
            <a:xfrm>
              <a:off x="7467480" y="4357800"/>
              <a:ext cx="914400" cy="676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Ist-Bestän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3"/>
              <a:endCxn id="179" idx="2"/>
            </p:cNvCxnSpPr>
            <p:nvPr/>
          </p:nvCxnSpPr>
          <p:spPr>
            <a:xfrm>
              <a:off x="7126200" y="469548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181" name=""/>
          <p:cNvSpPr/>
          <p:nvPr/>
        </p:nvSpPr>
        <p:spPr>
          <a:xfrm>
            <a:off x="652320" y="1020600"/>
            <a:ext cx="769644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383600" y="5033880"/>
            <a:ext cx="1079280" cy="1057320"/>
            <a:chOff x="7383600" y="5033880"/>
            <a:chExt cx="1079280" cy="1057320"/>
          </a:xfrm>
        </p:grpSpPr>
        <p:sp>
          <p:nvSpPr>
            <p:cNvPr id="183" name=""/>
            <p:cNvSpPr/>
            <p:nvPr/>
          </p:nvSpPr>
          <p:spPr>
            <a:xfrm>
              <a:off x="7383600" y="5419800"/>
              <a:ext cx="1079280" cy="6714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ap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79" idx="4"/>
              <a:endCxn id="183" idx="0"/>
            </p:cNvCxnSpPr>
            <p:nvPr/>
          </p:nvCxnSpPr>
          <p:spPr>
            <a:xfrm flipH="1">
              <a:off x="7922880" y="5033880"/>
              <a:ext cx="2160" cy="3866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505320" y="2603520"/>
            <a:ext cx="2120400" cy="838080"/>
            <a:chOff x="3505320" y="2603520"/>
            <a:chExt cx="2120400" cy="838080"/>
          </a:xfrm>
        </p:grpSpPr>
        <p:sp>
          <p:nvSpPr>
            <p:cNvPr id="52" name=""/>
            <p:cNvSpPr/>
            <p:nvPr/>
          </p:nvSpPr>
          <p:spPr>
            <a:xfrm>
              <a:off x="3505320" y="2603520"/>
              <a:ext cx="113004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2603520"/>
              <a:ext cx="113004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Von Kundenauftrag zur Produktio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22440" y="1244520"/>
            <a:ext cx="7899120" cy="3556080"/>
            <a:chOff x="622440" y="1244520"/>
            <a:chExt cx="7899120" cy="3556080"/>
          </a:xfrm>
        </p:grpSpPr>
        <p:sp>
          <p:nvSpPr>
            <p:cNvPr id="56" name=""/>
            <p:cNvSpPr/>
            <p:nvPr/>
          </p:nvSpPr>
          <p:spPr>
            <a:xfrm>
              <a:off x="622440" y="124452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91520" y="3962520"/>
              <a:ext cx="1130040" cy="838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752480" y="1244520"/>
            <a:ext cx="4509000" cy="2718360"/>
            <a:chOff x="1752480" y="1244520"/>
            <a:chExt cx="4509000" cy="2718360"/>
          </a:xfrm>
        </p:grpSpPr>
        <p:cxnSp>
          <p:nvCxnSpPr>
            <p:cNvPr id="59" name=""/>
            <p:cNvCxnSpPr>
              <a:stCxn id="60" idx="2"/>
              <a:endCxn id="61" idx="1"/>
            </p:cNvCxnSpPr>
            <p:nvPr/>
          </p:nvCxnSpPr>
          <p:spPr>
            <a:xfrm flipH="1" rot="16200000">
              <a:off x="2882880" y="2057040"/>
              <a:ext cx="952920" cy="10036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62" name=""/>
            <p:cNvCxnSpPr>
              <a:stCxn id="61" idx="3"/>
              <a:endCxn id="63" idx="0"/>
            </p:cNvCxnSpPr>
            <p:nvPr/>
          </p:nvCxnSpPr>
          <p:spPr>
            <a:xfrm>
              <a:off x="5232240" y="3035160"/>
              <a:ext cx="1029600" cy="928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60" name=""/>
            <p:cNvSpPr/>
            <p:nvPr/>
          </p:nvSpPr>
          <p:spPr>
            <a:xfrm>
              <a:off x="2184480" y="1244520"/>
              <a:ext cx="1346040" cy="838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616120"/>
              <a:ext cx="1371600" cy="838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56" idx="6"/>
              <a:endCxn id="60" idx="1"/>
            </p:cNvCxnSpPr>
            <p:nvPr/>
          </p:nvCxnSpPr>
          <p:spPr>
            <a:xfrm>
              <a:off x="1752480" y="1663200"/>
              <a:ext cx="4327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5587920" y="3962520"/>
            <a:ext cx="1803960" cy="838080"/>
            <a:chOff x="5587920" y="3962520"/>
            <a:chExt cx="1803960" cy="838080"/>
          </a:xfrm>
        </p:grpSpPr>
        <p:sp>
          <p:nvSpPr>
            <p:cNvPr id="63" name=""/>
            <p:cNvSpPr/>
            <p:nvPr/>
          </p:nvSpPr>
          <p:spPr>
            <a:xfrm>
              <a:off x="5587920" y="3962520"/>
              <a:ext cx="13464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3" idx="3"/>
              <a:endCxn id="57" idx="2"/>
            </p:cNvCxnSpPr>
            <p:nvPr/>
          </p:nvCxnSpPr>
          <p:spPr>
            <a:xfrm>
              <a:off x="6934320" y="4381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502884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odule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Absatz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s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ff3300"/>
                </a:solidFill>
                <a:latin typeface="Arial"/>
              </a:rPr>
              <a:t>Prozeßauftragsbearbeit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schreiben den Ablauf vom Kundenauftrag zur Produk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987720" y="3453840"/>
            <a:ext cx="1599840" cy="1346760"/>
            <a:chOff x="3987720" y="3453840"/>
            <a:chExt cx="1599840" cy="1346760"/>
          </a:xfrm>
        </p:grpSpPr>
        <p:sp>
          <p:nvSpPr>
            <p:cNvPr id="69" name=""/>
            <p:cNvSpPr/>
            <p:nvPr/>
          </p:nvSpPr>
          <p:spPr>
            <a:xfrm>
              <a:off x="3987720" y="3962520"/>
              <a:ext cx="113040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3" idx="1"/>
              <a:endCxn id="69" idx="6"/>
            </p:cNvCxnSpPr>
            <p:nvPr/>
          </p:nvCxnSpPr>
          <p:spPr>
            <a:xfrm flipH="1">
              <a:off x="5117400" y="4381200"/>
              <a:ext cx="4705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1" name=""/>
            <p:cNvCxnSpPr>
              <a:stCxn id="69" idx="0"/>
              <a:endCxn id="61" idx="2"/>
            </p:cNvCxnSpPr>
            <p:nvPr/>
          </p:nvCxnSpPr>
          <p:spPr>
            <a:xfrm flipH="1" flipV="1">
              <a:off x="4546080" y="3453840"/>
              <a:ext cx="7200" cy="5086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72" name=""/>
          <p:cNvGrpSpPr/>
          <p:nvPr/>
        </p:nvGrpSpPr>
        <p:grpSpPr>
          <a:xfrm>
            <a:off x="3530160" y="1244520"/>
            <a:ext cx="1587960" cy="1371240"/>
            <a:chOff x="3530160" y="1244520"/>
            <a:chExt cx="1587960" cy="1371240"/>
          </a:xfrm>
        </p:grpSpPr>
        <p:sp>
          <p:nvSpPr>
            <p:cNvPr id="73" name=""/>
            <p:cNvSpPr/>
            <p:nvPr/>
          </p:nvSpPr>
          <p:spPr>
            <a:xfrm>
              <a:off x="3987720" y="1244520"/>
              <a:ext cx="1130400" cy="838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73" idx="2"/>
              <a:endCxn id="60" idx="3"/>
            </p:cNvCxnSpPr>
            <p:nvPr/>
          </p:nvCxnSpPr>
          <p:spPr>
            <a:xfrm flipH="1">
              <a:off x="3530160" y="1663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5" name=""/>
            <p:cNvCxnSpPr>
              <a:stCxn id="61" idx="0"/>
              <a:endCxn id="73" idx="4"/>
            </p:cNvCxnSpPr>
            <p:nvPr/>
          </p:nvCxnSpPr>
          <p:spPr>
            <a:xfrm flipV="1">
              <a:off x="4546440" y="208224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76" name=""/>
          <p:cNvGrpSpPr/>
          <p:nvPr/>
        </p:nvGrpSpPr>
        <p:grpSpPr>
          <a:xfrm>
            <a:off x="5232240" y="2616120"/>
            <a:ext cx="1600200" cy="1346400"/>
            <a:chOff x="5232240" y="2616120"/>
            <a:chExt cx="1600200" cy="1346400"/>
          </a:xfrm>
        </p:grpSpPr>
        <p:sp>
          <p:nvSpPr>
            <p:cNvPr id="77" name=""/>
            <p:cNvSpPr/>
            <p:nvPr/>
          </p:nvSpPr>
          <p:spPr>
            <a:xfrm>
              <a:off x="5702400" y="261612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61" idx="3"/>
              <a:endCxn id="77" idx="2"/>
            </p:cNvCxnSpPr>
            <p:nvPr/>
          </p:nvCxnSpPr>
          <p:spPr>
            <a:xfrm>
              <a:off x="5232240" y="3034800"/>
              <a:ext cx="470880" cy="1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79" name=""/>
            <p:cNvCxnSpPr>
              <a:stCxn id="77" idx="4"/>
              <a:endCxn id="63" idx="0"/>
            </p:cNvCxnSpPr>
            <p:nvPr/>
          </p:nvCxnSpPr>
          <p:spPr>
            <a:xfrm flipH="1">
              <a:off x="6260760" y="3454200"/>
              <a:ext cx="7200" cy="5086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80" name=""/>
          <p:cNvGrpSpPr/>
          <p:nvPr/>
        </p:nvGrpSpPr>
        <p:grpSpPr>
          <a:xfrm>
            <a:off x="2286000" y="2082600"/>
            <a:ext cx="1575000" cy="1371960"/>
            <a:chOff x="2286000" y="2082600"/>
            <a:chExt cx="1575000" cy="1371960"/>
          </a:xfrm>
        </p:grpSpPr>
        <p:sp>
          <p:nvSpPr>
            <p:cNvPr id="81" name=""/>
            <p:cNvSpPr/>
            <p:nvPr/>
          </p:nvSpPr>
          <p:spPr>
            <a:xfrm>
              <a:off x="2286000" y="2616120"/>
              <a:ext cx="1130400" cy="838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60" idx="2"/>
              <a:endCxn id="81" idx="0"/>
            </p:cNvCxnSpPr>
            <p:nvPr/>
          </p:nvCxnSpPr>
          <p:spPr>
            <a:xfrm flipH="1">
              <a:off x="2850840" y="208260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3" name=""/>
            <p:cNvCxnSpPr>
              <a:stCxn id="81" idx="6"/>
              <a:endCxn id="61" idx="1"/>
            </p:cNvCxnSpPr>
            <p:nvPr/>
          </p:nvCxnSpPr>
          <p:spPr>
            <a:xfrm>
              <a:off x="3416400" y="3034800"/>
              <a:ext cx="4449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Aktive und Inaktive Vers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353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Inaktiven Versionen dienen der Planung in einer frühe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fache Bearbeitung auch von mehreren Person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2438280"/>
            <a:ext cx="6146640" cy="2210040"/>
            <a:chOff x="609480" y="2438280"/>
            <a:chExt cx="6146640" cy="2210040"/>
          </a:xfrm>
        </p:grpSpPr>
        <p:sp>
          <p:nvSpPr>
            <p:cNvPr id="87" name=""/>
            <p:cNvSpPr/>
            <p:nvPr/>
          </p:nvSpPr>
          <p:spPr>
            <a:xfrm>
              <a:off x="2145960" y="2438280"/>
              <a:ext cx="1346400" cy="838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35080" y="3809880"/>
              <a:ext cx="1371600" cy="838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49560" y="243828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2"/>
              <a:endCxn id="87" idx="3"/>
            </p:cNvCxnSpPr>
            <p:nvPr/>
          </p:nvCxnSpPr>
          <p:spPr>
            <a:xfrm flipH="1">
              <a:off x="3492000" y="285732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1" name=""/>
            <p:cNvCxnSpPr>
              <a:stCxn id="88" idx="0"/>
              <a:endCxn id="89" idx="4"/>
            </p:cNvCxnSpPr>
            <p:nvPr/>
          </p:nvCxnSpPr>
          <p:spPr>
            <a:xfrm flipH="1" flipV="1">
              <a:off x="4514040" y="3276000"/>
              <a:ext cx="684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92" name=""/>
            <p:cNvSpPr/>
            <p:nvPr/>
          </p:nvSpPr>
          <p:spPr>
            <a:xfrm>
              <a:off x="2257200" y="3809880"/>
              <a:ext cx="1130400" cy="83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7" idx="2"/>
              <a:endCxn id="92" idx="0"/>
            </p:cNvCxnSpPr>
            <p:nvPr/>
          </p:nvCxnSpPr>
          <p:spPr>
            <a:xfrm>
              <a:off x="2818800" y="3276360"/>
              <a:ext cx="396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4" name=""/>
            <p:cNvCxnSpPr>
              <a:stCxn id="92" idx="6"/>
              <a:endCxn id="88" idx="1"/>
            </p:cNvCxnSpPr>
            <p:nvPr/>
          </p:nvCxnSpPr>
          <p:spPr>
            <a:xfrm>
              <a:off x="3387240" y="4228920"/>
              <a:ext cx="448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95" name=""/>
            <p:cNvSpPr/>
            <p:nvPr/>
          </p:nvSpPr>
          <p:spPr>
            <a:xfrm>
              <a:off x="5625720" y="3809880"/>
              <a:ext cx="1130400" cy="838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2438280"/>
              <a:ext cx="1130040" cy="83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" name=""/>
            <p:cNvCxnSpPr>
              <a:stCxn id="96" idx="6"/>
              <a:endCxn id="87" idx="1"/>
            </p:cNvCxnSpPr>
            <p:nvPr/>
          </p:nvCxnSpPr>
          <p:spPr>
            <a:xfrm>
              <a:off x="1739160" y="2857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8" name=""/>
            <p:cNvCxnSpPr>
              <a:stCxn id="88" idx="3"/>
              <a:endCxn id="95" idx="2"/>
            </p:cNvCxnSpPr>
            <p:nvPr/>
          </p:nvCxnSpPr>
          <p:spPr>
            <a:xfrm>
              <a:off x="5206680" y="422892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9" name=""/>
          <p:cNvGrpSpPr/>
          <p:nvPr/>
        </p:nvGrpSpPr>
        <p:grpSpPr>
          <a:xfrm>
            <a:off x="2821320" y="4648320"/>
            <a:ext cx="3947400" cy="1117440"/>
            <a:chOff x="2821320" y="4648320"/>
            <a:chExt cx="3947400" cy="1117440"/>
          </a:xfrm>
        </p:grpSpPr>
        <p:sp>
          <p:nvSpPr>
            <p:cNvPr id="100" name=""/>
            <p:cNvSpPr/>
            <p:nvPr/>
          </p:nvSpPr>
          <p:spPr>
            <a:xfrm>
              <a:off x="3848040" y="4927680"/>
              <a:ext cx="13716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2" idx="4"/>
              <a:endCxn id="100" idx="1"/>
            </p:cNvCxnSpPr>
            <p:nvPr/>
          </p:nvCxnSpPr>
          <p:spPr>
            <a:xfrm flipH="1" rot="16200000">
              <a:off x="2985120" y="4484520"/>
              <a:ext cx="699120" cy="10263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02" name=""/>
            <p:cNvSpPr/>
            <p:nvPr/>
          </p:nvSpPr>
          <p:spPr>
            <a:xfrm>
              <a:off x="5638680" y="4927680"/>
              <a:ext cx="113004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0" idx="3"/>
              <a:endCxn id="102" idx="2"/>
            </p:cNvCxnSpPr>
            <p:nvPr/>
          </p:nvCxnSpPr>
          <p:spPr>
            <a:xfrm>
              <a:off x="5219640" y="534636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04" name=""/>
          <p:cNvGrpSpPr/>
          <p:nvPr/>
        </p:nvGrpSpPr>
        <p:grpSpPr>
          <a:xfrm>
            <a:off x="609480" y="1295280"/>
            <a:ext cx="3917520" cy="1143000"/>
            <a:chOff x="609480" y="1295280"/>
            <a:chExt cx="3917520" cy="1143000"/>
          </a:xfrm>
        </p:grpSpPr>
        <p:sp>
          <p:nvSpPr>
            <p:cNvPr id="105" name=""/>
            <p:cNvSpPr/>
            <p:nvPr/>
          </p:nvSpPr>
          <p:spPr>
            <a:xfrm>
              <a:off x="2145960" y="1295280"/>
              <a:ext cx="1371600" cy="838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89" idx="0"/>
              <a:endCxn id="105" idx="3"/>
            </p:cNvCxnSpPr>
            <p:nvPr/>
          </p:nvCxnSpPr>
          <p:spPr>
            <a:xfrm flipV="1" rot="16200000">
              <a:off x="3660120" y="1571040"/>
              <a:ext cx="724320" cy="101052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609480" y="129528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7" idx="6"/>
              <a:endCxn id="105" idx="1"/>
            </p:cNvCxnSpPr>
            <p:nvPr/>
          </p:nvCxnSpPr>
          <p:spPr>
            <a:xfrm>
              <a:off x="1739160" y="1714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09480" y="1003320"/>
          <a:ext cx="792504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03320"/>
                    <a:ext cx="79250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er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7925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m Gegensatz zum SAP-Standard erlaubt das Add-on die Planung aller Produkte im Überbli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2514600"/>
            <a:ext cx="335268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Mail-Benachrichtigung aus dem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9250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Absatz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Änderu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Plan-Absatz werden in den Produktionsplan übernommen und dort farblich gekennzeich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4360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36480" y="979560"/>
          <a:ext cx="7898040" cy="37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979560"/>
                    <a:ext cx="7898040" cy="37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er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9250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r Produktionsplan enthält Fertig- und Halbfertigproduk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le Produkte sind parallel planb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ekundärbedarf wird ermittelt und berücks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Das Planungsumfeld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Ermitteln des Bestands und des Sekundärbedarfs ist zeitaufwendi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chleunigung d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andsermittlung während der Nac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trahieren der Stücklisten und eliminieren nicht relevanter Positio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ie hoch ist der Anfangsbestand im Folgemona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der aktuelle Bestand (gut am Monatsend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gerechnet aus Ist-Bestand, Plan, Planerfüllung (gut am Monatsanfang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zuletzt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80524"/>
          <a:stretch/>
        </p:blipFill>
        <p:spPr>
          <a:xfrm>
            <a:off x="609480" y="1055520"/>
            <a:ext cx="789948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654120" y="979560"/>
          <a:ext cx="784224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79560"/>
                    <a:ext cx="78422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3047760"/>
            <a:ext cx="4267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us-Anzeige mit Amp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grü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e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gel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Absatz wir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gedec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o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undärbedarf u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Absatz werd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gedec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54120" y="979560"/>
          <a:ext cx="784224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979560"/>
                    <a:ext cx="784224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426744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atus-Weitergabe an Absatz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33cc33"/>
                </a:solidFill>
                <a:latin typeface="Arial"/>
              </a:rPr>
              <a:t>grü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Kennzei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gelb</a:t>
            </a:r>
            <a:br>
              <a:rPr sz="2000"/>
            </a:b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ro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nn-Absatz farb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11-29T07:27:14Z</cp:lastPrinted>
  <dcterms:modified xsi:type="dcterms:W3CDTF">2001-02-02T17:22:58Z</dcterms:modified>
  <cp:revision>15</cp:revision>
  <dc:subject/>
  <dc:title>Musterfolie Degussa-Hüls, farbig, TNR 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en\Power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