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834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750708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788760" y="3997080"/>
            <a:ext cx="750708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88760" y="399708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35720" y="399708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27120" y="172836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65480" y="172836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788760" y="399708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27120" y="399708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65480" y="399708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788760" y="1728360"/>
            <a:ext cx="7507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75070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704520" y="304560"/>
            <a:ext cx="76438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88760" y="399708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35720" y="399708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88760" y="3997080"/>
            <a:ext cx="750708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ef3f3"/>
              </a:gs>
              <a:gs pos="100000">
                <a:srgbClr val="ff7c8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88760" y="1728360"/>
            <a:ext cx="75070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9044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47720" y="914400"/>
            <a:ext cx="7398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38360" y="9144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304920"/>
            <a:ext cx="8229600" cy="601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238880" y="6459480"/>
            <a:ext cx="1379520" cy="271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09480" y="838080"/>
            <a:ext cx="792504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40560" y="6477120"/>
            <a:ext cx="906840" cy="2106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BC5B7808-BC09-4C20-9001-BE1B4E5B7EAF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166040" y="6477120"/>
            <a:ext cx="617400" cy="2106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Nov 2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839960" y="6477120"/>
            <a:ext cx="1141560" cy="2106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V-OS-ES / Dr. Ho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023640" y="6477120"/>
            <a:ext cx="3317760" cy="2106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AP R/3 Workshop für die chemische und pharmazeutische Industr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Rounded MT Bold"/>
              </a:rPr>
              <a:t>Absatzplan - Produktionsplan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80196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Absatz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Wird vom </a:t>
            </a:r>
            <a:r>
              <a:rPr b="0" lang="de-DE" sz="2200" spc="-1" strike="noStrike">
                <a:solidFill>
                  <a:srgbClr val="3333ff"/>
                </a:solidFill>
                <a:latin typeface="Arial"/>
              </a:rPr>
              <a:t>Vertrieb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bearbeit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rzeugt </a:t>
            </a:r>
            <a:r>
              <a:rPr b="0" lang="de-DE" sz="2200" spc="-1" strike="noStrike">
                <a:solidFill>
                  <a:srgbClr val="3333ff"/>
                </a:solidFill>
                <a:latin typeface="Arial"/>
              </a:rPr>
              <a:t>Plan-Absätze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(Primärbedar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s können</a:t>
            </a:r>
            <a:r>
              <a:rPr b="0" lang="de-DE" sz="2200" spc="-1" strike="noStrike">
                <a:solidFill>
                  <a:srgbClr val="3333ff"/>
                </a:solidFill>
                <a:latin typeface="Arial"/>
              </a:rPr>
              <a:t> Mindest-bestände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definiert wer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1371600"/>
            <a:ext cx="35812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Produktions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Wird von der </a:t>
            </a:r>
            <a:r>
              <a:rPr b="0" lang="de-DE" sz="2200" spc="-1" strike="noStrike">
                <a:solidFill>
                  <a:srgbClr val="3333ff"/>
                </a:solidFill>
                <a:latin typeface="Arial"/>
              </a:rPr>
              <a:t>Produktion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bearbeit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rzeugt </a:t>
            </a:r>
            <a:r>
              <a:rPr b="0" lang="de-DE" sz="2200" spc="-1" strike="noStrike">
                <a:solidFill>
                  <a:srgbClr val="3333ff"/>
                </a:solidFill>
                <a:latin typeface="Arial"/>
              </a:rPr>
              <a:t>Kann-Absätze</a:t>
            </a:r>
            <a:br>
              <a:rPr sz="2200"/>
            </a:br>
            <a:r>
              <a:rPr b="0" lang="de-DE" sz="22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3333ff"/>
                </a:solidFill>
                <a:latin typeface="Arial"/>
              </a:rPr>
              <a:t>Bestände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de-DE" sz="2200" spc="-1" strike="noStrike">
                <a:solidFill>
                  <a:srgbClr val="3333ff"/>
                </a:solidFill>
                <a:latin typeface="Arial"/>
              </a:rPr>
              <a:t>Sekundärbedarfe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werden berücksichtig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Rounded MT Bold"/>
              </a:rPr>
              <a:t>Mail-Benachrichtigung aus dem Produktionsplan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2666880"/>
            <a:ext cx="7925040" cy="358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Wenn die Aktive Version des Produktionsplans geändert wurde, wird beim Speichern ein festgelegter Personenkreis per SAP- und/oder E-Mail automatisch benachrichtig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ie Mail enthält eine Liste mit allen relevanten Änderunge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ie Änderungen am Kann-Absatz werden in den Absatzsplan übernommen und dort ggf. farblich gekennzeichne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Besondere Kennzeichnung, wenn der Kann-Absatz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ich unter den Plan-Absatz veränder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600200" y="990720"/>
            <a:ext cx="5927760" cy="1511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620120" y="5257800"/>
            <a:ext cx="8380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Arial Rounded MT Bold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615960" y="992160"/>
          <a:ext cx="7891560" cy="51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960" y="992160"/>
                    <a:ext cx="789156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Rounded MT Bold"/>
              </a:rPr>
              <a:t>Sonderfunktionen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2362320"/>
            <a:ext cx="6259680" cy="380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er Rohstoffbedarf wird für das Werk ermittel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819520"/>
            <a:ext cx="625968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ie zu erwartenden Mengen an An- und Abfällen können aufgelistet werde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er Produktionsplan für das Werk oder jeden einzelnen Betrieb wird zusammengestell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0" y="4419720"/>
            <a:ext cx="625968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pezielle Bilanzierungen können bearbeitet werde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rcRect l="0" t="0" r="0" b="9709"/>
          <a:stretch/>
        </p:blipFill>
        <p:spPr>
          <a:xfrm>
            <a:off x="615960" y="995400"/>
            <a:ext cx="7899480" cy="518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"/>
          <p:cNvGraphicFramePr/>
          <p:nvPr/>
        </p:nvGraphicFramePr>
        <p:xfrm>
          <a:off x="615960" y="992160"/>
          <a:ext cx="7891560" cy="5181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5960" y="992160"/>
                    <a:ext cx="789156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08040" y="990720"/>
          <a:ext cx="7899480" cy="5181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8040" y="990720"/>
                    <a:ext cx="78994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Rounded MT Bold"/>
              </a:rPr>
              <a:t>Weitere Möglichkeiten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Absatz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Vorschlagswerte für Plan-Absatz aus vorliegenden Bestellungen ermittel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3276720"/>
            <a:ext cx="792504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Produktions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usbau zur Kapazitätsplan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Kampagnenoptimier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rzeugung von Bestellanforder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Rounded MT Bold"/>
              </a:rPr>
              <a:t>Von der Planung zum Monatsabschluß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5194080"/>
            <a:ext cx="642960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169200" indent="-169200"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n die Prozeßauftragsbearbeitung schließt sich zum Monatsende der Periodenabschluß und die Auswertung der Bestandsbewegungen 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685800" y="1219320"/>
            <a:ext cx="6353280" cy="2760480"/>
            <a:chOff x="685800" y="1219320"/>
            <a:chExt cx="6353280" cy="2760480"/>
          </a:xfrm>
        </p:grpSpPr>
        <p:sp>
          <p:nvSpPr>
            <p:cNvPr id="155" name=""/>
            <p:cNvSpPr/>
            <p:nvPr/>
          </p:nvSpPr>
          <p:spPr>
            <a:xfrm>
              <a:off x="685800" y="1219320"/>
              <a:ext cx="914400" cy="6760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1260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Kunden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aufträ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24680" y="3303720"/>
              <a:ext cx="914400" cy="6760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1260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Produk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95400" y="1219320"/>
              <a:ext cx="1084320" cy="676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Absatz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planu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25960" y="2273400"/>
              <a:ext cx="1104840" cy="6760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Produktions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planu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9" name=""/>
            <p:cNvCxnSpPr>
              <a:stCxn id="155" idx="6"/>
              <a:endCxn id="157" idx="1"/>
            </p:cNvCxnSpPr>
            <p:nvPr/>
          </p:nvCxnSpPr>
          <p:spPr>
            <a:xfrm>
              <a:off x="1600200" y="1557000"/>
              <a:ext cx="29556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sp>
          <p:nvSpPr>
            <p:cNvPr id="160" name=""/>
            <p:cNvSpPr/>
            <p:nvPr/>
          </p:nvSpPr>
          <p:spPr>
            <a:xfrm>
              <a:off x="4622760" y="3303720"/>
              <a:ext cx="1087560" cy="676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Prozess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aufträg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1" name=""/>
            <p:cNvCxnSpPr>
              <a:stCxn id="160" idx="3"/>
              <a:endCxn id="156" idx="2"/>
            </p:cNvCxnSpPr>
            <p:nvPr/>
          </p:nvCxnSpPr>
          <p:spPr>
            <a:xfrm>
              <a:off x="5709960" y="3641400"/>
              <a:ext cx="41508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sp>
          <p:nvSpPr>
            <p:cNvPr id="162" name=""/>
            <p:cNvSpPr/>
            <p:nvPr/>
          </p:nvSpPr>
          <p:spPr>
            <a:xfrm>
              <a:off x="3321000" y="3303720"/>
              <a:ext cx="914400" cy="67608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82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76767"/>
                  </a:solidFill>
                  <a:latin typeface="Arial"/>
                </a:rPr>
                <a:t>Bestands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76767"/>
                  </a:solidFill>
                  <a:latin typeface="Arial"/>
                </a:rPr>
                <a:t>bewegung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3" name=""/>
            <p:cNvCxnSpPr>
              <a:stCxn id="160" idx="1"/>
              <a:endCxn id="162" idx="6"/>
            </p:cNvCxnSpPr>
            <p:nvPr/>
          </p:nvCxnSpPr>
          <p:spPr>
            <a:xfrm flipH="1">
              <a:off x="4235040" y="3641400"/>
              <a:ext cx="38808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cxnSp>
          <p:nvCxnSpPr>
            <p:cNvPr id="164" name=""/>
            <p:cNvCxnSpPr>
              <a:stCxn id="162" idx="0"/>
              <a:endCxn id="158" idx="2"/>
            </p:cNvCxnSpPr>
            <p:nvPr/>
          </p:nvCxnSpPr>
          <p:spPr>
            <a:xfrm flipV="1">
              <a:off x="3777840" y="2949120"/>
              <a:ext cx="1080" cy="35496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sp>
          <p:nvSpPr>
            <p:cNvPr id="165" name=""/>
            <p:cNvSpPr/>
            <p:nvPr/>
          </p:nvSpPr>
          <p:spPr>
            <a:xfrm>
              <a:off x="3321000" y="1219320"/>
              <a:ext cx="914400" cy="67608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76767"/>
                  </a:solidFill>
                  <a:latin typeface="Arial"/>
                </a:rPr>
                <a:t>Kann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76767"/>
                  </a:solidFill>
                  <a:latin typeface="Arial"/>
                </a:rPr>
                <a:t>Absät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6" name=""/>
            <p:cNvCxnSpPr>
              <a:stCxn id="165" idx="2"/>
              <a:endCxn id="157" idx="3"/>
            </p:cNvCxnSpPr>
            <p:nvPr/>
          </p:nvCxnSpPr>
          <p:spPr>
            <a:xfrm flipH="1">
              <a:off x="2979360" y="1557000"/>
              <a:ext cx="34200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cxnSp>
          <p:nvCxnSpPr>
            <p:cNvPr id="167" name=""/>
            <p:cNvCxnSpPr>
              <a:stCxn id="158" idx="0"/>
              <a:endCxn id="165" idx="4"/>
            </p:cNvCxnSpPr>
            <p:nvPr/>
          </p:nvCxnSpPr>
          <p:spPr>
            <a:xfrm flipV="1">
              <a:off x="3777840" y="1895040"/>
              <a:ext cx="1080" cy="37872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sp>
          <p:nvSpPr>
            <p:cNvPr id="168" name=""/>
            <p:cNvSpPr/>
            <p:nvPr/>
          </p:nvSpPr>
          <p:spPr>
            <a:xfrm>
              <a:off x="4710240" y="2273400"/>
              <a:ext cx="914400" cy="67608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82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76767"/>
                  </a:solidFill>
                  <a:latin typeface="Arial"/>
                </a:rPr>
                <a:t>Plan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76767"/>
                  </a:solidFill>
                  <a:latin typeface="Arial"/>
                </a:rPr>
                <a:t>Produk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9" name=""/>
            <p:cNvCxnSpPr>
              <a:stCxn id="158" idx="3"/>
              <a:endCxn id="168" idx="2"/>
            </p:cNvCxnSpPr>
            <p:nvPr/>
          </p:nvCxnSpPr>
          <p:spPr>
            <a:xfrm>
              <a:off x="4330800" y="2611080"/>
              <a:ext cx="38016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cxnSp>
          <p:nvCxnSpPr>
            <p:cNvPr id="170" name=""/>
            <p:cNvCxnSpPr>
              <a:stCxn id="168" idx="4"/>
              <a:endCxn id="160" idx="0"/>
            </p:cNvCxnSpPr>
            <p:nvPr/>
          </p:nvCxnSpPr>
          <p:spPr>
            <a:xfrm>
              <a:off x="5167080" y="2949480"/>
              <a:ext cx="1080" cy="35496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sp>
          <p:nvSpPr>
            <p:cNvPr id="171" name=""/>
            <p:cNvSpPr/>
            <p:nvPr/>
          </p:nvSpPr>
          <p:spPr>
            <a:xfrm>
              <a:off x="1981080" y="2274840"/>
              <a:ext cx="914400" cy="67320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82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76767"/>
                  </a:solidFill>
                  <a:latin typeface="Arial"/>
                </a:rPr>
                <a:t>Plan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76767"/>
                  </a:solidFill>
                  <a:latin typeface="Arial"/>
                </a:rPr>
                <a:t>Absät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2" name=""/>
            <p:cNvCxnSpPr>
              <a:stCxn id="157" idx="2"/>
              <a:endCxn id="171" idx="0"/>
            </p:cNvCxnSpPr>
            <p:nvPr/>
          </p:nvCxnSpPr>
          <p:spPr>
            <a:xfrm>
              <a:off x="2437920" y="1895400"/>
              <a:ext cx="1080" cy="38016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cxnSp>
          <p:nvCxnSpPr>
            <p:cNvPr id="173" name=""/>
            <p:cNvCxnSpPr>
              <a:stCxn id="171" idx="6"/>
              <a:endCxn id="158" idx="1"/>
            </p:cNvCxnSpPr>
            <p:nvPr/>
          </p:nvCxnSpPr>
          <p:spPr>
            <a:xfrm>
              <a:off x="2895480" y="2611080"/>
              <a:ext cx="33120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</p:grpSp>
      <p:grpSp>
        <p:nvGrpSpPr>
          <p:cNvPr id="174" name=""/>
          <p:cNvGrpSpPr/>
          <p:nvPr/>
        </p:nvGrpSpPr>
        <p:grpSpPr>
          <a:xfrm>
            <a:off x="3778200" y="3979440"/>
            <a:ext cx="3348000" cy="1054440"/>
            <a:chOff x="3778200" y="3979440"/>
            <a:chExt cx="3348000" cy="1054440"/>
          </a:xfrm>
        </p:grpSpPr>
        <p:sp>
          <p:nvSpPr>
            <p:cNvPr id="175" name=""/>
            <p:cNvSpPr/>
            <p:nvPr/>
          </p:nvSpPr>
          <p:spPr>
            <a:xfrm>
              <a:off x="6039000" y="4357800"/>
              <a:ext cx="1087200" cy="67608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Monats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abschluß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6" name=""/>
            <p:cNvCxnSpPr>
              <a:stCxn id="156" idx="4"/>
              <a:endCxn id="175" idx="0"/>
            </p:cNvCxnSpPr>
            <p:nvPr/>
          </p:nvCxnSpPr>
          <p:spPr>
            <a:xfrm>
              <a:off x="6581880" y="3979800"/>
              <a:ext cx="2160" cy="37872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cxnSp>
          <p:nvCxnSpPr>
            <p:cNvPr id="177" name=""/>
            <p:cNvCxnSpPr>
              <a:stCxn id="162" idx="4"/>
              <a:endCxn id="175" idx="1"/>
            </p:cNvCxnSpPr>
            <p:nvPr/>
          </p:nvCxnSpPr>
          <p:spPr>
            <a:xfrm flipH="1" rot="16200000">
              <a:off x="4550400" y="3207240"/>
              <a:ext cx="716760" cy="2261160"/>
            </a:xfrm>
            <a:prstGeom prst="bentConnector2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</p:grpSp>
      <p:grpSp>
        <p:nvGrpSpPr>
          <p:cNvPr id="178" name=""/>
          <p:cNvGrpSpPr/>
          <p:nvPr/>
        </p:nvGrpSpPr>
        <p:grpSpPr>
          <a:xfrm>
            <a:off x="7126200" y="4357800"/>
            <a:ext cx="1255680" cy="676080"/>
            <a:chOff x="7126200" y="4357800"/>
            <a:chExt cx="1255680" cy="676080"/>
          </a:xfrm>
        </p:grpSpPr>
        <p:sp>
          <p:nvSpPr>
            <p:cNvPr id="179" name=""/>
            <p:cNvSpPr/>
            <p:nvPr/>
          </p:nvSpPr>
          <p:spPr>
            <a:xfrm>
              <a:off x="7467480" y="4357800"/>
              <a:ext cx="914400" cy="676080"/>
            </a:xfrm>
            <a:prstGeom prst="ellipse">
              <a:avLst/>
            </a:prstGeom>
            <a:blipFill rotWithShape="0">
              <a:blip r:embed="rId11"/>
              <a:srcRect/>
              <a:stretch/>
            </a:blipFill>
            <a:ln w="1260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Ist-Bestän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0" name=""/>
            <p:cNvCxnSpPr>
              <a:stCxn id="175" idx="3"/>
              <a:endCxn id="179" idx="2"/>
            </p:cNvCxnSpPr>
            <p:nvPr/>
          </p:nvCxnSpPr>
          <p:spPr>
            <a:xfrm>
              <a:off x="7126200" y="4695480"/>
              <a:ext cx="34200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</p:grpSp>
      <p:sp>
        <p:nvSpPr>
          <p:cNvPr id="181" name=""/>
          <p:cNvSpPr/>
          <p:nvPr/>
        </p:nvSpPr>
        <p:spPr>
          <a:xfrm>
            <a:off x="652320" y="1020600"/>
            <a:ext cx="7696440" cy="2971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7383600" y="5033880"/>
            <a:ext cx="1079280" cy="1057320"/>
            <a:chOff x="7383600" y="5033880"/>
            <a:chExt cx="1079280" cy="1057320"/>
          </a:xfrm>
        </p:grpSpPr>
        <p:sp>
          <p:nvSpPr>
            <p:cNvPr id="183" name=""/>
            <p:cNvSpPr/>
            <p:nvPr/>
          </p:nvSpPr>
          <p:spPr>
            <a:xfrm>
              <a:off x="7383600" y="5419800"/>
              <a:ext cx="1079280" cy="67140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Monats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rappor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4" name=""/>
            <p:cNvCxnSpPr>
              <a:stCxn id="179" idx="4"/>
              <a:endCxn id="183" idx="0"/>
            </p:cNvCxnSpPr>
            <p:nvPr/>
          </p:nvCxnSpPr>
          <p:spPr>
            <a:xfrm flipH="1">
              <a:off x="7922880" y="5033880"/>
              <a:ext cx="2160" cy="38664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3505320" y="2603520"/>
            <a:ext cx="2120400" cy="838080"/>
            <a:chOff x="3505320" y="2603520"/>
            <a:chExt cx="2120400" cy="838080"/>
          </a:xfrm>
        </p:grpSpPr>
        <p:sp>
          <p:nvSpPr>
            <p:cNvPr id="52" name=""/>
            <p:cNvSpPr/>
            <p:nvPr/>
          </p:nvSpPr>
          <p:spPr>
            <a:xfrm>
              <a:off x="3505320" y="2603520"/>
              <a:ext cx="1130040" cy="8380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1260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Kunden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ufträ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95680" y="2603520"/>
              <a:ext cx="1130040" cy="8380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1260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roduk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Rounded MT Bold"/>
              </a:rPr>
              <a:t>Von Kundenauftrag zur Produktion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22440" y="1244520"/>
            <a:ext cx="7899120" cy="3556080"/>
            <a:chOff x="622440" y="1244520"/>
            <a:chExt cx="7899120" cy="3556080"/>
          </a:xfrm>
        </p:grpSpPr>
        <p:sp>
          <p:nvSpPr>
            <p:cNvPr id="56" name=""/>
            <p:cNvSpPr/>
            <p:nvPr/>
          </p:nvSpPr>
          <p:spPr>
            <a:xfrm>
              <a:off x="622440" y="1244520"/>
              <a:ext cx="1130040" cy="8384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1260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Kunden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ufträ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391520" y="3962520"/>
              <a:ext cx="1130040" cy="83808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1260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roduk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1752480" y="1244520"/>
            <a:ext cx="4509000" cy="2718360"/>
            <a:chOff x="1752480" y="1244520"/>
            <a:chExt cx="4509000" cy="2718360"/>
          </a:xfrm>
        </p:grpSpPr>
        <p:cxnSp>
          <p:nvCxnSpPr>
            <p:cNvPr id="59" name=""/>
            <p:cNvCxnSpPr>
              <a:stCxn id="60" idx="2"/>
              <a:endCxn id="61" idx="1"/>
            </p:cNvCxnSpPr>
            <p:nvPr/>
          </p:nvCxnSpPr>
          <p:spPr>
            <a:xfrm flipH="1" rot="16200000">
              <a:off x="2882880" y="2057040"/>
              <a:ext cx="952920" cy="1003680"/>
            </a:xfrm>
            <a:prstGeom prst="bentConnector2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cxnSp>
          <p:nvCxnSpPr>
            <p:cNvPr id="62" name=""/>
            <p:cNvCxnSpPr>
              <a:stCxn id="61" idx="3"/>
              <a:endCxn id="63" idx="0"/>
            </p:cNvCxnSpPr>
            <p:nvPr/>
          </p:nvCxnSpPr>
          <p:spPr>
            <a:xfrm>
              <a:off x="5232240" y="3035160"/>
              <a:ext cx="1029600" cy="928080"/>
            </a:xfrm>
            <a:prstGeom prst="bentConnector2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sp>
          <p:nvSpPr>
            <p:cNvPr id="60" name=""/>
            <p:cNvSpPr/>
            <p:nvPr/>
          </p:nvSpPr>
          <p:spPr>
            <a:xfrm>
              <a:off x="2184480" y="1244520"/>
              <a:ext cx="1346040" cy="8384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bsatz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plan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616120"/>
              <a:ext cx="1371600" cy="8384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Produktions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plan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" name=""/>
            <p:cNvCxnSpPr>
              <a:stCxn id="56" idx="6"/>
              <a:endCxn id="60" idx="1"/>
            </p:cNvCxnSpPr>
            <p:nvPr/>
          </p:nvCxnSpPr>
          <p:spPr>
            <a:xfrm>
              <a:off x="1752480" y="1663200"/>
              <a:ext cx="43272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5587920" y="3962520"/>
            <a:ext cx="1803960" cy="838080"/>
            <a:chOff x="5587920" y="3962520"/>
            <a:chExt cx="1803960" cy="838080"/>
          </a:xfrm>
        </p:grpSpPr>
        <p:sp>
          <p:nvSpPr>
            <p:cNvPr id="63" name=""/>
            <p:cNvSpPr/>
            <p:nvPr/>
          </p:nvSpPr>
          <p:spPr>
            <a:xfrm>
              <a:off x="5587920" y="3962520"/>
              <a:ext cx="1346400" cy="838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Prozess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ufträ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" name=""/>
            <p:cNvCxnSpPr>
              <a:stCxn id="63" idx="3"/>
              <a:endCxn id="57" idx="2"/>
            </p:cNvCxnSpPr>
            <p:nvPr/>
          </p:nvCxnSpPr>
          <p:spPr>
            <a:xfrm>
              <a:off x="6934320" y="4381200"/>
              <a:ext cx="45792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</p:grp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5028840"/>
            <a:ext cx="792504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184680" indent="-184680"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ie Module </a:t>
            </a:r>
            <a:r>
              <a:rPr b="0" lang="de-DE" sz="2200" spc="-1" strike="noStrike">
                <a:solidFill>
                  <a:srgbClr val="3333ff"/>
                </a:solidFill>
                <a:latin typeface="Arial"/>
              </a:rPr>
              <a:t>Absatzplanung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200" spc="-1" strike="noStrike">
                <a:solidFill>
                  <a:srgbClr val="3333ff"/>
                </a:solidFill>
                <a:latin typeface="Arial"/>
              </a:rPr>
              <a:t>Produktionsplanung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de-DE" sz="2200" spc="-1" strike="noStrike">
                <a:solidFill>
                  <a:srgbClr val="ff3300"/>
                </a:solidFill>
                <a:latin typeface="Arial"/>
              </a:rPr>
              <a:t>Prozeßauftragsbearbeitung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beschreiben den Ablauf vom Kundenauftrag zur Produktio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987720" y="3453840"/>
            <a:ext cx="1599840" cy="1346760"/>
            <a:chOff x="3987720" y="3453840"/>
            <a:chExt cx="1599840" cy="1346760"/>
          </a:xfrm>
        </p:grpSpPr>
        <p:sp>
          <p:nvSpPr>
            <p:cNvPr id="69" name=""/>
            <p:cNvSpPr/>
            <p:nvPr/>
          </p:nvSpPr>
          <p:spPr>
            <a:xfrm>
              <a:off x="3987720" y="3962520"/>
              <a:ext cx="1130400" cy="83808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82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676767"/>
                  </a:solidFill>
                  <a:latin typeface="Arial"/>
                </a:rPr>
                <a:t>Bestands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676767"/>
                  </a:solidFill>
                  <a:latin typeface="Arial"/>
                </a:rPr>
                <a:t>bewegung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" name=""/>
            <p:cNvCxnSpPr>
              <a:stCxn id="63" idx="1"/>
              <a:endCxn id="69" idx="6"/>
            </p:cNvCxnSpPr>
            <p:nvPr/>
          </p:nvCxnSpPr>
          <p:spPr>
            <a:xfrm flipH="1">
              <a:off x="5117400" y="4381200"/>
              <a:ext cx="47052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cxnSp>
          <p:nvCxnSpPr>
            <p:cNvPr id="71" name=""/>
            <p:cNvCxnSpPr>
              <a:stCxn id="69" idx="0"/>
              <a:endCxn id="61" idx="2"/>
            </p:cNvCxnSpPr>
            <p:nvPr/>
          </p:nvCxnSpPr>
          <p:spPr>
            <a:xfrm flipH="1" flipV="1">
              <a:off x="4546080" y="3453840"/>
              <a:ext cx="7200" cy="5086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</p:grpSp>
      <p:grpSp>
        <p:nvGrpSpPr>
          <p:cNvPr id="72" name=""/>
          <p:cNvGrpSpPr/>
          <p:nvPr/>
        </p:nvGrpSpPr>
        <p:grpSpPr>
          <a:xfrm>
            <a:off x="3530160" y="1244520"/>
            <a:ext cx="1587960" cy="1371240"/>
            <a:chOff x="3530160" y="1244520"/>
            <a:chExt cx="1587960" cy="1371240"/>
          </a:xfrm>
        </p:grpSpPr>
        <p:sp>
          <p:nvSpPr>
            <p:cNvPr id="73" name=""/>
            <p:cNvSpPr/>
            <p:nvPr/>
          </p:nvSpPr>
          <p:spPr>
            <a:xfrm>
              <a:off x="3987720" y="1244520"/>
              <a:ext cx="1130400" cy="83844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676767"/>
                  </a:solidFill>
                  <a:latin typeface="Arial"/>
                </a:rPr>
                <a:t>Kann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676767"/>
                  </a:solidFill>
                  <a:latin typeface="Arial"/>
                </a:rPr>
                <a:t>Absät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73" idx="2"/>
              <a:endCxn id="60" idx="3"/>
            </p:cNvCxnSpPr>
            <p:nvPr/>
          </p:nvCxnSpPr>
          <p:spPr>
            <a:xfrm flipH="1">
              <a:off x="3530160" y="1663200"/>
              <a:ext cx="45792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cxnSp>
          <p:nvCxnSpPr>
            <p:cNvPr id="75" name=""/>
            <p:cNvCxnSpPr>
              <a:stCxn id="61" idx="0"/>
              <a:endCxn id="73" idx="4"/>
            </p:cNvCxnSpPr>
            <p:nvPr/>
          </p:nvCxnSpPr>
          <p:spPr>
            <a:xfrm flipV="1">
              <a:off x="4546440" y="2082240"/>
              <a:ext cx="7200" cy="5338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</p:grpSp>
      <p:grpSp>
        <p:nvGrpSpPr>
          <p:cNvPr id="76" name=""/>
          <p:cNvGrpSpPr/>
          <p:nvPr/>
        </p:nvGrpSpPr>
        <p:grpSpPr>
          <a:xfrm>
            <a:off x="5232240" y="2616120"/>
            <a:ext cx="1600200" cy="1346400"/>
            <a:chOff x="5232240" y="2616120"/>
            <a:chExt cx="1600200" cy="1346400"/>
          </a:xfrm>
        </p:grpSpPr>
        <p:sp>
          <p:nvSpPr>
            <p:cNvPr id="77" name=""/>
            <p:cNvSpPr/>
            <p:nvPr/>
          </p:nvSpPr>
          <p:spPr>
            <a:xfrm>
              <a:off x="5702400" y="2616120"/>
              <a:ext cx="1130040" cy="838440"/>
            </a:xfrm>
            <a:prstGeom prst="ellipse">
              <a:avLst/>
            </a:prstGeom>
            <a:blipFill rotWithShape="0">
              <a:blip r:embed="rId10"/>
              <a:srcRect/>
              <a:stretch/>
            </a:blip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82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676767"/>
                  </a:solidFill>
                  <a:latin typeface="Arial"/>
                </a:rPr>
                <a:t>Plan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676767"/>
                  </a:solidFill>
                  <a:latin typeface="Arial"/>
                </a:rPr>
                <a:t>Produk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61" idx="3"/>
              <a:endCxn id="77" idx="2"/>
            </p:cNvCxnSpPr>
            <p:nvPr/>
          </p:nvCxnSpPr>
          <p:spPr>
            <a:xfrm>
              <a:off x="5232240" y="3034800"/>
              <a:ext cx="470880" cy="1080"/>
            </a:xfrm>
            <a:prstGeom prst="bentConnector2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cxnSp>
          <p:nvCxnSpPr>
            <p:cNvPr id="79" name=""/>
            <p:cNvCxnSpPr>
              <a:stCxn id="77" idx="4"/>
              <a:endCxn id="63" idx="0"/>
            </p:cNvCxnSpPr>
            <p:nvPr/>
          </p:nvCxnSpPr>
          <p:spPr>
            <a:xfrm flipH="1">
              <a:off x="6260760" y="3454200"/>
              <a:ext cx="7200" cy="5086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</p:grpSp>
      <p:grpSp>
        <p:nvGrpSpPr>
          <p:cNvPr id="80" name=""/>
          <p:cNvGrpSpPr/>
          <p:nvPr/>
        </p:nvGrpSpPr>
        <p:grpSpPr>
          <a:xfrm>
            <a:off x="2286000" y="2082600"/>
            <a:ext cx="1575000" cy="1371960"/>
            <a:chOff x="2286000" y="2082600"/>
            <a:chExt cx="1575000" cy="1371960"/>
          </a:xfrm>
        </p:grpSpPr>
        <p:sp>
          <p:nvSpPr>
            <p:cNvPr id="81" name=""/>
            <p:cNvSpPr/>
            <p:nvPr/>
          </p:nvSpPr>
          <p:spPr>
            <a:xfrm>
              <a:off x="2286000" y="2616120"/>
              <a:ext cx="1130400" cy="838440"/>
            </a:xfrm>
            <a:prstGeom prst="ellipse">
              <a:avLst/>
            </a:prstGeom>
            <a:blipFill rotWithShape="0">
              <a:blip r:embed="rId11"/>
              <a:srcRect/>
              <a:stretch/>
            </a:blip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82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676767"/>
                  </a:solidFill>
                  <a:latin typeface="Arial"/>
                </a:rPr>
                <a:t>Plan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676767"/>
                  </a:solidFill>
                  <a:latin typeface="Arial"/>
                </a:rPr>
                <a:t>Absät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60" idx="2"/>
              <a:endCxn id="81" idx="0"/>
            </p:cNvCxnSpPr>
            <p:nvPr/>
          </p:nvCxnSpPr>
          <p:spPr>
            <a:xfrm flipH="1">
              <a:off x="2850840" y="2082600"/>
              <a:ext cx="7200" cy="5338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cxnSp>
          <p:nvCxnSpPr>
            <p:cNvPr id="83" name=""/>
            <p:cNvCxnSpPr>
              <a:stCxn id="81" idx="6"/>
              <a:endCxn id="61" idx="1"/>
            </p:cNvCxnSpPr>
            <p:nvPr/>
          </p:nvCxnSpPr>
          <p:spPr>
            <a:xfrm>
              <a:off x="3416400" y="3034800"/>
              <a:ext cx="44496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Rounded MT Bold"/>
              </a:rPr>
              <a:t>Aktive und Inaktive Versionen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181480" y="1066680"/>
            <a:ext cx="335304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ie Inaktiven Versionen dienen der Planung in einer frühen Ph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infache Bearbeitung auch von mehreren Person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09480" y="2438280"/>
            <a:ext cx="6146640" cy="2210040"/>
            <a:chOff x="609480" y="2438280"/>
            <a:chExt cx="6146640" cy="2210040"/>
          </a:xfrm>
        </p:grpSpPr>
        <p:sp>
          <p:nvSpPr>
            <p:cNvPr id="87" name=""/>
            <p:cNvSpPr/>
            <p:nvPr/>
          </p:nvSpPr>
          <p:spPr>
            <a:xfrm>
              <a:off x="2145960" y="2438280"/>
              <a:ext cx="1346400" cy="8384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bsatz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planu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ktive Ver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835080" y="3809880"/>
              <a:ext cx="1371600" cy="838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Produktions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planu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ktive Ver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49560" y="2438280"/>
              <a:ext cx="1130040" cy="8384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676767"/>
                  </a:solidFill>
                  <a:latin typeface="Arial"/>
                </a:rPr>
                <a:t>Kann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676767"/>
                  </a:solidFill>
                  <a:latin typeface="Arial"/>
                </a:rPr>
                <a:t>Absät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0" name=""/>
            <p:cNvCxnSpPr>
              <a:stCxn id="89" idx="2"/>
              <a:endCxn id="87" idx="3"/>
            </p:cNvCxnSpPr>
            <p:nvPr/>
          </p:nvCxnSpPr>
          <p:spPr>
            <a:xfrm flipH="1">
              <a:off x="3492000" y="2857320"/>
              <a:ext cx="45792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cxnSp>
          <p:nvCxnSpPr>
            <p:cNvPr id="91" name=""/>
            <p:cNvCxnSpPr>
              <a:stCxn id="88" idx="0"/>
              <a:endCxn id="89" idx="4"/>
            </p:cNvCxnSpPr>
            <p:nvPr/>
          </p:nvCxnSpPr>
          <p:spPr>
            <a:xfrm flipH="1" flipV="1">
              <a:off x="4514040" y="3276000"/>
              <a:ext cx="6840" cy="5338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sp>
          <p:nvSpPr>
            <p:cNvPr id="92" name=""/>
            <p:cNvSpPr/>
            <p:nvPr/>
          </p:nvSpPr>
          <p:spPr>
            <a:xfrm>
              <a:off x="2257200" y="3809880"/>
              <a:ext cx="1130400" cy="8384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82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676767"/>
                  </a:solidFill>
                  <a:latin typeface="Arial"/>
                </a:rPr>
                <a:t>Plan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676767"/>
                  </a:solidFill>
                  <a:latin typeface="Arial"/>
                </a:rPr>
                <a:t>Absät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" name=""/>
            <p:cNvCxnSpPr>
              <a:stCxn id="87" idx="2"/>
              <a:endCxn id="92" idx="0"/>
            </p:cNvCxnSpPr>
            <p:nvPr/>
          </p:nvCxnSpPr>
          <p:spPr>
            <a:xfrm>
              <a:off x="2818800" y="3276360"/>
              <a:ext cx="3960" cy="5338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cxnSp>
          <p:nvCxnSpPr>
            <p:cNvPr id="94" name=""/>
            <p:cNvCxnSpPr>
              <a:stCxn id="92" idx="6"/>
              <a:endCxn id="88" idx="1"/>
            </p:cNvCxnSpPr>
            <p:nvPr/>
          </p:nvCxnSpPr>
          <p:spPr>
            <a:xfrm>
              <a:off x="3387240" y="4228920"/>
              <a:ext cx="44820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sp>
          <p:nvSpPr>
            <p:cNvPr id="95" name=""/>
            <p:cNvSpPr/>
            <p:nvPr/>
          </p:nvSpPr>
          <p:spPr>
            <a:xfrm>
              <a:off x="5625720" y="3809880"/>
              <a:ext cx="1130400" cy="83844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1260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roduk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09480" y="2438280"/>
              <a:ext cx="1130040" cy="83844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1260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Kunden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ufträ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7" name=""/>
            <p:cNvCxnSpPr>
              <a:stCxn id="96" idx="6"/>
              <a:endCxn id="87" idx="1"/>
            </p:cNvCxnSpPr>
            <p:nvPr/>
          </p:nvCxnSpPr>
          <p:spPr>
            <a:xfrm>
              <a:off x="1739160" y="2857320"/>
              <a:ext cx="40716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cxnSp>
          <p:nvCxnSpPr>
            <p:cNvPr id="98" name=""/>
            <p:cNvCxnSpPr>
              <a:stCxn id="88" idx="3"/>
              <a:endCxn id="95" idx="2"/>
            </p:cNvCxnSpPr>
            <p:nvPr/>
          </p:nvCxnSpPr>
          <p:spPr>
            <a:xfrm>
              <a:off x="5206680" y="4228920"/>
              <a:ext cx="41976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</p:grpSp>
      <p:grpSp>
        <p:nvGrpSpPr>
          <p:cNvPr id="99" name=""/>
          <p:cNvGrpSpPr/>
          <p:nvPr/>
        </p:nvGrpSpPr>
        <p:grpSpPr>
          <a:xfrm>
            <a:off x="2821320" y="4648320"/>
            <a:ext cx="3947400" cy="1117440"/>
            <a:chOff x="2821320" y="4648320"/>
            <a:chExt cx="3947400" cy="1117440"/>
          </a:xfrm>
        </p:grpSpPr>
        <p:sp>
          <p:nvSpPr>
            <p:cNvPr id="100" name=""/>
            <p:cNvSpPr/>
            <p:nvPr/>
          </p:nvSpPr>
          <p:spPr>
            <a:xfrm>
              <a:off x="3848040" y="4927680"/>
              <a:ext cx="1371600" cy="838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1260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676767"/>
                  </a:solidFill>
                  <a:latin typeface="Arial"/>
                </a:rPr>
                <a:t>Produktions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676767"/>
                  </a:solidFill>
                  <a:latin typeface="Arial"/>
                </a:rPr>
                <a:t>planu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676767"/>
                  </a:solidFill>
                  <a:latin typeface="Arial"/>
                </a:rPr>
                <a:t>Inaktive Ver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1" name=""/>
            <p:cNvCxnSpPr>
              <a:stCxn id="92" idx="4"/>
              <a:endCxn id="100" idx="1"/>
            </p:cNvCxnSpPr>
            <p:nvPr/>
          </p:nvCxnSpPr>
          <p:spPr>
            <a:xfrm flipH="1" rot="16200000">
              <a:off x="2985120" y="4484520"/>
              <a:ext cx="699120" cy="1026360"/>
            </a:xfrm>
            <a:prstGeom prst="bentConnector2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sp>
          <p:nvSpPr>
            <p:cNvPr id="102" name=""/>
            <p:cNvSpPr/>
            <p:nvPr/>
          </p:nvSpPr>
          <p:spPr>
            <a:xfrm>
              <a:off x="5638680" y="4927680"/>
              <a:ext cx="1130040" cy="83808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1260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676767"/>
                  </a:solidFill>
                  <a:latin typeface="Arial"/>
                </a:rPr>
                <a:t>Produk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3" name=""/>
            <p:cNvCxnSpPr>
              <a:stCxn id="100" idx="3"/>
              <a:endCxn id="102" idx="2"/>
            </p:cNvCxnSpPr>
            <p:nvPr/>
          </p:nvCxnSpPr>
          <p:spPr>
            <a:xfrm>
              <a:off x="5219640" y="5346360"/>
              <a:ext cx="41976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</p:grpSp>
      <p:grpSp>
        <p:nvGrpSpPr>
          <p:cNvPr id="104" name=""/>
          <p:cNvGrpSpPr/>
          <p:nvPr/>
        </p:nvGrpSpPr>
        <p:grpSpPr>
          <a:xfrm>
            <a:off x="609480" y="1295280"/>
            <a:ext cx="3917520" cy="1143000"/>
            <a:chOff x="609480" y="1295280"/>
            <a:chExt cx="3917520" cy="1143000"/>
          </a:xfrm>
        </p:grpSpPr>
        <p:sp>
          <p:nvSpPr>
            <p:cNvPr id="105" name=""/>
            <p:cNvSpPr/>
            <p:nvPr/>
          </p:nvSpPr>
          <p:spPr>
            <a:xfrm>
              <a:off x="2145960" y="1295280"/>
              <a:ext cx="1371600" cy="8384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1260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676767"/>
                  </a:solidFill>
                  <a:latin typeface="Arial"/>
                </a:rPr>
                <a:t>Absatz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676767"/>
                  </a:solidFill>
                  <a:latin typeface="Arial"/>
                </a:rPr>
                <a:t>planu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676767"/>
                  </a:solidFill>
                  <a:latin typeface="Arial"/>
                </a:rPr>
                <a:t>Inaktive Ver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6" name=""/>
            <p:cNvCxnSpPr>
              <a:stCxn id="89" idx="0"/>
              <a:endCxn id="105" idx="3"/>
            </p:cNvCxnSpPr>
            <p:nvPr/>
          </p:nvCxnSpPr>
          <p:spPr>
            <a:xfrm flipV="1" rot="16200000">
              <a:off x="3660120" y="1571040"/>
              <a:ext cx="724320" cy="1010520"/>
            </a:xfrm>
            <a:prstGeom prst="bentConnector2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sp>
          <p:nvSpPr>
            <p:cNvPr id="107" name=""/>
            <p:cNvSpPr/>
            <p:nvPr/>
          </p:nvSpPr>
          <p:spPr>
            <a:xfrm>
              <a:off x="609480" y="1295280"/>
              <a:ext cx="1130040" cy="838440"/>
            </a:xfrm>
            <a:prstGeom prst="ellipse">
              <a:avLst/>
            </a:prstGeom>
            <a:blipFill rotWithShape="0">
              <a:blip r:embed="rId10"/>
              <a:srcRect/>
              <a:stretch/>
            </a:blipFill>
            <a:ln w="1260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676767"/>
                  </a:solidFill>
                  <a:latin typeface="Arial"/>
                </a:rPr>
                <a:t>Kunden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676767"/>
                  </a:solidFill>
                  <a:latin typeface="Arial"/>
                </a:rPr>
                <a:t>aufträ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8" name=""/>
            <p:cNvCxnSpPr>
              <a:stCxn id="107" idx="6"/>
              <a:endCxn id="105" idx="1"/>
            </p:cNvCxnSpPr>
            <p:nvPr/>
          </p:nvCxnSpPr>
          <p:spPr>
            <a:xfrm>
              <a:off x="1739160" y="1714320"/>
              <a:ext cx="40716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609480" y="1003320"/>
          <a:ext cx="7925040" cy="402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03320"/>
                    <a:ext cx="7925040" cy="40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Rounded MT Bold"/>
              </a:rPr>
              <a:t>Der Absatzplan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5181480"/>
            <a:ext cx="792504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Im Gegensatz zum SAP-Standard erlaubt das Add-on die Planung aller Produkte im Überblic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05320" y="2514600"/>
            <a:ext cx="3352680" cy="2362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2666880" y="2819520"/>
            <a:ext cx="3880080" cy="81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666880" y="2819520"/>
            <a:ext cx="3880080" cy="819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Rounded MT Bold"/>
              </a:rPr>
              <a:t>Mail-Benachrichtigung aus dem Absatzplan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2819520"/>
            <a:ext cx="792504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Wenn die Aktive Version des Absatzplans geändert wurde, wird beim Speichern ein festgelegter Personenkreis per SAP- und/oder E-Mail automatisch benachrichtig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ie Mail enthält eine Liste mit allen Änderung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ie Änderungen am Plan-Absatz werden in den Produktionsplan übernommen und dort farblich gekennzeichn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600200" y="1143000"/>
            <a:ext cx="5943600" cy="125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636480" y="979560"/>
          <a:ext cx="7898040" cy="372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6480" y="979560"/>
                    <a:ext cx="7898040" cy="37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Rounded MT Bold"/>
              </a:rPr>
              <a:t>Der Produktionsplan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4876920"/>
            <a:ext cx="792504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er Produktionsplan enthält Fertig- und Halbfertigproduk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lle Produkte sind parallel planb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ekundärbedarf wird ermittelt und berücksichtig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Rounded MT Bold"/>
              </a:rPr>
              <a:t>Das Planungsumfeld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209320"/>
            <a:ext cx="7925040" cy="403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as Ermitteln des Bestands und des Sekundärbedarfs ist zeitaufwendi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Beschleunigung du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standsermittlung während der Nach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xtrahieren der Stücklisten und eliminieren nicht relevanter Position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Wie hoch ist der Anfangsbestand im Folgemona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 der aktuelle Bestand (gut am Monatsende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ochgerechnet aus Ist-Bestand, Plan, Planerfüllung (gut am Monatsanfang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 zuletzt gespeiche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0" r="0" b="80524"/>
          <a:stretch/>
        </p:blipFill>
        <p:spPr>
          <a:xfrm>
            <a:off x="609480" y="1055520"/>
            <a:ext cx="7899480" cy="115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654120" y="979560"/>
          <a:ext cx="7842240" cy="51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4120" y="979560"/>
                    <a:ext cx="7842240" cy="51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Rounded MT Bold"/>
              </a:rPr>
              <a:t>Produktionsplanung interaktiv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3047760"/>
            <a:ext cx="426744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186480" indent="-186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tatus-Anzeige mit Amp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33cc33"/>
                </a:solidFill>
                <a:latin typeface="Arial"/>
              </a:rPr>
              <a:t>grü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s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Arial"/>
              </a:rPr>
              <a:t>gelb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lan-Absatz wird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icht gedec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ro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kundärbedarf und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lan-Absatz werd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icht gedec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654120" y="979560"/>
          <a:ext cx="7842240" cy="51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4120" y="979560"/>
                    <a:ext cx="7842240" cy="51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Rounded MT Bold"/>
              </a:rPr>
              <a:t>Produktionsplanung interaktiv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3048120"/>
            <a:ext cx="426744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tatus-Weitergabe an Absatzpl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33cc33"/>
                </a:solidFill>
                <a:latin typeface="Arial"/>
              </a:rPr>
              <a:t>grü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ne Kennzeich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Arial"/>
              </a:rPr>
              <a:t>gelb</a:t>
            </a:r>
            <a:br>
              <a:rPr sz="2000"/>
            </a:b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ro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ann-Absatz farb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1:26:31Z</dcterms:created>
  <dc:creator>Degussa AG</dc:creator>
  <dc:description/>
  <dc:language>en-US</dc:language>
  <cp:lastModifiedBy>Dr. Jochen Winkler</cp:lastModifiedBy>
  <cp:lastPrinted>2000-11-29T07:27:14Z</cp:lastPrinted>
  <dcterms:modified xsi:type="dcterms:W3CDTF">2001-02-02T17:22:58Z</dcterms:modified>
  <cp:revision>15</cp:revision>
  <dc:subject/>
  <dc:title>Musterfolie Degussa-Hüls, farbig, TNR 3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Daten\Powerp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