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png" ContentType="image/png"/>
  <Override PartName="/ppt/media/image4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790560" y="495000"/>
            <a:ext cx="5276880" cy="40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2600" y="464328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280120" y="9285120"/>
            <a:ext cx="1349280" cy="29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12960" y="4655880"/>
            <a:ext cx="5032080" cy="3367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ldImg"/>
          </p:nvPr>
        </p:nvSpPr>
        <p:spPr>
          <a:xfrm>
            <a:off x="1208160" y="857160"/>
            <a:ext cx="444168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55B2F90-2CE5-4505-9C27-3937023A283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.11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695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2000 (Chemie / Pharm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2743200"/>
            <a:ext cx="9524880" cy="2743200"/>
          </a:xfrm>
          <a:prstGeom prst="ellipse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5943600"/>
            <a:ext cx="9068040" cy="106668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prüche an die Systemat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80880" y="1294920"/>
            <a:ext cx="9068040" cy="91440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137160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6480" y="1258920"/>
            <a:ext cx="13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1905120"/>
            <a:ext cx="220968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647712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0760" y="6553080"/>
            <a:ext cx="134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5638680"/>
            <a:ext cx="221004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1932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886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es Geschä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01440" y="2932200"/>
            <a:ext cx="203256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2560" y="4267080"/>
            <a:ext cx="20444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 -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r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98360" y="2895480"/>
            <a:ext cx="28461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W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ei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180 Kg Gebinde v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K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43320" y="4267080"/>
            <a:ext cx="20325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45080" y="4343400"/>
            <a:ext cx="24728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spre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68760" y="2895480"/>
            <a:ext cx="247284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schungs- und Entwicklungsrezeptur (Stoffebe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onsrezeptur (Stoffebe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/3 Stückliste, Arbeitsplan (Materialebe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 sowie Verfahrensanweis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Entwicklung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1375"/>
              </a:spcBef>
              <a:spcAft>
                <a:spcPts val="1375"/>
              </a:spcAft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Produktion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3819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Beschreibung von Rezepturen für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ünftig nur noch manuell angelegte Materialstämme für Stoffe (Produktgruppen), Rohstoffe, Farben und Verpac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Teil-)Automatisc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ierung von Materialstämm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ür Produkte (Produkt-Variante-Farb-Packmittelkombination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ktive Rezepturverwaltung für Produkte mit Varianten in unterschiedlichen Farben und Verpac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ilung der Rezepturen auf verschiedene Werke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1960" indent="-3819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Teil-)Automatisc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ierung von Stücklisten und Arbeitplän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zum Zeitpunkt der Produktionsplanung, der Produktion oder der Rückmeld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ProduktionsRezeptur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pläne / Spezifikationen und Chargen beziehen sich auf Sto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Nur wenige manuell anzulegende Materialstämme für variantenreiche Produkte in unterschiedlichen Verpac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Praxisgerechte aufwandsarme Beschreibung der Produktionsrezepturen oder automatische Überleitung aus F&amp;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Generierung von Materialstämmen, Stücklisten, Arbeitsplä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Produktio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ff"/>
                </a:solidFill>
                <a:latin typeface="Arial"/>
              </a:rPr>
              <a:t>ProduktionsPlan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ß Sivento: Motiv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lem: Exaktes untermonatiges Erfassen aller Materialverbräuche und der Produktion (flächendeckende Messtechnik, Verfahrenstechnik: Nachlauf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lständige Kostenträg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erte Stücklisten und Planungsre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1600200"/>
            <a:ext cx="4724280" cy="21337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352680" y="1828800"/>
            <a:ext cx="3505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imierung der auftragsneutralen Aufwände (Kostenstellenverbräuche, Inventurbuc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352680"/>
            <a:ext cx="236196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0" y="3505320"/>
            <a:ext cx="236232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Statisti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: Einmaliges Erfassen der Tankstände von Rohstoffen, Produkten und Halbprodukten oder Energieabrechnungen am Ende des Monats und Ausbuchen der Differenzen anteilig auf die verbrauchenden und erzeugenden Aufträge des Mon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ß Sivento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144000" cy="5527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SAP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zumutbares Handling beim Recherchieren der Aufträge und Ermitteln der Aufteilreg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der daraus folgenden Buchungspositionen außerhalb de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eblicher Aufwand, da die so ermittelten Buchungspositionen einzeln erfasst werden mü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nforderu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übersichtliches Tableau zum Erfassen aller exakten Bestände (optional automatische Abfrage von Prozessleitsyste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Oberfläche, welche die nötigen Verbrauchs- und Erzeugungszahlen absolut und prozentual präsentiert, und über welche die Differenzen zum SAP-Bestand automatisch ober manuell änderbar erfasst und gespeich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nopfdruck werden alle Positionen verbu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r Abschluss aller offenen 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ichtlin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beschrei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planung und –budget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lauf und –term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ssourc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euerung  und -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schluß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S (Projektsystem)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spcAft>
                <a:spcPts val="2251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e Mas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bindung v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Entwicklungs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alle SAP R/3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, Release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905120" y="1600200"/>
          <a:ext cx="61354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135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0"/>
            <a:ext cx="9906120" cy="7620120"/>
            <a:chOff x="0" y="0"/>
            <a:chExt cx="9906120" cy="762012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906120" cy="76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 txBox="1"/>
            <p:nvPr/>
          </p:nvSpPr>
          <p:spPr>
            <a:xfrm>
              <a:off x="0" y="0"/>
              <a:ext cx="9906120" cy="762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8280" rIns="98280" tIns="49320" bIns="49320" anchor="t">
              <a:normAutofit/>
            </a:bodyPr>
            <a:p>
              <a:pPr marL="208080" indent="-208080">
                <a:spcBef>
                  <a:spcPts val="550"/>
                </a:spcBef>
                <a:spcAft>
                  <a:spcPts val="1375"/>
                </a:spcAft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9328320" cy="93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kostenplanung und - budgeti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-1080" y="7385040"/>
            <a:ext cx="230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552440" y="1123920"/>
            <a:ext cx="2016360" cy="966960"/>
          </a:xfrm>
          <a:prstGeom prst="rightArrow">
            <a:avLst>
              <a:gd name="adj1" fmla="val 75000"/>
              <a:gd name="adj2" fmla="val 10427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567560" y="2774880"/>
            <a:ext cx="2014560" cy="968400"/>
          </a:xfrm>
          <a:prstGeom prst="rightArrow">
            <a:avLst>
              <a:gd name="adj1" fmla="val 75000"/>
              <a:gd name="adj2" fmla="val 104024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621560" y="4189320"/>
            <a:ext cx="2016000" cy="951120"/>
          </a:xfrm>
          <a:prstGeom prst="rightArrow">
            <a:avLst>
              <a:gd name="adj1" fmla="val 75000"/>
              <a:gd name="adj2" fmla="val 105990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78400" y="108432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95760" y="24145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6040" y="1947960"/>
            <a:ext cx="28800" cy="84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8592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9576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0380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82680" y="2602080"/>
            <a:ext cx="24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7620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01880" y="2602080"/>
            <a:ext cx="24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9576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044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46450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8360" y="5433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6053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440" y="6045120"/>
            <a:ext cx="206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6927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44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044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044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644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2560" y="4313160"/>
            <a:ext cx="1570320" cy="4024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7520" y="4624560"/>
            <a:ext cx="1450080" cy="34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256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95360" y="55864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95360" y="62056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644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808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360" y="708012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256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3680" y="2795760"/>
            <a:ext cx="2173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956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152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160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6848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7496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7496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7496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6848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7496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6848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6848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6848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8628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679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67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9240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8628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679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9240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0352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7868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713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144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7832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8480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8480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8480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7832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8480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7832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7832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7832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94320" y="4273560"/>
            <a:ext cx="16621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745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033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224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94320" y="6556320"/>
            <a:ext cx="16621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745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0224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01336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985640" y="2836800"/>
            <a:ext cx="2039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779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19840" y="2803680"/>
            <a:ext cx="216828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05240" y="1233360"/>
            <a:ext cx="23605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78600" y="1273320"/>
            <a:ext cx="2221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Budge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60200" y="158760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239840"/>
            <a:ext cx="2354040" cy="7272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703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-25920" y="7385040"/>
            <a:ext cx="1471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. Baier / jw-consult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160" y="1192320"/>
            <a:ext cx="9397800" cy="100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-Projekt-Map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4160" y="3394080"/>
            <a:ext cx="2876400" cy="387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reibun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Wo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56080" y="3394080"/>
            <a:ext cx="2876400" cy="387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Exc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0" y="3394080"/>
            <a:ext cx="2793960" cy="387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Form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ild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M Windows u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2082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74640" y="2878200"/>
            <a:ext cx="824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6852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3760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716120" y="2443320"/>
            <a:ext cx="222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klassifizierung und - recher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040" y="4346640"/>
            <a:ext cx="243684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040" y="4346640"/>
            <a:ext cx="243684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55000" y="4443480"/>
            <a:ext cx="20930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29160" y="4346640"/>
            <a:ext cx="303372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37080" y="509112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6240" y="5091120"/>
            <a:ext cx="12654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uord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39120" y="5340240"/>
            <a:ext cx="8416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89360" y="5340240"/>
            <a:ext cx="1122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-4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33360" y="5591160"/>
            <a:ext cx="866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07000" y="5591160"/>
            <a:ext cx="999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37080" y="609444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49920" y="6094440"/>
            <a:ext cx="2157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rkmals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38400" y="636912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54760" y="6369120"/>
            <a:ext cx="399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34800" y="6600960"/>
            <a:ext cx="973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.-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42000" y="6600960"/>
            <a:ext cx="5508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38400" y="68245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94080" y="6824520"/>
            <a:ext cx="299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629160" y="4346640"/>
            <a:ext cx="279396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12480" y="4443480"/>
            <a:ext cx="21859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910560" y="4346640"/>
            <a:ext cx="2596680" cy="2985840"/>
            <a:chOff x="6910560" y="4346640"/>
            <a:chExt cx="2596680" cy="2985840"/>
          </a:xfrm>
        </p:grpSpPr>
        <p:sp>
          <p:nvSpPr>
            <p:cNvPr id="589" name=""/>
            <p:cNvSpPr/>
            <p:nvPr/>
          </p:nvSpPr>
          <p:spPr>
            <a:xfrm>
              <a:off x="6910560" y="4346640"/>
              <a:ext cx="2596680" cy="2985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14880" y="515772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12960" y="5157720"/>
              <a:ext cx="118008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he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09000" y="5410080"/>
              <a:ext cx="16023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14880" y="616140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212240" y="6161400"/>
              <a:ext cx="1789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ktsuche ü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208640" y="6415200"/>
              <a:ext cx="19299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10560" y="4346640"/>
              <a:ext cx="2596680" cy="634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59040" y="4443120"/>
              <a:ext cx="1875240" cy="43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bjektsuch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741240" y="1347840"/>
            <a:ext cx="2913120" cy="201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9880" y="1973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648160" y="197316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50600" y="219564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44200" y="219564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52760" y="2419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41320" y="241920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51680" y="26449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47800" y="2644920"/>
            <a:ext cx="595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41240" y="1347840"/>
            <a:ext cx="291312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67760" y="1433520"/>
            <a:ext cx="2153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kmal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41240" y="2951280"/>
            <a:ext cx="291312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451520" y="2938320"/>
            <a:ext cx="13766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erk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41800" y="1347840"/>
            <a:ext cx="3629160" cy="215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50440" y="1946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92920" y="194616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042960" y="1946160"/>
            <a:ext cx="136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21654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271480" y="21654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52960" y="2392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54880" y="23922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51880" y="26161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08640" y="261612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47920" y="28400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76760" y="284004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41800" y="1347840"/>
            <a:ext cx="362916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622040" y="1433520"/>
            <a:ext cx="24955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 FEA-47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1800" y="3090960"/>
            <a:ext cx="362916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943880" y="3078000"/>
            <a:ext cx="1858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igenscha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57320" y="5235480"/>
            <a:ext cx="1728720" cy="18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68120" y="576108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69560" y="59850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071720" y="621036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69920" y="643428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66320" y="66578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57320" y="5235480"/>
            <a:ext cx="1728720" cy="547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17560" y="5111640"/>
            <a:ext cx="188928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8160" y="5191200"/>
            <a:ext cx="18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Klasse Projek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6680" y="3506760"/>
            <a:ext cx="701640" cy="687240"/>
          </a:xfrm>
          <a:custGeom>
            <a:avLst/>
            <a:gdLst/>
            <a:ahLst/>
            <a:rect l="l" t="t" r="r" b="b"/>
            <a:pathLst>
              <a:path w="408" h="390">
                <a:moveTo>
                  <a:pt x="206" y="389"/>
                </a:moveTo>
                <a:lnTo>
                  <a:pt x="407" y="196"/>
                </a:lnTo>
                <a:lnTo>
                  <a:pt x="308" y="196"/>
                </a:lnTo>
                <a:lnTo>
                  <a:pt x="308" y="0"/>
                </a:lnTo>
                <a:lnTo>
                  <a:pt x="102" y="0"/>
                </a:lnTo>
                <a:lnTo>
                  <a:pt x="102" y="196"/>
                </a:lnTo>
                <a:lnTo>
                  <a:pt x="0" y="196"/>
                </a:lnTo>
                <a:lnTo>
                  <a:pt x="206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35640" y="3506760"/>
            <a:ext cx="704520" cy="687240"/>
          </a:xfrm>
          <a:custGeom>
            <a:avLst/>
            <a:gdLst/>
            <a:ahLst/>
            <a:rect l="l" t="t" r="r" b="b"/>
            <a:pathLst>
              <a:path w="410" h="390">
                <a:moveTo>
                  <a:pt x="205" y="389"/>
                </a:moveTo>
                <a:lnTo>
                  <a:pt x="409" y="196"/>
                </a:lnTo>
                <a:lnTo>
                  <a:pt x="307" y="196"/>
                </a:lnTo>
                <a:lnTo>
                  <a:pt x="307" y="0"/>
                </a:lnTo>
                <a:lnTo>
                  <a:pt x="101" y="0"/>
                </a:lnTo>
                <a:lnTo>
                  <a:pt x="101" y="196"/>
                </a:lnTo>
                <a:lnTo>
                  <a:pt x="0" y="196"/>
                </a:lnTo>
                <a:lnTo>
                  <a:pt x="205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54160" y="5670720"/>
            <a:ext cx="782640" cy="479160"/>
          </a:xfrm>
          <a:custGeom>
            <a:avLst/>
            <a:gdLst/>
            <a:ahLst/>
            <a:rect l="l" t="t" r="r" b="b"/>
            <a:pathLst>
              <a:path w="455" h="272">
                <a:moveTo>
                  <a:pt x="229" y="0"/>
                </a:moveTo>
                <a:lnTo>
                  <a:pt x="229" y="68"/>
                </a:lnTo>
                <a:lnTo>
                  <a:pt x="0" y="68"/>
                </a:lnTo>
                <a:lnTo>
                  <a:pt x="0" y="203"/>
                </a:lnTo>
                <a:lnTo>
                  <a:pt x="229" y="203"/>
                </a:lnTo>
                <a:lnTo>
                  <a:pt x="229" y="271"/>
                </a:lnTo>
                <a:lnTo>
                  <a:pt x="454" y="137"/>
                </a:lnTo>
                <a:lnTo>
                  <a:pt x="229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Forschung &amp; Entwicklu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1440000"/>
            <a:ext cx="853416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informations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Bestel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Einbind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– Chemie / Pharma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wLIMS für Technische Kunst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andhaltungsabwicklung (Mitarb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utsche Amphibolin Werke, Ober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katal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itere Konditionen (Mengenrabatt, Boni,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reter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men, Adress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ätze, Hit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ortung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iebsorganisation, V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 (evtl. mit APO abgestimm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ontend =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ddleware = Webserv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ckend =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= R/3,  Slave =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äglich (Kunden-, Produkt-, Preis-, Vertreter-, Verortungs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ort (Verfügbarkeits-, Kredit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holt sich die Daten vom Webserver 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wall, Autorisierung, Verschlüsselu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norare / Spes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kundmaske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400" spc="-1" strike="noStrike">
                <a:solidFill>
                  <a:srgbClr val="ffcc00"/>
                </a:solidFill>
                <a:latin typeface="Braggadocio"/>
              </a:rPr>
              <a:t>ap</a:t>
            </a:r>
            <a:r>
              <a:rPr b="1" lang="de-DE" sz="2800" spc="-1" strike="noStrike">
                <a:solidFill>
                  <a:srgbClr val="0066ff"/>
                </a:solidFill>
                <a:latin typeface="Arial"/>
              </a:rPr>
              <a:t>KundenAuftra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ML Browser – Webserver –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ree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 – Menge – Ter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kal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weichender Auftragge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8120" y="1439640"/>
            <a:ext cx="35812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2000 (Chemie / Pharma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– Chemie / Pharma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gussa Metals Catalysts Cerdec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P / PI, jw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dhaltung / Projekt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 Pharma GmbH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M,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satz- und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natsabschluß (Produk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B Arzneimittelbestellungen über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2C Kundenaufträge über WAP-Han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013120" y="3038400"/>
            <a:ext cx="915480" cy="1002960"/>
            <a:chOff x="2013120" y="3038400"/>
            <a:chExt cx="915480" cy="1002960"/>
          </a:xfrm>
        </p:grpSpPr>
        <p:sp>
          <p:nvSpPr>
            <p:cNvPr id="71" name=""/>
            <p:cNvSpPr/>
            <p:nvPr/>
          </p:nvSpPr>
          <p:spPr>
            <a:xfrm>
              <a:off x="2013120" y="3039840"/>
              <a:ext cx="915480" cy="8388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18520" y="3038400"/>
              <a:ext cx="45144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71760" y="303984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18520" y="3463920"/>
              <a:ext cx="451440" cy="5752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71760" y="346572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716360" y="2192400"/>
            <a:ext cx="915840" cy="1000800"/>
            <a:chOff x="4716360" y="2192400"/>
            <a:chExt cx="915840" cy="1000800"/>
          </a:xfrm>
        </p:grpSpPr>
        <p:sp>
          <p:nvSpPr>
            <p:cNvPr id="77" name=""/>
            <p:cNvSpPr/>
            <p:nvPr/>
          </p:nvSpPr>
          <p:spPr>
            <a:xfrm>
              <a:off x="4716360" y="2194200"/>
              <a:ext cx="915840" cy="8370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1760" y="2192400"/>
              <a:ext cx="45144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75360" y="2194200"/>
              <a:ext cx="451800" cy="5742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21760" y="2617200"/>
              <a:ext cx="45144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75360" y="2618640"/>
              <a:ext cx="45180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972480" y="3446640"/>
            <a:ext cx="909000" cy="1001160"/>
            <a:chOff x="6972480" y="3446640"/>
            <a:chExt cx="909000" cy="1001160"/>
          </a:xfrm>
        </p:grpSpPr>
        <p:sp>
          <p:nvSpPr>
            <p:cNvPr id="83" name=""/>
            <p:cNvSpPr/>
            <p:nvPr/>
          </p:nvSpPr>
          <p:spPr>
            <a:xfrm>
              <a:off x="6972480" y="3448080"/>
              <a:ext cx="909000" cy="837720"/>
            </a:xfrm>
            <a:custGeom>
              <a:avLst/>
              <a:gdLst/>
              <a:ahLst/>
              <a:rect l="l" t="t" r="r" b="b"/>
              <a:pathLst>
                <a:path w="529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28" y="238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24280" y="3446640"/>
              <a:ext cx="45180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72480" y="3448080"/>
              <a:ext cx="450000" cy="5749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325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24280" y="3871080"/>
              <a:ext cx="45180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72480" y="3873240"/>
              <a:ext cx="450000" cy="57456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426440" y="3867120"/>
            <a:ext cx="909000" cy="1004400"/>
            <a:chOff x="7426440" y="3867120"/>
            <a:chExt cx="909000" cy="1004400"/>
          </a:xfrm>
        </p:grpSpPr>
        <p:sp>
          <p:nvSpPr>
            <p:cNvPr id="89" name=""/>
            <p:cNvSpPr/>
            <p:nvPr/>
          </p:nvSpPr>
          <p:spPr>
            <a:xfrm>
              <a:off x="7426440" y="3870360"/>
              <a:ext cx="909000" cy="84240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8240" y="386712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26440" y="3867120"/>
              <a:ext cx="45036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78240" y="4295520"/>
              <a:ext cx="451800" cy="57060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26440" y="4300560"/>
              <a:ext cx="450360" cy="57096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972480" y="4284720"/>
            <a:ext cx="909000" cy="1004400"/>
            <a:chOff x="6972480" y="4284720"/>
            <a:chExt cx="909000" cy="1004400"/>
          </a:xfrm>
        </p:grpSpPr>
        <p:sp>
          <p:nvSpPr>
            <p:cNvPr id="95" name=""/>
            <p:cNvSpPr/>
            <p:nvPr/>
          </p:nvSpPr>
          <p:spPr>
            <a:xfrm>
              <a:off x="6972480" y="4287960"/>
              <a:ext cx="909000" cy="84240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4280" y="428472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72480" y="4284720"/>
              <a:ext cx="45000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24280" y="4713120"/>
              <a:ext cx="45180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72480" y="4718160"/>
              <a:ext cx="450000" cy="57096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426440" y="4708440"/>
            <a:ext cx="909000" cy="1004760"/>
            <a:chOff x="7426440" y="4708440"/>
            <a:chExt cx="909000" cy="1004760"/>
          </a:xfrm>
        </p:grpSpPr>
        <p:sp>
          <p:nvSpPr>
            <p:cNvPr id="101" name=""/>
            <p:cNvSpPr/>
            <p:nvPr/>
          </p:nvSpPr>
          <p:spPr>
            <a:xfrm>
              <a:off x="7426440" y="4711320"/>
              <a:ext cx="909000" cy="84276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78240" y="470844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26440" y="4708440"/>
              <a:ext cx="45036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0" y="327"/>
                  </a:moveTo>
                  <a:lnTo>
                    <a:pt x="0" y="236"/>
                  </a:lnTo>
                  <a:lnTo>
                    <a:pt x="261" y="0"/>
                  </a:lnTo>
                  <a:lnTo>
                    <a:pt x="261" y="91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78240" y="5136480"/>
              <a:ext cx="45180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26440" y="5141880"/>
              <a:ext cx="45036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463840" y="2619360"/>
            <a:ext cx="917280" cy="1001520"/>
            <a:chOff x="2463840" y="2619360"/>
            <a:chExt cx="917280" cy="1001520"/>
          </a:xfrm>
        </p:grpSpPr>
        <p:sp>
          <p:nvSpPr>
            <p:cNvPr id="107" name=""/>
            <p:cNvSpPr/>
            <p:nvPr/>
          </p:nvSpPr>
          <p:spPr>
            <a:xfrm>
              <a:off x="2463840" y="2621160"/>
              <a:ext cx="917280" cy="8373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8880" y="2619360"/>
              <a:ext cx="45252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3560" y="2621160"/>
              <a:ext cx="45216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8880" y="3044160"/>
              <a:ext cx="45252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23560" y="3046320"/>
              <a:ext cx="45216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21040" y="3448080"/>
            <a:ext cx="45072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325"/>
                </a:moveTo>
                <a:lnTo>
                  <a:pt x="262" y="235"/>
                </a:lnTo>
                <a:lnTo>
                  <a:pt x="0" y="0"/>
                </a:lnTo>
                <a:lnTo>
                  <a:pt x="0" y="91"/>
                </a:lnTo>
                <a:lnTo>
                  <a:pt x="262" y="325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21040" y="3873600"/>
            <a:ext cx="45072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00520" y="2195640"/>
            <a:ext cx="917280" cy="1000800"/>
            <a:chOff x="3800520" y="2195640"/>
            <a:chExt cx="917280" cy="1000800"/>
          </a:xfrm>
        </p:grpSpPr>
        <p:sp>
          <p:nvSpPr>
            <p:cNvPr id="115" name=""/>
            <p:cNvSpPr/>
            <p:nvPr/>
          </p:nvSpPr>
          <p:spPr>
            <a:xfrm>
              <a:off x="3800520" y="2197440"/>
              <a:ext cx="917280" cy="8370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5920" y="2195640"/>
              <a:ext cx="45216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60240" y="2197440"/>
              <a:ext cx="452520" cy="5742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5920" y="2620440"/>
              <a:ext cx="452160" cy="5742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60240" y="2621880"/>
              <a:ext cx="45252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17800" y="2201760"/>
            <a:ext cx="917280" cy="1001520"/>
            <a:chOff x="2917800" y="2201760"/>
            <a:chExt cx="917280" cy="1001520"/>
          </a:xfrm>
        </p:grpSpPr>
        <p:sp>
          <p:nvSpPr>
            <p:cNvPr id="121" name=""/>
            <p:cNvSpPr/>
            <p:nvPr/>
          </p:nvSpPr>
          <p:spPr>
            <a:xfrm>
              <a:off x="2917800" y="2203560"/>
              <a:ext cx="917280" cy="8373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23200" y="2201760"/>
              <a:ext cx="45216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77520" y="2203560"/>
              <a:ext cx="45216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23200" y="2626560"/>
              <a:ext cx="45216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77520" y="2628360"/>
              <a:ext cx="45216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55920" y="3460680"/>
            <a:ext cx="916920" cy="1001520"/>
            <a:chOff x="1555920" y="3460680"/>
            <a:chExt cx="916920" cy="1001520"/>
          </a:xfrm>
        </p:grpSpPr>
        <p:sp>
          <p:nvSpPr>
            <p:cNvPr id="127" name=""/>
            <p:cNvSpPr/>
            <p:nvPr/>
          </p:nvSpPr>
          <p:spPr>
            <a:xfrm>
              <a:off x="1555920" y="3462480"/>
              <a:ext cx="916920" cy="8373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0960" y="3460680"/>
              <a:ext cx="45252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15280" y="3462480"/>
              <a:ext cx="45252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0960" y="3885480"/>
              <a:ext cx="45252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5280" y="3887280"/>
              <a:ext cx="452520" cy="5749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552680" y="4276800"/>
            <a:ext cx="917280" cy="1002960"/>
            <a:chOff x="1552680" y="4276800"/>
            <a:chExt cx="917280" cy="1002960"/>
          </a:xfrm>
        </p:grpSpPr>
        <p:sp>
          <p:nvSpPr>
            <p:cNvPr id="133" name=""/>
            <p:cNvSpPr/>
            <p:nvPr/>
          </p:nvSpPr>
          <p:spPr>
            <a:xfrm>
              <a:off x="1552680" y="4278240"/>
              <a:ext cx="917280" cy="8391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7720" y="4276800"/>
              <a:ext cx="45288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12040" y="427824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7720" y="470196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2040" y="4704120"/>
              <a:ext cx="45288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013120" y="4708440"/>
            <a:ext cx="907560" cy="1002960"/>
            <a:chOff x="2013120" y="4708440"/>
            <a:chExt cx="907560" cy="1002960"/>
          </a:xfrm>
        </p:grpSpPr>
        <p:sp>
          <p:nvSpPr>
            <p:cNvPr id="139" name=""/>
            <p:cNvSpPr/>
            <p:nvPr/>
          </p:nvSpPr>
          <p:spPr>
            <a:xfrm>
              <a:off x="2013120" y="4708440"/>
              <a:ext cx="907560" cy="84600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14920" y="47084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68520" y="471132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14920" y="513648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68520" y="51386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067440" y="2610000"/>
            <a:ext cx="914040" cy="1004400"/>
            <a:chOff x="6067440" y="2610000"/>
            <a:chExt cx="914040" cy="1004400"/>
          </a:xfrm>
        </p:grpSpPr>
        <p:sp>
          <p:nvSpPr>
            <p:cNvPr id="145" name=""/>
            <p:cNvSpPr/>
            <p:nvPr/>
          </p:nvSpPr>
          <p:spPr>
            <a:xfrm>
              <a:off x="6067440" y="2613600"/>
              <a:ext cx="914040" cy="83988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1040" y="2610000"/>
              <a:ext cx="451800" cy="5716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67440" y="2613600"/>
              <a:ext cx="453600" cy="5752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325"/>
                  </a:moveTo>
                  <a:lnTo>
                    <a:pt x="0" y="234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1040" y="3038760"/>
              <a:ext cx="451800" cy="5752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67440" y="3040560"/>
              <a:ext cx="453600" cy="5738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519960" y="3030480"/>
            <a:ext cx="912240" cy="999720"/>
            <a:chOff x="6519960" y="3030480"/>
            <a:chExt cx="912240" cy="999720"/>
          </a:xfrm>
        </p:grpSpPr>
        <p:sp>
          <p:nvSpPr>
            <p:cNvPr id="151" name=""/>
            <p:cNvSpPr/>
            <p:nvPr/>
          </p:nvSpPr>
          <p:spPr>
            <a:xfrm>
              <a:off x="6521760" y="3031920"/>
              <a:ext cx="910440" cy="841320"/>
            </a:xfrm>
            <a:custGeom>
              <a:avLst/>
              <a:gdLst/>
              <a:ahLst/>
              <a:rect l="l" t="t" r="r" b="b"/>
              <a:pathLst>
                <a:path w="530" h="477">
                  <a:moveTo>
                    <a:pt x="266" y="0"/>
                  </a:moveTo>
                  <a:lnTo>
                    <a:pt x="0" y="240"/>
                  </a:lnTo>
                  <a:lnTo>
                    <a:pt x="266" y="476"/>
                  </a:lnTo>
                  <a:lnTo>
                    <a:pt x="529" y="240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71760" y="3030480"/>
              <a:ext cx="453240" cy="57132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323"/>
                  </a:moveTo>
                  <a:lnTo>
                    <a:pt x="263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3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19960" y="3031920"/>
              <a:ext cx="453240" cy="57312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324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71760" y="3455640"/>
              <a:ext cx="453240" cy="57456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0"/>
                  </a:moveTo>
                  <a:lnTo>
                    <a:pt x="263" y="90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3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19960" y="3457080"/>
              <a:ext cx="453240" cy="57312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91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972480" y="5126040"/>
            <a:ext cx="914040" cy="1002960"/>
            <a:chOff x="6972480" y="5126040"/>
            <a:chExt cx="914040" cy="1002960"/>
          </a:xfrm>
        </p:grpSpPr>
        <p:sp>
          <p:nvSpPr>
            <p:cNvPr id="157" name=""/>
            <p:cNvSpPr/>
            <p:nvPr/>
          </p:nvSpPr>
          <p:spPr>
            <a:xfrm>
              <a:off x="6972480" y="5126040"/>
              <a:ext cx="914040" cy="84600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29320" y="5126040"/>
              <a:ext cx="448560" cy="57276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72480" y="5128920"/>
              <a:ext cx="453600" cy="57132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29320" y="5554080"/>
              <a:ext cx="448560" cy="57132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72480" y="5556240"/>
              <a:ext cx="453600" cy="57276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516720" y="5545080"/>
            <a:ext cx="910800" cy="1006200"/>
            <a:chOff x="6516720" y="5545080"/>
            <a:chExt cx="910800" cy="1006200"/>
          </a:xfrm>
        </p:grpSpPr>
        <p:sp>
          <p:nvSpPr>
            <p:cNvPr id="163" name=""/>
            <p:cNvSpPr/>
            <p:nvPr/>
          </p:nvSpPr>
          <p:spPr>
            <a:xfrm>
              <a:off x="6519960" y="5550120"/>
              <a:ext cx="907560" cy="843840"/>
            </a:xfrm>
            <a:custGeom>
              <a:avLst/>
              <a:gdLst/>
              <a:ahLst/>
              <a:rect l="l" t="t" r="r" b="b"/>
              <a:pathLst>
                <a:path w="528" h="478">
                  <a:moveTo>
                    <a:pt x="265" y="0"/>
                  </a:moveTo>
                  <a:lnTo>
                    <a:pt x="0" y="239"/>
                  </a:lnTo>
                  <a:lnTo>
                    <a:pt x="265" y="477"/>
                  </a:lnTo>
                  <a:lnTo>
                    <a:pt x="527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67080" y="5545080"/>
              <a:ext cx="45180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323"/>
                  </a:moveTo>
                  <a:lnTo>
                    <a:pt x="262" y="233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2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16720" y="554868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67080" y="597204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6720" y="5975640"/>
              <a:ext cx="45180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80040" y="5948280"/>
            <a:ext cx="914040" cy="1004760"/>
            <a:chOff x="6080040" y="5948280"/>
            <a:chExt cx="914040" cy="1004760"/>
          </a:xfrm>
        </p:grpSpPr>
        <p:sp>
          <p:nvSpPr>
            <p:cNvPr id="169" name=""/>
            <p:cNvSpPr/>
            <p:nvPr/>
          </p:nvSpPr>
          <p:spPr>
            <a:xfrm>
              <a:off x="6080040" y="5951160"/>
              <a:ext cx="914040" cy="83916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4000" y="5948280"/>
              <a:ext cx="45144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80040" y="5953320"/>
              <a:ext cx="451800" cy="57456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325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4000" y="6374880"/>
              <a:ext cx="451440" cy="57312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0040" y="6374880"/>
              <a:ext cx="45180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0"/>
                  </a:moveTo>
                  <a:lnTo>
                    <a:pt x="0" y="91"/>
                  </a:lnTo>
                  <a:lnTo>
                    <a:pt x="262" y="327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370320" y="3457440"/>
            <a:ext cx="452520" cy="573120"/>
          </a:xfrm>
          <a:custGeom>
            <a:avLst/>
            <a:gdLst/>
            <a:ahLst/>
            <a:rect l="l" t="t" r="r" b="b"/>
            <a:pathLst>
              <a:path w="263" h="325">
                <a:moveTo>
                  <a:pt x="262" y="0"/>
                </a:moveTo>
                <a:lnTo>
                  <a:pt x="262" y="91"/>
                </a:lnTo>
                <a:lnTo>
                  <a:pt x="0" y="324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60600" y="4284720"/>
            <a:ext cx="917280" cy="1004400"/>
            <a:chOff x="2460600" y="4284720"/>
            <a:chExt cx="917280" cy="1004400"/>
          </a:xfrm>
        </p:grpSpPr>
        <p:sp>
          <p:nvSpPr>
            <p:cNvPr id="176" name=""/>
            <p:cNvSpPr/>
            <p:nvPr/>
          </p:nvSpPr>
          <p:spPr>
            <a:xfrm>
              <a:off x="2460600" y="4287960"/>
              <a:ext cx="917280" cy="84240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66000" y="4284720"/>
              <a:ext cx="45216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5"/>
                  </a:lnTo>
                  <a:lnTo>
                    <a:pt x="262" y="0"/>
                  </a:lnTo>
                  <a:lnTo>
                    <a:pt x="262" y="91"/>
                  </a:lnTo>
                  <a:lnTo>
                    <a:pt x="0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20320" y="4284720"/>
              <a:ext cx="45216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262" y="327"/>
                  </a:moveTo>
                  <a:lnTo>
                    <a:pt x="262" y="236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7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000" y="4713120"/>
              <a:ext cx="45216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0320" y="4718160"/>
              <a:ext cx="452160" cy="57096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60600" y="5126040"/>
            <a:ext cx="907560" cy="1002960"/>
            <a:chOff x="2460600" y="5126040"/>
            <a:chExt cx="907560" cy="1002960"/>
          </a:xfrm>
        </p:grpSpPr>
        <p:sp>
          <p:nvSpPr>
            <p:cNvPr id="182" name=""/>
            <p:cNvSpPr/>
            <p:nvPr/>
          </p:nvSpPr>
          <p:spPr>
            <a:xfrm>
              <a:off x="2460600" y="5126040"/>
              <a:ext cx="907560" cy="84600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265" y="0"/>
                  </a:moveTo>
                  <a:lnTo>
                    <a:pt x="0" y="241"/>
                  </a:lnTo>
                  <a:lnTo>
                    <a:pt x="265" y="479"/>
                  </a:lnTo>
                  <a:lnTo>
                    <a:pt x="527" y="241"/>
                  </a:lnTo>
                  <a:lnTo>
                    <a:pt x="265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62400" y="51260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324"/>
                  </a:moveTo>
                  <a:lnTo>
                    <a:pt x="0" y="235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4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16000" y="512892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261" y="323"/>
                  </a:moveTo>
                  <a:lnTo>
                    <a:pt x="261" y="233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62400" y="5554080"/>
              <a:ext cx="450000" cy="57132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0"/>
                  </a:moveTo>
                  <a:lnTo>
                    <a:pt x="0" y="89"/>
                  </a:lnTo>
                  <a:lnTo>
                    <a:pt x="261" y="323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6000" y="5556240"/>
              <a:ext cx="450000" cy="57276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916360" y="5551560"/>
            <a:ext cx="915840" cy="84276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4280" y="5545080"/>
            <a:ext cx="447480" cy="57168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323"/>
                </a:moveTo>
                <a:lnTo>
                  <a:pt x="0" y="233"/>
                </a:lnTo>
                <a:lnTo>
                  <a:pt x="260" y="0"/>
                </a:lnTo>
                <a:lnTo>
                  <a:pt x="260" y="89"/>
                </a:lnTo>
                <a:lnTo>
                  <a:pt x="0" y="323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79680" y="5549760"/>
            <a:ext cx="451080" cy="57492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325"/>
                </a:moveTo>
                <a:lnTo>
                  <a:pt x="261" y="234"/>
                </a:lnTo>
                <a:lnTo>
                  <a:pt x="0" y="0"/>
                </a:lnTo>
                <a:lnTo>
                  <a:pt x="0" y="90"/>
                </a:lnTo>
                <a:lnTo>
                  <a:pt x="261" y="325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24280" y="5972040"/>
            <a:ext cx="447480" cy="574920"/>
          </a:xfrm>
          <a:custGeom>
            <a:avLst/>
            <a:gdLst/>
            <a:ahLst/>
            <a:rect l="l" t="t" r="r" b="b"/>
            <a:pathLst>
              <a:path w="261" h="326">
                <a:moveTo>
                  <a:pt x="0" y="0"/>
                </a:moveTo>
                <a:lnTo>
                  <a:pt x="0" y="91"/>
                </a:lnTo>
                <a:lnTo>
                  <a:pt x="260" y="325"/>
                </a:lnTo>
                <a:lnTo>
                  <a:pt x="260" y="235"/>
                </a:lnTo>
                <a:lnTo>
                  <a:pt x="0" y="0"/>
                </a:lnTo>
              </a:path>
            </a:pathLst>
          </a:custGeom>
          <a:solidFill>
            <a:srgbClr val="ccfff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79680" y="5975280"/>
            <a:ext cx="451080" cy="57636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261" y="0"/>
                </a:moveTo>
                <a:lnTo>
                  <a:pt x="261" y="91"/>
                </a:lnTo>
                <a:lnTo>
                  <a:pt x="0" y="325"/>
                </a:lnTo>
                <a:lnTo>
                  <a:pt x="0" y="235"/>
                </a:lnTo>
                <a:lnTo>
                  <a:pt x="261" y="0"/>
                </a:lnTo>
              </a:path>
            </a:pathLst>
          </a:custGeom>
          <a:solidFill>
            <a:srgbClr val="00279f"/>
          </a:solidFill>
          <a:ln cap="rnd"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351240" y="5948280"/>
            <a:ext cx="915480" cy="1004760"/>
            <a:chOff x="3351240" y="5948280"/>
            <a:chExt cx="915480" cy="1004760"/>
          </a:xfrm>
        </p:grpSpPr>
        <p:sp>
          <p:nvSpPr>
            <p:cNvPr id="193" name=""/>
            <p:cNvSpPr/>
            <p:nvPr/>
          </p:nvSpPr>
          <p:spPr>
            <a:xfrm>
              <a:off x="3351240" y="5951160"/>
              <a:ext cx="915480" cy="83916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56280" y="5948280"/>
              <a:ext cx="452520" cy="57816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2040" y="5953320"/>
              <a:ext cx="451080" cy="57456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6280" y="6374880"/>
              <a:ext cx="452520" cy="57312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2040" y="6374880"/>
              <a:ext cx="451080" cy="57816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165640" y="2610000"/>
            <a:ext cx="912600" cy="1004040"/>
            <a:chOff x="5165640" y="2610000"/>
            <a:chExt cx="912600" cy="1004040"/>
          </a:xfrm>
        </p:grpSpPr>
        <p:sp>
          <p:nvSpPr>
            <p:cNvPr id="199" name=""/>
            <p:cNvSpPr/>
            <p:nvPr/>
          </p:nvSpPr>
          <p:spPr>
            <a:xfrm>
              <a:off x="5165640" y="2613600"/>
              <a:ext cx="912600" cy="83988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68880" y="2610000"/>
              <a:ext cx="454680" cy="57168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21760" y="2613600"/>
              <a:ext cx="455040" cy="5752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263" y="325"/>
                  </a:moveTo>
                  <a:lnTo>
                    <a:pt x="263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3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8880" y="3038760"/>
              <a:ext cx="454680" cy="575280"/>
            </a:xfrm>
            <a:custGeom>
              <a:avLst/>
              <a:gdLst/>
              <a:ahLst/>
              <a:rect l="l" t="t" r="r" b="b"/>
              <a:pathLst>
                <a:path w="264" h="326">
                  <a:moveTo>
                    <a:pt x="0" y="0"/>
                  </a:moveTo>
                  <a:lnTo>
                    <a:pt x="0" y="90"/>
                  </a:lnTo>
                  <a:lnTo>
                    <a:pt x="263" y="325"/>
                  </a:lnTo>
                  <a:lnTo>
                    <a:pt x="263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262400" y="2610000"/>
            <a:ext cx="910800" cy="1004400"/>
            <a:chOff x="4262400" y="2610000"/>
            <a:chExt cx="910800" cy="1004400"/>
          </a:xfrm>
        </p:grpSpPr>
        <p:sp>
          <p:nvSpPr>
            <p:cNvPr id="204" name=""/>
            <p:cNvSpPr/>
            <p:nvPr/>
          </p:nvSpPr>
          <p:spPr>
            <a:xfrm>
              <a:off x="4262400" y="2613600"/>
              <a:ext cx="910800" cy="83988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2400" y="2610000"/>
              <a:ext cx="452160" cy="5716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2760" y="2613600"/>
              <a:ext cx="458640" cy="575280"/>
            </a:xfrm>
            <a:custGeom>
              <a:avLst/>
              <a:gdLst/>
              <a:ahLst/>
              <a:rect l="l" t="t" r="r" b="b"/>
              <a:pathLst>
                <a:path w="267" h="326">
                  <a:moveTo>
                    <a:pt x="266" y="325"/>
                  </a:moveTo>
                  <a:lnTo>
                    <a:pt x="266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6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12760" y="3040560"/>
              <a:ext cx="458640" cy="573840"/>
            </a:xfrm>
            <a:custGeom>
              <a:avLst/>
              <a:gdLst/>
              <a:ahLst/>
              <a:rect l="l" t="t" r="r" b="b"/>
              <a:pathLst>
                <a:path w="267" h="325">
                  <a:moveTo>
                    <a:pt x="266" y="0"/>
                  </a:moveTo>
                  <a:lnTo>
                    <a:pt x="266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6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55920" y="5956200"/>
            <a:ext cx="915840" cy="1006200"/>
            <a:chOff x="4255920" y="5956200"/>
            <a:chExt cx="915840" cy="1006200"/>
          </a:xfrm>
        </p:grpSpPr>
        <p:sp>
          <p:nvSpPr>
            <p:cNvPr id="209" name=""/>
            <p:cNvSpPr/>
            <p:nvPr/>
          </p:nvSpPr>
          <p:spPr>
            <a:xfrm>
              <a:off x="4255920" y="5961240"/>
              <a:ext cx="915840" cy="84060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0960" y="5956200"/>
              <a:ext cx="451440" cy="5716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2400" y="5956200"/>
              <a:ext cx="456120" cy="577440"/>
            </a:xfrm>
            <a:custGeom>
              <a:avLst/>
              <a:gdLst/>
              <a:ahLst/>
              <a:rect l="l" t="t" r="r" b="b"/>
              <a:pathLst>
                <a:path w="265" h="327">
                  <a:moveTo>
                    <a:pt x="264" y="326"/>
                  </a:moveTo>
                  <a:lnTo>
                    <a:pt x="264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4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60960" y="6383520"/>
              <a:ext cx="451440" cy="5738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2400" y="6387120"/>
              <a:ext cx="456120" cy="5752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264" y="0"/>
                  </a:moveTo>
                  <a:lnTo>
                    <a:pt x="264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4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75360" y="5956200"/>
            <a:ext cx="910800" cy="1006200"/>
            <a:chOff x="5175360" y="5956200"/>
            <a:chExt cx="910800" cy="1006200"/>
          </a:xfrm>
        </p:grpSpPr>
        <p:sp>
          <p:nvSpPr>
            <p:cNvPr id="215" name=""/>
            <p:cNvSpPr/>
            <p:nvPr/>
          </p:nvSpPr>
          <p:spPr>
            <a:xfrm>
              <a:off x="5175360" y="5961240"/>
              <a:ext cx="910800" cy="840600"/>
            </a:xfrm>
            <a:custGeom>
              <a:avLst/>
              <a:gdLst/>
              <a:ahLst/>
              <a:rect l="l" t="t" r="r" b="b"/>
              <a:pathLst>
                <a:path w="530" h="476">
                  <a:moveTo>
                    <a:pt x="265" y="0"/>
                  </a:moveTo>
                  <a:lnTo>
                    <a:pt x="0" y="239"/>
                  </a:lnTo>
                  <a:lnTo>
                    <a:pt x="265" y="475"/>
                  </a:lnTo>
                  <a:lnTo>
                    <a:pt x="529" y="239"/>
                  </a:lnTo>
                  <a:lnTo>
                    <a:pt x="265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0400" y="5956200"/>
              <a:ext cx="450000" cy="571680"/>
            </a:xfrm>
            <a:custGeom>
              <a:avLst/>
              <a:gdLst/>
              <a:ahLst/>
              <a:rect l="l" t="t" r="r" b="b"/>
              <a:pathLst>
                <a:path w="262" h="324">
                  <a:moveTo>
                    <a:pt x="0" y="323"/>
                  </a:moveTo>
                  <a:lnTo>
                    <a:pt x="0" y="233"/>
                  </a:lnTo>
                  <a:lnTo>
                    <a:pt x="261" y="0"/>
                  </a:lnTo>
                  <a:lnTo>
                    <a:pt x="261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34000" y="5956200"/>
              <a:ext cx="452160" cy="57744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326"/>
                  </a:moveTo>
                  <a:lnTo>
                    <a:pt x="262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2" y="326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80400" y="6383520"/>
              <a:ext cx="450000" cy="5738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91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34000" y="6387120"/>
              <a:ext cx="452160" cy="5752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621400" y="3041640"/>
            <a:ext cx="453960" cy="573120"/>
          </a:xfrm>
          <a:custGeom>
            <a:avLst/>
            <a:gdLst/>
            <a:ahLst/>
            <a:rect l="l" t="t" r="r" b="b"/>
            <a:pathLst>
              <a:path w="264" h="325">
                <a:moveTo>
                  <a:pt x="263" y="0"/>
                </a:moveTo>
                <a:lnTo>
                  <a:pt x="263" y="89"/>
                </a:lnTo>
                <a:lnTo>
                  <a:pt x="0" y="324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2400" y="3038400"/>
            <a:ext cx="450720" cy="5763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0"/>
                </a:lnTo>
                <a:lnTo>
                  <a:pt x="262" y="325"/>
                </a:lnTo>
                <a:lnTo>
                  <a:pt x="262" y="234"/>
                </a:lnTo>
                <a:lnTo>
                  <a:pt x="0" y="0"/>
                </a:lnTo>
              </a:path>
            </a:pathLst>
          </a:custGeom>
          <a:solidFill>
            <a:srgbClr val="33a8ff"/>
          </a:solidFill>
          <a:ln cap="rnd"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0600" y="3451320"/>
            <a:ext cx="3598920" cy="2520720"/>
          </a:xfrm>
          <a:custGeom>
            <a:avLst/>
            <a:gdLst/>
            <a:ahLst/>
            <a:rect l="l" t="t" r="r" b="b"/>
            <a:pathLst>
              <a:path w="2093" h="1429">
                <a:moveTo>
                  <a:pt x="800" y="0"/>
                </a:moveTo>
                <a:lnTo>
                  <a:pt x="1818" y="0"/>
                </a:lnTo>
                <a:lnTo>
                  <a:pt x="2092" y="624"/>
                </a:lnTo>
                <a:lnTo>
                  <a:pt x="1593" y="1424"/>
                </a:lnTo>
                <a:lnTo>
                  <a:pt x="530" y="1428"/>
                </a:lnTo>
                <a:lnTo>
                  <a:pt x="0" y="621"/>
                </a:lnTo>
                <a:lnTo>
                  <a:pt x="286" y="0"/>
                </a:lnTo>
                <a:lnTo>
                  <a:pt x="800" y="0"/>
                </a:lnTo>
              </a:path>
            </a:pathLst>
          </a:custGeom>
          <a:solidFill>
            <a:srgbClr val="0066f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4920" y="2867040"/>
            <a:ext cx="914400" cy="8460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21040" y="5540400"/>
            <a:ext cx="915840" cy="1004040"/>
            <a:chOff x="3821040" y="5540400"/>
            <a:chExt cx="915840" cy="1004040"/>
          </a:xfrm>
        </p:grpSpPr>
        <p:sp>
          <p:nvSpPr>
            <p:cNvPr id="225" name=""/>
            <p:cNvSpPr/>
            <p:nvPr/>
          </p:nvSpPr>
          <p:spPr>
            <a:xfrm>
              <a:off x="3821040" y="5543640"/>
              <a:ext cx="915840" cy="83916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26440" y="5540400"/>
              <a:ext cx="452520" cy="577800"/>
            </a:xfrm>
            <a:custGeom>
              <a:avLst/>
              <a:gdLst/>
              <a:ahLst/>
              <a:rect l="l" t="t" r="r" b="b"/>
              <a:pathLst>
                <a:path w="263" h="328">
                  <a:moveTo>
                    <a:pt x="0" y="327"/>
                  </a:moveTo>
                  <a:lnTo>
                    <a:pt x="0" y="234"/>
                  </a:lnTo>
                  <a:lnTo>
                    <a:pt x="262" y="0"/>
                  </a:lnTo>
                  <a:lnTo>
                    <a:pt x="262" y="90"/>
                  </a:lnTo>
                  <a:lnTo>
                    <a:pt x="0" y="327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82560" y="5545440"/>
              <a:ext cx="451440" cy="5749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1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26440" y="5966640"/>
              <a:ext cx="452520" cy="57276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0" y="0"/>
                  </a:moveTo>
                  <a:lnTo>
                    <a:pt x="0" y="89"/>
                  </a:lnTo>
                  <a:lnTo>
                    <a:pt x="262" y="324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82560" y="5966640"/>
              <a:ext cx="451440" cy="577800"/>
            </a:xfrm>
            <a:custGeom>
              <a:avLst/>
              <a:gdLst/>
              <a:ahLst/>
              <a:rect l="l" t="t" r="r" b="b"/>
              <a:pathLst>
                <a:path w="262" h="328">
                  <a:moveTo>
                    <a:pt x="261" y="0"/>
                  </a:moveTo>
                  <a:lnTo>
                    <a:pt x="261" y="91"/>
                  </a:lnTo>
                  <a:lnTo>
                    <a:pt x="0" y="327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357720" y="4964040"/>
            <a:ext cx="914400" cy="83664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75000" y="3286080"/>
            <a:ext cx="451080" cy="57312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91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21040" y="3705120"/>
            <a:ext cx="453960" cy="571680"/>
          </a:xfrm>
          <a:custGeom>
            <a:avLst/>
            <a:gdLst/>
            <a:ahLst/>
            <a:rect l="l" t="t" r="r" b="b"/>
            <a:pathLst>
              <a:path w="264" h="324">
                <a:moveTo>
                  <a:pt x="263" y="0"/>
                </a:moveTo>
                <a:lnTo>
                  <a:pt x="263" y="89"/>
                </a:lnTo>
                <a:lnTo>
                  <a:pt x="0" y="323"/>
                </a:lnTo>
                <a:lnTo>
                  <a:pt x="0" y="233"/>
                </a:lnTo>
                <a:lnTo>
                  <a:pt x="263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5640" y="4125960"/>
            <a:ext cx="45216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11320" y="4125960"/>
            <a:ext cx="455760" cy="57456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89"/>
                </a:lnTo>
                <a:lnTo>
                  <a:pt x="264" y="325"/>
                </a:lnTo>
                <a:lnTo>
                  <a:pt x="264" y="234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11320" y="4964040"/>
            <a:ext cx="455760" cy="574920"/>
          </a:xfrm>
          <a:custGeom>
            <a:avLst/>
            <a:gdLst/>
            <a:ahLst/>
            <a:rect l="l" t="t" r="r" b="b"/>
            <a:pathLst>
              <a:path w="265" h="326">
                <a:moveTo>
                  <a:pt x="0" y="0"/>
                </a:moveTo>
                <a:lnTo>
                  <a:pt x="0" y="91"/>
                </a:lnTo>
                <a:lnTo>
                  <a:pt x="264" y="325"/>
                </a:lnTo>
                <a:lnTo>
                  <a:pt x="264" y="235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5640" y="5378400"/>
            <a:ext cx="449280" cy="576360"/>
          </a:xfrm>
          <a:custGeom>
            <a:avLst/>
            <a:gdLst/>
            <a:ahLst/>
            <a:rect l="l" t="t" r="r" b="b"/>
            <a:pathLst>
              <a:path w="261" h="327">
                <a:moveTo>
                  <a:pt x="0" y="0"/>
                </a:moveTo>
                <a:lnTo>
                  <a:pt x="0" y="90"/>
                </a:lnTo>
                <a:lnTo>
                  <a:pt x="260" y="326"/>
                </a:lnTo>
                <a:lnTo>
                  <a:pt x="260" y="236"/>
                </a:lnTo>
                <a:lnTo>
                  <a:pt x="0" y="0"/>
                </a:lnTo>
              </a:path>
            </a:pathLst>
          </a:custGeom>
          <a:solidFill>
            <a:srgbClr val="0054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5640" y="5791320"/>
            <a:ext cx="912960" cy="839520"/>
          </a:xfrm>
          <a:custGeom>
            <a:avLst/>
            <a:gdLst/>
            <a:ahLst/>
            <a:rect l="l" t="t" r="r" b="b"/>
            <a:pathLst>
              <a:path w="531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0" y="239"/>
                </a:lnTo>
                <a:lnTo>
                  <a:pt x="267" y="0"/>
                </a:lnTo>
              </a:path>
            </a:pathLst>
          </a:custGeom>
          <a:solidFill>
            <a:srgbClr val="b3b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2400" y="6213600"/>
            <a:ext cx="449280" cy="57456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0" y="0"/>
                </a:moveTo>
                <a:lnTo>
                  <a:pt x="0" y="89"/>
                </a:lnTo>
                <a:lnTo>
                  <a:pt x="261" y="324"/>
                </a:lnTo>
                <a:lnTo>
                  <a:pt x="261" y="233"/>
                </a:lnTo>
                <a:lnTo>
                  <a:pt x="0" y="0"/>
                </a:lnTo>
              </a:path>
            </a:pathLst>
          </a:custGeom>
          <a:solidFill>
            <a:srgbClr val="ad69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16360" y="6219720"/>
            <a:ext cx="451080" cy="5749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11320" y="4530600"/>
            <a:ext cx="905040" cy="844560"/>
          </a:xfrm>
          <a:custGeom>
            <a:avLst/>
            <a:gdLst/>
            <a:ahLst/>
            <a:rect l="l" t="t" r="r" b="b"/>
            <a:pathLst>
              <a:path w="526" h="478">
                <a:moveTo>
                  <a:pt x="264" y="0"/>
                </a:moveTo>
                <a:lnTo>
                  <a:pt x="0" y="241"/>
                </a:lnTo>
                <a:lnTo>
                  <a:pt x="264" y="477"/>
                </a:lnTo>
                <a:lnTo>
                  <a:pt x="525" y="241"/>
                </a:lnTo>
                <a:lnTo>
                  <a:pt x="264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73920" y="3286080"/>
            <a:ext cx="917280" cy="83808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0040" y="4964040"/>
            <a:ext cx="914400" cy="836640"/>
          </a:xfrm>
          <a:custGeom>
            <a:avLst/>
            <a:gdLst/>
            <a:ahLst/>
            <a:rect l="l" t="t" r="r" b="b"/>
            <a:pathLst>
              <a:path w="532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1" y="238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29320" y="5378400"/>
            <a:ext cx="914400" cy="839880"/>
          </a:xfrm>
          <a:custGeom>
            <a:avLst/>
            <a:gdLst/>
            <a:ahLst/>
            <a:rect l="l" t="t" r="r" b="b"/>
            <a:pathLst>
              <a:path w="532" h="476">
                <a:moveTo>
                  <a:pt x="267" y="0"/>
                </a:moveTo>
                <a:lnTo>
                  <a:pt x="0" y="239"/>
                </a:lnTo>
                <a:lnTo>
                  <a:pt x="267" y="475"/>
                </a:lnTo>
                <a:lnTo>
                  <a:pt x="531" y="239"/>
                </a:lnTo>
                <a:lnTo>
                  <a:pt x="267" y="0"/>
                </a:lnTo>
              </a:path>
            </a:pathLst>
          </a:custGeom>
          <a:solidFill>
            <a:srgbClr val="7b00e4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73920" y="3705120"/>
            <a:ext cx="449280" cy="571680"/>
          </a:xfrm>
          <a:custGeom>
            <a:avLst/>
            <a:gdLst/>
            <a:ahLst/>
            <a:rect l="l" t="t" r="r" b="b"/>
            <a:pathLst>
              <a:path w="261" h="324">
                <a:moveTo>
                  <a:pt x="0" y="0"/>
                </a:moveTo>
                <a:lnTo>
                  <a:pt x="0" y="89"/>
                </a:lnTo>
                <a:lnTo>
                  <a:pt x="260" y="323"/>
                </a:lnTo>
                <a:lnTo>
                  <a:pt x="260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26080" y="4125960"/>
            <a:ext cx="451080" cy="57456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80400" y="4125960"/>
            <a:ext cx="45216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89"/>
                </a:lnTo>
                <a:lnTo>
                  <a:pt x="0" y="325"/>
                </a:lnTo>
                <a:lnTo>
                  <a:pt x="0" y="234"/>
                </a:lnTo>
                <a:lnTo>
                  <a:pt x="262" y="0"/>
                </a:lnTo>
              </a:path>
            </a:pathLst>
          </a:custGeom>
          <a:solidFill>
            <a:srgbClr val="f4546f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80400" y="4964040"/>
            <a:ext cx="452160" cy="57492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29320" y="5378400"/>
            <a:ext cx="452520" cy="576360"/>
          </a:xfrm>
          <a:custGeom>
            <a:avLst/>
            <a:gdLst/>
            <a:ahLst/>
            <a:rect l="l" t="t" r="r" b="b"/>
            <a:pathLst>
              <a:path w="263" h="327">
                <a:moveTo>
                  <a:pt x="262" y="0"/>
                </a:moveTo>
                <a:lnTo>
                  <a:pt x="262" y="90"/>
                </a:lnTo>
                <a:lnTo>
                  <a:pt x="0" y="326"/>
                </a:lnTo>
                <a:lnTo>
                  <a:pt x="0" y="236"/>
                </a:lnTo>
                <a:lnTo>
                  <a:pt x="262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5796000"/>
            <a:ext cx="451080" cy="573120"/>
          </a:xfrm>
          <a:custGeom>
            <a:avLst/>
            <a:gdLst/>
            <a:ahLst/>
            <a:rect l="l" t="t" r="r" b="b"/>
            <a:pathLst>
              <a:path w="262" h="325">
                <a:moveTo>
                  <a:pt x="261" y="0"/>
                </a:moveTo>
                <a:lnTo>
                  <a:pt x="261" y="89"/>
                </a:lnTo>
                <a:lnTo>
                  <a:pt x="0" y="324"/>
                </a:lnTo>
                <a:lnTo>
                  <a:pt x="0" y="233"/>
                </a:lnTo>
                <a:lnTo>
                  <a:pt x="261" y="0"/>
                </a:lnTo>
              </a:path>
            </a:pathLst>
          </a:custGeom>
          <a:solidFill>
            <a:srgbClr val="b760f9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29320" y="5796000"/>
            <a:ext cx="452520" cy="5745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0" y="0"/>
                </a:moveTo>
                <a:lnTo>
                  <a:pt x="0" y="91"/>
                </a:lnTo>
                <a:lnTo>
                  <a:pt x="262" y="325"/>
                </a:lnTo>
                <a:lnTo>
                  <a:pt x="262" y="235"/>
                </a:lnTo>
                <a:lnTo>
                  <a:pt x="0" y="0"/>
                </a:lnTo>
              </a:path>
            </a:pathLst>
          </a:custGeom>
          <a:solidFill>
            <a:srgbClr val="6a00c2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26080" y="4543560"/>
            <a:ext cx="916200" cy="84132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21400" y="3286080"/>
            <a:ext cx="447480" cy="573120"/>
          </a:xfrm>
          <a:custGeom>
            <a:avLst/>
            <a:gdLst/>
            <a:ahLst/>
            <a:rect l="l" t="t" r="r" b="b"/>
            <a:pathLst>
              <a:path w="260" h="325">
                <a:moveTo>
                  <a:pt x="0" y="0"/>
                </a:moveTo>
                <a:lnTo>
                  <a:pt x="0" y="91"/>
                </a:lnTo>
                <a:lnTo>
                  <a:pt x="259" y="324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1400" y="2863800"/>
            <a:ext cx="915840" cy="8478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6440" y="2971800"/>
            <a:ext cx="7257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inanz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78280" y="3017880"/>
            <a:ext cx="77616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74280" y="5823000"/>
            <a:ext cx="919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Person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97440" y="3902040"/>
            <a:ext cx="23749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4400" spc="-1" strike="noStrike">
                <a:solidFill>
                  <a:srgbClr val="000066"/>
                </a:solidFill>
                <a:latin typeface="Arial"/>
              </a:rPr>
              <a:t>SAP R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3100" spc="-1" strike="noStrike">
                <a:solidFill>
                  <a:srgbClr val="000066"/>
                </a:solidFill>
                <a:latin typeface="Arial"/>
              </a:rPr>
              <a:t>Workbench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20320" y="5386320"/>
            <a:ext cx="953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Branch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lös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0480" y="5032440"/>
            <a:ext cx="884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292929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292929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08080" y="4118040"/>
            <a:ext cx="447840" cy="571320"/>
          </a:xfrm>
          <a:custGeom>
            <a:avLst/>
            <a:gdLst/>
            <a:ahLst/>
            <a:rect l="l" t="t" r="r" b="b"/>
            <a:pathLst>
              <a:path w="260" h="324">
                <a:moveTo>
                  <a:pt x="0" y="0"/>
                </a:moveTo>
                <a:lnTo>
                  <a:pt x="0" y="88"/>
                </a:lnTo>
                <a:lnTo>
                  <a:pt x="259" y="323"/>
                </a:lnTo>
                <a:lnTo>
                  <a:pt x="259" y="233"/>
                </a:lnTo>
                <a:lnTo>
                  <a:pt x="0" y="0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19600" y="4584600"/>
            <a:ext cx="9028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Qualitä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460600" y="4124160"/>
            <a:ext cx="917280" cy="996840"/>
            <a:chOff x="2460600" y="4124160"/>
            <a:chExt cx="917280" cy="996840"/>
          </a:xfrm>
        </p:grpSpPr>
        <p:sp>
          <p:nvSpPr>
            <p:cNvPr id="263" name=""/>
            <p:cNvSpPr/>
            <p:nvPr/>
          </p:nvSpPr>
          <p:spPr>
            <a:xfrm>
              <a:off x="2460600" y="4124160"/>
              <a:ext cx="917280" cy="84384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66000" y="4549680"/>
              <a:ext cx="452160" cy="57132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a985b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006640" y="4546440"/>
            <a:ext cx="911160" cy="82080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65" y="0"/>
                </a:moveTo>
                <a:lnTo>
                  <a:pt x="0" y="232"/>
                </a:lnTo>
                <a:lnTo>
                  <a:pt x="265" y="464"/>
                </a:lnTo>
                <a:lnTo>
                  <a:pt x="529" y="232"/>
                </a:lnTo>
                <a:lnTo>
                  <a:pt x="265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4962600"/>
            <a:ext cx="448920" cy="555480"/>
          </a:xfrm>
          <a:custGeom>
            <a:avLst/>
            <a:gdLst/>
            <a:ahLst/>
            <a:rect l="l" t="t" r="r" b="b"/>
            <a:pathLst>
              <a:path w="262" h="315">
                <a:moveTo>
                  <a:pt x="0" y="0"/>
                </a:moveTo>
                <a:lnTo>
                  <a:pt x="0" y="87"/>
                </a:lnTo>
                <a:lnTo>
                  <a:pt x="261" y="314"/>
                </a:lnTo>
                <a:lnTo>
                  <a:pt x="261" y="227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68880" y="4172040"/>
            <a:ext cx="867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harg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554120" y="5133960"/>
            <a:ext cx="917280" cy="1002960"/>
            <a:chOff x="1554120" y="5133960"/>
            <a:chExt cx="917280" cy="1002960"/>
          </a:xfrm>
        </p:grpSpPr>
        <p:sp>
          <p:nvSpPr>
            <p:cNvPr id="269" name=""/>
            <p:cNvSpPr/>
            <p:nvPr/>
          </p:nvSpPr>
          <p:spPr>
            <a:xfrm>
              <a:off x="1554120" y="5135400"/>
              <a:ext cx="917280" cy="8391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59520" y="5133960"/>
              <a:ext cx="45216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13840" y="5135400"/>
              <a:ext cx="45252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59520" y="5559120"/>
              <a:ext cx="45216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3840" y="5561280"/>
              <a:ext cx="45252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008080" y="5546880"/>
            <a:ext cx="917280" cy="1002960"/>
            <a:chOff x="2008080" y="5546880"/>
            <a:chExt cx="917280" cy="1002960"/>
          </a:xfrm>
        </p:grpSpPr>
        <p:sp>
          <p:nvSpPr>
            <p:cNvPr id="275" name=""/>
            <p:cNvSpPr/>
            <p:nvPr/>
          </p:nvSpPr>
          <p:spPr>
            <a:xfrm>
              <a:off x="2008080" y="5548320"/>
              <a:ext cx="917280" cy="83916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13120" y="5546880"/>
              <a:ext cx="452880" cy="5720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323"/>
                  </a:moveTo>
                  <a:lnTo>
                    <a:pt x="0" y="233"/>
                  </a:lnTo>
                  <a:lnTo>
                    <a:pt x="262" y="0"/>
                  </a:lnTo>
                  <a:lnTo>
                    <a:pt x="262" y="89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67440" y="554832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325"/>
                  </a:moveTo>
                  <a:lnTo>
                    <a:pt x="262" y="235"/>
                  </a:lnTo>
                  <a:lnTo>
                    <a:pt x="0" y="0"/>
                  </a:lnTo>
                  <a:lnTo>
                    <a:pt x="0" y="91"/>
                  </a:lnTo>
                  <a:lnTo>
                    <a:pt x="262" y="325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13120" y="5972040"/>
              <a:ext cx="452880" cy="57600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89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7440" y="5974200"/>
              <a:ext cx="452880" cy="57564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094200" y="3354480"/>
            <a:ext cx="2880" cy="46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1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62400" y="3286080"/>
            <a:ext cx="912600" cy="838080"/>
          </a:xfrm>
          <a:custGeom>
            <a:avLst/>
            <a:gdLst/>
            <a:ahLst/>
            <a:rect l="l" t="t" r="r" b="b"/>
            <a:pathLst>
              <a:path w="531" h="475">
                <a:moveTo>
                  <a:pt x="266" y="0"/>
                </a:moveTo>
                <a:lnTo>
                  <a:pt x="0" y="238"/>
                </a:lnTo>
                <a:lnTo>
                  <a:pt x="266" y="474"/>
                </a:lnTo>
                <a:lnTo>
                  <a:pt x="530" y="238"/>
                </a:lnTo>
                <a:lnTo>
                  <a:pt x="266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2851200"/>
            <a:ext cx="915840" cy="8460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60600" y="2438280"/>
            <a:ext cx="914400" cy="84636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06640" y="3701880"/>
            <a:ext cx="914400" cy="84312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7" y="0"/>
                </a:moveTo>
                <a:lnTo>
                  <a:pt x="0" y="240"/>
                </a:lnTo>
                <a:lnTo>
                  <a:pt x="267" y="477"/>
                </a:lnTo>
                <a:lnTo>
                  <a:pt x="531" y="240"/>
                </a:lnTo>
                <a:lnTo>
                  <a:pt x="267" y="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12720" y="3330720"/>
            <a:ext cx="109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Materialwir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55920" y="4950000"/>
            <a:ext cx="915840" cy="842760"/>
          </a:xfrm>
          <a:custGeom>
            <a:avLst/>
            <a:gdLst/>
            <a:ahLst/>
            <a:rect l="l" t="t" r="r" b="b"/>
            <a:pathLst>
              <a:path w="533" h="478">
                <a:moveTo>
                  <a:pt x="267" y="0"/>
                </a:moveTo>
                <a:lnTo>
                  <a:pt x="0" y="239"/>
                </a:lnTo>
                <a:lnTo>
                  <a:pt x="267" y="477"/>
                </a:lnTo>
                <a:lnTo>
                  <a:pt x="532" y="239"/>
                </a:lnTo>
                <a:lnTo>
                  <a:pt x="267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60600" y="5375160"/>
            <a:ext cx="452520" cy="5716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0" y="0"/>
                </a:moveTo>
                <a:lnTo>
                  <a:pt x="0" y="89"/>
                </a:lnTo>
                <a:lnTo>
                  <a:pt x="262" y="323"/>
                </a:lnTo>
                <a:lnTo>
                  <a:pt x="262" y="233"/>
                </a:lnTo>
                <a:lnTo>
                  <a:pt x="0" y="0"/>
                </a:lnTo>
              </a:path>
            </a:pathLst>
          </a:custGeom>
          <a:solidFill>
            <a:srgbClr val="0066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14560" y="5380200"/>
            <a:ext cx="452520" cy="57132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95440" y="5022720"/>
            <a:ext cx="1027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LIMS-Funk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tionalitä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17800" y="5388120"/>
            <a:ext cx="452520" cy="57600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2160" y="5022720"/>
            <a:ext cx="79164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Instand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h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77160" y="4124160"/>
            <a:ext cx="909720" cy="843120"/>
          </a:xfrm>
          <a:custGeom>
            <a:avLst/>
            <a:gdLst/>
            <a:ahLst/>
            <a:rect l="l" t="t" r="r" b="b"/>
            <a:pathLst>
              <a:path w="529" h="478">
                <a:moveTo>
                  <a:pt x="266" y="0"/>
                </a:moveTo>
                <a:lnTo>
                  <a:pt x="0" y="239"/>
                </a:lnTo>
                <a:lnTo>
                  <a:pt x="266" y="477"/>
                </a:lnTo>
                <a:lnTo>
                  <a:pt x="528" y="239"/>
                </a:lnTo>
                <a:lnTo>
                  <a:pt x="266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29680" y="4549680"/>
            <a:ext cx="452160" cy="5716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21720" y="4165560"/>
            <a:ext cx="105516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Investiton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2462040"/>
            <a:ext cx="911520" cy="820800"/>
          </a:xfrm>
          <a:custGeom>
            <a:avLst/>
            <a:gdLst/>
            <a:ahLst/>
            <a:rect l="l" t="t" r="r" b="b"/>
            <a:pathLst>
              <a:path w="530" h="465">
                <a:moveTo>
                  <a:pt x="271" y="0"/>
                </a:moveTo>
                <a:lnTo>
                  <a:pt x="0" y="227"/>
                </a:lnTo>
                <a:lnTo>
                  <a:pt x="260" y="464"/>
                </a:lnTo>
                <a:lnTo>
                  <a:pt x="529" y="238"/>
                </a:lnTo>
                <a:lnTo>
                  <a:pt x="271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1400" y="2876400"/>
            <a:ext cx="452160" cy="57168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3399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17840" y="2494080"/>
            <a:ext cx="81288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Kund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57360" y="3273480"/>
            <a:ext cx="914400" cy="8478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426440" y="5549760"/>
            <a:ext cx="914040" cy="1002960"/>
            <a:chOff x="7426440" y="5549760"/>
            <a:chExt cx="914040" cy="1002960"/>
          </a:xfrm>
        </p:grpSpPr>
        <p:sp>
          <p:nvSpPr>
            <p:cNvPr id="300" name=""/>
            <p:cNvSpPr/>
            <p:nvPr/>
          </p:nvSpPr>
          <p:spPr>
            <a:xfrm>
              <a:off x="7426440" y="5549760"/>
              <a:ext cx="914040" cy="8463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7" y="0"/>
                  </a:moveTo>
                  <a:lnTo>
                    <a:pt x="0" y="241"/>
                  </a:lnTo>
                  <a:lnTo>
                    <a:pt x="267" y="479"/>
                  </a:lnTo>
                  <a:lnTo>
                    <a:pt x="531" y="241"/>
                  </a:lnTo>
                  <a:lnTo>
                    <a:pt x="267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3280" y="5549760"/>
              <a:ext cx="448560" cy="572760"/>
            </a:xfrm>
            <a:custGeom>
              <a:avLst/>
              <a:gdLst/>
              <a:ahLst/>
              <a:rect l="l" t="t" r="r" b="b"/>
              <a:pathLst>
                <a:path w="261" h="325">
                  <a:moveTo>
                    <a:pt x="260" y="324"/>
                  </a:moveTo>
                  <a:lnTo>
                    <a:pt x="260" y="23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260" y="324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26440" y="5553000"/>
              <a:ext cx="453600" cy="57132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0" y="323"/>
                  </a:moveTo>
                  <a:lnTo>
                    <a:pt x="0" y="233"/>
                  </a:lnTo>
                  <a:lnTo>
                    <a:pt x="263" y="0"/>
                  </a:lnTo>
                  <a:lnTo>
                    <a:pt x="263" y="90"/>
                  </a:lnTo>
                  <a:lnTo>
                    <a:pt x="0" y="323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83280" y="5978160"/>
              <a:ext cx="448560" cy="57096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260" y="0"/>
                  </a:moveTo>
                  <a:lnTo>
                    <a:pt x="260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26440" y="5979960"/>
              <a:ext cx="453600" cy="57276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0" y="0"/>
                  </a:moveTo>
                  <a:lnTo>
                    <a:pt x="0" y="89"/>
                  </a:lnTo>
                  <a:lnTo>
                    <a:pt x="263" y="324"/>
                  </a:lnTo>
                  <a:lnTo>
                    <a:pt x="263" y="23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424640" y="5386320"/>
            <a:ext cx="452520" cy="576360"/>
          </a:xfrm>
          <a:custGeom>
            <a:avLst/>
            <a:gdLst/>
            <a:ahLst/>
            <a:rect l="l" t="t" r="r" b="b"/>
            <a:pathLst>
              <a:path w="263" h="326">
                <a:moveTo>
                  <a:pt x="262" y="0"/>
                </a:moveTo>
                <a:lnTo>
                  <a:pt x="262" y="91"/>
                </a:lnTo>
                <a:lnTo>
                  <a:pt x="0" y="325"/>
                </a:lnTo>
                <a:lnTo>
                  <a:pt x="0" y="235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59520" y="4962600"/>
            <a:ext cx="916200" cy="841320"/>
          </a:xfrm>
          <a:custGeom>
            <a:avLst/>
            <a:gdLst/>
            <a:ahLst/>
            <a:rect l="l" t="t" r="r" b="b"/>
            <a:pathLst>
              <a:path w="532" h="477">
                <a:moveTo>
                  <a:pt x="268" y="0"/>
                </a:moveTo>
                <a:lnTo>
                  <a:pt x="0" y="240"/>
                </a:lnTo>
                <a:lnTo>
                  <a:pt x="268" y="476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4040" y="4694400"/>
            <a:ext cx="767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je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70680" y="5380200"/>
            <a:ext cx="450720" cy="574560"/>
          </a:xfrm>
          <a:custGeom>
            <a:avLst/>
            <a:gdLst/>
            <a:ahLst/>
            <a:rect l="l" t="t" r="r" b="b"/>
            <a:pathLst>
              <a:path w="262" h="326">
                <a:moveTo>
                  <a:pt x="0" y="0"/>
                </a:moveTo>
                <a:lnTo>
                  <a:pt x="0" y="89"/>
                </a:lnTo>
                <a:lnTo>
                  <a:pt x="261" y="325"/>
                </a:lnTo>
                <a:lnTo>
                  <a:pt x="261" y="234"/>
                </a:lnTo>
                <a:lnTo>
                  <a:pt x="0" y="0"/>
                </a:lnTo>
              </a:path>
            </a:pathLst>
          </a:custGeom>
          <a:solidFill>
            <a:srgbClr val="790015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8280" y="5122800"/>
            <a:ext cx="7822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FEA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21400" y="4610160"/>
            <a:ext cx="791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Umwel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schu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02400" y="2522520"/>
            <a:ext cx="10918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Abfal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5080" y="1481040"/>
            <a:ext cx="1865160" cy="3286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Logistik,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4640" y="1989000"/>
            <a:ext cx="1881360" cy="32868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500" spc="-1" strike="noStrike">
                <a:solidFill>
                  <a:srgbClr val="ffff00"/>
                </a:solidFill>
                <a:latin typeface="Arial"/>
              </a:rPr>
              <a:t>Logistik, add-on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03120" y="1481040"/>
            <a:ext cx="1938240" cy="3286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500" spc="-1" strike="noStrike">
                <a:solidFill>
                  <a:srgbClr val="ffff00"/>
                </a:solidFill>
                <a:latin typeface="Arial"/>
              </a:rPr>
              <a:t>Finanzw., Stand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02040" y="1989000"/>
            <a:ext cx="1959480" cy="3286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500" spc="-1" strike="noStrike">
                <a:solidFill>
                  <a:srgbClr val="ffff00"/>
                </a:solidFill>
                <a:latin typeface="Arial"/>
              </a:rPr>
              <a:t>Finanzw., add-ons</a:t>
            </a:r>
            <a:r>
              <a:rPr b="1" lang="de-DE" sz="15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und </a:t>
            </a: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Add-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03400" y="3692520"/>
            <a:ext cx="914400" cy="846000"/>
          </a:xfrm>
          <a:custGeom>
            <a:avLst/>
            <a:gdLst/>
            <a:ahLst/>
            <a:rect l="l" t="t" r="r" b="b"/>
            <a:pathLst>
              <a:path w="532" h="480">
                <a:moveTo>
                  <a:pt x="268" y="0"/>
                </a:moveTo>
                <a:lnTo>
                  <a:pt x="0" y="241"/>
                </a:lnTo>
                <a:lnTo>
                  <a:pt x="268" y="479"/>
                </a:lnTo>
                <a:lnTo>
                  <a:pt x="531" y="241"/>
                </a:lnTo>
                <a:lnTo>
                  <a:pt x="268" y="0"/>
                </a:lnTo>
              </a:path>
            </a:pathLst>
          </a:custGeom>
          <a:solidFill>
            <a:srgbClr val="33cc33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87840" y="3780000"/>
            <a:ext cx="1241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22640" y="3382920"/>
            <a:ext cx="1241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Prod.-Pla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42920" y="3747960"/>
            <a:ext cx="8845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PP-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Prod.-</a:t>
            </a:r>
            <a:br>
              <a:rPr sz="1200"/>
            </a:b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Durchf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41920" y="2870280"/>
            <a:ext cx="916200" cy="838080"/>
          </a:xfrm>
          <a:custGeom>
            <a:avLst/>
            <a:gdLst/>
            <a:ahLst/>
            <a:rect l="l" t="t" r="r" b="b"/>
            <a:pathLst>
              <a:path w="533" h="475">
                <a:moveTo>
                  <a:pt x="267" y="0"/>
                </a:moveTo>
                <a:lnTo>
                  <a:pt x="0" y="238"/>
                </a:lnTo>
                <a:lnTo>
                  <a:pt x="267" y="474"/>
                </a:lnTo>
                <a:lnTo>
                  <a:pt x="532" y="238"/>
                </a:lnTo>
                <a:lnTo>
                  <a:pt x="267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88320" y="3284640"/>
            <a:ext cx="452160" cy="571320"/>
          </a:xfrm>
          <a:custGeom>
            <a:avLst/>
            <a:gdLst/>
            <a:ahLst/>
            <a:rect l="l" t="t" r="r" b="b"/>
            <a:pathLst>
              <a:path w="263" h="324">
                <a:moveTo>
                  <a:pt x="262" y="0"/>
                </a:moveTo>
                <a:lnTo>
                  <a:pt x="262" y="89"/>
                </a:lnTo>
                <a:lnTo>
                  <a:pt x="0" y="323"/>
                </a:lnTo>
                <a:lnTo>
                  <a:pt x="0" y="233"/>
                </a:lnTo>
                <a:lnTo>
                  <a:pt x="262" y="0"/>
                </a:lnTo>
              </a:path>
            </a:pathLst>
          </a:custGeom>
          <a:solidFill>
            <a:srgbClr val="ff505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26080" y="3701880"/>
            <a:ext cx="916200" cy="843120"/>
          </a:xfrm>
          <a:custGeom>
            <a:avLst/>
            <a:gdLst/>
            <a:ahLst/>
            <a:rect l="l" t="t" r="r" b="b"/>
            <a:pathLst>
              <a:path w="532" h="478">
                <a:moveTo>
                  <a:pt x="268" y="0"/>
                </a:moveTo>
                <a:lnTo>
                  <a:pt x="0" y="240"/>
                </a:lnTo>
                <a:lnTo>
                  <a:pt x="268" y="477"/>
                </a:lnTo>
                <a:lnTo>
                  <a:pt x="531" y="240"/>
                </a:lnTo>
                <a:lnTo>
                  <a:pt x="268" y="0"/>
                </a:lnTo>
              </a:path>
            </a:pathLst>
          </a:custGeom>
          <a:solidFill>
            <a:srgbClr val="cc0000"/>
          </a:solidFill>
          <a:ln cap="rnd" w="12600">
            <a:solidFill>
              <a:srgbClr val="a985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23920" y="3713040"/>
            <a:ext cx="9194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nlag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wirtsch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24920" y="2922480"/>
            <a:ext cx="11314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Ist-Hrstllkst.-</a:t>
            </a:r>
            <a:br>
              <a:rPr sz="1200"/>
            </a:br>
            <a:r>
              <a:rPr b="1" lang="de-DE" sz="1200" spc="-1" strike="noStrike">
                <a:solidFill>
                  <a:srgbClr val="ffff00"/>
                </a:solidFill>
                <a:latin typeface="Arial"/>
              </a:rPr>
              <a:t>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4320" y="3414600"/>
            <a:ext cx="10108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Chemie / Pharma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Chemie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harma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s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roduktions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Monat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Entwicklungs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Chemie / Pharma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Pharma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ap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IstHerstellkosten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0-11-29T16:27:53Z</dcterms:modified>
  <cp:revision>118</cp:revision>
  <dc:subject/>
  <dc:title>Kein Folientitel</dc:title>
</cp:coreProperties>
</file>