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89EEC5E1-A65E-44ED-910A-D249AECAE41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8440" y="7101000"/>
            <a:ext cx="4809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8000" y="7101000"/>
            <a:ext cx="7354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nd Geb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4320" y="7101000"/>
            <a:ext cx="1092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rnd Geber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30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201600" indent="-201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nzen der Plankalk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 von Plankalkulation 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nz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2000"/>
          </a:bodyPr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aue Einhaltung der Rezeptur                                    (aus betriebswirtschaftlicher Sicht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inhaltung der geplanten typischen Produktions-menge je Erzeugn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mäßige Verteilung der geplanten Jahresmengen auf die einzelnen Monate (wenn pro Anlage mehrere Erzeugnisse hergestellt werden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ine Abweichungen in der Fahrweise der Anla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193320" indent="-1933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raussetzungen: Modul Produktion, Modul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atsabschlu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3320" indent="0">
              <a:spcBef>
                <a:spcPts val="550"/>
              </a:spcBef>
              <a:buNone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3320" indent="-1933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Erzeugen von Ist-Stücklisten</a:t>
            </a:r>
            <a:br>
              <a:rPr sz="2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Grundlag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erialentnahme und Materialzugang pro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zeugnis im betrachteten Zeitrau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rgebnis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tsächlicher Verbrauch und tatsächlicher Anfal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Material pro Mengeneinheit des Erzeugniss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3320" indent="0">
              <a:spcBef>
                <a:spcPts val="550"/>
              </a:spcBef>
              <a:buNone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3320" indent="-1933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rzeugen von Ist-Rezep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ndlag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orgungsrelevante Komponente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Ist-Stücklist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der zu entsorgenden Mengen zu de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orgungsklassen (Tarif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Berechnung der Ist-Anlagentarife</a:t>
            </a:r>
            <a:br>
              <a:rPr sz="2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Grundlag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Kosten je Anlage (Kostenstelle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Laufzeiten je Anlage und Erzeugnis (*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jeweils im betrachteten Zeitrau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rgebni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Anlagentarif (DM / h) für den 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spcBef>
                <a:spcPts val="550"/>
              </a:spcBef>
              <a:buNone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Durchführung der Ist-Kalkul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ndlage: 1. - 3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Besonderheiten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Beachtung der Dispositionsstuf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iterative Berechnung, bis für jedes Erzeugni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bei zwei aufeinanderfolgenden Kalkulationen ei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vorgegebene Mindestdifferenz unterschritten od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bis vorgegebene maximale Zyklenzahl erreicht wi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zeugnisstruktur, Dispositionsstuf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828800"/>
            <a:ext cx="914400" cy="9907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52388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67652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DISST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887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kalkulation-Istkosten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600200"/>
          <a:ext cx="8478720" cy="27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4787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rnd Gebert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30.11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11-29T10:08:56Z</cp:lastPrinted>
  <dcterms:modified xsi:type="dcterms:W3CDTF">2000-11-29T22:05:06Z</dcterms:modified>
  <cp:revision>86</cp:revision>
  <dc:subject/>
  <dc:title>Kein Folientitel</dc:title>
</cp:coreProperties>
</file>