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845640" y="487080"/>
            <a:ext cx="5195880" cy="39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7640" y="4571640"/>
            <a:ext cx="5046480" cy="4049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03880" y="9142560"/>
            <a:ext cx="1353960" cy="29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190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5742CD0E-9015-4C98-9B83-D916C74BBB6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.10.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" name=""/>
          <p:cNvGraphicFramePr/>
          <p:nvPr/>
        </p:nvGraphicFramePr>
        <p:xfrm>
          <a:off x="7391520" y="7010280"/>
          <a:ext cx="1857240" cy="39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1520" y="7010280"/>
                    <a:ext cx="18572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8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Entwicklunge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d Projek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3.10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B Arzneimittel-Bestellungen über XML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tionsanforderungen für Arzneimittel im Intranet bzw.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Neuartige Sicht auf Materialstämme, Lieferanten und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Einheitliche Idente für Material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füh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StationsAnforder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über Browser - in Entwickl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ontend: Linux / Win, Brows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bserver: Linux / 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end: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abe der Einrichtung (intern/extern), Klinik, Station und Erfas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assung der Arzneimittel (Scanner oder manue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 mit Arzneimittellis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 mit Arzneimittel - Datenbank (AB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ung der Arzt- und Oberarztpfl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lassung von Stationsausnahmen (Arzneimittelliste, Oberarztpflich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age der Anforderungen auf dem Web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schluß an die Sichtungstransaktion von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otheke od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ngleUnitDo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B Arzneimittel-Bestellungen über XM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Stationsanforderungen für Arzneimittel im Intranet bzw.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2R Kundeninfosystem über 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Neuartige Sicht auf Materialstämme, Lieferanten und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Einheitliche Idente für Material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füh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R Kundeninfosystem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lang="de-DE" sz="2200" spc="-1" strike="noStrike">
                <a:solidFill>
                  <a:srgbClr val="ffde69"/>
                </a:solidFill>
                <a:latin typeface="Arial"/>
              </a:rPr>
              <a:t>y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SAP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de-DE" sz="2200" spc="-1" strike="noStrike">
                <a:solidFill>
                  <a:srgbClr val="ffcc00"/>
                </a:solidFill>
                <a:latin typeface="Arial"/>
              </a:rPr>
              <a:t>c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o</a:t>
            </a:r>
            <a:r>
              <a:rPr b="1" lang="de-DE" sz="2200" spc="-1" strike="noStrike">
                <a:solidFill>
                  <a:srgbClr val="66ff33"/>
                </a:solidFill>
                <a:latin typeface="Arial"/>
              </a:rPr>
              <a:t>m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Internetsales / CRM  / Mobile Sa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rkplace - Marketpla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vtl. Ergänz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KundenAuftrag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PC, Laptop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ste Kunden (Business Connecto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triebsbüros, Vertreter (Brows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R Kundeninfosystem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nden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dministrative Daten / Adressen,..., Kundenpro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trä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msätze, Hitlisten,...Kreditlimit,..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katal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itere Konditionen (Mengenrabatt, Boni,..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stands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fügbarkeit, Lieferterm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treter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amen, Adress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msätze, Hitlis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R Kundeninfosystem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ndenaufträ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mel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triebsorganisation, V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tchcodes, Hitlisten, Sets, Up- / Cross-Se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vorlagen, alte Aufträge, Bar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ise, Konditionen, Fracht,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efertermine (evtl. mit APO abgestimm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-/Liefer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rnier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to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R Kundeninfosystem (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chitekt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ontend =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ddleware = Webserv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ackend = SAP R/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mmda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= R/3,  Slave = Web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äglich (Kunden-, Produkt-, Preis-, Vertreter-, Verortungsinform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ofort (Verfügbarkeits-, Kreditinform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tragsda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/3 holt sich die Daten vom Webserver a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n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rewall, Autorisierung, Verschlüsselung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Überblick über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Entwicklung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Projek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2B Arzneimittel-Bestellungen über XM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tionsanforderungen für Arzneimittel im Intranet bzw.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2R Kundeninfosystem über 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euartige Sicht auf Materialstämme, Lieferanten und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heitliche Idente für Material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rfüh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norare / Spes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kundmaske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B Arzneimittel-Bestellungen über XM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Stationsanforderungen für Arzneimittel im Intranet bzw.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Neuartige Sicht auf Materialstämme, Lieferanten und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Einheitliche Idente für Material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füh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ap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KundenAuftra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ML Browser – Webserver –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creen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 – Menge – Term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okal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weichender Auftragge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8120" y="1439640"/>
            <a:ext cx="358128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B Arzneimittel-Bestellungen über XM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Stationsanforderungen für Arzneimittel im Intranet bzw.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euartige Sicht auf Materialstämme, Lieferanten und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Einheitliche Idente für Material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füh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artige Sicht auf Materialstämm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-203760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R/3 Materialstämm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Externe Materialstämm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040" indent="-203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duktkataloge im We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040" indent="-203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zeichnisse (z.B. ABD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Dynamische Materialstämm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040" indent="-203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nerierte Stämme (z.B. als Produkt-Farb-Packmittel-Kombinationen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040" indent="-203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ültigkeit, Stat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Hierarchische Materialstämme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040" indent="-203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ssen – Instanzen – Vererb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040" indent="-203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har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90000"/>
              </a:lnSpc>
              <a:spcBef>
                <a:spcPts val="77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Synchronisa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22040" indent="-203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t. Stämme als Ma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artige Sicht auf Werke, Lieferanten, Kun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/3 Stamm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nzerneigene Firmen, Wer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eferanten, Kun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arenempfän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xterne Stamm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rktplät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zeichnisse (z.B. ABD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okations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dressen (Verortungs-D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ographische Daten (GIS, Mobil / GP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nsportmatriz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B Arzneimittel-Bestellungen über XM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Stationsanforderungen für Arzneimittel im Intranet bzw.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Neuartige Sicht auf Materialstämme, Lieferanten und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heitliche Idente für Material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füh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heitliche Idente für Materiali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zer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utschland (z.B. PZ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uropa (EA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l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sche Zuordnung Lieferanten- / Kundenmaterialnumm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507960"/>
            <a:ext cx="8915400" cy="558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SAP R/3 im We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2920" y="1608120"/>
            <a:ext cx="8502840" cy="5673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3" marL="14605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06840" y="2209680"/>
          <a:ext cx="5399280" cy="516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6840" y="2209680"/>
                    <a:ext cx="5399280" cy="51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96_0306a" descr=""/>
          <p:cNvPicPr/>
          <p:nvPr/>
        </p:nvPicPr>
        <p:blipFill>
          <a:blip r:embed="rId3">
            <a:lum bright="70000" contrast="-70000"/>
          </a:blip>
          <a:srcRect l="0" t="0" r="0" b="14130"/>
          <a:stretch/>
        </p:blipFill>
        <p:spPr>
          <a:xfrm>
            <a:off x="0" y="2209680"/>
            <a:ext cx="4954680" cy="5166000"/>
          </a:xfrm>
          <a:prstGeom prst="rect">
            <a:avLst/>
          </a:prstGeom>
          <a:ln w="0">
            <a:noFill/>
          </a:ln>
        </p:spPr>
      </p:pic>
      <p:pic>
        <p:nvPicPr>
          <p:cNvPr id="67" name="X" descr=""/>
          <p:cNvPicPr/>
          <p:nvPr/>
        </p:nvPicPr>
        <p:blipFill>
          <a:blip r:embed="rId4"/>
          <a:stretch/>
        </p:blipFill>
        <p:spPr>
          <a:xfrm>
            <a:off x="1403280" y="5079960"/>
            <a:ext cx="1683000" cy="1322280"/>
          </a:xfrm>
          <a:prstGeom prst="rect">
            <a:avLst/>
          </a:prstGeom>
          <a:ln w="0">
            <a:noFill/>
          </a:ln>
        </p:spPr>
      </p:pic>
      <p:pic>
        <p:nvPicPr>
          <p:cNvPr id="68" name="X" descr=""/>
          <p:cNvPicPr/>
          <p:nvPr/>
        </p:nvPicPr>
        <p:blipFill>
          <a:blip r:embed="rId5"/>
          <a:stretch/>
        </p:blipFill>
        <p:spPr>
          <a:xfrm>
            <a:off x="247680" y="2201760"/>
            <a:ext cx="2022480" cy="1555920"/>
          </a:xfrm>
          <a:prstGeom prst="rect">
            <a:avLst/>
          </a:prstGeom>
          <a:ln w="0">
            <a:noFill/>
          </a:ln>
        </p:spPr>
      </p:pic>
      <p:pic>
        <p:nvPicPr>
          <p:cNvPr id="69" name="x" descr=""/>
          <p:cNvPicPr/>
          <p:nvPr/>
        </p:nvPicPr>
        <p:blipFill>
          <a:blip r:embed="rId6"/>
          <a:stretch/>
        </p:blipFill>
        <p:spPr>
          <a:xfrm>
            <a:off x="5613480" y="4656240"/>
            <a:ext cx="1568520" cy="1555560"/>
          </a:xfrm>
          <a:prstGeom prst="rect">
            <a:avLst/>
          </a:prstGeom>
          <a:ln w="0">
            <a:noFill/>
          </a:ln>
        </p:spPr>
      </p:pic>
      <p:pic>
        <p:nvPicPr>
          <p:cNvPr id="70" name="x" descr=""/>
          <p:cNvPicPr/>
          <p:nvPr/>
        </p:nvPicPr>
        <p:blipFill>
          <a:blip r:embed="rId7"/>
          <a:stretch/>
        </p:blipFill>
        <p:spPr>
          <a:xfrm>
            <a:off x="7512120" y="2201760"/>
            <a:ext cx="1898640" cy="1627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63880" y="2709720"/>
            <a:ext cx="1746000" cy="64908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SAP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91280" y="2709720"/>
            <a:ext cx="1898640" cy="64908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SAP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733400" y="3385800"/>
            <a:ext cx="6337440" cy="1276200"/>
          </a:xfrm>
          <a:prstGeom prst="line">
            <a:avLst/>
          </a:prstGeom>
          <a:ln w="28440">
            <a:solidFill>
              <a:srgbClr val="ffde6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60240" y="3471840"/>
            <a:ext cx="330480" cy="954000"/>
          </a:xfrm>
          <a:prstGeom prst="line">
            <a:avLst/>
          </a:prstGeom>
          <a:ln w="38160">
            <a:solidFill>
              <a:srgbClr val="96c09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155240" y="3471480"/>
            <a:ext cx="1320840" cy="1608120"/>
          </a:xfrm>
          <a:prstGeom prst="line">
            <a:avLst/>
          </a:prstGeom>
          <a:ln w="38160">
            <a:solidFill>
              <a:srgbClr val="96c09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438960" y="3471480"/>
            <a:ext cx="1650960" cy="1103400"/>
          </a:xfrm>
          <a:prstGeom prst="line">
            <a:avLst/>
          </a:prstGeom>
          <a:ln w="28440">
            <a:solidFill>
              <a:srgbClr val="96c0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8667720" y="3471840"/>
            <a:ext cx="247680" cy="1015920"/>
          </a:xfrm>
          <a:prstGeom prst="line">
            <a:avLst/>
          </a:prstGeom>
          <a:ln w="28440">
            <a:solidFill>
              <a:srgbClr val="96c0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320840" y="3385800"/>
            <a:ext cx="4292640" cy="1947960"/>
          </a:xfrm>
          <a:prstGeom prst="line">
            <a:avLst/>
          </a:prstGeom>
          <a:ln w="28440">
            <a:solidFill>
              <a:srgbClr val="96c0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3556080"/>
            <a:ext cx="1800" cy="3663720"/>
          </a:xfrm>
          <a:prstGeom prst="line">
            <a:avLst/>
          </a:prstGeom>
          <a:ln cap="rnd" w="38160">
            <a:solidFill>
              <a:srgbClr val="96c09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44960" y="2116080"/>
            <a:ext cx="1820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96c09f"/>
                </a:solidFill>
                <a:latin typeface="Arial"/>
              </a:rPr>
              <a:t>Company/</a:t>
            </a:r>
            <a:br>
              <a:rPr sz="1800"/>
            </a:br>
            <a:r>
              <a:rPr b="1" lang="en-US" sz="1800" spc="-1" strike="noStrike">
                <a:solidFill>
                  <a:srgbClr val="96c09f"/>
                </a:solidFill>
                <a:latin typeface="Arial"/>
              </a:rPr>
              <a:t>Organization</a:t>
            </a:r>
            <a:br>
              <a:rPr sz="1800"/>
            </a:br>
            <a:r>
              <a:rPr b="1" lang="en-US" sz="1800" spc="-1" strike="noStrike">
                <a:solidFill>
                  <a:srgbClr val="96c09f"/>
                </a:solidFill>
                <a:latin typeface="Arial"/>
              </a:rPr>
              <a:t>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879720" y="3048120"/>
            <a:ext cx="2229120" cy="0"/>
          </a:xfrm>
          <a:prstGeom prst="line">
            <a:avLst/>
          </a:prstGeom>
          <a:ln w="28440">
            <a:solidFill>
              <a:srgbClr val="ffde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X" descr=""/>
          <p:cNvPicPr/>
          <p:nvPr/>
        </p:nvPicPr>
        <p:blipFill>
          <a:blip r:embed="rId8"/>
          <a:stretch/>
        </p:blipFill>
        <p:spPr>
          <a:xfrm>
            <a:off x="165240" y="4487760"/>
            <a:ext cx="1547640" cy="1386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 flipH="1">
            <a:off x="8089920" y="4487760"/>
            <a:ext cx="1612800" cy="1354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251400" y="5700600"/>
            <a:ext cx="1663920" cy="64908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2920" y="6603840"/>
            <a:ext cx="3355920" cy="556920"/>
          </a:xfrm>
          <a:prstGeom prst="rect">
            <a:avLst/>
          </a:prstGeom>
          <a:solidFill>
            <a:srgbClr val="c0c0c0"/>
          </a:solidFill>
          <a:ln w="9360">
            <a:solidFill>
              <a:srgbClr val="96c09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 and services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within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company context</a:t>
            </a:r>
            <a:r>
              <a:rPr b="1" lang="en-US" sz="15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95920" y="6603840"/>
            <a:ext cx="3349800" cy="556920"/>
          </a:xfrm>
          <a:prstGeom prst="rect">
            <a:avLst/>
          </a:prstGeom>
          <a:solidFill>
            <a:srgbClr val="c0c0c0"/>
          </a:solidFill>
          <a:ln w="9360">
            <a:solidFill>
              <a:srgbClr val="96c09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 and services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outside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mpany context</a:t>
            </a:r>
            <a:r>
              <a:rPr b="1" lang="en-US" sz="15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41680" y="3809880"/>
            <a:ext cx="1746000" cy="64908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scen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89920" y="5672160"/>
            <a:ext cx="1663560" cy="37476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17720" y="5545080"/>
            <a:ext cx="1663560" cy="64908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Karen" descr=""/>
          <p:cNvPicPr/>
          <p:nvPr/>
        </p:nvPicPr>
        <p:blipFill>
          <a:blip r:embed="rId10"/>
          <a:stretch/>
        </p:blipFill>
        <p:spPr>
          <a:xfrm>
            <a:off x="0" y="2031840"/>
            <a:ext cx="1208160" cy="1108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035680" y="7348680"/>
            <a:ext cx="39621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 Rounded MT Bold"/>
              </a:rPr>
              <a:t>Quelle: © SAP 1999 Peter Graf (TechEd 99, Philaelphi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B Arzneimittel-Bestellungen über XM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Stationsanforderungen für Arzneimittel im Intranet bzw.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Neuartige Sicht auf Materialstämme, Lieferanten und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Einheitliche Idente für Material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rfüh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8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Entwicklunge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d Projek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3.10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2B Arzneimittel-Bestellungen über XM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Stationsanforderungen für Arzneimittel im Intranet bzw.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Neuartige Sicht auf Materialstämme, Lieferanten und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Einheitliche Idente für Material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füh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403440" y="1776240"/>
            <a:ext cx="3391200" cy="5088240"/>
          </a:xfrm>
          <a:custGeom>
            <a:avLst/>
            <a:gdLst/>
            <a:ahLst/>
            <a:rect l="l" t="t" r="r" b="b"/>
            <a:pathLst>
              <a:path w="1972" h="2885">
                <a:moveTo>
                  <a:pt x="261" y="177"/>
                </a:moveTo>
                <a:cubicBezTo>
                  <a:pt x="297" y="168"/>
                  <a:pt x="320" y="152"/>
                  <a:pt x="357" y="145"/>
                </a:cubicBezTo>
                <a:cubicBezTo>
                  <a:pt x="536" y="159"/>
                  <a:pt x="1137" y="0"/>
                  <a:pt x="1309" y="57"/>
                </a:cubicBezTo>
                <a:cubicBezTo>
                  <a:pt x="1330" y="93"/>
                  <a:pt x="1401" y="150"/>
                  <a:pt x="1421" y="185"/>
                </a:cubicBezTo>
                <a:cubicBezTo>
                  <a:pt x="1430" y="202"/>
                  <a:pt x="1893" y="433"/>
                  <a:pt x="1893" y="433"/>
                </a:cubicBezTo>
                <a:cubicBezTo>
                  <a:pt x="1909" y="498"/>
                  <a:pt x="1927" y="901"/>
                  <a:pt x="1957" y="961"/>
                </a:cubicBezTo>
                <a:cubicBezTo>
                  <a:pt x="1972" y="1038"/>
                  <a:pt x="1457" y="1176"/>
                  <a:pt x="1485" y="1249"/>
                </a:cubicBezTo>
                <a:cubicBezTo>
                  <a:pt x="1510" y="1313"/>
                  <a:pt x="1281" y="1293"/>
                  <a:pt x="1325" y="1337"/>
                </a:cubicBezTo>
                <a:cubicBezTo>
                  <a:pt x="1356" y="1493"/>
                  <a:pt x="1233" y="1231"/>
                  <a:pt x="1229" y="1385"/>
                </a:cubicBezTo>
                <a:cubicBezTo>
                  <a:pt x="1232" y="1473"/>
                  <a:pt x="1232" y="1561"/>
                  <a:pt x="1237" y="1649"/>
                </a:cubicBezTo>
                <a:cubicBezTo>
                  <a:pt x="1239" y="1681"/>
                  <a:pt x="1265" y="1707"/>
                  <a:pt x="1277" y="1737"/>
                </a:cubicBezTo>
                <a:cubicBezTo>
                  <a:pt x="1292" y="1774"/>
                  <a:pt x="1299" y="1810"/>
                  <a:pt x="1309" y="1849"/>
                </a:cubicBezTo>
                <a:cubicBezTo>
                  <a:pt x="1306" y="1924"/>
                  <a:pt x="1320" y="2001"/>
                  <a:pt x="1301" y="2073"/>
                </a:cubicBezTo>
                <a:cubicBezTo>
                  <a:pt x="1296" y="2093"/>
                  <a:pt x="1263" y="2088"/>
                  <a:pt x="1245" y="2097"/>
                </a:cubicBezTo>
                <a:cubicBezTo>
                  <a:pt x="1193" y="2121"/>
                  <a:pt x="1205" y="2115"/>
                  <a:pt x="1165" y="2145"/>
                </a:cubicBezTo>
                <a:cubicBezTo>
                  <a:pt x="1156" y="2302"/>
                  <a:pt x="1185" y="2299"/>
                  <a:pt x="1053" y="2273"/>
                </a:cubicBezTo>
                <a:cubicBezTo>
                  <a:pt x="1024" y="2284"/>
                  <a:pt x="980" y="2278"/>
                  <a:pt x="965" y="2305"/>
                </a:cubicBezTo>
                <a:cubicBezTo>
                  <a:pt x="950" y="2332"/>
                  <a:pt x="971" y="2409"/>
                  <a:pt x="981" y="2449"/>
                </a:cubicBezTo>
                <a:cubicBezTo>
                  <a:pt x="978" y="2489"/>
                  <a:pt x="984" y="2530"/>
                  <a:pt x="973" y="2569"/>
                </a:cubicBezTo>
                <a:cubicBezTo>
                  <a:pt x="969" y="2582"/>
                  <a:pt x="951" y="2584"/>
                  <a:pt x="941" y="2593"/>
                </a:cubicBezTo>
                <a:cubicBezTo>
                  <a:pt x="871" y="2655"/>
                  <a:pt x="929" y="2615"/>
                  <a:pt x="877" y="2649"/>
                </a:cubicBezTo>
                <a:cubicBezTo>
                  <a:pt x="863" y="2672"/>
                  <a:pt x="842" y="2690"/>
                  <a:pt x="829" y="2713"/>
                </a:cubicBezTo>
                <a:cubicBezTo>
                  <a:pt x="821" y="2727"/>
                  <a:pt x="819" y="2772"/>
                  <a:pt x="813" y="2785"/>
                </a:cubicBezTo>
                <a:cubicBezTo>
                  <a:pt x="805" y="2800"/>
                  <a:pt x="779" y="2816"/>
                  <a:pt x="765" y="2825"/>
                </a:cubicBezTo>
                <a:cubicBezTo>
                  <a:pt x="725" y="2885"/>
                  <a:pt x="690" y="2849"/>
                  <a:pt x="637" y="2801"/>
                </a:cubicBezTo>
                <a:cubicBezTo>
                  <a:pt x="568" y="2738"/>
                  <a:pt x="559" y="2720"/>
                  <a:pt x="517" y="2657"/>
                </a:cubicBezTo>
                <a:cubicBezTo>
                  <a:pt x="508" y="2704"/>
                  <a:pt x="516" y="2739"/>
                  <a:pt x="525" y="2785"/>
                </a:cubicBezTo>
                <a:cubicBezTo>
                  <a:pt x="522" y="2796"/>
                  <a:pt x="527" y="2814"/>
                  <a:pt x="517" y="2817"/>
                </a:cubicBezTo>
                <a:cubicBezTo>
                  <a:pt x="453" y="2838"/>
                  <a:pt x="432" y="2780"/>
                  <a:pt x="397" y="2745"/>
                </a:cubicBezTo>
                <a:cubicBezTo>
                  <a:pt x="378" y="2748"/>
                  <a:pt x="359" y="2759"/>
                  <a:pt x="341" y="2753"/>
                </a:cubicBezTo>
                <a:cubicBezTo>
                  <a:pt x="298" y="2740"/>
                  <a:pt x="251" y="2649"/>
                  <a:pt x="237" y="2625"/>
                </a:cubicBezTo>
                <a:cubicBezTo>
                  <a:pt x="155" y="2488"/>
                  <a:pt x="159" y="2363"/>
                  <a:pt x="117" y="2217"/>
                </a:cubicBezTo>
                <a:cubicBezTo>
                  <a:pt x="109" y="2189"/>
                  <a:pt x="94" y="2164"/>
                  <a:pt x="85" y="2137"/>
                </a:cubicBezTo>
                <a:cubicBezTo>
                  <a:pt x="88" y="2068"/>
                  <a:pt x="87" y="1998"/>
                  <a:pt x="93" y="1929"/>
                </a:cubicBezTo>
                <a:cubicBezTo>
                  <a:pt x="95" y="1902"/>
                  <a:pt x="109" y="1849"/>
                  <a:pt x="109" y="1849"/>
                </a:cubicBezTo>
                <a:cubicBezTo>
                  <a:pt x="125" y="1664"/>
                  <a:pt x="121" y="1460"/>
                  <a:pt x="181" y="1281"/>
                </a:cubicBezTo>
                <a:cubicBezTo>
                  <a:pt x="191" y="1178"/>
                  <a:pt x="103" y="1132"/>
                  <a:pt x="133" y="1041"/>
                </a:cubicBezTo>
                <a:cubicBezTo>
                  <a:pt x="147" y="887"/>
                  <a:pt x="63" y="737"/>
                  <a:pt x="5" y="593"/>
                </a:cubicBezTo>
                <a:cubicBezTo>
                  <a:pt x="0" y="458"/>
                  <a:pt x="182" y="413"/>
                  <a:pt x="197" y="297"/>
                </a:cubicBezTo>
                <a:cubicBezTo>
                  <a:pt x="203" y="252"/>
                  <a:pt x="247" y="220"/>
                  <a:pt x="261" y="177"/>
                </a:cubicBezTo>
                <a:close/>
              </a:path>
            </a:pathLst>
          </a:custGeom>
          <a:solidFill>
            <a:srgbClr val="b6fd7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9448920" cy="5331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Arzneimittelbestellung im Web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5480" y="2370240"/>
            <a:ext cx="2146320" cy="2879640"/>
          </a:xfrm>
          <a:prstGeom prst="ellipse">
            <a:avLst/>
          </a:prstGeom>
          <a:solidFill>
            <a:srgbClr val="b6fd7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Katharinen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hospi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Stuttg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99200" y="2286000"/>
            <a:ext cx="2146320" cy="2878200"/>
          </a:xfrm>
          <a:prstGeom prst="ellipse">
            <a:avLst/>
          </a:prstGeom>
          <a:solidFill>
            <a:srgbClr val="b6fd7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Phar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58880" y="2624040"/>
            <a:ext cx="487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971440" y="3386160"/>
            <a:ext cx="41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971440" y="4148280"/>
            <a:ext cx="41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723760" y="482616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2040" y="5079960"/>
            <a:ext cx="16513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ff3535"/>
                </a:solidFill>
                <a:latin typeface="Arial Rounded MT Bold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2116080"/>
            <a:ext cx="19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76440" y="262404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7160" y="2793960"/>
            <a:ext cx="33843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bestätig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14840" y="3556080"/>
            <a:ext cx="22287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Liefersche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32040" y="4233960"/>
            <a:ext cx="15685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Fak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1289160"/>
            <a:ext cx="7315200" cy="5568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5800" y="533520"/>
            <a:ext cx="8153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Arzneimittelbestellung im Web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Arzneimittelbestellung im Web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9220320" cy="762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Arzneimittelbestellung im Web (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80520" y="30492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057400"/>
            <a:ext cx="8750160" cy="1440000"/>
          </a:xfrm>
          <a:prstGeom prst="rect">
            <a:avLst/>
          </a:prstGeom>
          <a:solidFill>
            <a:srgbClr val="83ed7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5480" y="2793960"/>
            <a:ext cx="214632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Einkau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16760" y="2793960"/>
            <a:ext cx="173340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IDo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79720" y="2793960"/>
            <a:ext cx="214632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67160" y="2286000"/>
            <a:ext cx="28893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SAP R/3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3048120"/>
            <a:ext cx="90792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26040" y="3048120"/>
            <a:ext cx="99072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962520"/>
            <a:ext cx="8750160" cy="1693800"/>
          </a:xfrm>
          <a:prstGeom prst="rect">
            <a:avLst/>
          </a:prstGeom>
          <a:solidFill>
            <a:srgbClr val="83ed7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7920" y="4317840"/>
            <a:ext cx="63565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SAP Business Conne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82000" y="4826160"/>
            <a:ext cx="214632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Rule 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14840" y="4826160"/>
            <a:ext cx="288900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Package 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7920" y="4826160"/>
            <a:ext cx="239400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XML 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095880"/>
            <a:ext cx="8750160" cy="762120"/>
          </a:xfrm>
          <a:prstGeom prst="rect">
            <a:avLst/>
          </a:prstGeom>
          <a:solidFill>
            <a:srgbClr val="83ed7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42240" y="3301920"/>
            <a:ext cx="0" cy="1524240"/>
          </a:xfrm>
          <a:prstGeom prst="line">
            <a:avLst/>
          </a:prstGeom>
          <a:ln w="25560">
            <a:solidFill>
              <a:srgbClr val="ffde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603840" y="5079960"/>
            <a:ext cx="57816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301560" y="5079960"/>
            <a:ext cx="41292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8640" y="5249880"/>
            <a:ext cx="6480" cy="846000"/>
          </a:xfrm>
          <a:prstGeom prst="line">
            <a:avLst/>
          </a:prstGeom>
          <a:ln w="25560">
            <a:solidFill>
              <a:srgbClr val="ffde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7245360"/>
            <a:ext cx="200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0240" y="5587920"/>
            <a:ext cx="8750520" cy="1440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7280" y="6265800"/>
            <a:ext cx="214632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Vertrie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6265800"/>
            <a:ext cx="214632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Auftra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5672160"/>
            <a:ext cx="288900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SAP R/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943600" y="6519960"/>
            <a:ext cx="66024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0240" y="3386160"/>
            <a:ext cx="8750520" cy="16938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3471840"/>
            <a:ext cx="63565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SAP Business Conne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08840" y="4148280"/>
            <a:ext cx="140328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Rule K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32040" y="4148280"/>
            <a:ext cx="206388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Package K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5480" y="4148280"/>
            <a:ext cx="239400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XML 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240" y="2116080"/>
            <a:ext cx="8750520" cy="7621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98640" y="2878200"/>
            <a:ext cx="0" cy="1270080"/>
          </a:xfrm>
          <a:prstGeom prst="line">
            <a:avLst/>
          </a:prstGeom>
          <a:ln w="25560">
            <a:solidFill>
              <a:srgbClr val="ffde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95920" y="4402080"/>
            <a:ext cx="41292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19480" y="4402080"/>
            <a:ext cx="41256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20040" y="4572000"/>
            <a:ext cx="0" cy="1693800"/>
          </a:xfrm>
          <a:prstGeom prst="line">
            <a:avLst/>
          </a:prstGeom>
          <a:ln w="25560">
            <a:solidFill>
              <a:srgbClr val="ffde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24680" y="4148280"/>
            <a:ext cx="132084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IDo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12120" y="4402080"/>
            <a:ext cx="41256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03840" y="6265800"/>
            <a:ext cx="247680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IDoc-Einga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137040" y="6519960"/>
            <a:ext cx="66024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922032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Arzneimittelbestellung im Web (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0-10-23T22:03:16Z</dcterms:modified>
  <cp:revision>317</cp:revision>
  <dc:subject/>
  <dc:title>Kein Folientitel</dc:title>
</cp:coreProperties>
</file>