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6129128-8900-4E53-89A7-7477DF7F28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10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7391520" y="7010280"/>
          <a:ext cx="185724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7010280"/>
                    <a:ext cx="1857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3.10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de-DE" sz="2200" spc="-1" strike="noStrike">
                <a:solidFill>
                  <a:srgbClr val="ffde69"/>
                </a:solidFill>
                <a:latin typeface="Arial"/>
              </a:rPr>
              <a:t>y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A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o</a:t>
            </a:r>
            <a:r>
              <a:rPr b="1" lang="de-DE" sz="22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nternetsales / CRM  / Mobile Sa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place - Market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vtl. Ergänz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PC, Lapto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ste Kunden (Business Connect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büros, Vertreter (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kata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tere Konditionen (Mengenrabatt, Boni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reter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n, Adress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organisation, V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 (evtl. mit APO abgestimm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ontend =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ddleware = Webser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end =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orare / Spe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kundmaske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artige Sicht auf Materialstäm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R/3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xterne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kataloge im W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zeichnisse (z.B. AB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Dynamische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ierte Stämme (z.B. als Produkt-Farb-Packmittel-Kombinationen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ültigkeit,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Hierarchische Materialstämme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ssen – Instanzen – Vererb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. Stämme als Ma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artige Sicht auf Werke, Lieferanten, Kun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/3 Stamm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zerneigene Firmen, Wer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,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renempfän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Stamm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ktplät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zeichnisse (z.B. AB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ka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ressen (Verortungs-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ographische Daten (GIS, Mobil / G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portmatri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z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land (z.B. PZ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a (EA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sche Zuordnung Lieferanten- / Kundenmaterialnum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50796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AP 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2920" y="1608120"/>
            <a:ext cx="8502840" cy="5673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3" marL="1460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06840" y="2209680"/>
          <a:ext cx="539928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6840" y="2209680"/>
                    <a:ext cx="539928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96_0306a" descr=""/>
          <p:cNvPicPr/>
          <p:nvPr/>
        </p:nvPicPr>
        <p:blipFill>
          <a:blip r:embed="rId3">
            <a:lum bright="70000" contrast="-70000"/>
          </a:blip>
          <a:srcRect l="0" t="0" r="0" b="14130"/>
          <a:stretch/>
        </p:blipFill>
        <p:spPr>
          <a:xfrm>
            <a:off x="0" y="2209680"/>
            <a:ext cx="4954680" cy="5166000"/>
          </a:xfrm>
          <a:prstGeom prst="rect">
            <a:avLst/>
          </a:prstGeom>
          <a:ln w="0">
            <a:noFill/>
          </a:ln>
        </p:spPr>
      </p:pic>
      <p:pic>
        <p:nvPicPr>
          <p:cNvPr id="67" name="X" descr=""/>
          <p:cNvPicPr/>
          <p:nvPr/>
        </p:nvPicPr>
        <p:blipFill>
          <a:blip r:embed="rId4"/>
          <a:stretch/>
        </p:blipFill>
        <p:spPr>
          <a:xfrm>
            <a:off x="1403280" y="5079960"/>
            <a:ext cx="1683000" cy="1322280"/>
          </a:xfrm>
          <a:prstGeom prst="rect">
            <a:avLst/>
          </a:prstGeom>
          <a:ln w="0">
            <a:noFill/>
          </a:ln>
        </p:spPr>
      </p:pic>
      <p:pic>
        <p:nvPicPr>
          <p:cNvPr id="68" name="X" descr=""/>
          <p:cNvPicPr/>
          <p:nvPr/>
        </p:nvPicPr>
        <p:blipFill>
          <a:blip r:embed="rId5"/>
          <a:stretch/>
        </p:blipFill>
        <p:spPr>
          <a:xfrm>
            <a:off x="247680" y="2201760"/>
            <a:ext cx="2022480" cy="1555920"/>
          </a:xfrm>
          <a:prstGeom prst="rect">
            <a:avLst/>
          </a:prstGeom>
          <a:ln w="0">
            <a:noFill/>
          </a:ln>
        </p:spPr>
      </p:pic>
      <p:pic>
        <p:nvPicPr>
          <p:cNvPr id="69" name="x" descr=""/>
          <p:cNvPicPr/>
          <p:nvPr/>
        </p:nvPicPr>
        <p:blipFill>
          <a:blip r:embed="rId6"/>
          <a:stretch/>
        </p:blipFill>
        <p:spPr>
          <a:xfrm>
            <a:off x="5613480" y="4656240"/>
            <a:ext cx="1568520" cy="1555560"/>
          </a:xfrm>
          <a:prstGeom prst="rect">
            <a:avLst/>
          </a:prstGeom>
          <a:ln w="0">
            <a:noFill/>
          </a:ln>
        </p:spPr>
      </p:pic>
      <p:pic>
        <p:nvPicPr>
          <p:cNvPr id="70" name="x" descr=""/>
          <p:cNvPicPr/>
          <p:nvPr/>
        </p:nvPicPr>
        <p:blipFill>
          <a:blip r:embed="rId7"/>
          <a:stretch/>
        </p:blipFill>
        <p:spPr>
          <a:xfrm>
            <a:off x="7512120" y="2201760"/>
            <a:ext cx="1898640" cy="1627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63880" y="270972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91280" y="2709720"/>
            <a:ext cx="189864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733400" y="3385800"/>
            <a:ext cx="6337440" cy="127620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0240" y="3471840"/>
            <a:ext cx="330480" cy="95400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155240" y="3471480"/>
            <a:ext cx="1320840" cy="160812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38960" y="3471480"/>
            <a:ext cx="1650960" cy="110340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8667720" y="3471840"/>
            <a:ext cx="247680" cy="101592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320840" y="3385800"/>
            <a:ext cx="4292640" cy="194796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3556080"/>
            <a:ext cx="1800" cy="3663720"/>
          </a:xfrm>
          <a:prstGeom prst="line">
            <a:avLst/>
          </a:prstGeom>
          <a:ln cap="rnd" w="38160">
            <a:solidFill>
              <a:srgbClr val="96c0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2116080"/>
            <a:ext cx="1820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Company/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Organization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79720" y="3048120"/>
            <a:ext cx="2229120" cy="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X" descr=""/>
          <p:cNvPicPr/>
          <p:nvPr/>
        </p:nvPicPr>
        <p:blipFill>
          <a:blip r:embed="rId8"/>
          <a:stretch/>
        </p:blipFill>
        <p:spPr>
          <a:xfrm>
            <a:off x="165240" y="4487760"/>
            <a:ext cx="154764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flipH="1">
            <a:off x="8089920" y="4487760"/>
            <a:ext cx="1612800" cy="1354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251400" y="5700600"/>
            <a:ext cx="166392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2920" y="6603840"/>
            <a:ext cx="335592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company context</a:t>
            </a:r>
            <a:r>
              <a:rPr b="1" lang="en-US" sz="15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95920" y="6603840"/>
            <a:ext cx="334980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ny context</a:t>
            </a:r>
            <a:r>
              <a:rPr b="1" lang="en-US" sz="15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41680" y="380988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9920" y="5672160"/>
            <a:ext cx="1663560" cy="37476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17720" y="5545080"/>
            <a:ext cx="166356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Karen" descr=""/>
          <p:cNvPicPr/>
          <p:nvPr/>
        </p:nvPicPr>
        <p:blipFill>
          <a:blip r:embed="rId10"/>
          <a:stretch/>
        </p:blipFill>
        <p:spPr>
          <a:xfrm>
            <a:off x="0" y="2031840"/>
            <a:ext cx="1208160" cy="110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035680" y="7348680"/>
            <a:ext cx="39621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Rounded MT Bold"/>
              </a:rPr>
              <a:t>Quelle: © SAP 1999 Peter Graf (TechEd 99, Philaelph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3.10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520" y="30492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057400"/>
            <a:ext cx="8750160" cy="14400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548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Einka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6760" y="2793960"/>
            <a:ext cx="17334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7972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7160" y="2286000"/>
            <a:ext cx="2889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048120"/>
            <a:ext cx="907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6040" y="3048120"/>
            <a:ext cx="9907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750160" cy="16938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7920" y="4317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2000" y="4826160"/>
            <a:ext cx="214632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4840" y="4826160"/>
            <a:ext cx="2889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7920" y="482616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095880"/>
            <a:ext cx="8750160" cy="76212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2240" y="3301920"/>
            <a:ext cx="0" cy="152424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03840" y="5079960"/>
            <a:ext cx="5781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301560" y="507996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640" y="5249880"/>
            <a:ext cx="6480" cy="8460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245360"/>
            <a:ext cx="200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0240" y="5587920"/>
            <a:ext cx="8750520" cy="1440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728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Vertri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672160"/>
            <a:ext cx="28890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94360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240" y="3386160"/>
            <a:ext cx="8750520" cy="1693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471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8840" y="4148280"/>
            <a:ext cx="14032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2040" y="4148280"/>
            <a:ext cx="20638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5480" y="414828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240" y="2116080"/>
            <a:ext cx="875052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8640" y="2878200"/>
            <a:ext cx="0" cy="127008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95920" y="440208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948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20040" y="4572000"/>
            <a:ext cx="0" cy="16938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4680" y="4148280"/>
            <a:ext cx="132084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1212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3840" y="6265800"/>
            <a:ext cx="24768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-Eing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3704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92203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0-10-23T22:03:16Z</dcterms:modified>
  <cp:revision>317</cp:revision>
  <dc:subject/>
  <dc:title>Kein Folientitel</dc:title>
</cp:coreProperties>
</file>