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7621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86160" y="71010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5879B9B2-D206-441B-889F-87E0C324D89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42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.09.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86600"/>
            <a:ext cx="3321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5760" y="7101000"/>
            <a:ext cx="187704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kte und Entwicklungen 2000 (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20920" y="6870600"/>
            <a:ext cx="605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e und Entwicklungen 2000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0.09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e 2000 - Mediz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atharinenhospital, Stuttga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otheke, Eigenher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terne Statio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emotherap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telldaten über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/3 Kopplungen im Klinikum Stuttgart (Studi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Klinikum Wuppert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othe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Uniklinikum Lübe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othek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lisabeth-Krankenhaus Oberhau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otheke (Single-Unit-Dose)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0 - Mediz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9144000" cy="5603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185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Apothek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tationsAnford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66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StationsAnforde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9966"/>
                </a:solidFill>
                <a:latin typeface="Braggadocio"/>
              </a:rPr>
              <a:t>eb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Bestel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Liefer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Apothek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KopplungFremdeHäu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SingleUnitD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DefekturRezeptu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3333cc"/>
                </a:solidFill>
                <a:latin typeface="Arial"/>
              </a:rPr>
              <a:t>ChemoTherapi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SingleUnitDos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in Entwickl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5000"/>
          </a:bodyPr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tionsanforderung über SAPGUI, Browser oder/und Fremdsyste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tienten- und stationsbezogene Anforderung von Arzneimitte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bindung der ABDA-Datenbank (FD, FI, VTC, AT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erierte Hitlisten für Patient und S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hlweise Einbindung von Scanne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rücksichtigung der klinikspezifischen Arzneimittellis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tionale Einbeziehung von I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forderung von Arzneimitteln ohne Materialst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tung in der Apotheke (Selektion u.a. nach Patient/Fal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tienten- und stationsbezogene Kommission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lieferung mit Single-Unit-Trolleys oder mit Stationscontai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tiketten für Single-Unit-Trolle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ports für Arzneimittelverbrauch pro Patient bzw. Kostenst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-1976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stenabrechnung an Pati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7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2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200" spc="-1" strike="noStrike">
                <a:solidFill>
                  <a:srgbClr val="ff99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StationsAnforder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über Browser - in Entwickl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gabe der Einrichtung (intern/extern), Klinik, Station und Erfas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fassung der Arzneimittel (Scanner oder manuel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 mit Arzneimittellis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 mit Arzneimittel - Datenbank (ABD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üfung der Arzt- und Oberarztpflic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lassung von Stationsausnahmen (Arzneimittelliste, Oberarztpflich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lage der Anforderungen auf dem Web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schluß an die Sichtungstransaktion von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otheke od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ngleUnitDo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en 2000 - Mediz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kte und Entwicklungen 2000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0.09.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Jochen Winkler</cp:lastModifiedBy>
  <cp:lastPrinted>2000-01-20T10:19:05Z</cp:lastPrinted>
  <dcterms:modified xsi:type="dcterms:W3CDTF">2000-09-16T20:34:13Z</dcterms:modified>
  <cp:revision>53</cp:revision>
  <dc:subject/>
  <dc:title>Kein Folientitel</dc:title>
</cp:coreProperties>
</file>