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96464B7-0106-4590-8B02-DF8C10A9A0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.09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5760" y="7101000"/>
            <a:ext cx="1877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 (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0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, 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rne 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lldat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3 Kopplungen im Klinikum Stuttgart (Stud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linikum Wuppert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iklinikum Lübe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isabeth-Krankenhaus Ober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 (Single-Unit-Dose)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144000" cy="5603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Apothek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tionsAnfor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66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Stations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66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Liefer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Apothek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KopplungFremdeHä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SingleUnitD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Defektur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oTherap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ingleUnitDos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5000"/>
          </a:bodyPr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ionsanforderung über SAPGUI, Browser oder/und Fremd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tienten- und stationsbezogene Anforderung von Arzneimitt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indung der ABDA-Datenbank (FD, FI, VTC, A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ierte Hitlisten für Patient und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lweise Einbindung von Scann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ücksichtigung der klinikspezifischen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Einbeziehung von 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forderung von Arzneimitteln ohne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tung in der Apotheke (Selektion u.a. nach Patient/F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tienten- und stationsbezogene Kommissio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lieferung mit Single-Unit-Trolleys oder mit Stationscont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iketten für Single-Unit-Trolle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orts für Arzneimittelverbrauch pro Patient bzw. Kosten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abrechnung an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0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9-16T20:34:13Z</dcterms:modified>
  <cp:revision>53</cp:revision>
  <dc:subject/>
  <dc:title>Kein Folientitel</dc:title>
</cp:coreProperties>
</file>