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25640" y="86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Eigenherstellung und Zubereitung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von Medikamenten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mittels SAP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kfurt, den 20.9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33520" y="2666880"/>
            <a:ext cx="693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447920"/>
            <a:ext cx="5486400" cy="3809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523880"/>
            <a:ext cx="5257800" cy="4305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Rounded MT Bold"/>
              </a:rPr>
              <a:t>Katharinenhospital - Apotheke Zentrale Zytostatikazubereitu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tation:</a:t>
            </a: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AAN                                 Patientennummer : 50000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Hund                    An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Geburtsdatum: 12.06.1920            Therapieschema: CEMOTAB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KOF: 1,996m²       KGR: 180,0cm      KG: 80 k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Schemadosis pro m² Körperoberfläche 100,00m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Rounded MT Bold"/>
              </a:rPr>
              <a:t>Etoposidphosphat 836mg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38,6ml Stammlösung/Fertiglösu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fusion  NaCl  0,9%  2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herapietag: 03.02.2000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            Haltbar bis: 04.02.200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Temperatur: 2-8°C                       Raumbedingung: Lichtgeschütz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Ch-B: 000000000077                   Herst: Hb+Ri+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Zubereitungs ID: 000040000306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0384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560" y="68256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eispiel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ines Etiket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352680"/>
            <a:ext cx="457200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962520" y="4876920"/>
            <a:ext cx="1371600" cy="1904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wertungen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kstoffverbrauch pro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rkstoffverbrauch pro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Überprüfung zur Einhaltung der Grenzdosis pro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tienten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duktions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ostenanaly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altbarkeitskontrolle (auch bereits hergestellter Stammlösun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utzen (1)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040" y="6480000"/>
            <a:ext cx="1332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Frankfurt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öhere Qualitä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SO 9000, GLP, TF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enbindung (Transplantate, Blutproduk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fallsdatenkontrolle, Rückrufa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rößere Sicherh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urchgängige Chargenverfolg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ückenlose Kontrolle durch Arzt (Behandlungssche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reinfachte Arbeitsabläu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aten werden nur einmal erfaß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arcodetech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rbesserte Transparen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sten, Umlaufvermö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69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igenherstellung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27432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nführung Defekturen / Rezeptu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dd-on </a:t>
            </a:r>
            <a:r>
              <a:rPr b="0" lang="de-DE" sz="20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forderung durch interne und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xterne Sta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520" y="65214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orkshop Frankfurt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utzen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lständige betriebswirtschaftliche Integration (Module ISH, MM, PP-PI, FI, CO, SD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matische Buchungen im MM, FI und CO mit  jederzeit transparenten Informationen über alle Warenaus - und eingä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undenorientierte Bedienoberfläche bringt Zeitersparn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enes Produktionsmen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zeigen von  Auswahltexten anstatt  interne Nummern- idente mit zeitaufwendiger Matchcodesuche für Materialnummer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-2710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 SAP Abläufe bleiben dunkelgesteuert, wobei Standardeingaben automatisch erledigt werden (Metatransak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3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blick (1)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040" y="6480000"/>
            <a:ext cx="1332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Frankfurt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pezielle Arztanbind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bbildung der gesamten Behandlung einschl. Vor- und Nachbehand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ontrolle der Einnahme durch Bar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fusionsbeutel, Pat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erapieauswertungen (auch für Forschu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eitere Plausibilitätskontro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rztbriefschreib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bindung Patientenak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Ausblick (2)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040" y="6480000"/>
            <a:ext cx="1332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Frankfurt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abetiker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äuglingsnahr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ustomized Drugs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Eigenherstellung und Zubereitung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von Medikamenten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mittels SAP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nkfurt, den 20.9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H="1">
            <a:off x="-36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>
            <a:off x="-36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514600" y="0"/>
          <a:ext cx="46292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0"/>
                    <a:ext cx="4629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atientenindividuelle Zubereitung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2743200"/>
            <a:ext cx="6476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inführung 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. Add-on </a:t>
            </a:r>
            <a:r>
              <a:rPr b="0" lang="de-DE" sz="20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emoThera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. Auswer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.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5. Ausbl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520" y="652140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orkshop Frankfurt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inführung Zubereitung</a:t>
            </a:r>
            <a:r>
              <a:rPr b="1" lang="en-US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040" y="6480000"/>
            <a:ext cx="1332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Frankfurt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kstoffproduktion (Pharmaindustr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patientenindividu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Zuberei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äuglingsnah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abetische Zuberei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ndere Trägerlösungen (z.B. bei Allergien,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Add-on </a:t>
            </a:r>
            <a:r>
              <a:rPr b="0" lang="de-DE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ChemoTherapie</a:t>
            </a: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040" y="6480000"/>
            <a:ext cx="1332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Frankfurt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-268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rkstoffe, Präparate, Trägerlös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-268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Stammlösung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-268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handlungsschem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atientenindividuelles Behandlungs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-268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mplette Behandlung (mehrere Tage, Woch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-268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erstellungsaufträge / Etikettendruc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080" indent="-268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ückmeldung Infu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swert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80880"/>
          <a:ext cx="826164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990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2000-03-06T19:52:43Z</cp:lastPrinted>
  <dcterms:modified xsi:type="dcterms:W3CDTF">2000-09-03T17:48:51Z</dcterms:modified>
  <cp:revision>227</cp:revision>
  <dc:subject/>
  <dc:title>Round table Wuppertal</dc:title>
</cp:coreProperties>
</file>