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9.wmf" ContentType="image/x-wmf"/>
  <Override PartName="/ppt/media/image14.png" ContentType="image/png"/>
  <Override PartName="/ppt/media/image2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C01-2095-4DCA-9082-458426EB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DD2-0FE7-4F35-BE11-E3547670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70D-19A9-4B28-B08F-6FBCD964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767-8F92-4EFB-97DF-92B9CE86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D40-3E09-4588-8E1E-C89907D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60D-9D14-4DF4-9CBC-DD73811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5C6-9F85-46C9-8FB8-084DA2F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ADE-78EB-4939-AF3E-5990E40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F1F-044E-43D0-B5D6-647E447E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0F3-CFA3-48F7-99C2-881671A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D50-5F9D-42D9-B421-CB990EB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4C6-1B02-4258-9A0B-EF93D07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207-75CE-4FD6-BF3B-ACCC488BE4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0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7788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480" y="2438280"/>
            <a:ext cx="45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Möglichkeiten des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in den Geschäftsbezie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zu Krankenhausapothek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1640" y="5043600"/>
            <a:ext cx="3035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ieter Hoff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arketing Service / IT - K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önigsteiner Str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-65812 Bad Soden am Tau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elefon: +49 (69) 305 - 77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-Mail: dieter.hoffmann@aventi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5X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886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-720" y="0"/>
            <a:ext cx="8925120" cy="855720"/>
            <a:chOff x="-720" y="0"/>
            <a:chExt cx="8925120" cy="855720"/>
          </a:xfrm>
        </p:grpSpPr>
        <p:pic>
          <p:nvPicPr>
            <p:cNvPr id="47" name="Aventis_Logo_4C" descr=""/>
            <p:cNvPicPr/>
            <p:nvPr/>
          </p:nvPicPr>
          <p:blipFill>
            <a:blip r:embed="rId3"/>
            <a:stretch/>
          </p:blipFill>
          <p:spPr>
            <a:xfrm>
              <a:off x="6324480" y="0"/>
              <a:ext cx="259992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-720" y="32544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960" y="752400"/>
              <a:ext cx="5714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93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1560" y="22860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76212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8320" y="838080"/>
            <a:ext cx="8496720" cy="5418000"/>
            <a:chOff x="238320" y="838080"/>
            <a:chExt cx="8496720" cy="5418000"/>
          </a:xfrm>
        </p:grpSpPr>
        <p:sp>
          <p:nvSpPr>
            <p:cNvPr id="190" name=""/>
            <p:cNvSpPr/>
            <p:nvPr/>
          </p:nvSpPr>
          <p:spPr>
            <a:xfrm>
              <a:off x="238320" y="838080"/>
              <a:ext cx="82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lektronischer Bestelldatenaustausch via EANCOM</a:t>
              </a:r>
              <a:r>
                <a:rPr b="1" lang="en-US" sz="2000" spc="-1" strike="noStrike" baseline="7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4320" y="1665000"/>
              <a:ext cx="8460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Times New Roman"/>
                </a:rPr>
                <a:t>Aventis ist Mitglied der Arbeitsgruppe „EANCOM® im Gesundheitswesen“</a:t>
              </a:r>
              <a:br>
                <a:rPr sz="2000"/>
              </a:br>
              <a:r>
                <a:rPr b="1" lang="de-DE" sz="2000" spc="-1" strike="noStrike">
                  <a:solidFill>
                    <a:srgbClr val="ff3300"/>
                  </a:solidFill>
                  <a:latin typeface="Times New Roman"/>
                </a:rPr>
                <a:t>bei der CC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320" y="2503080"/>
              <a:ext cx="83584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Times New Roman"/>
                </a:rPr>
                <a:t>Aufgabe: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Erarbeitung und Dokumentation von EANCOM</a:t>
              </a:r>
              <a:r>
                <a:rPr b="0" lang="de-DE" sz="1800" spc="-1" strike="noStrike" baseline="46000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Nachrichten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für das Gesundheitswesen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ufe 1: Direktbelieferungen zwischen großen Partnern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Times New Roman"/>
                </a:rPr>
                <a:t>EANCOM</a:t>
              </a:r>
              <a:r>
                <a:rPr b="1" lang="de-DE" sz="1800" spc="-1" strike="noStrike" baseline="50000">
                  <a:solidFill>
                    <a:srgbClr val="3333cc"/>
                  </a:solidFill>
                  <a:latin typeface="Times New Roman"/>
                </a:rPr>
                <a:t>®</a:t>
              </a:r>
              <a:r>
                <a:rPr b="1" lang="de-DE" sz="2000" spc="-1" strike="noStrike">
                  <a:solidFill>
                    <a:srgbClr val="3333cc"/>
                  </a:solidFill>
                  <a:latin typeface="Times New Roman"/>
                </a:rPr>
                <a:t>-Nachrichten:</a:t>
              </a:r>
              <a:br>
                <a:rPr sz="2000"/>
              </a:b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ICAT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Artikelstammdaten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RDERS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Bestellung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RDRSP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Auftragsbestätigung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ESADV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Liefersche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VOIC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Rechnu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VRPT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Lagerbestandsbericht für ECR Verfahre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84944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5880" y="1676520"/>
            <a:ext cx="2743200" cy="44956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752480"/>
            <a:ext cx="2667240" cy="44197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2819520"/>
            <a:ext cx="3124440" cy="761760"/>
          </a:xfrm>
          <a:prstGeom prst="rightArrow">
            <a:avLst>
              <a:gd name="adj1" fmla="val 50000"/>
              <a:gd name="adj2" fmla="val 10254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5486400"/>
            <a:ext cx="3124440" cy="762120"/>
          </a:xfrm>
          <a:prstGeom prst="leftArrow">
            <a:avLst>
              <a:gd name="adj1" fmla="val 50000"/>
              <a:gd name="adj2" fmla="val 10249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4360" y="30481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gerbestandsber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9160" y="1828800"/>
            <a:ext cx="178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Kranken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ouse - MA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1840" y="1828800"/>
            <a:ext cx="2139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ventis P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666880"/>
            <a:ext cx="236232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ägliche Übermittl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aller Bestä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kl. Bestandskorrid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terialidentifizier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durch Pharmazentral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nummer (PZ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ahmen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2666880"/>
            <a:ext cx="243864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ftragsgener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achtung optimal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logistischer Größen (z.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Normkarton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ftragsbünd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8160" y="5715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ef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96680" y="3886200"/>
            <a:ext cx="210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ANCOM-Nachricht: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NVR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400" y="1066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CR - 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7328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514600"/>
            <a:ext cx="841320" cy="8319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60920" y="2514600"/>
            <a:ext cx="839520" cy="8319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8600" y="2209680"/>
            <a:ext cx="1066680" cy="1066680"/>
            <a:chOff x="228600" y="2209680"/>
            <a:chExt cx="1066680" cy="1066680"/>
          </a:xfrm>
        </p:grpSpPr>
        <p:sp>
          <p:nvSpPr>
            <p:cNvPr id="218" name=""/>
            <p:cNvSpPr/>
            <p:nvPr/>
          </p:nvSpPr>
          <p:spPr>
            <a:xfrm>
              <a:off x="868680" y="2841120"/>
              <a:ext cx="36720" cy="3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5160" y="2841840"/>
              <a:ext cx="24480" cy="14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9920" y="2211840"/>
              <a:ext cx="7322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960" y="2219400"/>
              <a:ext cx="742320" cy="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2720" y="2224440"/>
              <a:ext cx="748440" cy="21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120" y="2753280"/>
              <a:ext cx="754200" cy="10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3440" y="2766600"/>
              <a:ext cx="746280" cy="1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8480" y="2772720"/>
              <a:ext cx="736200" cy="3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880" y="2779560"/>
              <a:ext cx="726480" cy="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8200" y="2784960"/>
              <a:ext cx="717120" cy="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920" y="2786040"/>
              <a:ext cx="716400" cy="14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" y="2299680"/>
              <a:ext cx="580680" cy="10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0840" y="2691720"/>
              <a:ext cx="583920" cy="2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0840" y="2697840"/>
              <a:ext cx="580680" cy="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3160" y="2313000"/>
              <a:ext cx="541800" cy="360"/>
            </a:xfrm>
            <a:prstGeom prst="rect">
              <a:avLst/>
            </a:prstGeom>
            <a:solidFill>
              <a:srgbClr val="96c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28600" y="2209680"/>
              <a:ext cx="1066680" cy="1066680"/>
              <a:chOff x="228600" y="2209680"/>
              <a:chExt cx="1066680" cy="1066680"/>
            </a:xfrm>
          </p:grpSpPr>
          <p:sp>
            <p:nvSpPr>
              <p:cNvPr id="234" name=""/>
              <p:cNvSpPr/>
              <p:nvPr/>
            </p:nvSpPr>
            <p:spPr>
              <a:xfrm>
                <a:off x="496440" y="2873160"/>
                <a:ext cx="798840" cy="235440"/>
              </a:xfrm>
              <a:prstGeom prst="rect">
                <a:avLst/>
              </a:prstGeom>
              <a:solidFill>
                <a:srgbClr val="a6a6a6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6440" y="2896560"/>
                <a:ext cx="436320" cy="28440"/>
              </a:xfrm>
              <a:prstGeom prst="rect">
                <a:avLst/>
              </a:prstGeom>
              <a:solidFill>
                <a:srgbClr val="73737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6440" y="3064320"/>
                <a:ext cx="434880" cy="44280"/>
              </a:xfrm>
              <a:prstGeom prst="rect">
                <a:avLst/>
              </a:prstGeom>
              <a:solidFill>
                <a:srgbClr val="73737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55800" y="2908080"/>
                <a:ext cx="281520" cy="17964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35280" y="2896560"/>
                <a:ext cx="337680" cy="5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59040" y="2985120"/>
                <a:ext cx="276840" cy="68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19520" y="2920680"/>
                <a:ext cx="82080" cy="255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19520" y="2946240"/>
                <a:ext cx="82080" cy="23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83160" y="2943720"/>
                <a:ext cx="227160" cy="115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10160" y="2913480"/>
                <a:ext cx="54360" cy="154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10160" y="2913480"/>
                <a:ext cx="54360" cy="1620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920" y="2797560"/>
                <a:ext cx="228960" cy="21600"/>
              </a:xfrm>
              <a:custGeom>
                <a:avLst/>
                <a:gdLst/>
                <a:ahLst/>
                <a:rect l="l" t="t" r="r" b="b"/>
                <a:pathLst>
                  <a:path w="278" h="28">
                    <a:moveTo>
                      <a:pt x="0" y="0"/>
                    </a:moveTo>
                    <a:lnTo>
                      <a:pt x="12" y="28"/>
                    </a:lnTo>
                    <a:lnTo>
                      <a:pt x="267" y="28"/>
                    </a:lnTo>
                    <a:lnTo>
                      <a:pt x="27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1240" y="2774880"/>
                <a:ext cx="667080" cy="183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1240" y="2793600"/>
                <a:ext cx="667080" cy="162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1240" y="2774880"/>
                <a:ext cx="667080" cy="3564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5720" y="2818440"/>
                <a:ext cx="410760" cy="37080"/>
              </a:xfrm>
              <a:custGeom>
                <a:avLst/>
                <a:gdLst/>
                <a:ahLst/>
                <a:rect l="l" t="t" r="r" b="b"/>
                <a:pathLst>
                  <a:path w="499" h="48">
                    <a:moveTo>
                      <a:pt x="108" y="0"/>
                    </a:moveTo>
                    <a:lnTo>
                      <a:pt x="109" y="12"/>
                    </a:lnTo>
                    <a:lnTo>
                      <a:pt x="0" y="48"/>
                    </a:lnTo>
                    <a:lnTo>
                      <a:pt x="499" y="48"/>
                    </a:lnTo>
                    <a:lnTo>
                      <a:pt x="388" y="12"/>
                    </a:lnTo>
                    <a:lnTo>
                      <a:pt x="38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1200" y="2823120"/>
                <a:ext cx="205920" cy="54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1200" y="2828520"/>
                <a:ext cx="199440" cy="14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760" y="2830320"/>
                <a:ext cx="184320" cy="72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8280" y="2833560"/>
                <a:ext cx="130680" cy="14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4040" y="2835000"/>
                <a:ext cx="120240" cy="10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46360" y="2838960"/>
                <a:ext cx="77040" cy="3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3560" y="2839680"/>
                <a:ext cx="65160" cy="3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" y="2856600"/>
                <a:ext cx="410040" cy="16920"/>
              </a:xfrm>
              <a:prstGeom prst="rect">
                <a:avLst/>
              </a:pr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8920" y="2209680"/>
                <a:ext cx="716400" cy="7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29920" y="2213280"/>
                <a:ext cx="732960" cy="7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9200" y="2214360"/>
                <a:ext cx="73368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8480" y="2218320"/>
                <a:ext cx="73800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400" y="2218680"/>
                <a:ext cx="73944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3440" y="2222640"/>
                <a:ext cx="746280" cy="14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0920" y="2227320"/>
                <a:ext cx="75132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0920" y="2228040"/>
                <a:ext cx="752040" cy="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0200" y="2233800"/>
                <a:ext cx="752760" cy="61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9120" y="2241360"/>
                <a:ext cx="754200" cy="288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9120" y="2244600"/>
                <a:ext cx="757080" cy="255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9120" y="2270160"/>
                <a:ext cx="757080" cy="302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9120" y="2300400"/>
                <a:ext cx="757080" cy="302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120" y="2331000"/>
                <a:ext cx="757080" cy="30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19120" y="2361240"/>
                <a:ext cx="757080" cy="3024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9120" y="2391480"/>
                <a:ext cx="757080" cy="3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9120" y="2421720"/>
                <a:ext cx="757080" cy="316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9120" y="2453760"/>
                <a:ext cx="757080" cy="302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19120" y="2484000"/>
                <a:ext cx="757080" cy="3024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9120" y="2514600"/>
                <a:ext cx="757080" cy="3024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9120" y="2544840"/>
                <a:ext cx="757080" cy="3024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9120" y="2575080"/>
                <a:ext cx="757080" cy="302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9120" y="2605680"/>
                <a:ext cx="757080" cy="3024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9120" y="2635920"/>
                <a:ext cx="757080" cy="30240"/>
              </a:xfrm>
              <a:prstGeom prst="rect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9120" y="2666160"/>
                <a:ext cx="757080" cy="30240"/>
              </a:xfrm>
              <a:prstGeom prst="rect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9120" y="2696400"/>
                <a:ext cx="757080" cy="30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9120" y="2727720"/>
                <a:ext cx="757080" cy="2556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0200" y="2754720"/>
                <a:ext cx="753480" cy="72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0200" y="2755800"/>
                <a:ext cx="752760" cy="216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0200" y="2757960"/>
                <a:ext cx="752760" cy="432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0920" y="2763360"/>
                <a:ext cx="75132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2720" y="2765160"/>
                <a:ext cx="7484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5240" y="2768760"/>
                <a:ext cx="7430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9200" y="2773440"/>
                <a:ext cx="73548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2440" y="2777400"/>
                <a:ext cx="7304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3160" y="2778840"/>
                <a:ext cx="729000" cy="3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6760" y="2782080"/>
                <a:ext cx="7214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7480" y="2783520"/>
                <a:ext cx="720720" cy="3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9120" y="2209680"/>
                <a:ext cx="754200" cy="577800"/>
              </a:xfrm>
              <a:custGeom>
                <a:avLst/>
                <a:gdLst/>
                <a:ahLst/>
                <a:rect l="l" t="t" r="r" b="b"/>
                <a:pathLst>
                  <a:path w="916" h="743">
                    <a:moveTo>
                      <a:pt x="865" y="0"/>
                    </a:moveTo>
                    <a:lnTo>
                      <a:pt x="892" y="0"/>
                    </a:lnTo>
                    <a:lnTo>
                      <a:pt x="899" y="1"/>
                    </a:lnTo>
                    <a:lnTo>
                      <a:pt x="903" y="7"/>
                    </a:lnTo>
                    <a:lnTo>
                      <a:pt x="905" y="11"/>
                    </a:lnTo>
                    <a:lnTo>
                      <a:pt x="908" y="13"/>
                    </a:lnTo>
                    <a:lnTo>
                      <a:pt x="911" y="19"/>
                    </a:lnTo>
                    <a:lnTo>
                      <a:pt x="914" y="24"/>
                    </a:lnTo>
                    <a:lnTo>
                      <a:pt x="914" y="31"/>
                    </a:lnTo>
                    <a:lnTo>
                      <a:pt x="914" y="36"/>
                    </a:lnTo>
                    <a:lnTo>
                      <a:pt x="916" y="46"/>
                    </a:lnTo>
                    <a:lnTo>
                      <a:pt x="916" y="229"/>
                    </a:lnTo>
                    <a:lnTo>
                      <a:pt x="916" y="497"/>
                    </a:lnTo>
                    <a:lnTo>
                      <a:pt x="916" y="696"/>
                    </a:lnTo>
                    <a:lnTo>
                      <a:pt x="914" y="703"/>
                    </a:lnTo>
                    <a:lnTo>
                      <a:pt x="914" y="711"/>
                    </a:lnTo>
                    <a:lnTo>
                      <a:pt x="894" y="739"/>
                    </a:lnTo>
                    <a:lnTo>
                      <a:pt x="892" y="743"/>
                    </a:lnTo>
                    <a:lnTo>
                      <a:pt x="886" y="743"/>
                    </a:lnTo>
                    <a:lnTo>
                      <a:pt x="846" y="743"/>
                    </a:lnTo>
                    <a:lnTo>
                      <a:pt x="566" y="743"/>
                    </a:lnTo>
                    <a:lnTo>
                      <a:pt x="286" y="743"/>
                    </a:lnTo>
                    <a:lnTo>
                      <a:pt x="26" y="743"/>
                    </a:lnTo>
                    <a:lnTo>
                      <a:pt x="2" y="713"/>
                    </a:lnTo>
                    <a:lnTo>
                      <a:pt x="1" y="706"/>
                    </a:lnTo>
                    <a:lnTo>
                      <a:pt x="0" y="696"/>
                    </a:lnTo>
                    <a:lnTo>
                      <a:pt x="0" y="552"/>
                    </a:lnTo>
                    <a:lnTo>
                      <a:pt x="0" y="205"/>
                    </a:lnTo>
                    <a:lnTo>
                      <a:pt x="0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2"/>
                    </a:lnTo>
                    <a:lnTo>
                      <a:pt x="11" y="8"/>
                    </a:lnTo>
                    <a:lnTo>
                      <a:pt x="13" y="3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176" y="0"/>
                    </a:lnTo>
                    <a:lnTo>
                      <a:pt x="373" y="0"/>
                    </a:lnTo>
                    <a:lnTo>
                      <a:pt x="762" y="0"/>
                    </a:lnTo>
                    <a:lnTo>
                      <a:pt x="86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" y="2767320"/>
                <a:ext cx="745200" cy="20160"/>
              </a:xfrm>
              <a:custGeom>
                <a:avLst/>
                <a:gdLst/>
                <a:ahLst/>
                <a:rect l="l" t="t" r="r" b="b"/>
                <a:pathLst>
                  <a:path w="905" h="26">
                    <a:moveTo>
                      <a:pt x="0" y="0"/>
                    </a:moveTo>
                    <a:lnTo>
                      <a:pt x="21" y="24"/>
                    </a:lnTo>
                    <a:lnTo>
                      <a:pt x="887" y="26"/>
                    </a:lnTo>
                    <a:lnTo>
                      <a:pt x="9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2280" y="2297520"/>
                <a:ext cx="579240" cy="144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1560" y="2301120"/>
                <a:ext cx="583200" cy="21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0840" y="2303640"/>
                <a:ext cx="583920" cy="208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0840" y="2324520"/>
                <a:ext cx="583920" cy="2844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0840" y="2353320"/>
                <a:ext cx="583920" cy="295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00840" y="2383200"/>
                <a:ext cx="583920" cy="2916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0840" y="2412360"/>
                <a:ext cx="583920" cy="29520"/>
              </a:xfrm>
              <a:prstGeom prst="rect">
                <a:avLst/>
              </a:pr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840" y="2442240"/>
                <a:ext cx="583920" cy="2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0840" y="2471760"/>
                <a:ext cx="583920" cy="234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0840" y="2495160"/>
                <a:ext cx="584640" cy="61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0840" y="2501280"/>
                <a:ext cx="584640" cy="2916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0840" y="2530800"/>
                <a:ext cx="584640" cy="2952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0840" y="2560320"/>
                <a:ext cx="584640" cy="2844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0840" y="2589120"/>
                <a:ext cx="584640" cy="2952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0840" y="2618640"/>
                <a:ext cx="584640" cy="29160"/>
              </a:xfrm>
              <a:prstGeom prst="rect">
                <a:avLst/>
              </a:pr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0840" y="2648160"/>
                <a:ext cx="584640" cy="28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840" y="2676960"/>
                <a:ext cx="584640" cy="147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0840" y="2694240"/>
                <a:ext cx="582120" cy="144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560" y="2698920"/>
                <a:ext cx="579960" cy="3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560" y="2699640"/>
                <a:ext cx="578880" cy="72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3360" y="2703600"/>
                <a:ext cx="572400" cy="72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0840" y="2295000"/>
                <a:ext cx="583920" cy="408960"/>
              </a:xfrm>
              <a:custGeom>
                <a:avLst/>
                <a:gdLst/>
                <a:ahLst/>
                <a:rect l="l" t="t" r="r" b="b"/>
                <a:pathLst>
                  <a:path w="709" h="526">
                    <a:moveTo>
                      <a:pt x="3" y="0"/>
                    </a:moveTo>
                    <a:lnTo>
                      <a:pt x="2" y="7"/>
                    </a:lnTo>
                    <a:lnTo>
                      <a:pt x="0" y="11"/>
                    </a:lnTo>
                    <a:lnTo>
                      <a:pt x="0" y="518"/>
                    </a:lnTo>
                    <a:lnTo>
                      <a:pt x="2" y="521"/>
                    </a:lnTo>
                    <a:lnTo>
                      <a:pt x="3" y="525"/>
                    </a:lnTo>
                    <a:lnTo>
                      <a:pt x="692" y="526"/>
                    </a:lnTo>
                    <a:lnTo>
                      <a:pt x="695" y="525"/>
                    </a:lnTo>
                    <a:lnTo>
                      <a:pt x="700" y="523"/>
                    </a:lnTo>
                    <a:lnTo>
                      <a:pt x="701" y="520"/>
                    </a:lnTo>
                    <a:lnTo>
                      <a:pt x="709" y="508"/>
                    </a:lnTo>
                    <a:lnTo>
                      <a:pt x="707" y="8"/>
                    </a:lnTo>
                    <a:lnTo>
                      <a:pt x="701" y="1"/>
                    </a:lnTo>
                    <a:lnTo>
                      <a:pt x="688" y="0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3880" y="2310480"/>
                <a:ext cx="539640" cy="144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3880" y="2312280"/>
                <a:ext cx="541080" cy="72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1360" y="2314440"/>
                <a:ext cx="545040" cy="216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0640" y="2316960"/>
                <a:ext cx="545760" cy="2160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0640" y="2338560"/>
                <a:ext cx="545760" cy="29520"/>
              </a:xfrm>
              <a:prstGeom prst="rect">
                <a:avLst/>
              </a:prstGeom>
              <a:solidFill>
                <a:srgbClr val="99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0640" y="2368440"/>
                <a:ext cx="545760" cy="29160"/>
              </a:xfrm>
              <a:prstGeom prst="rect">
                <a:avLst/>
              </a:prstGeom>
              <a:solidFill>
                <a:srgbClr val="9bd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0640" y="2397600"/>
                <a:ext cx="545760" cy="28440"/>
              </a:xfrm>
              <a:prstGeom prst="rect">
                <a:avLst/>
              </a:prstGeom>
              <a:solidFill>
                <a:srgbClr val="9dd6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0640" y="2426400"/>
                <a:ext cx="545760" cy="29520"/>
              </a:xfrm>
              <a:prstGeom prst="rect">
                <a:avLst/>
              </a:prstGeom>
              <a:solidFill>
                <a:srgbClr val="a0d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0640" y="2456280"/>
                <a:ext cx="545760" cy="29520"/>
              </a:xfrm>
              <a:prstGeom prst="rect">
                <a:avLst/>
              </a:prstGeom>
              <a:solidFill>
                <a:srgbClr val="a2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0640" y="2485800"/>
                <a:ext cx="545760" cy="29160"/>
              </a:xfrm>
              <a:prstGeom prst="rect">
                <a:avLst/>
              </a:prstGeom>
              <a:solidFill>
                <a:srgbClr val="a4e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0640" y="2515320"/>
                <a:ext cx="545760" cy="29520"/>
              </a:xfrm>
              <a:prstGeom prst="rect">
                <a:avLst/>
              </a:prstGeom>
              <a:solidFill>
                <a:srgbClr val="a6e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640" y="2544840"/>
                <a:ext cx="545760" cy="29160"/>
              </a:xfrm>
              <a:prstGeom prst="rect">
                <a:avLst/>
              </a:prstGeom>
              <a:solidFill>
                <a:srgbClr val="a8e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640" y="2574360"/>
                <a:ext cx="545760" cy="29520"/>
              </a:xfrm>
              <a:prstGeom prst="rect">
                <a:avLst/>
              </a:prstGeom>
              <a:solidFill>
                <a:srgbClr val="aae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0640" y="2603880"/>
                <a:ext cx="545760" cy="29160"/>
              </a:xfrm>
              <a:prstGeom prst="rect">
                <a:avLst/>
              </a:prstGeom>
              <a:solidFill>
                <a:srgbClr val="aded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0640" y="2633400"/>
                <a:ext cx="545760" cy="28800"/>
              </a:xfrm>
              <a:prstGeom prst="rect">
                <a:avLst/>
              </a:prstGeom>
              <a:solidFill>
                <a:srgbClr val="aff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0640" y="2662200"/>
                <a:ext cx="545760" cy="1620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0640" y="2678400"/>
                <a:ext cx="544320" cy="360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0640" y="2682360"/>
                <a:ext cx="542520" cy="288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21360" y="2685600"/>
                <a:ext cx="541080" cy="144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3880" y="2689560"/>
                <a:ext cx="536040" cy="36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0640" y="2309040"/>
                <a:ext cx="544320" cy="380880"/>
              </a:xfrm>
              <a:custGeom>
                <a:avLst/>
                <a:gdLst/>
                <a:ahLst/>
                <a:rect l="l" t="t" r="r" b="b"/>
                <a:pathLst>
                  <a:path w="661" h="490">
                    <a:moveTo>
                      <a:pt x="5" y="0"/>
                    </a:moveTo>
                    <a:lnTo>
                      <a:pt x="3" y="6"/>
                    </a:lnTo>
                    <a:lnTo>
                      <a:pt x="0" y="10"/>
                    </a:lnTo>
                    <a:lnTo>
                      <a:pt x="0" y="483"/>
                    </a:lnTo>
                    <a:lnTo>
                      <a:pt x="3" y="486"/>
                    </a:lnTo>
                    <a:lnTo>
                      <a:pt x="5" y="490"/>
                    </a:lnTo>
                    <a:lnTo>
                      <a:pt x="650" y="489"/>
                    </a:lnTo>
                    <a:lnTo>
                      <a:pt x="652" y="490"/>
                    </a:lnTo>
                    <a:lnTo>
                      <a:pt x="654" y="489"/>
                    </a:lnTo>
                    <a:lnTo>
                      <a:pt x="657" y="485"/>
                    </a:lnTo>
                    <a:lnTo>
                      <a:pt x="661" y="473"/>
                    </a:lnTo>
                    <a:lnTo>
                      <a:pt x="661" y="7"/>
                    </a:lnTo>
                    <a:lnTo>
                      <a:pt x="657" y="0"/>
                    </a:lnTo>
                    <a:lnTo>
                      <a:pt x="644" y="0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41920" y="2750760"/>
                <a:ext cx="43560" cy="12960"/>
              </a:xfrm>
              <a:prstGeom prst="rect">
                <a:avLst/>
              </a:prstGeom>
              <a:solidFill>
                <a:srgbClr val="a6a6a6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8600" y="3083760"/>
                <a:ext cx="1063440" cy="192600"/>
              </a:xfrm>
              <a:custGeom>
                <a:avLst/>
                <a:gdLst/>
                <a:ahLst/>
                <a:rect l="l" t="t" r="r" b="b"/>
                <a:pathLst>
                  <a:path w="1291" h="248">
                    <a:moveTo>
                      <a:pt x="1275" y="248"/>
                    </a:moveTo>
                    <a:lnTo>
                      <a:pt x="1280" y="242"/>
                    </a:lnTo>
                    <a:lnTo>
                      <a:pt x="1288" y="231"/>
                    </a:lnTo>
                    <a:lnTo>
                      <a:pt x="1291" y="214"/>
                    </a:lnTo>
                    <a:lnTo>
                      <a:pt x="1290" y="197"/>
                    </a:lnTo>
                    <a:lnTo>
                      <a:pt x="1283" y="177"/>
                    </a:lnTo>
                    <a:lnTo>
                      <a:pt x="1277" y="170"/>
                    </a:lnTo>
                    <a:lnTo>
                      <a:pt x="1139" y="0"/>
                    </a:lnTo>
                    <a:lnTo>
                      <a:pt x="1035" y="0"/>
                    </a:lnTo>
                    <a:lnTo>
                      <a:pt x="354" y="0"/>
                    </a:lnTo>
                    <a:lnTo>
                      <a:pt x="149" y="0"/>
                    </a:lnTo>
                    <a:lnTo>
                      <a:pt x="16" y="170"/>
                    </a:lnTo>
                    <a:lnTo>
                      <a:pt x="8" y="182"/>
                    </a:lnTo>
                    <a:lnTo>
                      <a:pt x="2" y="194"/>
                    </a:lnTo>
                    <a:lnTo>
                      <a:pt x="0" y="214"/>
                    </a:lnTo>
                    <a:lnTo>
                      <a:pt x="1" y="225"/>
                    </a:lnTo>
                    <a:lnTo>
                      <a:pt x="8" y="243"/>
                    </a:lnTo>
                    <a:lnTo>
                      <a:pt x="12" y="248"/>
                    </a:lnTo>
                    <a:lnTo>
                      <a:pt x="57" y="248"/>
                    </a:lnTo>
                    <a:lnTo>
                      <a:pt x="1275" y="248"/>
                    </a:lnTo>
                    <a:close/>
                  </a:path>
                </a:pathLst>
              </a:custGeom>
              <a:solidFill>
                <a:srgbClr val="cccccc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2680" y="3114360"/>
                <a:ext cx="153360" cy="9324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0" y="117"/>
                    </a:moveTo>
                    <a:lnTo>
                      <a:pt x="6" y="110"/>
                    </a:lnTo>
                    <a:lnTo>
                      <a:pt x="87" y="5"/>
                    </a:lnTo>
                    <a:lnTo>
                      <a:pt x="128" y="0"/>
                    </a:lnTo>
                    <a:lnTo>
                      <a:pt x="132" y="7"/>
                    </a:lnTo>
                    <a:lnTo>
                      <a:pt x="177" y="7"/>
                    </a:lnTo>
                    <a:lnTo>
                      <a:pt x="184" y="2"/>
                    </a:lnTo>
                    <a:lnTo>
                      <a:pt x="186" y="7"/>
                    </a:lnTo>
                    <a:lnTo>
                      <a:pt x="112" y="120"/>
                    </a:lnTo>
                    <a:lnTo>
                      <a:pt x="1" y="120"/>
                    </a:lnTo>
                    <a:lnTo>
                      <a:pt x="1" y="117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1a1a1a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0160" y="3096360"/>
                <a:ext cx="942840" cy="109440"/>
              </a:xfrm>
              <a:custGeom>
                <a:avLst/>
                <a:gdLst/>
                <a:ahLst/>
                <a:rect l="l" t="t" r="r" b="b"/>
                <a:pathLst>
                  <a:path w="1145" h="141">
                    <a:moveTo>
                      <a:pt x="1082" y="141"/>
                    </a:moveTo>
                    <a:lnTo>
                      <a:pt x="1145" y="141"/>
                    </a:lnTo>
                    <a:lnTo>
                      <a:pt x="1044" y="0"/>
                    </a:lnTo>
                    <a:lnTo>
                      <a:pt x="110" y="0"/>
                    </a:lnTo>
                    <a:lnTo>
                      <a:pt x="0" y="141"/>
                    </a:lnTo>
                    <a:lnTo>
                      <a:pt x="1088" y="141"/>
                    </a:lnTo>
                    <a:lnTo>
                      <a:pt x="1082" y="141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5920" y="3184200"/>
                <a:ext cx="50760" cy="18360"/>
              </a:xfrm>
              <a:custGeom>
                <a:avLst/>
                <a:gdLst/>
                <a:ahLst/>
                <a:rect l="l" t="t" r="r" b="b"/>
                <a:pathLst>
                  <a:path w="62" h="24">
                    <a:moveTo>
                      <a:pt x="15" y="0"/>
                    </a:moveTo>
                    <a:lnTo>
                      <a:pt x="0" y="24"/>
                    </a:lnTo>
                    <a:lnTo>
                      <a:pt x="45" y="24"/>
                    </a:lnTo>
                    <a:lnTo>
                      <a:pt x="62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9960" y="3164760"/>
                <a:ext cx="51840" cy="17640"/>
              </a:xfrm>
              <a:custGeom>
                <a:avLst/>
                <a:gdLst/>
                <a:ahLst/>
                <a:rect l="l" t="t" r="r" b="b"/>
                <a:pathLst>
                  <a:path w="63" h="23">
                    <a:moveTo>
                      <a:pt x="17" y="0"/>
                    </a:moveTo>
                    <a:lnTo>
                      <a:pt x="0" y="23"/>
                    </a:lnTo>
                    <a:lnTo>
                      <a:pt x="46" y="23"/>
                    </a:lnTo>
                    <a:lnTo>
                      <a:pt x="63" y="0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8320" y="3147480"/>
                <a:ext cx="46800" cy="1296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13" y="0"/>
                    </a:moveTo>
                    <a:lnTo>
                      <a:pt x="0" y="17"/>
                    </a:lnTo>
                    <a:lnTo>
                      <a:pt x="42" y="17"/>
                    </a:lnTo>
                    <a:lnTo>
                      <a:pt x="57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1280" y="3128760"/>
                <a:ext cx="46080" cy="1404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4" y="0"/>
                    </a:moveTo>
                    <a:lnTo>
                      <a:pt x="0" y="18"/>
                    </a:lnTo>
                    <a:lnTo>
                      <a:pt x="42" y="18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5320" y="3114360"/>
                <a:ext cx="43200" cy="1296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13" y="0"/>
                    </a:moveTo>
                    <a:lnTo>
                      <a:pt x="0" y="17"/>
                    </a:lnTo>
                    <a:lnTo>
                      <a:pt x="40" y="17"/>
                    </a:lnTo>
                    <a:lnTo>
                      <a:pt x="53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9840" y="3185640"/>
                <a:ext cx="52560" cy="1692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17" y="0"/>
                    </a:moveTo>
                    <a:lnTo>
                      <a:pt x="0" y="22"/>
                    </a:lnTo>
                    <a:lnTo>
                      <a:pt x="47" y="22"/>
                    </a:lnTo>
                    <a:lnTo>
                      <a:pt x="64" y="0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5320" y="3165480"/>
                <a:ext cx="51480" cy="16920"/>
              </a:xfrm>
              <a:custGeom>
                <a:avLst/>
                <a:gdLst/>
                <a:ahLst/>
                <a:rect l="l" t="t" r="r" b="b"/>
                <a:pathLst>
                  <a:path w="63" h="22">
                    <a:moveTo>
                      <a:pt x="17" y="0"/>
                    </a:moveTo>
                    <a:lnTo>
                      <a:pt x="0" y="22"/>
                    </a:lnTo>
                    <a:lnTo>
                      <a:pt x="46" y="22"/>
                    </a:lnTo>
                    <a:lnTo>
                      <a:pt x="63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0080" y="3148560"/>
                <a:ext cx="46800" cy="1296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15" y="0"/>
                    </a:moveTo>
                    <a:lnTo>
                      <a:pt x="0" y="17"/>
                    </a:lnTo>
                    <a:lnTo>
                      <a:pt x="45" y="17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4840" y="3131280"/>
                <a:ext cx="44280" cy="1368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14" y="0"/>
                    </a:moveTo>
                    <a:lnTo>
                      <a:pt x="0" y="18"/>
                    </a:lnTo>
                    <a:lnTo>
                      <a:pt x="41" y="18"/>
                    </a:lnTo>
                    <a:lnTo>
                      <a:pt x="54" y="0"/>
                    </a:lnTo>
                    <a:lnTo>
                      <a:pt x="11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8160" y="3114360"/>
                <a:ext cx="46080" cy="1368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5" y="0"/>
                    </a:moveTo>
                    <a:lnTo>
                      <a:pt x="0" y="18"/>
                    </a:lnTo>
                    <a:lnTo>
                      <a:pt x="42" y="18"/>
                    </a:lnTo>
                    <a:lnTo>
                      <a:pt x="56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58040" y="3118680"/>
                <a:ext cx="152280" cy="85320"/>
              </a:xfrm>
              <a:custGeom>
                <a:avLst/>
                <a:gdLst/>
                <a:ahLst/>
                <a:rect l="l" t="t" r="r" b="b"/>
                <a:pathLst>
                  <a:path w="185" h="110">
                    <a:moveTo>
                      <a:pt x="0" y="0"/>
                    </a:moveTo>
                    <a:lnTo>
                      <a:pt x="45" y="101"/>
                    </a:lnTo>
                    <a:lnTo>
                      <a:pt x="51" y="110"/>
                    </a:lnTo>
                    <a:lnTo>
                      <a:pt x="185" y="110"/>
                    </a:lnTo>
                    <a:lnTo>
                      <a:pt x="1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58040" y="311868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1" y="0"/>
                    </a:moveTo>
                    <a:lnTo>
                      <a:pt x="28" y="0"/>
                    </a:lnTo>
                    <a:lnTo>
                      <a:pt x="39" y="21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23200" y="3118680"/>
                <a:ext cx="36000" cy="1620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1" y="0"/>
                    </a:moveTo>
                    <a:lnTo>
                      <a:pt x="27" y="0"/>
                    </a:lnTo>
                    <a:lnTo>
                      <a:pt x="44" y="21"/>
                    </a:lnTo>
                    <a:lnTo>
                      <a:pt x="12" y="2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90080" y="3117960"/>
                <a:ext cx="35280" cy="1692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" y="0"/>
                    </a:moveTo>
                    <a:lnTo>
                      <a:pt x="29" y="0"/>
                    </a:lnTo>
                    <a:lnTo>
                      <a:pt x="43" y="22"/>
                    </a:lnTo>
                    <a:lnTo>
                      <a:pt x="10" y="2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65600" y="313668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2" y="0"/>
                    </a:moveTo>
                    <a:lnTo>
                      <a:pt x="31" y="0"/>
                    </a:lnTo>
                    <a:lnTo>
                      <a:pt x="42" y="23"/>
                    </a:lnTo>
                    <a:lnTo>
                      <a:pt x="9" y="2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36880" y="3136680"/>
                <a:ext cx="38520" cy="1764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0" y="0"/>
                    </a:moveTo>
                    <a:lnTo>
                      <a:pt x="28" y="0"/>
                    </a:lnTo>
                    <a:lnTo>
                      <a:pt x="47" y="23"/>
                    </a:lnTo>
                    <a:lnTo>
                      <a:pt x="1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01600" y="31359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2" y="1"/>
                    </a:moveTo>
                    <a:lnTo>
                      <a:pt x="31" y="1"/>
                    </a:lnTo>
                    <a:lnTo>
                      <a:pt x="47" y="24"/>
                    </a:lnTo>
                    <a:lnTo>
                      <a:pt x="11" y="2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76040" y="3156840"/>
                <a:ext cx="36000" cy="2160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1" y="0"/>
                    </a:moveTo>
                    <a:lnTo>
                      <a:pt x="33" y="0"/>
                    </a:lnTo>
                    <a:lnTo>
                      <a:pt x="44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50920" y="3156840"/>
                <a:ext cx="42840" cy="2160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2" y="0"/>
                    </a:moveTo>
                    <a:lnTo>
                      <a:pt x="32" y="0"/>
                    </a:lnTo>
                    <a:lnTo>
                      <a:pt x="52" y="28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14200" y="3156840"/>
                <a:ext cx="41760" cy="2160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1" y="0"/>
                    </a:moveTo>
                    <a:lnTo>
                      <a:pt x="34" y="0"/>
                    </a:lnTo>
                    <a:lnTo>
                      <a:pt x="51" y="28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087560" y="318168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2" y="0"/>
                    </a:moveTo>
                    <a:lnTo>
                      <a:pt x="36" y="0"/>
                    </a:lnTo>
                    <a:lnTo>
                      <a:pt x="48" y="29"/>
                    </a:lnTo>
                    <a:lnTo>
                      <a:pt x="9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69280" y="3182760"/>
                <a:ext cx="47520" cy="2304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2" y="0"/>
                    </a:moveTo>
                    <a:lnTo>
                      <a:pt x="36" y="0"/>
                    </a:lnTo>
                    <a:lnTo>
                      <a:pt x="58" y="30"/>
                    </a:lnTo>
                    <a:lnTo>
                      <a:pt x="17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27160" y="3180240"/>
                <a:ext cx="45360" cy="2412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2" y="3"/>
                    </a:moveTo>
                    <a:lnTo>
                      <a:pt x="38" y="3"/>
                    </a:lnTo>
                    <a:lnTo>
                      <a:pt x="55" y="31"/>
                    </a:lnTo>
                    <a:lnTo>
                      <a:pt x="15" y="31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9760" y="3118680"/>
                <a:ext cx="648000" cy="87120"/>
              </a:xfrm>
              <a:custGeom>
                <a:avLst/>
                <a:gdLst/>
                <a:ahLst/>
                <a:rect l="l" t="t" r="r" b="b"/>
                <a:pathLst>
                  <a:path w="787" h="112">
                    <a:moveTo>
                      <a:pt x="787" y="112"/>
                    </a:moveTo>
                    <a:lnTo>
                      <a:pt x="745" y="0"/>
                    </a:lnTo>
                    <a:lnTo>
                      <a:pt x="62" y="0"/>
                    </a:lnTo>
                    <a:lnTo>
                      <a:pt x="0" y="112"/>
                    </a:lnTo>
                    <a:lnTo>
                      <a:pt x="787" y="11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1840" y="312048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5" y="0"/>
                    </a:moveTo>
                    <a:lnTo>
                      <a:pt x="0" y="24"/>
                    </a:lnTo>
                    <a:lnTo>
                      <a:pt x="44" y="24"/>
                    </a:lnTo>
                    <a:lnTo>
                      <a:pt x="47" y="0"/>
                    </a:lnTo>
                    <a:lnTo>
                      <a:pt x="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7520" y="314136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" y="0"/>
                    </a:moveTo>
                    <a:lnTo>
                      <a:pt x="0" y="25"/>
                    </a:lnTo>
                    <a:lnTo>
                      <a:pt x="44" y="25"/>
                    </a:lnTo>
                    <a:lnTo>
                      <a:pt x="46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4280" y="3162960"/>
                <a:ext cx="37080" cy="183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" y="0"/>
                    </a:moveTo>
                    <a:lnTo>
                      <a:pt x="0" y="24"/>
                    </a:lnTo>
                    <a:lnTo>
                      <a:pt x="43" y="24"/>
                    </a:lnTo>
                    <a:lnTo>
                      <a:pt x="45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760" y="3183480"/>
                <a:ext cx="3708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0" y="25"/>
                    </a:lnTo>
                    <a:lnTo>
                      <a:pt x="41" y="25"/>
                    </a:lnTo>
                    <a:lnTo>
                      <a:pt x="45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49720" y="3120480"/>
                <a:ext cx="39600" cy="18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" y="0"/>
                    </a:moveTo>
                    <a:lnTo>
                      <a:pt x="0" y="24"/>
                    </a:lnTo>
                    <a:lnTo>
                      <a:pt x="45" y="24"/>
                    </a:lnTo>
                    <a:lnTo>
                      <a:pt x="48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3240" y="314136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4" y="0"/>
                    </a:moveTo>
                    <a:lnTo>
                      <a:pt x="0" y="25"/>
                    </a:lnTo>
                    <a:lnTo>
                      <a:pt x="47" y="25"/>
                    </a:lnTo>
                    <a:lnTo>
                      <a:pt x="5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8200" y="3162960"/>
                <a:ext cx="43200" cy="183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" y="0"/>
                    </a:moveTo>
                    <a:lnTo>
                      <a:pt x="0" y="24"/>
                    </a:lnTo>
                    <a:lnTo>
                      <a:pt x="46" y="24"/>
                    </a:lnTo>
                    <a:lnTo>
                      <a:pt x="53" y="0"/>
                    </a:lnTo>
                    <a:lnTo>
                      <a:pt x="1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33880" y="3183480"/>
                <a:ext cx="41760" cy="1908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4" y="0"/>
                    </a:moveTo>
                    <a:lnTo>
                      <a:pt x="0" y="25"/>
                    </a:lnTo>
                    <a:lnTo>
                      <a:pt x="47" y="25"/>
                    </a:lnTo>
                    <a:lnTo>
                      <a:pt x="5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4360" y="3120480"/>
                <a:ext cx="41760" cy="1836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2" y="0"/>
                    </a:moveTo>
                    <a:lnTo>
                      <a:pt x="0" y="24"/>
                    </a:lnTo>
                    <a:lnTo>
                      <a:pt x="46" y="24"/>
                    </a:lnTo>
                    <a:lnTo>
                      <a:pt x="5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7880" y="3141360"/>
                <a:ext cx="43560" cy="190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5" y="0"/>
                    </a:moveTo>
                    <a:lnTo>
                      <a:pt x="0" y="25"/>
                    </a:lnTo>
                    <a:lnTo>
                      <a:pt x="49" y="25"/>
                    </a:lnTo>
                    <a:lnTo>
                      <a:pt x="5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9600" y="316296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" y="0"/>
                    </a:moveTo>
                    <a:lnTo>
                      <a:pt x="0" y="24"/>
                    </a:lnTo>
                    <a:lnTo>
                      <a:pt x="48" y="24"/>
                    </a:lnTo>
                    <a:lnTo>
                      <a:pt x="54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60" y="318348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3" y="0"/>
                    </a:moveTo>
                    <a:lnTo>
                      <a:pt x="0" y="25"/>
                    </a:lnTo>
                    <a:lnTo>
                      <a:pt x="46" y="25"/>
                    </a:lnTo>
                    <a:lnTo>
                      <a:pt x="50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7560" y="3118680"/>
                <a:ext cx="44640" cy="417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0"/>
                    </a:moveTo>
                    <a:lnTo>
                      <a:pt x="43" y="54"/>
                    </a:lnTo>
                    <a:lnTo>
                      <a:pt x="0" y="54"/>
                    </a:lnTo>
                    <a:lnTo>
                      <a:pt x="2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3960" y="31204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" y="0"/>
                    </a:moveTo>
                    <a:lnTo>
                      <a:pt x="0" y="24"/>
                    </a:lnTo>
                    <a:lnTo>
                      <a:pt x="42" y="24"/>
                    </a:lnTo>
                    <a:lnTo>
                      <a:pt x="44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0360" y="314136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5" y="0"/>
                    </a:moveTo>
                    <a:lnTo>
                      <a:pt x="0" y="25"/>
                    </a:lnTo>
                    <a:lnTo>
                      <a:pt x="42" y="25"/>
                    </a:lnTo>
                    <a:lnTo>
                      <a:pt x="46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5680" y="31629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5" y="0"/>
                    </a:moveTo>
                    <a:lnTo>
                      <a:pt x="0" y="24"/>
                    </a:lnTo>
                    <a:lnTo>
                      <a:pt x="44" y="24"/>
                    </a:lnTo>
                    <a:lnTo>
                      <a:pt x="47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3880" y="3183480"/>
                <a:ext cx="3708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0" y="25"/>
                    </a:lnTo>
                    <a:lnTo>
                      <a:pt x="40" y="25"/>
                    </a:lnTo>
                    <a:lnTo>
                      <a:pt x="45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5000" y="3120480"/>
                <a:ext cx="35280" cy="1692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3" y="0"/>
                    </a:moveTo>
                    <a:lnTo>
                      <a:pt x="0" y="22"/>
                    </a:lnTo>
                    <a:lnTo>
                      <a:pt x="39" y="22"/>
                    </a:lnTo>
                    <a:lnTo>
                      <a:pt x="4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2480" y="31413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1" y="0"/>
                    </a:moveTo>
                    <a:lnTo>
                      <a:pt x="0" y="25"/>
                    </a:lnTo>
                    <a:lnTo>
                      <a:pt x="39" y="25"/>
                    </a:lnTo>
                    <a:lnTo>
                      <a:pt x="4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9960" y="3162960"/>
                <a:ext cx="32040" cy="183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" y="0"/>
                    </a:moveTo>
                    <a:lnTo>
                      <a:pt x="0" y="24"/>
                    </a:lnTo>
                    <a:lnTo>
                      <a:pt x="37" y="24"/>
                    </a:lnTo>
                    <a:lnTo>
                      <a:pt x="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6000" y="31856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" y="0"/>
                    </a:moveTo>
                    <a:lnTo>
                      <a:pt x="0" y="24"/>
                    </a:lnTo>
                    <a:lnTo>
                      <a:pt x="36" y="24"/>
                    </a:lnTo>
                    <a:lnTo>
                      <a:pt x="4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72640" y="3120480"/>
                <a:ext cx="40320" cy="16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4" y="0"/>
                    </a:moveTo>
                    <a:lnTo>
                      <a:pt x="49" y="22"/>
                    </a:lnTo>
                    <a:lnTo>
                      <a:pt x="3" y="22"/>
                    </a:lnTo>
                    <a:lnTo>
                      <a:pt x="0" y="0"/>
                    </a:lnTo>
                    <a:lnTo>
                      <a:pt x="4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76960" y="3141360"/>
                <a:ext cx="385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5" y="0"/>
                    </a:moveTo>
                    <a:lnTo>
                      <a:pt x="47" y="25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80920" y="31629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5" y="0"/>
                    </a:moveTo>
                    <a:lnTo>
                      <a:pt x="47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85960" y="318348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42" y="0"/>
                    </a:moveTo>
                    <a:lnTo>
                      <a:pt x="46" y="27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14760" y="312048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0"/>
                    </a:moveTo>
                    <a:lnTo>
                      <a:pt x="48" y="22"/>
                    </a:lnTo>
                    <a:lnTo>
                      <a:pt x="4" y="22"/>
                    </a:lnTo>
                    <a:lnTo>
                      <a:pt x="0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919440" y="314136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45" y="0"/>
                    </a:moveTo>
                    <a:lnTo>
                      <a:pt x="50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20520" y="3162960"/>
                <a:ext cx="43200" cy="183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1" y="0"/>
                    </a:moveTo>
                    <a:lnTo>
                      <a:pt x="53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26280" y="3183480"/>
                <a:ext cx="41760" cy="2088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48" y="0"/>
                    </a:moveTo>
                    <a:lnTo>
                      <a:pt x="51" y="27"/>
                    </a:lnTo>
                    <a:lnTo>
                      <a:pt x="4" y="27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56880" y="3120480"/>
                <a:ext cx="42480" cy="16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48" y="0"/>
                    </a:moveTo>
                    <a:lnTo>
                      <a:pt x="52" y="22"/>
                    </a:lnTo>
                    <a:lnTo>
                      <a:pt x="5" y="22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60840" y="3141360"/>
                <a:ext cx="43200" cy="190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49" y="0"/>
                    </a:moveTo>
                    <a:lnTo>
                      <a:pt x="53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65880" y="3162960"/>
                <a:ext cx="43560" cy="183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8" y="0"/>
                    </a:moveTo>
                    <a:lnTo>
                      <a:pt x="53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69120" y="3183480"/>
                <a:ext cx="43560" cy="2088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50" y="0"/>
                    </a:moveTo>
                    <a:lnTo>
                      <a:pt x="53" y="27"/>
                    </a:lnTo>
                    <a:lnTo>
                      <a:pt x="5" y="2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03680" y="312048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9" y="52"/>
                    </a:lnTo>
                    <a:lnTo>
                      <a:pt x="52" y="52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5560" y="312048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0" y="0"/>
                    </a:moveTo>
                    <a:lnTo>
                      <a:pt x="44" y="22"/>
                    </a:lnTo>
                    <a:lnTo>
                      <a:pt x="2" y="2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8080" y="3141360"/>
                <a:ext cx="36000" cy="1908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41" y="0"/>
                    </a:moveTo>
                    <a:lnTo>
                      <a:pt x="44" y="25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0600" y="3162960"/>
                <a:ext cx="36720" cy="183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1" y="0"/>
                    </a:moveTo>
                    <a:lnTo>
                      <a:pt x="45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44560" y="318348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40" y="0"/>
                    </a:moveTo>
                    <a:lnTo>
                      <a:pt x="46" y="27"/>
                    </a:lnTo>
                    <a:lnTo>
                      <a:pt x="2" y="2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3800" y="312048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2" y="0"/>
                    </a:moveTo>
                    <a:lnTo>
                      <a:pt x="44" y="22"/>
                    </a:lnTo>
                    <a:lnTo>
                      <a:pt x="4" y="22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7040" y="3141360"/>
                <a:ext cx="3708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2" y="0"/>
                    </a:moveTo>
                    <a:lnTo>
                      <a:pt x="45" y="25"/>
                    </a:lnTo>
                    <a:lnTo>
                      <a:pt x="6" y="25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2080" y="3162960"/>
                <a:ext cx="34200" cy="1944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39" y="0"/>
                    </a:moveTo>
                    <a:lnTo>
                      <a:pt x="42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6040" y="3185640"/>
                <a:ext cx="32760" cy="183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8" y="0"/>
                    </a:moveTo>
                    <a:lnTo>
                      <a:pt x="40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4600" y="312048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" y="0"/>
                    </a:moveTo>
                    <a:lnTo>
                      <a:pt x="0" y="22"/>
                    </a:lnTo>
                    <a:lnTo>
                      <a:pt x="40" y="22"/>
                    </a:lnTo>
                    <a:lnTo>
                      <a:pt x="4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1360" y="3141360"/>
                <a:ext cx="35280" cy="1908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3" y="0"/>
                    </a:moveTo>
                    <a:lnTo>
                      <a:pt x="0" y="25"/>
                    </a:lnTo>
                    <a:lnTo>
                      <a:pt x="39" y="25"/>
                    </a:lnTo>
                    <a:lnTo>
                      <a:pt x="4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9560" y="3162960"/>
                <a:ext cx="32760" cy="183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" y="0"/>
                    </a:moveTo>
                    <a:lnTo>
                      <a:pt x="0" y="24"/>
                    </a:lnTo>
                    <a:lnTo>
                      <a:pt x="38" y="24"/>
                    </a:lnTo>
                    <a:lnTo>
                      <a:pt x="4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4520" y="31856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" y="0"/>
                    </a:moveTo>
                    <a:lnTo>
                      <a:pt x="0" y="24"/>
                    </a:lnTo>
                    <a:lnTo>
                      <a:pt x="36" y="24"/>
                    </a:lnTo>
                    <a:lnTo>
                      <a:pt x="4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6640" y="316296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4" y="2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4000" y="3162960"/>
                <a:ext cx="22680" cy="183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" y="24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8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3400" y="318564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0"/>
                    </a:moveTo>
                    <a:lnTo>
                      <a:pt x="30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7240" y="3185640"/>
                <a:ext cx="21960" cy="183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4920" y="31204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1" y="0"/>
                    </a:moveTo>
                    <a:lnTo>
                      <a:pt x="2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0600" y="314136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49" y="0"/>
                    </a:moveTo>
                    <a:lnTo>
                      <a:pt x="4" y="0"/>
                    </a:lnTo>
                    <a:lnTo>
                      <a:pt x="0" y="25"/>
                    </a:lnTo>
                    <a:lnTo>
                      <a:pt x="52" y="2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11240" y="3162960"/>
                <a:ext cx="53280" cy="3960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8" y="51"/>
                    </a:lnTo>
                    <a:lnTo>
                      <a:pt x="65" y="51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1760" y="318348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90" y="0"/>
                    </a:moveTo>
                    <a:lnTo>
                      <a:pt x="83" y="29"/>
                    </a:lnTo>
                    <a:lnTo>
                      <a:pt x="0" y="27"/>
                    </a:lnTo>
                    <a:lnTo>
                      <a:pt x="13" y="3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1295280" y="2666880"/>
            <a:ext cx="1524240" cy="381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8080" y="3352680"/>
            <a:ext cx="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8600" y="3962520"/>
            <a:ext cx="914400" cy="1141200"/>
            <a:chOff x="228600" y="3962520"/>
            <a:chExt cx="914400" cy="1141200"/>
          </a:xfrm>
        </p:grpSpPr>
        <p:sp>
          <p:nvSpPr>
            <p:cNvPr id="426" name=""/>
            <p:cNvSpPr/>
            <p:nvPr/>
          </p:nvSpPr>
          <p:spPr>
            <a:xfrm>
              <a:off x="228600" y="4100400"/>
              <a:ext cx="914400" cy="10033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4080" y="3962520"/>
              <a:ext cx="13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8640" y="44686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480000" y="12952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ventis P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315200" y="3886200"/>
            <a:ext cx="762120" cy="1218960"/>
            <a:chOff x="7315200" y="3886200"/>
            <a:chExt cx="762120" cy="1218960"/>
          </a:xfrm>
        </p:grpSpPr>
        <p:sp>
          <p:nvSpPr>
            <p:cNvPr id="431" name=""/>
            <p:cNvSpPr/>
            <p:nvPr/>
          </p:nvSpPr>
          <p:spPr>
            <a:xfrm>
              <a:off x="7315200" y="4033440"/>
              <a:ext cx="762120" cy="1071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18600" y="3886200"/>
              <a:ext cx="183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6720" y="442692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V="1">
            <a:off x="2133720" y="4038120"/>
            <a:ext cx="1066680" cy="381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654120" cy="1147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V="1">
            <a:off x="7620120" y="327636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23623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029200" y="2438280"/>
            <a:ext cx="213372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4267080"/>
            <a:ext cx="83808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431200">
            <a:off x="2209680" y="4190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773400">
            <a:off x="1523520" y="2590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773400">
            <a:off x="1523520" y="281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752480" y="4114800"/>
            <a:ext cx="393840" cy="69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6324480" y="4038480"/>
            <a:ext cx="393840" cy="6908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 flipV="1">
            <a:off x="1219320" y="4495320"/>
            <a:ext cx="53316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6705360" y="4419360"/>
            <a:ext cx="609480" cy="152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62680" y="541008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96600" y="541008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828800" y="4876560"/>
            <a:ext cx="763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019920" y="480024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0431200">
            <a:off x="2438280" y="3885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877800">
            <a:off x="5562360" y="4038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2666880"/>
            <a:ext cx="2819160" cy="1990800"/>
            <a:chOff x="2819520" y="2666880"/>
            <a:chExt cx="2819160" cy="1990800"/>
          </a:xfrm>
        </p:grpSpPr>
        <p:sp>
          <p:nvSpPr>
            <p:cNvPr id="454" name=""/>
            <p:cNvSpPr/>
            <p:nvPr/>
          </p:nvSpPr>
          <p:spPr>
            <a:xfrm>
              <a:off x="2819520" y="2701800"/>
              <a:ext cx="841320" cy="8319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0320" y="2889360"/>
              <a:ext cx="1595520" cy="15811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3073320"/>
              <a:ext cx="328320" cy="422280"/>
            </a:xfrm>
            <a:custGeom>
              <a:avLst/>
              <a:gdLst/>
              <a:ahLst/>
              <a:rect l="l" t="t" r="r" b="b"/>
              <a:pathLst>
                <a:path w="264" h="341">
                  <a:moveTo>
                    <a:pt x="226" y="0"/>
                  </a:moveTo>
                  <a:lnTo>
                    <a:pt x="0" y="298"/>
                  </a:lnTo>
                  <a:lnTo>
                    <a:pt x="112" y="341"/>
                  </a:lnTo>
                  <a:lnTo>
                    <a:pt x="264" y="2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5520" y="3076560"/>
              <a:ext cx="1595520" cy="15811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78520" y="3354480"/>
              <a:ext cx="560160" cy="5540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9520" y="4194000"/>
              <a:ext cx="371520" cy="3700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89520" y="3166920"/>
              <a:ext cx="371520" cy="366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84920" y="3728880"/>
              <a:ext cx="558720" cy="5540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38560" y="2701800"/>
              <a:ext cx="841320" cy="8319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8320" y="3541680"/>
              <a:ext cx="841320" cy="8352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00400" y="2666880"/>
              <a:ext cx="2097000" cy="1791000"/>
            </a:xfrm>
            <a:custGeom>
              <a:avLst/>
              <a:gdLst/>
              <a:ahLst/>
              <a:rect l="l" t="t" r="r" b="b"/>
              <a:pathLst>
                <a:path w="1687" h="1453">
                  <a:moveTo>
                    <a:pt x="398" y="0"/>
                  </a:moveTo>
                  <a:lnTo>
                    <a:pt x="704" y="180"/>
                  </a:lnTo>
                  <a:lnTo>
                    <a:pt x="1073" y="133"/>
                  </a:lnTo>
                  <a:lnTo>
                    <a:pt x="1308" y="483"/>
                  </a:lnTo>
                  <a:lnTo>
                    <a:pt x="1370" y="510"/>
                  </a:lnTo>
                  <a:lnTo>
                    <a:pt x="1535" y="620"/>
                  </a:lnTo>
                  <a:lnTo>
                    <a:pt x="1578" y="710"/>
                  </a:lnTo>
                  <a:lnTo>
                    <a:pt x="1687" y="871"/>
                  </a:lnTo>
                  <a:lnTo>
                    <a:pt x="1669" y="923"/>
                  </a:lnTo>
                  <a:lnTo>
                    <a:pt x="1413" y="1397"/>
                  </a:lnTo>
                  <a:lnTo>
                    <a:pt x="1234" y="1453"/>
                  </a:lnTo>
                  <a:lnTo>
                    <a:pt x="647" y="1401"/>
                  </a:lnTo>
                  <a:lnTo>
                    <a:pt x="605" y="1325"/>
                  </a:lnTo>
                  <a:lnTo>
                    <a:pt x="218" y="1240"/>
                  </a:lnTo>
                  <a:lnTo>
                    <a:pt x="146" y="1273"/>
                  </a:lnTo>
                  <a:lnTo>
                    <a:pt x="0" y="491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55280" y="322416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819520" y="2895480"/>
              <a:ext cx="2133360" cy="152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00400" y="4038480"/>
              <a:ext cx="220968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54440" y="129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anken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37920" y="1870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nlin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19400" y="4724280"/>
            <a:ext cx="27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utom. Datenaustau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280" y="3657600"/>
            <a:ext cx="87631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880200">
            <a:off x="6630840" y="464796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O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20093400">
            <a:off x="1145520" y="4724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02080" y="640080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insatz des Business Conn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462040" y="3962520"/>
            <a:ext cx="6400800" cy="2759400"/>
            <a:chOff x="2462040" y="3962520"/>
            <a:chExt cx="6400800" cy="2759400"/>
          </a:xfrm>
        </p:grpSpPr>
        <p:sp>
          <p:nvSpPr>
            <p:cNvPr id="479" name=""/>
            <p:cNvSpPr/>
            <p:nvPr/>
          </p:nvSpPr>
          <p:spPr>
            <a:xfrm>
              <a:off x="2462040" y="3962520"/>
              <a:ext cx="1336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12760" y="4572000"/>
              <a:ext cx="2391120" cy="1143000"/>
            </a:xfrm>
            <a:custGeom>
              <a:avLst/>
              <a:gdLst/>
              <a:ahLst/>
              <a:rect l="l" t="t" r="r" b="b"/>
              <a:pathLst>
                <a:path w="1584" h="720">
                  <a:moveTo>
                    <a:pt x="1584" y="720"/>
                  </a:move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89840" y="5334120"/>
              <a:ext cx="280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6893280" y="4876920"/>
              <a:ext cx="1969560" cy="1845000"/>
              <a:chOff x="6893280" y="4876920"/>
              <a:chExt cx="1969560" cy="1845000"/>
            </a:xfrm>
          </p:grpSpPr>
          <p:sp>
            <p:nvSpPr>
              <p:cNvPr id="483" name=""/>
              <p:cNvSpPr/>
              <p:nvPr/>
            </p:nvSpPr>
            <p:spPr>
              <a:xfrm>
                <a:off x="6893280" y="4952880"/>
                <a:ext cx="1969560" cy="1676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8136000" y="5334120"/>
                <a:ext cx="650160" cy="1387800"/>
                <a:chOff x="8136000" y="5334120"/>
                <a:chExt cx="650160" cy="13878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136000" y="6353640"/>
                  <a:ext cx="65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6" name="r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179200" y="5334120"/>
                  <a:ext cx="563040" cy="98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7" name=""/>
              <p:cNvSpPr/>
              <p:nvPr/>
            </p:nvSpPr>
            <p:spPr>
              <a:xfrm>
                <a:off x="7173360" y="4876920"/>
                <a:ext cx="147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eferant 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385760" y="5791320"/>
                <a:ext cx="77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34040" y="5486400"/>
                <a:ext cx="40248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7596720" y="5334120"/>
                <a:ext cx="0" cy="106668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14080" y="538488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46200" y="632448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2286000" y="1371600"/>
            <a:ext cx="6541200" cy="2057400"/>
            <a:chOff x="2286000" y="1371600"/>
            <a:chExt cx="6541200" cy="2057400"/>
          </a:xfrm>
        </p:grpSpPr>
        <p:sp>
          <p:nvSpPr>
            <p:cNvPr id="494" name=""/>
            <p:cNvSpPr/>
            <p:nvPr/>
          </p:nvSpPr>
          <p:spPr>
            <a:xfrm>
              <a:off x="2286000" y="2209680"/>
              <a:ext cx="1969560" cy="1219320"/>
            </a:xfrm>
            <a:custGeom>
              <a:avLst/>
              <a:gdLst/>
              <a:ahLst/>
              <a:rect l="l" t="t" r="r" b="b"/>
              <a:pathLst>
                <a:path w="1344" h="768">
                  <a:moveTo>
                    <a:pt x="0" y="768"/>
                  </a:moveTo>
                  <a:lnTo>
                    <a:pt x="0" y="528"/>
                  </a:lnTo>
                  <a:lnTo>
                    <a:pt x="864" y="528"/>
                  </a:lnTo>
                  <a:lnTo>
                    <a:pt x="864" y="0"/>
                  </a:lnTo>
                  <a:lnTo>
                    <a:pt x="1344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89440" y="2590920"/>
              <a:ext cx="280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4255560" y="1371600"/>
              <a:ext cx="4571640" cy="1498680"/>
              <a:chOff x="4255560" y="1371600"/>
              <a:chExt cx="4571640" cy="1498680"/>
            </a:xfrm>
          </p:grpSpPr>
          <p:sp>
            <p:nvSpPr>
              <p:cNvPr id="497" name=""/>
              <p:cNvSpPr/>
              <p:nvPr/>
            </p:nvSpPr>
            <p:spPr>
              <a:xfrm>
                <a:off x="6857640" y="1447920"/>
                <a:ext cx="1969560" cy="1422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40600" y="1371600"/>
                <a:ext cx="147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eferant 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55560" y="1905120"/>
                <a:ext cx="84384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ilbo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99400" y="2209680"/>
                <a:ext cx="175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54560" y="182880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244440" y="2590920"/>
            <a:ext cx="8618040" cy="2819160"/>
            <a:chOff x="244440" y="2590920"/>
            <a:chExt cx="8618040" cy="2819160"/>
          </a:xfrm>
        </p:grpSpPr>
        <p:grpSp>
          <p:nvGrpSpPr>
            <p:cNvPr id="503" name=""/>
            <p:cNvGrpSpPr/>
            <p:nvPr/>
          </p:nvGrpSpPr>
          <p:grpSpPr>
            <a:xfrm>
              <a:off x="244440" y="2590920"/>
              <a:ext cx="2381040" cy="2819160"/>
              <a:chOff x="244440" y="2590920"/>
              <a:chExt cx="2381040" cy="2819160"/>
            </a:xfrm>
          </p:grpSpPr>
          <p:sp>
            <p:nvSpPr>
              <p:cNvPr id="504" name=""/>
              <p:cNvSpPr/>
              <p:nvPr/>
            </p:nvSpPr>
            <p:spPr>
              <a:xfrm>
                <a:off x="281160" y="2590920"/>
                <a:ext cx="2344320" cy="28191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336320" y="3809880"/>
                <a:ext cx="77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4440" y="2652840"/>
                <a:ext cx="152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rankenha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492120" y="3276720"/>
                <a:ext cx="837360" cy="1680120"/>
                <a:chOff x="492120" y="3276720"/>
                <a:chExt cx="837360" cy="1680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85360" y="4588560"/>
                  <a:ext cx="65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9" name="r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2120" y="3276720"/>
                  <a:ext cx="837360" cy="126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09960" y="3429000"/>
                <a:ext cx="40284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1899000" y="3352680"/>
                <a:ext cx="0" cy="167652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6640" y="495288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99"/>
                    </a:solidFill>
                    <a:latin typeface="Times New Roman"/>
                  </a:rPr>
                  <a:t>Firewa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523880" y="3429000"/>
                <a:ext cx="2811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22120" y="457200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461680" y="3200400"/>
              <a:ext cx="4641480" cy="1371600"/>
              <a:chOff x="2461680" y="3200400"/>
              <a:chExt cx="4641480" cy="13716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3657600" y="3200400"/>
                <a:ext cx="1828080" cy="1371600"/>
                <a:chOff x="3657600" y="3200400"/>
                <a:chExt cx="1828080" cy="13716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657600" y="3321000"/>
                  <a:ext cx="54468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838680" y="3440160"/>
                  <a:ext cx="1035720" cy="10112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805200" y="3557520"/>
                  <a:ext cx="213840" cy="271440"/>
                </a:xfrm>
                <a:custGeom>
                  <a:avLst/>
                  <a:gdLst/>
                  <a:ahLst/>
                  <a:rect l="l" t="t" r="r" b="b"/>
                  <a:pathLst>
                    <a:path w="264" h="341">
                      <a:moveTo>
                        <a:pt x="226" y="0"/>
                      </a:moveTo>
                      <a:lnTo>
                        <a:pt x="0" y="298"/>
                      </a:lnTo>
                      <a:lnTo>
                        <a:pt x="112" y="341"/>
                      </a:lnTo>
                      <a:lnTo>
                        <a:pt x="264" y="2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206600" y="3560760"/>
                  <a:ext cx="1034640" cy="10112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122440" y="3738600"/>
                  <a:ext cx="363240" cy="3538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99320" y="4275000"/>
                  <a:ext cx="24156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999320" y="3617640"/>
                  <a:ext cx="24156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060880" y="3978000"/>
                  <a:ext cx="363240" cy="3542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962160" y="3200400"/>
                  <a:ext cx="54468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512960" y="3321000"/>
                  <a:ext cx="54468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68520" y="3200400"/>
                  <a:ext cx="54324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84920" y="3857400"/>
                  <a:ext cx="545040" cy="53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953160" y="3297240"/>
                  <a:ext cx="1361160" cy="1145880"/>
                </a:xfrm>
                <a:custGeom>
                  <a:avLst/>
                  <a:gdLst/>
                  <a:ahLst/>
                  <a:rect l="l" t="t" r="r" b="b"/>
                  <a:pathLst>
                    <a:path w="1687" h="1453">
                      <a:moveTo>
                        <a:pt x="398" y="0"/>
                      </a:moveTo>
                      <a:lnTo>
                        <a:pt x="704" y="180"/>
                      </a:lnTo>
                      <a:lnTo>
                        <a:pt x="1073" y="133"/>
                      </a:lnTo>
                      <a:lnTo>
                        <a:pt x="1308" y="483"/>
                      </a:lnTo>
                      <a:lnTo>
                        <a:pt x="1370" y="510"/>
                      </a:lnTo>
                      <a:lnTo>
                        <a:pt x="1535" y="620"/>
                      </a:lnTo>
                      <a:lnTo>
                        <a:pt x="1578" y="710"/>
                      </a:lnTo>
                      <a:lnTo>
                        <a:pt x="1687" y="871"/>
                      </a:lnTo>
                      <a:lnTo>
                        <a:pt x="1669" y="923"/>
                      </a:lnTo>
                      <a:lnTo>
                        <a:pt x="1413" y="1397"/>
                      </a:lnTo>
                      <a:lnTo>
                        <a:pt x="1234" y="1453"/>
                      </a:lnTo>
                      <a:lnTo>
                        <a:pt x="647" y="1401"/>
                      </a:lnTo>
                      <a:lnTo>
                        <a:pt x="605" y="1325"/>
                      </a:lnTo>
                      <a:lnTo>
                        <a:pt x="218" y="1240"/>
                      </a:lnTo>
                      <a:lnTo>
                        <a:pt x="146" y="1273"/>
                      </a:lnTo>
                      <a:lnTo>
                        <a:pt x="0" y="491"/>
                      </a:lnTo>
                      <a:lnTo>
                        <a:pt x="3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026240" y="3654360"/>
                  <a:ext cx="1131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5485680" y="3809880"/>
                <a:ext cx="16174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461680" y="3809880"/>
                <a:ext cx="1336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24360" y="350532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89480" y="342900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892920" y="2971800"/>
              <a:ext cx="1969560" cy="1845000"/>
              <a:chOff x="6892920" y="2971800"/>
              <a:chExt cx="1969560" cy="1845000"/>
            </a:xfrm>
          </p:grpSpPr>
          <p:sp>
            <p:nvSpPr>
              <p:cNvPr id="536" name=""/>
              <p:cNvSpPr/>
              <p:nvPr/>
            </p:nvSpPr>
            <p:spPr>
              <a:xfrm>
                <a:off x="6892920" y="3048120"/>
                <a:ext cx="1969560" cy="16761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8135640" y="3429000"/>
                <a:ext cx="650160" cy="1387800"/>
                <a:chOff x="8135640" y="3429000"/>
                <a:chExt cx="650160" cy="13878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135640" y="4448520"/>
                  <a:ext cx="65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9" name="r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178840" y="3429000"/>
                  <a:ext cx="563040" cy="98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40" name=""/>
              <p:cNvSpPr/>
              <p:nvPr/>
            </p:nvSpPr>
            <p:spPr>
              <a:xfrm>
                <a:off x="7383960" y="2971800"/>
                <a:ext cx="104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ff"/>
                    </a:solidFill>
                    <a:latin typeface="Times New Roman"/>
                  </a:rPr>
                  <a:t>Avent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385400" y="3886200"/>
                <a:ext cx="77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33680" y="3581280"/>
                <a:ext cx="40248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7596360" y="3429000"/>
                <a:ext cx="0" cy="106668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13720" y="347976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45840" y="441972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47" name="Aventis_Logo_4C" descr=""/>
            <p:cNvPicPr/>
            <p:nvPr/>
          </p:nvPicPr>
          <p:blipFill>
            <a:blip r:embed="rId8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1960" y="662940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ff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5621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orteile des Business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0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n für andere 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2362320"/>
            <a:ext cx="747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möglicht eine sichere und kostengünsti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/3 - R/3 Kopplung vi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3124080"/>
            <a:ext cx="755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hr geringe Übertragungs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3581280"/>
            <a:ext cx="755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elle Schnittstelle (XM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55520" y="3962520"/>
            <a:ext cx="725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lgemeingültiger Internetbasierter Ein- und Aus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66680" y="4419720"/>
            <a:ext cx="7554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ne zukunftsorientierte Techn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6680" y="4876920"/>
            <a:ext cx="763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fach für R/3 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60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97328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fwand auf Seiten des Krankenh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03440" y="2057400"/>
            <a:ext cx="744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den Seiten ist die Installation und Parametrisierung des Business Connectors notwendig, sowie das zugehörige Customizing im SAP R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3505320"/>
            <a:ext cx="714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68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784944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orteile für Aven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ung des Kunden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bereitung auf Veränderungen im Pharma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tenre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ageverbesserung durch Internetauft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bereitung für O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ätzliche Kunden werden Bestelldaten elektronisch übermitt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75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838080" y="4724280"/>
            <a:ext cx="7239240" cy="1905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8080" y="1905120"/>
            <a:ext cx="7239240" cy="2666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ktionalität Online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Be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ktk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s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füg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signationsbest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e Posten (Kontokorr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forderungen Rechnungsk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itstellung kundenspezifischer 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ell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is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84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7973280" y="662940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09480" y="804960"/>
            <a:ext cx="473400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nline Sto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/>
          <p:nvPr/>
        </p:nvSpPr>
        <p:spPr>
          <a:xfrm>
            <a:off x="526680" y="358128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ww.onlinestore.pharma.aventis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73120" y="662940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3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4680" y="914400"/>
            <a:ext cx="8684640" cy="5231160"/>
            <a:chOff x="364680" y="914400"/>
            <a:chExt cx="8684640" cy="5231160"/>
          </a:xfrm>
        </p:grpSpPr>
        <p:sp>
          <p:nvSpPr>
            <p:cNvPr id="57" name=""/>
            <p:cNvSpPr/>
            <p:nvPr/>
          </p:nvSpPr>
          <p:spPr>
            <a:xfrm>
              <a:off x="383400" y="914400"/>
              <a:ext cx="45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ufgaben Marketing Serv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4680" y="1752480"/>
              <a:ext cx="8684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„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Sicherstellung der Durchführung einer kundenorientierten, tagesaktue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und korrekten Auftragsabwicklung entsprechend den Anforder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es Marktes und des Unternehmens für Aventis Pharma Deutschland GmbH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Aventis Behring GmbH und Chiron Behring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360" y="3200400"/>
              <a:ext cx="80636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chere tagesaktuelle Erfassung der Kundenaufträ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fbau und Pflege von Kundenkontak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-Account hinsichtlich logistischer Vereinbar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undenbindung durch Zuordnung der wichtigsten Kunden au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feste Ansprech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DI - Projek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estellein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96360" y="4308480"/>
            <a:ext cx="4288320" cy="1683000"/>
            <a:chOff x="1296360" y="4308480"/>
            <a:chExt cx="4288320" cy="1683000"/>
          </a:xfrm>
        </p:grpSpPr>
        <p:grpSp>
          <p:nvGrpSpPr>
            <p:cNvPr id="63" name=""/>
            <p:cNvGrpSpPr/>
            <p:nvPr/>
          </p:nvGrpSpPr>
          <p:grpSpPr>
            <a:xfrm>
              <a:off x="1296360" y="4308480"/>
              <a:ext cx="4288320" cy="1683000"/>
              <a:chOff x="1296360" y="4308480"/>
              <a:chExt cx="4288320" cy="1683000"/>
            </a:xfrm>
          </p:grpSpPr>
          <p:sp>
            <p:nvSpPr>
              <p:cNvPr id="64" name=""/>
              <p:cNvSpPr/>
              <p:nvPr/>
            </p:nvSpPr>
            <p:spPr>
              <a:xfrm>
                <a:off x="1296360" y="5410080"/>
                <a:ext cx="1533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Telef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77080" y="5410080"/>
                <a:ext cx="85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Fa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25720" y="5410080"/>
                <a:ext cx="85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ED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7647200">
                <a:off x="1828440" y="4647600"/>
                <a:ext cx="990360" cy="380880"/>
              </a:xfrm>
              <a:prstGeom prst="rightArrow">
                <a:avLst>
                  <a:gd name="adj1" fmla="val 50000"/>
                  <a:gd name="adj2" fmla="val 6500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535400">
                <a:off x="3428280" y="4724280"/>
                <a:ext cx="990720" cy="380880"/>
              </a:xfrm>
              <a:prstGeom prst="rightArrow">
                <a:avLst>
                  <a:gd name="adj1" fmla="val 50000"/>
                  <a:gd name="adj2" fmla="val 65028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flipH="1" rot="5064600">
              <a:off x="4723920" y="4723920"/>
              <a:ext cx="990720" cy="381240"/>
            </a:xfrm>
            <a:prstGeom prst="rightArrow">
              <a:avLst>
                <a:gd name="adj1" fmla="val 50000"/>
                <a:gd name="adj2" fmla="val 649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4343400"/>
            <a:ext cx="1600200" cy="1724400"/>
            <a:chOff x="6324480" y="4343400"/>
            <a:chExt cx="1600200" cy="1724400"/>
          </a:xfrm>
        </p:grpSpPr>
        <p:sp>
          <p:nvSpPr>
            <p:cNvPr id="71" name=""/>
            <p:cNvSpPr/>
            <p:nvPr/>
          </p:nvSpPr>
          <p:spPr>
            <a:xfrm>
              <a:off x="6324480" y="4343400"/>
              <a:ext cx="1524240" cy="1676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25560" y="5486400"/>
              <a:ext cx="155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3952800">
              <a:off x="6323760" y="4723920"/>
              <a:ext cx="990360" cy="381240"/>
            </a:xfrm>
            <a:prstGeom prst="rightArrow">
              <a:avLst>
                <a:gd name="adj1" fmla="val 50000"/>
                <a:gd name="adj2" fmla="val 64943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62920" y="43434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V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76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MVC-005X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3657600" cy="2278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_590_Mal" descr=""/>
          <p:cNvPicPr/>
          <p:nvPr/>
        </p:nvPicPr>
        <p:blipFill>
          <a:blip r:embed="rId3"/>
          <a:stretch/>
        </p:blipFill>
        <p:spPr>
          <a:xfrm>
            <a:off x="6172200" y="3124080"/>
            <a:ext cx="2514600" cy="128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91520" y="22860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84600" y="21700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d So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82520" y="281952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harma Servicezentrum H 5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320" y="137160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ägliches Auftrags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1960" y="2209680"/>
            <a:ext cx="5405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         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sition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   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duk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     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05200"/>
            <a:ext cx="855648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davon über 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oenix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50 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000 Posi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kakom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15 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60 Posi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nstig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20 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30 Posi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davon per Telefon: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a.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davon per Fax: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a.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715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VC-005X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1905120" cy="1209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9716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395360"/>
          <a:ext cx="8382240" cy="515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395360"/>
                    <a:ext cx="83822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3880" y="99072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gleich Auftragspositionen zu Personal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990720"/>
          <a:ext cx="8667720" cy="51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90720"/>
                    <a:ext cx="8667720" cy="51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000080" y="1371600"/>
          <a:ext cx="7162920" cy="478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1371600"/>
                    <a:ext cx="71629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648320" y="16002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msatzverteilung Aven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uf Bestellverfahre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ventis_Logo_4C" descr=""/>
          <p:cNvPicPr/>
          <p:nvPr/>
        </p:nvPicPr>
        <p:blipFill>
          <a:blip r:embed="rId6"/>
          <a:stretch/>
        </p:blipFill>
        <p:spPr>
          <a:xfrm>
            <a:off x="7086600" y="57240"/>
            <a:ext cx="1952640" cy="64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153280" y="665964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H/September 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5680" y="151560"/>
            <a:ext cx="4409640" cy="384840"/>
            <a:chOff x="85680" y="151560"/>
            <a:chExt cx="4409640" cy="384840"/>
          </a:xfrm>
        </p:grpSpPr>
        <p:sp>
          <p:nvSpPr>
            <p:cNvPr id="112" name=""/>
            <p:cNvSpPr/>
            <p:nvPr/>
          </p:nvSpPr>
          <p:spPr>
            <a:xfrm>
              <a:off x="85680" y="151560"/>
              <a:ext cx="44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</a:rPr>
                <a:t>Möglichkeiten des E - 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0480" y="536400"/>
              <a:ext cx="3978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5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520" y="1143000"/>
            <a:ext cx="71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orteile elektronischer Bestellver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" y="2133720"/>
            <a:ext cx="7119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chn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ehlerf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steneffiz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öglichkeit der Datenrückübertra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295280"/>
            <a:ext cx="6858000" cy="487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1752480"/>
            <a:ext cx="1752840" cy="1143000"/>
          </a:xfrm>
          <a:prstGeom prst="rect">
            <a:avLst/>
          </a:prstGeom>
          <a:solidFill>
            <a:srgbClr val="b6fcd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800600"/>
            <a:ext cx="1676520" cy="1143000"/>
          </a:xfrm>
          <a:prstGeom prst="rect">
            <a:avLst/>
          </a:prstGeom>
          <a:solidFill>
            <a:srgbClr val="b6fcd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3200400"/>
            <a:ext cx="2895480" cy="1219320"/>
            <a:chOff x="457200" y="3200400"/>
            <a:chExt cx="2895480" cy="1219320"/>
          </a:xfrm>
        </p:grpSpPr>
        <p:sp>
          <p:nvSpPr>
            <p:cNvPr id="126" name=""/>
            <p:cNvSpPr/>
            <p:nvPr/>
          </p:nvSpPr>
          <p:spPr>
            <a:xfrm>
              <a:off x="457200" y="3200400"/>
              <a:ext cx="2895480" cy="1219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480" y="3200400"/>
              <a:ext cx="225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hoen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 Großhä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Krankenha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867280" y="1133640"/>
            <a:ext cx="2895840" cy="5333400"/>
            <a:chOff x="5867280" y="1133640"/>
            <a:chExt cx="2895840" cy="5333400"/>
          </a:xfrm>
        </p:grpSpPr>
        <p:sp>
          <p:nvSpPr>
            <p:cNvPr id="129" name=""/>
            <p:cNvSpPr/>
            <p:nvPr/>
          </p:nvSpPr>
          <p:spPr>
            <a:xfrm>
              <a:off x="5867280" y="1133640"/>
              <a:ext cx="289584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Klassisch 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rh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rief, FAX, Telef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2819160"/>
              <a:ext cx="2895840" cy="190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LC /Produ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 Krankenhausapothe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Vorbereitung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 Krankenhausapothe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5705280"/>
              <a:ext cx="289584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lot /S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Krankenhausapothe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867280" y="4798800"/>
              <a:ext cx="2895480" cy="772560"/>
              <a:chOff x="5867280" y="4798800"/>
              <a:chExt cx="2895480" cy="772560"/>
            </a:xfrm>
          </p:grpSpPr>
          <p:sp>
            <p:nvSpPr>
              <p:cNvPr id="133" name=""/>
              <p:cNvSpPr/>
              <p:nvPr/>
            </p:nvSpPr>
            <p:spPr>
              <a:xfrm>
                <a:off x="5867280" y="4809600"/>
                <a:ext cx="2895480" cy="761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95440" y="4798800"/>
                <a:ext cx="264060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CR / Produkti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Krankenhausapothek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867280" y="1965240"/>
              <a:ext cx="2895480" cy="767520"/>
              <a:chOff x="5867280" y="1965240"/>
              <a:chExt cx="2895480" cy="767520"/>
            </a:xfrm>
          </p:grpSpPr>
          <p:sp>
            <p:nvSpPr>
              <p:cNvPr id="136" name=""/>
              <p:cNvSpPr/>
              <p:nvPr/>
            </p:nvSpPr>
            <p:spPr>
              <a:xfrm>
                <a:off x="5867280" y="1971360"/>
                <a:ext cx="2895480" cy="761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10200" y="1965240"/>
                <a:ext cx="26161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KAK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5 Krankenhausapothek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8" name="Aventis_Logo_4C" descr=""/>
          <p:cNvPicPr/>
          <p:nvPr/>
        </p:nvPicPr>
        <p:blipFill>
          <a:blip r:embed="rId2"/>
          <a:stretch/>
        </p:blipFill>
        <p:spPr>
          <a:xfrm>
            <a:off x="7086600" y="57240"/>
            <a:ext cx="1952640" cy="64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665964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H/September 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400" y="7239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720" y="7113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680" y="151560"/>
            <a:ext cx="4409640" cy="384840"/>
            <a:chOff x="85680" y="151560"/>
            <a:chExt cx="4409640" cy="384840"/>
          </a:xfrm>
        </p:grpSpPr>
        <p:sp>
          <p:nvSpPr>
            <p:cNvPr id="143" name=""/>
            <p:cNvSpPr/>
            <p:nvPr/>
          </p:nvSpPr>
          <p:spPr>
            <a:xfrm>
              <a:off x="85680" y="151560"/>
              <a:ext cx="44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</a:rPr>
                <a:t>Möglichkeiten des E - 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480" y="536400"/>
              <a:ext cx="3978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5" name=""/>
          <p:cNvCxnSpPr/>
          <p:nvPr/>
        </p:nvCxnSpPr>
        <p:spPr>
          <a:xfrm rot="5400000">
            <a:off x="5279400" y="3291840"/>
            <a:ext cx="1197360" cy="1013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7" idx="3"/>
            <a:endCxn id="148" idx="3"/>
          </p:cNvCxnSpPr>
          <p:nvPr/>
        </p:nvCxnSpPr>
        <p:spPr>
          <a:xfrm flipV="1" rot="10800000">
            <a:off x="5368320" y="3085920"/>
            <a:ext cx="3642480" cy="2705760"/>
          </a:xfrm>
          <a:prstGeom prst="bentConnector3">
            <a:avLst>
              <a:gd name="adj1" fmla="val 7057"/>
            </a:avLst>
          </a:prstGeom>
          <a:ln w="28440">
            <a:solidFill>
              <a:srgbClr val="3c3cce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80" y="1152360"/>
            <a:ext cx="81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lektronischer Bestelldatenaustausch via AESCUDATA/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640" y="2057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29120" y="20541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6640" y="20574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920" y="20541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0640" y="20541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ven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Aventis_Logo_4C" descr=""/>
          <p:cNvPicPr/>
          <p:nvPr/>
        </p:nvPicPr>
        <p:blipFill>
          <a:blip r:embed="rId2"/>
          <a:stretch/>
        </p:blipFill>
        <p:spPr>
          <a:xfrm>
            <a:off x="7086600" y="57240"/>
            <a:ext cx="1952640" cy="641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153280" y="665964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H/September 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2280" y="2819520"/>
            <a:ext cx="1524240" cy="533160"/>
            <a:chOff x="152280" y="2819520"/>
            <a:chExt cx="1524240" cy="533160"/>
          </a:xfrm>
        </p:grpSpPr>
        <p:sp>
          <p:nvSpPr>
            <p:cNvPr id="159" name=""/>
            <p:cNvSpPr/>
            <p:nvPr/>
          </p:nvSpPr>
          <p:spPr>
            <a:xfrm>
              <a:off x="152280" y="2819520"/>
              <a:ext cx="1524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895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rankenha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610240" y="2819520"/>
            <a:ext cx="1523880" cy="533160"/>
            <a:chOff x="5610240" y="2819520"/>
            <a:chExt cx="1523880" cy="533160"/>
          </a:xfrm>
        </p:grpSpPr>
        <p:sp>
          <p:nvSpPr>
            <p:cNvPr id="162" name=""/>
            <p:cNvSpPr/>
            <p:nvPr/>
          </p:nvSpPr>
          <p:spPr>
            <a:xfrm>
              <a:off x="5610240" y="2819520"/>
              <a:ext cx="1523880" cy="5331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95920" y="2847600"/>
              <a:ext cx="13716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HOEN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ANCOM (gepla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44800" y="2819520"/>
            <a:ext cx="1524240" cy="533160"/>
            <a:chOff x="3844800" y="2819520"/>
            <a:chExt cx="1524240" cy="533160"/>
          </a:xfrm>
        </p:grpSpPr>
        <p:sp>
          <p:nvSpPr>
            <p:cNvPr id="165" name=""/>
            <p:cNvSpPr/>
            <p:nvPr/>
          </p:nvSpPr>
          <p:spPr>
            <a:xfrm>
              <a:off x="3844800" y="2819520"/>
              <a:ext cx="152424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0200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000160" y="2819520"/>
            <a:ext cx="1524240" cy="533160"/>
            <a:chOff x="2000160" y="2819520"/>
            <a:chExt cx="1524240" cy="533160"/>
          </a:xfrm>
        </p:grpSpPr>
        <p:sp>
          <p:nvSpPr>
            <p:cNvPr id="168" name=""/>
            <p:cNvSpPr/>
            <p:nvPr/>
          </p:nvSpPr>
          <p:spPr>
            <a:xfrm>
              <a:off x="2000160" y="2819520"/>
              <a:ext cx="1524240" cy="5331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29048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ESCU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486560" y="2819520"/>
            <a:ext cx="1523880" cy="533160"/>
            <a:chOff x="7486560" y="2819520"/>
            <a:chExt cx="1523880" cy="533160"/>
          </a:xfrm>
        </p:grpSpPr>
        <p:sp>
          <p:nvSpPr>
            <p:cNvPr id="147" name=""/>
            <p:cNvSpPr/>
            <p:nvPr/>
          </p:nvSpPr>
          <p:spPr>
            <a:xfrm>
              <a:off x="7486560" y="2819520"/>
              <a:ext cx="1523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5160" y="2923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efe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44800" y="4267080"/>
            <a:ext cx="1523880" cy="533520"/>
            <a:chOff x="3844800" y="4267080"/>
            <a:chExt cx="1523880" cy="533520"/>
          </a:xfrm>
        </p:grpSpPr>
        <p:sp>
          <p:nvSpPr>
            <p:cNvPr id="173" name=""/>
            <p:cNvSpPr/>
            <p:nvPr/>
          </p:nvSpPr>
          <p:spPr>
            <a:xfrm>
              <a:off x="3844800" y="4267080"/>
              <a:ext cx="1523880" cy="533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2960" y="43621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lebox 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5" name=""/>
          <p:cNvCxnSpPr>
            <a:stCxn id="159" idx="3"/>
            <a:endCxn id="168" idx="1"/>
          </p:cNvCxnSpPr>
          <p:nvPr/>
        </p:nvCxnSpPr>
        <p:spPr>
          <a:xfrm>
            <a:off x="1676160" y="3085920"/>
            <a:ext cx="32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"/>
          <p:cNvCxnSpPr>
            <a:stCxn id="165" idx="3"/>
            <a:endCxn id="162" idx="1"/>
          </p:cNvCxnSpPr>
          <p:nvPr/>
        </p:nvCxnSpPr>
        <p:spPr>
          <a:xfrm>
            <a:off x="5369040" y="3085920"/>
            <a:ext cx="241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8" idx="3"/>
            <a:endCxn id="165" idx="1"/>
          </p:cNvCxnSpPr>
          <p:nvPr/>
        </p:nvCxnSpPr>
        <p:spPr>
          <a:xfrm>
            <a:off x="3524400" y="3085920"/>
            <a:ext cx="321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0"/>
            <a:endCxn id="165" idx="2"/>
          </p:cNvCxnSpPr>
          <p:nvPr/>
        </p:nvCxnSpPr>
        <p:spPr>
          <a:xfrm flipV="1">
            <a:off x="4606560" y="3352320"/>
            <a:ext cx="1080" cy="915120"/>
          </a:xfrm>
          <a:prstGeom prst="straightConnector1">
            <a:avLst/>
          </a:prstGeom>
          <a:ln w="28440">
            <a:solidFill>
              <a:srgbClr val="3c3cce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V="1">
            <a:off x="5368680" y="3361680"/>
            <a:ext cx="2880360" cy="1181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844800" y="5524560"/>
            <a:ext cx="1524240" cy="5335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2960" y="5505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N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O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0"/>
            <a:endCxn id="173" idx="2"/>
          </p:cNvCxnSpPr>
          <p:nvPr/>
        </p:nvCxnSpPr>
        <p:spPr>
          <a:xfrm flipV="1">
            <a:off x="4606560" y="4800600"/>
            <a:ext cx="1080" cy="705240"/>
          </a:xfrm>
          <a:prstGeom prst="straightConnector1">
            <a:avLst/>
          </a:prstGeom>
          <a:ln w="28440">
            <a:solidFill>
              <a:srgbClr val="3c3cce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85680" y="151560"/>
            <a:ext cx="4409640" cy="384840"/>
            <a:chOff x="85680" y="151560"/>
            <a:chExt cx="4409640" cy="384840"/>
          </a:xfrm>
        </p:grpSpPr>
        <p:sp>
          <p:nvSpPr>
            <p:cNvPr id="183" name=""/>
            <p:cNvSpPr/>
            <p:nvPr/>
          </p:nvSpPr>
          <p:spPr>
            <a:xfrm>
              <a:off x="85680" y="151560"/>
              <a:ext cx="44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</a:rPr>
                <a:t>Möglichkeiten des E - 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0480" y="536400"/>
              <a:ext cx="3978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10:37Z</dcterms:created>
  <dc:creator>Andreas Schmid ~ HMR/DE </dc:creator>
  <dc:description/>
  <dc:language>en-US</dc:language>
  <cp:lastModifiedBy>Dr. Jochen Winkler</cp:lastModifiedBy>
  <cp:lastPrinted>2000-03-21T13:55:11Z</cp:lastPrinted>
  <dcterms:modified xsi:type="dcterms:W3CDTF">2000-09-25T16:46:08Z</dcterms:modified>
  <cp:revision>47</cp:revision>
  <dc:subject/>
  <dc:title>Kein Folientitel</dc:title>
</cp:coreProperties>
</file>