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9.wmf" ContentType="image/x-wmf"/>
  <Override PartName="/ppt/media/image14.png" ContentType="image/png"/>
  <Override PartName="/ppt/media/image29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534B-265C-4E94-8654-87B338E80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357D-1FE7-4675-9164-FDFCE64E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0D5E-9601-4B10-A273-BF5B38F0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2602-4E98-4D15-97ED-15472957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A374-4C11-4DE5-97BE-BDA3150C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039E-AC2E-4D82-84C6-E21080E0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A6C2-43E8-4401-87DE-E06EDFC7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B725-3863-4D2D-964A-159183C9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C53D-473D-4038-942B-83C2FA7C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0AEB-C3C4-4C65-B5B8-DA59AFFD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148C-BBBF-4872-BBD9-AFF2C492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6AE2-0FE2-4A01-AAEA-67D5AD78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BFB6-4B3C-4A74-BC18-54AC54AA86C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image" Target="../media/image10.wmf"/><Relationship Id="rId6" Type="http://schemas.openxmlformats.org/officeDocument/2006/relationships/image" Target="../media/image11.png"/><Relationship Id="rId7" Type="http://schemas.openxmlformats.org/officeDocument/2006/relationships/image" Target="../media/image10.wm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Garamond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143000"/>
            <a:ext cx="7788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0480" y="2438280"/>
            <a:ext cx="450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imes New Roman"/>
              </a:rPr>
              <a:t>„</a:t>
            </a:r>
            <a:r>
              <a:rPr b="1" lang="de-DE" sz="2400" spc="-1" strike="noStrike">
                <a:solidFill>
                  <a:srgbClr val="3333cc"/>
                </a:solidFill>
                <a:latin typeface="Times New Roman"/>
              </a:rPr>
              <a:t>Möglichkeiten des E-Comm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imes New Roman"/>
              </a:rPr>
              <a:t>in den Geschäftsbezieh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Times New Roman"/>
              </a:rPr>
              <a:t>zu Krankenhausapotheken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31640" y="5043600"/>
            <a:ext cx="3035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Dieter Hoffma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Marketing Service / IT - Koordin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Königsteiner Str.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-65812 Bad Soden am Taun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elefon: +49 (69) 305 - 77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-Mail: dieter.hoffmann@aventis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VC-005X" descr=""/>
          <p:cNvPicPr/>
          <p:nvPr/>
        </p:nvPicPr>
        <p:blipFill>
          <a:blip r:embed="rId2"/>
          <a:stretch/>
        </p:blipFill>
        <p:spPr>
          <a:xfrm>
            <a:off x="4876920" y="1828800"/>
            <a:ext cx="3886200" cy="291456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-720" y="0"/>
            <a:ext cx="8925120" cy="855720"/>
            <a:chOff x="-720" y="0"/>
            <a:chExt cx="8925120" cy="855720"/>
          </a:xfrm>
        </p:grpSpPr>
        <p:pic>
          <p:nvPicPr>
            <p:cNvPr id="47" name="Aventis_Logo_4C" descr=""/>
            <p:cNvPicPr/>
            <p:nvPr/>
          </p:nvPicPr>
          <p:blipFill>
            <a:blip r:embed="rId3"/>
            <a:stretch/>
          </p:blipFill>
          <p:spPr>
            <a:xfrm>
              <a:off x="6324480" y="0"/>
              <a:ext cx="2599920" cy="8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-720" y="325440"/>
              <a:ext cx="249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Marketing 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5960" y="752400"/>
              <a:ext cx="57146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29320" y="6477120"/>
            <a:ext cx="116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Times New Roman"/>
              </a:rPr>
              <a:t>DH/September 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Aventis_Logo_4C" descr=""/>
          <p:cNvPicPr/>
          <p:nvPr/>
        </p:nvPicPr>
        <p:blipFill>
          <a:blip r:embed="rId2"/>
          <a:stretch/>
        </p:blipFill>
        <p:spPr>
          <a:xfrm>
            <a:off x="6477120" y="57240"/>
            <a:ext cx="2600280" cy="855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51560" y="228600"/>
            <a:ext cx="24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arketing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762120"/>
            <a:ext cx="5715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38320" y="838080"/>
            <a:ext cx="8496720" cy="5418000"/>
            <a:chOff x="238320" y="838080"/>
            <a:chExt cx="8496720" cy="5418000"/>
          </a:xfrm>
        </p:grpSpPr>
        <p:sp>
          <p:nvSpPr>
            <p:cNvPr id="190" name=""/>
            <p:cNvSpPr/>
            <p:nvPr/>
          </p:nvSpPr>
          <p:spPr>
            <a:xfrm>
              <a:off x="238320" y="838080"/>
              <a:ext cx="823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lektronischer Bestelldatenaustausch via EANCOM</a:t>
              </a:r>
              <a:r>
                <a:rPr b="1" lang="en-US" sz="2000" spc="-1" strike="noStrike" baseline="70000">
                  <a:solidFill>
                    <a:srgbClr val="000000"/>
                  </a:solidFill>
                  <a:latin typeface="Times New Roman"/>
                </a:rPr>
                <a:t>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4320" y="1665000"/>
              <a:ext cx="84607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3300"/>
                  </a:solidFill>
                  <a:latin typeface="Times New Roman"/>
                </a:rPr>
                <a:t>Aventis ist Mitglied der Arbeitsgruppe „EANCOM® im Gesundheitswesen“</a:t>
              </a:r>
              <a:br>
                <a:rPr sz="2000"/>
              </a:br>
              <a:r>
                <a:rPr b="1" lang="de-DE" sz="2000" spc="-1" strike="noStrike">
                  <a:solidFill>
                    <a:srgbClr val="ff3300"/>
                  </a:solidFill>
                  <a:latin typeface="Times New Roman"/>
                </a:rPr>
                <a:t>bei der CCG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3320" y="2503080"/>
              <a:ext cx="8358480" cy="37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3333cc"/>
                  </a:solidFill>
                  <a:latin typeface="Times New Roman"/>
                </a:rPr>
                <a:t>Aufgabe: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Erarbeitung und Dokumentation von EANCOM</a:t>
              </a:r>
              <a:r>
                <a:rPr b="0" lang="de-DE" sz="1800" spc="-1" strike="noStrike" baseline="46000">
                  <a:solidFill>
                    <a:srgbClr val="000000"/>
                  </a:solidFill>
                  <a:latin typeface="Times New Roman"/>
                </a:rPr>
                <a:t>®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-Nachrichten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für das Gesundheitswesen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Stufe 1: Direktbelieferungen zwischen großen Partnern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3333cc"/>
                  </a:solidFill>
                  <a:latin typeface="Times New Roman"/>
                </a:rPr>
                <a:t>EANCOM</a:t>
              </a:r>
              <a:r>
                <a:rPr b="1" lang="de-DE" sz="1800" spc="-1" strike="noStrike" baseline="50000">
                  <a:solidFill>
                    <a:srgbClr val="3333cc"/>
                  </a:solidFill>
                  <a:latin typeface="Times New Roman"/>
                </a:rPr>
                <a:t>®</a:t>
              </a:r>
              <a:r>
                <a:rPr b="1" lang="de-DE" sz="2000" spc="-1" strike="noStrike">
                  <a:solidFill>
                    <a:srgbClr val="3333cc"/>
                  </a:solidFill>
                  <a:latin typeface="Times New Roman"/>
                </a:rPr>
                <a:t>-Nachrichten:</a:t>
              </a:r>
              <a:br>
                <a:rPr sz="2000"/>
              </a:b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PRICAT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(Artikelstammdaten)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ORDERS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(Bestellung)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ORDRSP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(Auftragsbestätigung)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DESADV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(Lieferschei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INVOIC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(Rechnun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INVRPT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(Lagerbestandsbericht für ECR Verfahre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7849440" y="6477120"/>
            <a:ext cx="116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Times New Roman"/>
              </a:rPr>
              <a:t>DH/September 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095880" y="1676520"/>
            <a:ext cx="2743200" cy="449568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1752480"/>
            <a:ext cx="2667240" cy="441972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2819520"/>
            <a:ext cx="3124440" cy="761760"/>
          </a:xfrm>
          <a:prstGeom prst="rightArrow">
            <a:avLst>
              <a:gd name="adj1" fmla="val 50000"/>
              <a:gd name="adj2" fmla="val 10254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5486400"/>
            <a:ext cx="3124440" cy="762120"/>
          </a:xfrm>
          <a:prstGeom prst="leftArrow">
            <a:avLst>
              <a:gd name="adj1" fmla="val 50000"/>
              <a:gd name="adj2" fmla="val 10249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Aventis_Logo_4C" descr=""/>
          <p:cNvPicPr/>
          <p:nvPr/>
        </p:nvPicPr>
        <p:blipFill>
          <a:blip r:embed="rId2"/>
          <a:stretch/>
        </p:blipFill>
        <p:spPr>
          <a:xfrm>
            <a:off x="6477120" y="57240"/>
            <a:ext cx="2600280" cy="8557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51560" y="382680"/>
            <a:ext cx="24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arketing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809640"/>
            <a:ext cx="5715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04360" y="304812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gerbestandsberic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9160" y="1828800"/>
            <a:ext cx="1789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Krankenh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house - MAW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71840" y="1828800"/>
            <a:ext cx="2139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ventis Pha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AP R/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2666880"/>
            <a:ext cx="2362320" cy="32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ägliche Übermittlu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aller Bestä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nkl. Bestandskorrid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aterialidentifizierung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durch Pharmazentral-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nummer (PZ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ahmenbe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2666880"/>
            <a:ext cx="243864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uftragsgenerie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achtung optimal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logistischer Größen (z.B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 Normkarton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uftragsbünde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68160" y="571500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ef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96680" y="3886200"/>
            <a:ext cx="210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EANCOM-Nachricht: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INVR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3400" y="106668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CR - Verfa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973280" y="6477120"/>
            <a:ext cx="116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Times New Roman"/>
              </a:rPr>
              <a:t>DH/September 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Aventis_Logo_4C" descr=""/>
          <p:cNvPicPr/>
          <p:nvPr/>
        </p:nvPicPr>
        <p:blipFill>
          <a:blip r:embed="rId2"/>
          <a:stretch/>
        </p:blipFill>
        <p:spPr>
          <a:xfrm>
            <a:off x="6477120" y="57240"/>
            <a:ext cx="2600280" cy="8557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51560" y="382680"/>
            <a:ext cx="24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arketing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809640"/>
            <a:ext cx="5715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52680" y="2514600"/>
            <a:ext cx="841320" cy="83196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60920" y="2514600"/>
            <a:ext cx="839520" cy="83196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28600" y="2209680"/>
            <a:ext cx="1066680" cy="1066680"/>
            <a:chOff x="228600" y="2209680"/>
            <a:chExt cx="1066680" cy="1066680"/>
          </a:xfrm>
        </p:grpSpPr>
        <p:sp>
          <p:nvSpPr>
            <p:cNvPr id="218" name=""/>
            <p:cNvSpPr/>
            <p:nvPr/>
          </p:nvSpPr>
          <p:spPr>
            <a:xfrm>
              <a:off x="868680" y="2841120"/>
              <a:ext cx="36720" cy="360"/>
            </a:xfrm>
            <a:prstGeom prst="rect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75160" y="2841840"/>
              <a:ext cx="24480" cy="1440"/>
            </a:xfrm>
            <a:prstGeom prst="rect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29920" y="2211840"/>
              <a:ext cx="732240" cy="14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5960" y="2219400"/>
              <a:ext cx="742320" cy="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22720" y="2224440"/>
              <a:ext cx="748440" cy="216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9120" y="2753280"/>
              <a:ext cx="754200" cy="10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3440" y="2766600"/>
              <a:ext cx="746280" cy="1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8480" y="2772720"/>
              <a:ext cx="736200" cy="3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3880" y="2779560"/>
              <a:ext cx="726480" cy="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8200" y="2784960"/>
              <a:ext cx="717120" cy="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8920" y="2786040"/>
              <a:ext cx="716400" cy="14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2280" y="2299680"/>
              <a:ext cx="580680" cy="10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0840" y="2691720"/>
              <a:ext cx="583920" cy="21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0840" y="2697840"/>
              <a:ext cx="580680" cy="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3160" y="2313000"/>
              <a:ext cx="541800" cy="360"/>
            </a:xfrm>
            <a:prstGeom prst="rect">
              <a:avLst/>
            </a:prstGeom>
            <a:solidFill>
              <a:srgbClr val="96cc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228600" y="2209680"/>
              <a:ext cx="1066680" cy="1066680"/>
              <a:chOff x="228600" y="2209680"/>
              <a:chExt cx="1066680" cy="1066680"/>
            </a:xfrm>
          </p:grpSpPr>
          <p:sp>
            <p:nvSpPr>
              <p:cNvPr id="234" name=""/>
              <p:cNvSpPr/>
              <p:nvPr/>
            </p:nvSpPr>
            <p:spPr>
              <a:xfrm>
                <a:off x="496440" y="2873160"/>
                <a:ext cx="798840" cy="235440"/>
              </a:xfrm>
              <a:prstGeom prst="rect">
                <a:avLst/>
              </a:prstGeom>
              <a:solidFill>
                <a:srgbClr val="a6a6a6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96440" y="2896560"/>
                <a:ext cx="436320" cy="28440"/>
              </a:xfrm>
              <a:prstGeom prst="rect">
                <a:avLst/>
              </a:prstGeom>
              <a:solidFill>
                <a:srgbClr val="73737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96440" y="3064320"/>
                <a:ext cx="434880" cy="44280"/>
              </a:xfrm>
              <a:prstGeom prst="rect">
                <a:avLst/>
              </a:prstGeom>
              <a:solidFill>
                <a:srgbClr val="73737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955800" y="2908080"/>
                <a:ext cx="281520" cy="17964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935280" y="2896560"/>
                <a:ext cx="337680" cy="54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959040" y="2985120"/>
                <a:ext cx="276840" cy="684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019520" y="2920680"/>
                <a:ext cx="82080" cy="2556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019520" y="2946240"/>
                <a:ext cx="82080" cy="230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983160" y="2943720"/>
                <a:ext cx="227160" cy="1152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010160" y="2913480"/>
                <a:ext cx="54360" cy="154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010160" y="2913480"/>
                <a:ext cx="54360" cy="1620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920" y="2797560"/>
                <a:ext cx="228960" cy="21600"/>
              </a:xfrm>
              <a:custGeom>
                <a:avLst/>
                <a:gdLst/>
                <a:ahLst/>
                <a:rect l="l" t="t" r="r" b="b"/>
                <a:pathLst>
                  <a:path w="278" h="28">
                    <a:moveTo>
                      <a:pt x="0" y="0"/>
                    </a:moveTo>
                    <a:lnTo>
                      <a:pt x="12" y="28"/>
                    </a:lnTo>
                    <a:lnTo>
                      <a:pt x="267" y="28"/>
                    </a:lnTo>
                    <a:lnTo>
                      <a:pt x="27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61240" y="2774880"/>
                <a:ext cx="667080" cy="18360"/>
              </a:xfrm>
              <a:prstGeom prst="rect">
                <a:avLst/>
              </a:pr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61240" y="2793600"/>
                <a:ext cx="667080" cy="16200"/>
              </a:xfrm>
              <a:prstGeom prst="rect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61240" y="2774880"/>
                <a:ext cx="667080" cy="3564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75720" y="2818440"/>
                <a:ext cx="410760" cy="37080"/>
              </a:xfrm>
              <a:custGeom>
                <a:avLst/>
                <a:gdLst/>
                <a:ahLst/>
                <a:rect l="l" t="t" r="r" b="b"/>
                <a:pathLst>
                  <a:path w="499" h="48">
                    <a:moveTo>
                      <a:pt x="108" y="0"/>
                    </a:moveTo>
                    <a:lnTo>
                      <a:pt x="109" y="12"/>
                    </a:lnTo>
                    <a:lnTo>
                      <a:pt x="0" y="48"/>
                    </a:lnTo>
                    <a:lnTo>
                      <a:pt x="499" y="48"/>
                    </a:lnTo>
                    <a:lnTo>
                      <a:pt x="388" y="12"/>
                    </a:lnTo>
                    <a:lnTo>
                      <a:pt x="38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4d4d4d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81200" y="2823120"/>
                <a:ext cx="205920" cy="5400"/>
              </a:xfrm>
              <a:prstGeom prst="rect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81200" y="2828520"/>
                <a:ext cx="199440" cy="1440"/>
              </a:xfrm>
              <a:prstGeom prst="rect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88760" y="2830320"/>
                <a:ext cx="184320" cy="720"/>
              </a:xfrm>
              <a:prstGeom prst="rect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18280" y="2833560"/>
                <a:ext cx="130680" cy="1440"/>
              </a:xfrm>
              <a:prstGeom prst="rect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24040" y="2835000"/>
                <a:ext cx="120240" cy="1080"/>
              </a:xfrm>
              <a:prstGeom prst="rect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46360" y="2838960"/>
                <a:ext cx="77040" cy="360"/>
              </a:xfrm>
              <a:prstGeom prst="rect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53560" y="2839680"/>
                <a:ext cx="65160" cy="360"/>
              </a:xfrm>
              <a:prstGeom prst="rect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77520" y="2856600"/>
                <a:ext cx="410040" cy="16920"/>
              </a:xfrm>
              <a:prstGeom prst="rect">
                <a:avLst/>
              </a:pr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38920" y="2209680"/>
                <a:ext cx="716400" cy="72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29920" y="2213280"/>
                <a:ext cx="732960" cy="72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29200" y="2214360"/>
                <a:ext cx="733680" cy="36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28480" y="2218320"/>
                <a:ext cx="738000" cy="36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27400" y="2218680"/>
                <a:ext cx="739440" cy="36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23440" y="2222640"/>
                <a:ext cx="746280" cy="144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20920" y="2227320"/>
                <a:ext cx="751320" cy="36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20920" y="2228040"/>
                <a:ext cx="752040" cy="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20200" y="2233800"/>
                <a:ext cx="752760" cy="612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19120" y="2241360"/>
                <a:ext cx="754200" cy="2880"/>
              </a:xfrm>
              <a:prstGeom prst="rect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9120" y="2244600"/>
                <a:ext cx="757080" cy="25560"/>
              </a:xfrm>
              <a:prstGeom prst="rect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19120" y="2270160"/>
                <a:ext cx="757080" cy="302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19120" y="2300400"/>
                <a:ext cx="757080" cy="3024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19120" y="2331000"/>
                <a:ext cx="757080" cy="30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19120" y="2361240"/>
                <a:ext cx="757080" cy="30240"/>
              </a:xfrm>
              <a:prstGeom prst="rect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19120" y="2391480"/>
                <a:ext cx="757080" cy="30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19120" y="2421720"/>
                <a:ext cx="757080" cy="31680"/>
              </a:xfrm>
              <a:prstGeom prst="rect">
                <a:avLst/>
              </a:pr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19120" y="2453760"/>
                <a:ext cx="757080" cy="30240"/>
              </a:xfrm>
              <a:prstGeom prst="rect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19120" y="2484000"/>
                <a:ext cx="757080" cy="30240"/>
              </a:xfrm>
              <a:prstGeom prst="rect">
                <a:avLst/>
              </a:prstGeom>
              <a:solidFill>
                <a:srgbClr val="ad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19120" y="2514600"/>
                <a:ext cx="757080" cy="30240"/>
              </a:xfrm>
              <a:prstGeom prst="rect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19120" y="2544840"/>
                <a:ext cx="757080" cy="30240"/>
              </a:xfrm>
              <a:prstGeom prst="rect">
                <a:avLst/>
              </a:pr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19120" y="2575080"/>
                <a:ext cx="757080" cy="3024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19120" y="2605680"/>
                <a:ext cx="757080" cy="30240"/>
              </a:xfrm>
              <a:prstGeom prst="rect">
                <a:avLst/>
              </a:pr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19120" y="2635920"/>
                <a:ext cx="757080" cy="30240"/>
              </a:xfrm>
              <a:prstGeom prst="rect">
                <a:avLst/>
              </a:pr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19120" y="2666160"/>
                <a:ext cx="757080" cy="30240"/>
              </a:xfrm>
              <a:prstGeom prst="rect">
                <a:avLst/>
              </a:pr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19120" y="2696400"/>
                <a:ext cx="757080" cy="309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19120" y="2727720"/>
                <a:ext cx="757080" cy="25560"/>
              </a:xfrm>
              <a:prstGeom prst="rect">
                <a:avLst/>
              </a:pr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20200" y="2754720"/>
                <a:ext cx="753480" cy="720"/>
              </a:xfrm>
              <a:prstGeom prst="rect">
                <a:avLst/>
              </a:pr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20200" y="2755800"/>
                <a:ext cx="752760" cy="2160"/>
              </a:xfrm>
              <a:prstGeom prst="rect">
                <a:avLst/>
              </a:prstGeom>
              <a:solidFill>
                <a:srgbClr val="79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20200" y="2757960"/>
                <a:ext cx="752760" cy="4320"/>
              </a:xfrm>
              <a:prstGeom prst="rect">
                <a:avLst/>
              </a:pr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20920" y="2763360"/>
                <a:ext cx="751320" cy="1440"/>
              </a:xfrm>
              <a:prstGeom prst="rect">
                <a:avLst/>
              </a:pr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22720" y="2765160"/>
                <a:ext cx="748440" cy="1440"/>
              </a:xfrm>
              <a:prstGeom prst="rect">
                <a:avLst/>
              </a:pr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25240" y="2768760"/>
                <a:ext cx="743040" cy="1440"/>
              </a:xfrm>
              <a:prstGeom prst="rect">
                <a:avLst/>
              </a:pr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29200" y="2773440"/>
                <a:ext cx="735480" cy="1440"/>
              </a:xfrm>
              <a:prstGeom prst="rect">
                <a:avLst/>
              </a:pr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32440" y="2777400"/>
                <a:ext cx="730440" cy="1440"/>
              </a:xfrm>
              <a:prstGeom prst="rect">
                <a:avLst/>
              </a:pr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33160" y="2778840"/>
                <a:ext cx="729000" cy="360"/>
              </a:xfrm>
              <a:prstGeom prst="rect">
                <a:avLst/>
              </a:pr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36760" y="2782080"/>
                <a:ext cx="721440" cy="1440"/>
              </a:xfrm>
              <a:prstGeom prst="rect">
                <a:avLst/>
              </a:pr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37480" y="2783520"/>
                <a:ext cx="720720" cy="360"/>
              </a:xfrm>
              <a:prstGeom prst="rect">
                <a:avLst/>
              </a:pr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19120" y="2209680"/>
                <a:ext cx="754200" cy="577800"/>
              </a:xfrm>
              <a:custGeom>
                <a:avLst/>
                <a:gdLst/>
                <a:ahLst/>
                <a:rect l="l" t="t" r="r" b="b"/>
                <a:pathLst>
                  <a:path w="916" h="743">
                    <a:moveTo>
                      <a:pt x="865" y="0"/>
                    </a:moveTo>
                    <a:lnTo>
                      <a:pt x="892" y="0"/>
                    </a:lnTo>
                    <a:lnTo>
                      <a:pt x="899" y="1"/>
                    </a:lnTo>
                    <a:lnTo>
                      <a:pt x="903" y="7"/>
                    </a:lnTo>
                    <a:lnTo>
                      <a:pt x="905" y="11"/>
                    </a:lnTo>
                    <a:lnTo>
                      <a:pt x="908" y="13"/>
                    </a:lnTo>
                    <a:lnTo>
                      <a:pt x="911" y="19"/>
                    </a:lnTo>
                    <a:lnTo>
                      <a:pt x="914" y="24"/>
                    </a:lnTo>
                    <a:lnTo>
                      <a:pt x="914" y="31"/>
                    </a:lnTo>
                    <a:lnTo>
                      <a:pt x="914" y="36"/>
                    </a:lnTo>
                    <a:lnTo>
                      <a:pt x="916" y="46"/>
                    </a:lnTo>
                    <a:lnTo>
                      <a:pt x="916" y="229"/>
                    </a:lnTo>
                    <a:lnTo>
                      <a:pt x="916" y="497"/>
                    </a:lnTo>
                    <a:lnTo>
                      <a:pt x="916" y="696"/>
                    </a:lnTo>
                    <a:lnTo>
                      <a:pt x="914" y="703"/>
                    </a:lnTo>
                    <a:lnTo>
                      <a:pt x="914" y="711"/>
                    </a:lnTo>
                    <a:lnTo>
                      <a:pt x="894" y="739"/>
                    </a:lnTo>
                    <a:lnTo>
                      <a:pt x="892" y="743"/>
                    </a:lnTo>
                    <a:lnTo>
                      <a:pt x="886" y="743"/>
                    </a:lnTo>
                    <a:lnTo>
                      <a:pt x="846" y="743"/>
                    </a:lnTo>
                    <a:lnTo>
                      <a:pt x="566" y="743"/>
                    </a:lnTo>
                    <a:lnTo>
                      <a:pt x="286" y="743"/>
                    </a:lnTo>
                    <a:lnTo>
                      <a:pt x="26" y="743"/>
                    </a:lnTo>
                    <a:lnTo>
                      <a:pt x="2" y="713"/>
                    </a:lnTo>
                    <a:lnTo>
                      <a:pt x="1" y="706"/>
                    </a:lnTo>
                    <a:lnTo>
                      <a:pt x="0" y="696"/>
                    </a:lnTo>
                    <a:lnTo>
                      <a:pt x="0" y="552"/>
                    </a:lnTo>
                    <a:lnTo>
                      <a:pt x="0" y="205"/>
                    </a:lnTo>
                    <a:lnTo>
                      <a:pt x="0" y="46"/>
                    </a:lnTo>
                    <a:lnTo>
                      <a:pt x="1" y="35"/>
                    </a:lnTo>
                    <a:lnTo>
                      <a:pt x="2" y="24"/>
                    </a:lnTo>
                    <a:lnTo>
                      <a:pt x="5" y="17"/>
                    </a:lnTo>
                    <a:lnTo>
                      <a:pt x="10" y="12"/>
                    </a:lnTo>
                    <a:lnTo>
                      <a:pt x="11" y="8"/>
                    </a:lnTo>
                    <a:lnTo>
                      <a:pt x="13" y="3"/>
                    </a:lnTo>
                    <a:lnTo>
                      <a:pt x="21" y="1"/>
                    </a:lnTo>
                    <a:lnTo>
                      <a:pt x="26" y="0"/>
                    </a:lnTo>
                    <a:lnTo>
                      <a:pt x="176" y="0"/>
                    </a:lnTo>
                    <a:lnTo>
                      <a:pt x="373" y="0"/>
                    </a:lnTo>
                    <a:lnTo>
                      <a:pt x="762" y="0"/>
                    </a:lnTo>
                    <a:lnTo>
                      <a:pt x="865" y="0"/>
                    </a:lnTo>
                    <a:close/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23440" y="2767320"/>
                <a:ext cx="745200" cy="20160"/>
              </a:xfrm>
              <a:custGeom>
                <a:avLst/>
                <a:gdLst/>
                <a:ahLst/>
                <a:rect l="l" t="t" r="r" b="b"/>
                <a:pathLst>
                  <a:path w="905" h="26">
                    <a:moveTo>
                      <a:pt x="0" y="0"/>
                    </a:moveTo>
                    <a:lnTo>
                      <a:pt x="21" y="24"/>
                    </a:lnTo>
                    <a:lnTo>
                      <a:pt x="887" y="26"/>
                    </a:lnTo>
                    <a:lnTo>
                      <a:pt x="90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02280" y="2297520"/>
                <a:ext cx="579240" cy="144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01560" y="2301120"/>
                <a:ext cx="583200" cy="216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00840" y="2303640"/>
                <a:ext cx="583920" cy="2088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00840" y="2324520"/>
                <a:ext cx="583920" cy="28440"/>
              </a:xfrm>
              <a:prstGeom prst="rect">
                <a:avLst/>
              </a:pr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00840" y="2353320"/>
                <a:ext cx="583920" cy="2952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00840" y="2383200"/>
                <a:ext cx="583920" cy="29160"/>
              </a:xfrm>
              <a:prstGeom prst="rect">
                <a:avLst/>
              </a:prstGeom>
              <a:solidFill>
                <a:srgbClr val="93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00840" y="2412360"/>
                <a:ext cx="583920" cy="29520"/>
              </a:xfrm>
              <a:prstGeom prst="rect">
                <a:avLst/>
              </a:prstGeom>
              <a:solidFill>
                <a:srgbClr val="95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00840" y="2442240"/>
                <a:ext cx="583920" cy="29160"/>
              </a:xfrm>
              <a:prstGeom prst="rect">
                <a:avLst/>
              </a:pr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0840" y="2471760"/>
                <a:ext cx="583920" cy="2340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00840" y="2495160"/>
                <a:ext cx="584640" cy="612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00840" y="2501280"/>
                <a:ext cx="584640" cy="29160"/>
              </a:xfrm>
              <a:prstGeom prst="rect">
                <a:avLst/>
              </a:prstGeom>
              <a:solidFill>
                <a:srgbClr val="9b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0840" y="2530800"/>
                <a:ext cx="584640" cy="29520"/>
              </a:xfrm>
              <a:prstGeom prst="rect">
                <a:avLst/>
              </a:prstGeom>
              <a:solidFill>
                <a:srgbClr val="9d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00840" y="2560320"/>
                <a:ext cx="584640" cy="28440"/>
              </a:xfrm>
              <a:prstGeom prst="rect">
                <a:avLst/>
              </a:pr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00840" y="2589120"/>
                <a:ext cx="584640" cy="29520"/>
              </a:xfrm>
              <a:prstGeom prst="rect">
                <a:avLst/>
              </a:pr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00840" y="2618640"/>
                <a:ext cx="584640" cy="29160"/>
              </a:xfrm>
              <a:prstGeom prst="rect">
                <a:avLst/>
              </a:prstGeom>
              <a:solidFill>
                <a:srgbClr val="a3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00840" y="2648160"/>
                <a:ext cx="584640" cy="2844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00840" y="2676960"/>
                <a:ext cx="584640" cy="14760"/>
              </a:xfrm>
              <a:prstGeom prst="rect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00840" y="2694240"/>
                <a:ext cx="582120" cy="1440"/>
              </a:xfrm>
              <a:prstGeom prst="rect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1560" y="2698920"/>
                <a:ext cx="579960" cy="360"/>
              </a:xfrm>
              <a:prstGeom prst="rect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01560" y="2699640"/>
                <a:ext cx="578880" cy="720"/>
              </a:xfrm>
              <a:prstGeom prst="rect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03360" y="2703600"/>
                <a:ext cx="572400" cy="720"/>
              </a:xfrm>
              <a:prstGeom prst="rect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00840" y="2295000"/>
                <a:ext cx="583920" cy="408960"/>
              </a:xfrm>
              <a:custGeom>
                <a:avLst/>
                <a:gdLst/>
                <a:ahLst/>
                <a:rect l="l" t="t" r="r" b="b"/>
                <a:pathLst>
                  <a:path w="709" h="526">
                    <a:moveTo>
                      <a:pt x="3" y="0"/>
                    </a:moveTo>
                    <a:lnTo>
                      <a:pt x="2" y="7"/>
                    </a:lnTo>
                    <a:lnTo>
                      <a:pt x="0" y="11"/>
                    </a:lnTo>
                    <a:lnTo>
                      <a:pt x="0" y="518"/>
                    </a:lnTo>
                    <a:lnTo>
                      <a:pt x="2" y="521"/>
                    </a:lnTo>
                    <a:lnTo>
                      <a:pt x="3" y="525"/>
                    </a:lnTo>
                    <a:lnTo>
                      <a:pt x="692" y="526"/>
                    </a:lnTo>
                    <a:lnTo>
                      <a:pt x="695" y="525"/>
                    </a:lnTo>
                    <a:lnTo>
                      <a:pt x="700" y="523"/>
                    </a:lnTo>
                    <a:lnTo>
                      <a:pt x="701" y="520"/>
                    </a:lnTo>
                    <a:lnTo>
                      <a:pt x="709" y="508"/>
                    </a:lnTo>
                    <a:lnTo>
                      <a:pt x="707" y="8"/>
                    </a:lnTo>
                    <a:lnTo>
                      <a:pt x="701" y="1"/>
                    </a:lnTo>
                    <a:lnTo>
                      <a:pt x="688" y="0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23880" y="2310480"/>
                <a:ext cx="539640" cy="1440"/>
              </a:xfrm>
              <a:prstGeom prst="rect">
                <a:avLst/>
              </a:prstGeom>
              <a:solidFill>
                <a:srgbClr val="96cc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23880" y="2312280"/>
                <a:ext cx="541080" cy="720"/>
              </a:xfrm>
              <a:prstGeom prst="rect">
                <a:avLst/>
              </a:prstGeom>
              <a:solidFill>
                <a:srgbClr val="96cc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21360" y="2314440"/>
                <a:ext cx="545040" cy="2160"/>
              </a:xfrm>
              <a:prstGeom prst="rect">
                <a:avLst/>
              </a:prstGeom>
              <a:solidFill>
                <a:srgbClr val="96cc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20640" y="2316960"/>
                <a:ext cx="545760" cy="21600"/>
              </a:xfrm>
              <a:prstGeom prst="rect">
                <a:avLst/>
              </a:prstGeom>
              <a:solidFill>
                <a:srgbClr val="96cc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20640" y="2338560"/>
                <a:ext cx="545760" cy="29520"/>
              </a:xfrm>
              <a:prstGeom prst="rect">
                <a:avLst/>
              </a:prstGeom>
              <a:solidFill>
                <a:srgbClr val="99d0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20640" y="2368440"/>
                <a:ext cx="545760" cy="29160"/>
              </a:xfrm>
              <a:prstGeom prst="rect">
                <a:avLst/>
              </a:prstGeom>
              <a:solidFill>
                <a:srgbClr val="9bd3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20640" y="2397600"/>
                <a:ext cx="545760" cy="28440"/>
              </a:xfrm>
              <a:prstGeom prst="rect">
                <a:avLst/>
              </a:prstGeom>
              <a:solidFill>
                <a:srgbClr val="9dd6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20640" y="2426400"/>
                <a:ext cx="545760" cy="29520"/>
              </a:xfrm>
              <a:prstGeom prst="rect">
                <a:avLst/>
              </a:prstGeom>
              <a:solidFill>
                <a:srgbClr val="a0da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20640" y="2456280"/>
                <a:ext cx="545760" cy="29520"/>
              </a:xfrm>
              <a:prstGeom prst="rect">
                <a:avLst/>
              </a:prstGeom>
              <a:solidFill>
                <a:srgbClr val="a2d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20640" y="2485800"/>
                <a:ext cx="545760" cy="29160"/>
              </a:xfrm>
              <a:prstGeom prst="rect">
                <a:avLst/>
              </a:prstGeom>
              <a:solidFill>
                <a:srgbClr val="a4e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20640" y="2515320"/>
                <a:ext cx="545760" cy="29520"/>
              </a:xfrm>
              <a:prstGeom prst="rect">
                <a:avLst/>
              </a:prstGeom>
              <a:solidFill>
                <a:srgbClr val="a6e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20640" y="2544840"/>
                <a:ext cx="545760" cy="29160"/>
              </a:xfrm>
              <a:prstGeom prst="rect">
                <a:avLst/>
              </a:prstGeom>
              <a:solidFill>
                <a:srgbClr val="a8e6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20640" y="2574360"/>
                <a:ext cx="545760" cy="29520"/>
              </a:xfrm>
              <a:prstGeom prst="rect">
                <a:avLst/>
              </a:prstGeom>
              <a:solidFill>
                <a:srgbClr val="aae9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20640" y="2603880"/>
                <a:ext cx="545760" cy="29160"/>
              </a:xfrm>
              <a:prstGeom prst="rect">
                <a:avLst/>
              </a:prstGeom>
              <a:solidFill>
                <a:srgbClr val="aded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20640" y="2633400"/>
                <a:ext cx="545760" cy="28800"/>
              </a:xfrm>
              <a:prstGeom prst="rect">
                <a:avLst/>
              </a:prstGeom>
              <a:solidFill>
                <a:srgbClr val="aff0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20640" y="2662200"/>
                <a:ext cx="545760" cy="16200"/>
              </a:xfrm>
              <a:prstGeom prst="rect">
                <a:avLst/>
              </a:prstGeom>
              <a:solidFill>
                <a:srgbClr val="b0f2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20640" y="2678400"/>
                <a:ext cx="544320" cy="3600"/>
              </a:xfrm>
              <a:prstGeom prst="rect">
                <a:avLst/>
              </a:prstGeom>
              <a:solidFill>
                <a:srgbClr val="b0f2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20640" y="2682360"/>
                <a:ext cx="542520" cy="2880"/>
              </a:xfrm>
              <a:prstGeom prst="rect">
                <a:avLst/>
              </a:prstGeom>
              <a:solidFill>
                <a:srgbClr val="b0f2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21360" y="2685600"/>
                <a:ext cx="541080" cy="1440"/>
              </a:xfrm>
              <a:prstGeom prst="rect">
                <a:avLst/>
              </a:prstGeom>
              <a:solidFill>
                <a:srgbClr val="b0f2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23880" y="2689560"/>
                <a:ext cx="536040" cy="360"/>
              </a:xfrm>
              <a:prstGeom prst="rect">
                <a:avLst/>
              </a:prstGeom>
              <a:solidFill>
                <a:srgbClr val="b0f2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20640" y="2309040"/>
                <a:ext cx="544320" cy="380880"/>
              </a:xfrm>
              <a:custGeom>
                <a:avLst/>
                <a:gdLst/>
                <a:ahLst/>
                <a:rect l="l" t="t" r="r" b="b"/>
                <a:pathLst>
                  <a:path w="661" h="490">
                    <a:moveTo>
                      <a:pt x="5" y="0"/>
                    </a:moveTo>
                    <a:lnTo>
                      <a:pt x="3" y="6"/>
                    </a:lnTo>
                    <a:lnTo>
                      <a:pt x="0" y="10"/>
                    </a:lnTo>
                    <a:lnTo>
                      <a:pt x="0" y="483"/>
                    </a:lnTo>
                    <a:lnTo>
                      <a:pt x="3" y="486"/>
                    </a:lnTo>
                    <a:lnTo>
                      <a:pt x="5" y="490"/>
                    </a:lnTo>
                    <a:lnTo>
                      <a:pt x="650" y="489"/>
                    </a:lnTo>
                    <a:lnTo>
                      <a:pt x="652" y="490"/>
                    </a:lnTo>
                    <a:lnTo>
                      <a:pt x="654" y="489"/>
                    </a:lnTo>
                    <a:lnTo>
                      <a:pt x="657" y="485"/>
                    </a:lnTo>
                    <a:lnTo>
                      <a:pt x="661" y="473"/>
                    </a:lnTo>
                    <a:lnTo>
                      <a:pt x="661" y="7"/>
                    </a:lnTo>
                    <a:lnTo>
                      <a:pt x="657" y="0"/>
                    </a:lnTo>
                    <a:lnTo>
                      <a:pt x="644" y="0"/>
                    </a:lnTo>
                    <a:lnTo>
                      <a:pt x="5" y="0"/>
                    </a:lnTo>
                    <a:close/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141920" y="2750760"/>
                <a:ext cx="43560" cy="12960"/>
              </a:xfrm>
              <a:prstGeom prst="rect">
                <a:avLst/>
              </a:prstGeom>
              <a:solidFill>
                <a:srgbClr val="a6a6a6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28600" y="3083760"/>
                <a:ext cx="1063440" cy="192600"/>
              </a:xfrm>
              <a:custGeom>
                <a:avLst/>
                <a:gdLst/>
                <a:ahLst/>
                <a:rect l="l" t="t" r="r" b="b"/>
                <a:pathLst>
                  <a:path w="1291" h="248">
                    <a:moveTo>
                      <a:pt x="1275" y="248"/>
                    </a:moveTo>
                    <a:lnTo>
                      <a:pt x="1280" y="242"/>
                    </a:lnTo>
                    <a:lnTo>
                      <a:pt x="1288" y="231"/>
                    </a:lnTo>
                    <a:lnTo>
                      <a:pt x="1291" y="214"/>
                    </a:lnTo>
                    <a:lnTo>
                      <a:pt x="1290" y="197"/>
                    </a:lnTo>
                    <a:lnTo>
                      <a:pt x="1283" y="177"/>
                    </a:lnTo>
                    <a:lnTo>
                      <a:pt x="1277" y="170"/>
                    </a:lnTo>
                    <a:lnTo>
                      <a:pt x="1139" y="0"/>
                    </a:lnTo>
                    <a:lnTo>
                      <a:pt x="1035" y="0"/>
                    </a:lnTo>
                    <a:lnTo>
                      <a:pt x="354" y="0"/>
                    </a:lnTo>
                    <a:lnTo>
                      <a:pt x="149" y="0"/>
                    </a:lnTo>
                    <a:lnTo>
                      <a:pt x="16" y="170"/>
                    </a:lnTo>
                    <a:lnTo>
                      <a:pt x="8" y="182"/>
                    </a:lnTo>
                    <a:lnTo>
                      <a:pt x="2" y="194"/>
                    </a:lnTo>
                    <a:lnTo>
                      <a:pt x="0" y="214"/>
                    </a:lnTo>
                    <a:lnTo>
                      <a:pt x="1" y="225"/>
                    </a:lnTo>
                    <a:lnTo>
                      <a:pt x="8" y="243"/>
                    </a:lnTo>
                    <a:lnTo>
                      <a:pt x="12" y="248"/>
                    </a:lnTo>
                    <a:lnTo>
                      <a:pt x="57" y="248"/>
                    </a:lnTo>
                    <a:lnTo>
                      <a:pt x="1275" y="248"/>
                    </a:lnTo>
                    <a:close/>
                  </a:path>
                </a:pathLst>
              </a:custGeom>
              <a:solidFill>
                <a:srgbClr val="cccccc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92680" y="3114360"/>
                <a:ext cx="153360" cy="93240"/>
              </a:xfrm>
              <a:custGeom>
                <a:avLst/>
                <a:gdLst/>
                <a:ahLst/>
                <a:rect l="l" t="t" r="r" b="b"/>
                <a:pathLst>
                  <a:path w="186" h="120">
                    <a:moveTo>
                      <a:pt x="0" y="117"/>
                    </a:moveTo>
                    <a:lnTo>
                      <a:pt x="6" y="110"/>
                    </a:lnTo>
                    <a:lnTo>
                      <a:pt x="87" y="5"/>
                    </a:lnTo>
                    <a:lnTo>
                      <a:pt x="128" y="0"/>
                    </a:lnTo>
                    <a:lnTo>
                      <a:pt x="132" y="7"/>
                    </a:lnTo>
                    <a:lnTo>
                      <a:pt x="177" y="7"/>
                    </a:lnTo>
                    <a:lnTo>
                      <a:pt x="184" y="2"/>
                    </a:lnTo>
                    <a:lnTo>
                      <a:pt x="186" y="7"/>
                    </a:lnTo>
                    <a:lnTo>
                      <a:pt x="112" y="120"/>
                    </a:lnTo>
                    <a:lnTo>
                      <a:pt x="1" y="120"/>
                    </a:lnTo>
                    <a:lnTo>
                      <a:pt x="1" y="117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1a1a1a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90160" y="3096360"/>
                <a:ext cx="942840" cy="109440"/>
              </a:xfrm>
              <a:custGeom>
                <a:avLst/>
                <a:gdLst/>
                <a:ahLst/>
                <a:rect l="l" t="t" r="r" b="b"/>
                <a:pathLst>
                  <a:path w="1145" h="141">
                    <a:moveTo>
                      <a:pt x="1082" y="141"/>
                    </a:moveTo>
                    <a:lnTo>
                      <a:pt x="1145" y="141"/>
                    </a:lnTo>
                    <a:lnTo>
                      <a:pt x="1044" y="0"/>
                    </a:lnTo>
                    <a:lnTo>
                      <a:pt x="110" y="0"/>
                    </a:lnTo>
                    <a:lnTo>
                      <a:pt x="0" y="141"/>
                    </a:lnTo>
                    <a:lnTo>
                      <a:pt x="1088" y="141"/>
                    </a:lnTo>
                    <a:lnTo>
                      <a:pt x="1082" y="141"/>
                    </a:lnTo>
                    <a:close/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95920" y="3184200"/>
                <a:ext cx="50760" cy="18360"/>
              </a:xfrm>
              <a:custGeom>
                <a:avLst/>
                <a:gdLst/>
                <a:ahLst/>
                <a:rect l="l" t="t" r="r" b="b"/>
                <a:pathLst>
                  <a:path w="62" h="24">
                    <a:moveTo>
                      <a:pt x="15" y="0"/>
                    </a:moveTo>
                    <a:lnTo>
                      <a:pt x="0" y="24"/>
                    </a:lnTo>
                    <a:lnTo>
                      <a:pt x="45" y="24"/>
                    </a:lnTo>
                    <a:lnTo>
                      <a:pt x="62" y="0"/>
                    </a:lnTo>
                    <a:lnTo>
                      <a:pt x="14" y="0"/>
                    </a:lnTo>
                    <a:lnTo>
                      <a:pt x="15" y="0"/>
                    </a:lnTo>
                    <a:close/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09960" y="3164760"/>
                <a:ext cx="51840" cy="17640"/>
              </a:xfrm>
              <a:custGeom>
                <a:avLst/>
                <a:gdLst/>
                <a:ahLst/>
                <a:rect l="l" t="t" r="r" b="b"/>
                <a:pathLst>
                  <a:path w="63" h="23">
                    <a:moveTo>
                      <a:pt x="17" y="0"/>
                    </a:moveTo>
                    <a:lnTo>
                      <a:pt x="0" y="23"/>
                    </a:lnTo>
                    <a:lnTo>
                      <a:pt x="46" y="23"/>
                    </a:lnTo>
                    <a:lnTo>
                      <a:pt x="63" y="0"/>
                    </a:lnTo>
                    <a:lnTo>
                      <a:pt x="16" y="0"/>
                    </a:lnTo>
                    <a:lnTo>
                      <a:pt x="17" y="0"/>
                    </a:lnTo>
                    <a:close/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8320" y="3147480"/>
                <a:ext cx="46800" cy="12960"/>
              </a:xfrm>
              <a:custGeom>
                <a:avLst/>
                <a:gdLst/>
                <a:ahLst/>
                <a:rect l="l" t="t" r="r" b="b"/>
                <a:pathLst>
                  <a:path w="57" h="17">
                    <a:moveTo>
                      <a:pt x="13" y="0"/>
                    </a:moveTo>
                    <a:lnTo>
                      <a:pt x="0" y="17"/>
                    </a:lnTo>
                    <a:lnTo>
                      <a:pt x="42" y="17"/>
                    </a:lnTo>
                    <a:lnTo>
                      <a:pt x="57" y="0"/>
                    </a:lnTo>
                    <a:lnTo>
                      <a:pt x="12" y="0"/>
                    </a:lnTo>
                    <a:lnTo>
                      <a:pt x="13" y="0"/>
                    </a:lnTo>
                    <a:close/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41280" y="3128760"/>
                <a:ext cx="46080" cy="14040"/>
              </a:xfrm>
              <a:custGeom>
                <a:avLst/>
                <a:gdLst/>
                <a:ahLst/>
                <a:rect l="l" t="t" r="r" b="b"/>
                <a:pathLst>
                  <a:path w="56" h="18">
                    <a:moveTo>
                      <a:pt x="14" y="0"/>
                    </a:moveTo>
                    <a:lnTo>
                      <a:pt x="0" y="18"/>
                    </a:lnTo>
                    <a:lnTo>
                      <a:pt x="42" y="18"/>
                    </a:lnTo>
                    <a:lnTo>
                      <a:pt x="56" y="0"/>
                    </a:lnTo>
                    <a:lnTo>
                      <a:pt x="12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5320" y="3114360"/>
                <a:ext cx="43200" cy="12960"/>
              </a:xfrm>
              <a:custGeom>
                <a:avLst/>
                <a:gdLst/>
                <a:ahLst/>
                <a:rect l="l" t="t" r="r" b="b"/>
                <a:pathLst>
                  <a:path w="53" h="17">
                    <a:moveTo>
                      <a:pt x="13" y="0"/>
                    </a:moveTo>
                    <a:lnTo>
                      <a:pt x="0" y="17"/>
                    </a:lnTo>
                    <a:lnTo>
                      <a:pt x="40" y="17"/>
                    </a:lnTo>
                    <a:lnTo>
                      <a:pt x="53" y="0"/>
                    </a:lnTo>
                    <a:lnTo>
                      <a:pt x="12" y="0"/>
                    </a:lnTo>
                    <a:lnTo>
                      <a:pt x="13" y="0"/>
                    </a:lnTo>
                    <a:close/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39840" y="3185640"/>
                <a:ext cx="52560" cy="16920"/>
              </a:xfrm>
              <a:custGeom>
                <a:avLst/>
                <a:gdLst/>
                <a:ahLst/>
                <a:rect l="l" t="t" r="r" b="b"/>
                <a:pathLst>
                  <a:path w="64" h="22">
                    <a:moveTo>
                      <a:pt x="17" y="0"/>
                    </a:moveTo>
                    <a:lnTo>
                      <a:pt x="0" y="22"/>
                    </a:lnTo>
                    <a:lnTo>
                      <a:pt x="47" y="22"/>
                    </a:lnTo>
                    <a:lnTo>
                      <a:pt x="64" y="0"/>
                    </a:lnTo>
                    <a:lnTo>
                      <a:pt x="16" y="0"/>
                    </a:lnTo>
                    <a:lnTo>
                      <a:pt x="17" y="0"/>
                    </a:lnTo>
                    <a:close/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55320" y="3165480"/>
                <a:ext cx="51480" cy="16920"/>
              </a:xfrm>
              <a:custGeom>
                <a:avLst/>
                <a:gdLst/>
                <a:ahLst/>
                <a:rect l="l" t="t" r="r" b="b"/>
                <a:pathLst>
                  <a:path w="63" h="22">
                    <a:moveTo>
                      <a:pt x="17" y="0"/>
                    </a:moveTo>
                    <a:lnTo>
                      <a:pt x="0" y="22"/>
                    </a:lnTo>
                    <a:lnTo>
                      <a:pt x="46" y="22"/>
                    </a:lnTo>
                    <a:lnTo>
                      <a:pt x="63" y="0"/>
                    </a:lnTo>
                    <a:lnTo>
                      <a:pt x="14" y="0"/>
                    </a:lnTo>
                    <a:lnTo>
                      <a:pt x="17" y="0"/>
                    </a:lnTo>
                    <a:close/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70080" y="3148560"/>
                <a:ext cx="46800" cy="12960"/>
              </a:xfrm>
              <a:custGeom>
                <a:avLst/>
                <a:gdLst/>
                <a:ahLst/>
                <a:rect l="l" t="t" r="r" b="b"/>
                <a:pathLst>
                  <a:path w="57" h="17">
                    <a:moveTo>
                      <a:pt x="15" y="0"/>
                    </a:moveTo>
                    <a:lnTo>
                      <a:pt x="0" y="17"/>
                    </a:lnTo>
                    <a:lnTo>
                      <a:pt x="45" y="17"/>
                    </a:lnTo>
                    <a:lnTo>
                      <a:pt x="57" y="0"/>
                    </a:lnTo>
                    <a:lnTo>
                      <a:pt x="13" y="0"/>
                    </a:lnTo>
                    <a:lnTo>
                      <a:pt x="15" y="0"/>
                    </a:lnTo>
                    <a:close/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84840" y="3131280"/>
                <a:ext cx="44280" cy="1368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14" y="0"/>
                    </a:moveTo>
                    <a:lnTo>
                      <a:pt x="0" y="18"/>
                    </a:lnTo>
                    <a:lnTo>
                      <a:pt x="41" y="18"/>
                    </a:lnTo>
                    <a:lnTo>
                      <a:pt x="54" y="0"/>
                    </a:lnTo>
                    <a:lnTo>
                      <a:pt x="11" y="0"/>
                    </a:lnTo>
                    <a:lnTo>
                      <a:pt x="14" y="0"/>
                    </a:lnTo>
                    <a:close/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98160" y="3114360"/>
                <a:ext cx="46080" cy="13680"/>
              </a:xfrm>
              <a:custGeom>
                <a:avLst/>
                <a:gdLst/>
                <a:ahLst/>
                <a:rect l="l" t="t" r="r" b="b"/>
                <a:pathLst>
                  <a:path w="56" h="18">
                    <a:moveTo>
                      <a:pt x="15" y="0"/>
                    </a:moveTo>
                    <a:lnTo>
                      <a:pt x="0" y="18"/>
                    </a:lnTo>
                    <a:lnTo>
                      <a:pt x="42" y="18"/>
                    </a:lnTo>
                    <a:lnTo>
                      <a:pt x="56" y="0"/>
                    </a:lnTo>
                    <a:lnTo>
                      <a:pt x="14" y="0"/>
                    </a:lnTo>
                    <a:lnTo>
                      <a:pt x="15" y="0"/>
                    </a:lnTo>
                    <a:close/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058040" y="3118680"/>
                <a:ext cx="152280" cy="85320"/>
              </a:xfrm>
              <a:custGeom>
                <a:avLst/>
                <a:gdLst/>
                <a:ahLst/>
                <a:rect l="l" t="t" r="r" b="b"/>
                <a:pathLst>
                  <a:path w="185" h="110">
                    <a:moveTo>
                      <a:pt x="0" y="0"/>
                    </a:moveTo>
                    <a:lnTo>
                      <a:pt x="45" y="101"/>
                    </a:lnTo>
                    <a:lnTo>
                      <a:pt x="51" y="110"/>
                    </a:lnTo>
                    <a:lnTo>
                      <a:pt x="185" y="110"/>
                    </a:lnTo>
                    <a:lnTo>
                      <a:pt x="10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058040" y="3118680"/>
                <a:ext cx="32040" cy="16200"/>
              </a:xfrm>
              <a:custGeom>
                <a:avLst/>
                <a:gdLst/>
                <a:ahLst/>
                <a:rect l="l" t="t" r="r" b="b"/>
                <a:pathLst>
                  <a:path w="39" h="21">
                    <a:moveTo>
                      <a:pt x="1" y="0"/>
                    </a:moveTo>
                    <a:lnTo>
                      <a:pt x="28" y="0"/>
                    </a:lnTo>
                    <a:lnTo>
                      <a:pt x="39" y="21"/>
                    </a:lnTo>
                    <a:lnTo>
                      <a:pt x="6" y="2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123200" y="3118680"/>
                <a:ext cx="36000" cy="16200"/>
              </a:xfrm>
              <a:custGeom>
                <a:avLst/>
                <a:gdLst/>
                <a:ahLst/>
                <a:rect l="l" t="t" r="r" b="b"/>
                <a:pathLst>
                  <a:path w="44" h="21">
                    <a:moveTo>
                      <a:pt x="1" y="0"/>
                    </a:moveTo>
                    <a:lnTo>
                      <a:pt x="27" y="0"/>
                    </a:lnTo>
                    <a:lnTo>
                      <a:pt x="44" y="21"/>
                    </a:lnTo>
                    <a:lnTo>
                      <a:pt x="12" y="2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d4d4d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090080" y="3117960"/>
                <a:ext cx="35280" cy="16920"/>
              </a:xfrm>
              <a:custGeom>
                <a:avLst/>
                <a:gdLst/>
                <a:ahLst/>
                <a:rect l="l" t="t" r="r" b="b"/>
                <a:pathLst>
                  <a:path w="43" h="22">
                    <a:moveTo>
                      <a:pt x="1" y="0"/>
                    </a:moveTo>
                    <a:lnTo>
                      <a:pt x="29" y="0"/>
                    </a:lnTo>
                    <a:lnTo>
                      <a:pt x="43" y="22"/>
                    </a:lnTo>
                    <a:lnTo>
                      <a:pt x="10" y="22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065600" y="3136680"/>
                <a:ext cx="34200" cy="17640"/>
              </a:xfrm>
              <a:custGeom>
                <a:avLst/>
                <a:gdLst/>
                <a:ahLst/>
                <a:rect l="l" t="t" r="r" b="b"/>
                <a:pathLst>
                  <a:path w="42" h="23">
                    <a:moveTo>
                      <a:pt x="2" y="0"/>
                    </a:moveTo>
                    <a:lnTo>
                      <a:pt x="31" y="0"/>
                    </a:lnTo>
                    <a:lnTo>
                      <a:pt x="42" y="23"/>
                    </a:lnTo>
                    <a:lnTo>
                      <a:pt x="9" y="23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136880" y="3136680"/>
                <a:ext cx="38520" cy="1764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0" y="0"/>
                    </a:moveTo>
                    <a:lnTo>
                      <a:pt x="28" y="0"/>
                    </a:lnTo>
                    <a:lnTo>
                      <a:pt x="47" y="23"/>
                    </a:lnTo>
                    <a:lnTo>
                      <a:pt x="15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101600" y="3135960"/>
                <a:ext cx="38520" cy="18360"/>
              </a:xfrm>
              <a:custGeom>
                <a:avLst/>
                <a:gdLst/>
                <a:ahLst/>
                <a:rect l="l" t="t" r="r" b="b"/>
                <a:pathLst>
                  <a:path w="47" h="24">
                    <a:moveTo>
                      <a:pt x="2" y="1"/>
                    </a:moveTo>
                    <a:lnTo>
                      <a:pt x="31" y="1"/>
                    </a:lnTo>
                    <a:lnTo>
                      <a:pt x="47" y="24"/>
                    </a:lnTo>
                    <a:lnTo>
                      <a:pt x="11" y="24"/>
                    </a:lnTo>
                    <a:lnTo>
                      <a:pt x="0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076040" y="3156840"/>
                <a:ext cx="36000" cy="21600"/>
              </a:xfrm>
              <a:custGeom>
                <a:avLst/>
                <a:gdLst/>
                <a:ahLst/>
                <a:rect l="l" t="t" r="r" b="b"/>
                <a:pathLst>
                  <a:path w="44" h="28">
                    <a:moveTo>
                      <a:pt x="1" y="0"/>
                    </a:moveTo>
                    <a:lnTo>
                      <a:pt x="33" y="0"/>
                    </a:lnTo>
                    <a:lnTo>
                      <a:pt x="44" y="28"/>
                    </a:lnTo>
                    <a:lnTo>
                      <a:pt x="8" y="28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150920" y="3156840"/>
                <a:ext cx="42840" cy="21600"/>
              </a:xfrm>
              <a:custGeom>
                <a:avLst/>
                <a:gdLst/>
                <a:ahLst/>
                <a:rect l="l" t="t" r="r" b="b"/>
                <a:pathLst>
                  <a:path w="52" h="28">
                    <a:moveTo>
                      <a:pt x="2" y="0"/>
                    </a:moveTo>
                    <a:lnTo>
                      <a:pt x="32" y="0"/>
                    </a:lnTo>
                    <a:lnTo>
                      <a:pt x="52" y="28"/>
                    </a:lnTo>
                    <a:lnTo>
                      <a:pt x="14" y="28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d4d4d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114200" y="3156840"/>
                <a:ext cx="41760" cy="21600"/>
              </a:xfrm>
              <a:custGeom>
                <a:avLst/>
                <a:gdLst/>
                <a:ahLst/>
                <a:rect l="l" t="t" r="r" b="b"/>
                <a:pathLst>
                  <a:path w="51" h="28">
                    <a:moveTo>
                      <a:pt x="1" y="0"/>
                    </a:moveTo>
                    <a:lnTo>
                      <a:pt x="34" y="0"/>
                    </a:lnTo>
                    <a:lnTo>
                      <a:pt x="51" y="28"/>
                    </a:lnTo>
                    <a:lnTo>
                      <a:pt x="14" y="28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087560" y="3181680"/>
                <a:ext cx="39240" cy="22320"/>
              </a:xfrm>
              <a:custGeom>
                <a:avLst/>
                <a:gdLst/>
                <a:ahLst/>
                <a:rect l="l" t="t" r="r" b="b"/>
                <a:pathLst>
                  <a:path w="48" h="29">
                    <a:moveTo>
                      <a:pt x="2" y="0"/>
                    </a:moveTo>
                    <a:lnTo>
                      <a:pt x="36" y="0"/>
                    </a:lnTo>
                    <a:lnTo>
                      <a:pt x="48" y="29"/>
                    </a:lnTo>
                    <a:lnTo>
                      <a:pt x="9" y="29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169280" y="3182760"/>
                <a:ext cx="47520" cy="23040"/>
              </a:xfrm>
              <a:custGeom>
                <a:avLst/>
                <a:gdLst/>
                <a:ahLst/>
                <a:rect l="l" t="t" r="r" b="b"/>
                <a:pathLst>
                  <a:path w="58" h="30">
                    <a:moveTo>
                      <a:pt x="2" y="0"/>
                    </a:moveTo>
                    <a:lnTo>
                      <a:pt x="36" y="0"/>
                    </a:lnTo>
                    <a:lnTo>
                      <a:pt x="58" y="30"/>
                    </a:lnTo>
                    <a:lnTo>
                      <a:pt x="17" y="3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d4d4d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127160" y="3180240"/>
                <a:ext cx="45360" cy="24120"/>
              </a:xfrm>
              <a:custGeom>
                <a:avLst/>
                <a:gdLst/>
                <a:ahLst/>
                <a:rect l="l" t="t" r="r" b="b"/>
                <a:pathLst>
                  <a:path w="55" h="31">
                    <a:moveTo>
                      <a:pt x="2" y="3"/>
                    </a:moveTo>
                    <a:lnTo>
                      <a:pt x="38" y="3"/>
                    </a:lnTo>
                    <a:lnTo>
                      <a:pt x="55" y="31"/>
                    </a:lnTo>
                    <a:lnTo>
                      <a:pt x="15" y="31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19760" y="3118680"/>
                <a:ext cx="648000" cy="87120"/>
              </a:xfrm>
              <a:custGeom>
                <a:avLst/>
                <a:gdLst/>
                <a:ahLst/>
                <a:rect l="l" t="t" r="r" b="b"/>
                <a:pathLst>
                  <a:path w="787" h="112">
                    <a:moveTo>
                      <a:pt x="787" y="112"/>
                    </a:moveTo>
                    <a:lnTo>
                      <a:pt x="745" y="0"/>
                    </a:lnTo>
                    <a:lnTo>
                      <a:pt x="62" y="0"/>
                    </a:lnTo>
                    <a:lnTo>
                      <a:pt x="0" y="112"/>
                    </a:lnTo>
                    <a:lnTo>
                      <a:pt x="787" y="11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91840" y="3120480"/>
                <a:ext cx="38520" cy="18360"/>
              </a:xfrm>
              <a:custGeom>
                <a:avLst/>
                <a:gdLst/>
                <a:ahLst/>
                <a:rect l="l" t="t" r="r" b="b"/>
                <a:pathLst>
                  <a:path w="47" h="24">
                    <a:moveTo>
                      <a:pt x="5" y="0"/>
                    </a:moveTo>
                    <a:lnTo>
                      <a:pt x="0" y="24"/>
                    </a:lnTo>
                    <a:lnTo>
                      <a:pt x="44" y="24"/>
                    </a:lnTo>
                    <a:lnTo>
                      <a:pt x="47" y="0"/>
                    </a:lnTo>
                    <a:lnTo>
                      <a:pt x="1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87520" y="314136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4" y="0"/>
                    </a:moveTo>
                    <a:lnTo>
                      <a:pt x="0" y="25"/>
                    </a:lnTo>
                    <a:lnTo>
                      <a:pt x="44" y="25"/>
                    </a:lnTo>
                    <a:lnTo>
                      <a:pt x="46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84280" y="3162960"/>
                <a:ext cx="37080" cy="18360"/>
              </a:xfrm>
              <a:custGeom>
                <a:avLst/>
                <a:gdLst/>
                <a:ahLst/>
                <a:rect l="l" t="t" r="r" b="b"/>
                <a:pathLst>
                  <a:path w="45" h="24">
                    <a:moveTo>
                      <a:pt x="4" y="0"/>
                    </a:moveTo>
                    <a:lnTo>
                      <a:pt x="0" y="24"/>
                    </a:lnTo>
                    <a:lnTo>
                      <a:pt x="43" y="24"/>
                    </a:lnTo>
                    <a:lnTo>
                      <a:pt x="45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81760" y="3183480"/>
                <a:ext cx="37080" cy="19080"/>
              </a:xfrm>
              <a:custGeom>
                <a:avLst/>
                <a:gdLst/>
                <a:ahLst/>
                <a:rect l="l" t="t" r="r" b="b"/>
                <a:pathLst>
                  <a:path w="45" h="25">
                    <a:moveTo>
                      <a:pt x="2" y="0"/>
                    </a:moveTo>
                    <a:lnTo>
                      <a:pt x="0" y="25"/>
                    </a:lnTo>
                    <a:lnTo>
                      <a:pt x="41" y="25"/>
                    </a:lnTo>
                    <a:lnTo>
                      <a:pt x="45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49720" y="3120480"/>
                <a:ext cx="39600" cy="183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3" y="0"/>
                    </a:moveTo>
                    <a:lnTo>
                      <a:pt x="0" y="24"/>
                    </a:lnTo>
                    <a:lnTo>
                      <a:pt x="45" y="24"/>
                    </a:lnTo>
                    <a:lnTo>
                      <a:pt x="48" y="0"/>
                    </a:lnTo>
                    <a:lnTo>
                      <a:pt x="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43240" y="3141360"/>
                <a:ext cx="41040" cy="19080"/>
              </a:xfrm>
              <a:custGeom>
                <a:avLst/>
                <a:gdLst/>
                <a:ahLst/>
                <a:rect l="l" t="t" r="r" b="b"/>
                <a:pathLst>
                  <a:path w="50" h="25">
                    <a:moveTo>
                      <a:pt x="4" y="0"/>
                    </a:moveTo>
                    <a:lnTo>
                      <a:pt x="0" y="25"/>
                    </a:lnTo>
                    <a:lnTo>
                      <a:pt x="47" y="25"/>
                    </a:lnTo>
                    <a:lnTo>
                      <a:pt x="50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38200" y="3162960"/>
                <a:ext cx="43200" cy="18360"/>
              </a:xfrm>
              <a:custGeom>
                <a:avLst/>
                <a:gdLst/>
                <a:ahLst/>
                <a:rect l="l" t="t" r="r" b="b"/>
                <a:pathLst>
                  <a:path w="53" h="24">
                    <a:moveTo>
                      <a:pt x="4" y="0"/>
                    </a:moveTo>
                    <a:lnTo>
                      <a:pt x="0" y="24"/>
                    </a:lnTo>
                    <a:lnTo>
                      <a:pt x="46" y="24"/>
                    </a:lnTo>
                    <a:lnTo>
                      <a:pt x="53" y="0"/>
                    </a:lnTo>
                    <a:lnTo>
                      <a:pt x="1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33880" y="3183480"/>
                <a:ext cx="41760" cy="19080"/>
              </a:xfrm>
              <a:custGeom>
                <a:avLst/>
                <a:gdLst/>
                <a:ahLst/>
                <a:rect l="l" t="t" r="r" b="b"/>
                <a:pathLst>
                  <a:path w="51" h="25">
                    <a:moveTo>
                      <a:pt x="4" y="0"/>
                    </a:moveTo>
                    <a:lnTo>
                      <a:pt x="0" y="25"/>
                    </a:lnTo>
                    <a:lnTo>
                      <a:pt x="47" y="25"/>
                    </a:lnTo>
                    <a:lnTo>
                      <a:pt x="51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04360" y="3120480"/>
                <a:ext cx="41760" cy="1836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2" y="0"/>
                    </a:moveTo>
                    <a:lnTo>
                      <a:pt x="0" y="24"/>
                    </a:lnTo>
                    <a:lnTo>
                      <a:pt x="46" y="24"/>
                    </a:lnTo>
                    <a:lnTo>
                      <a:pt x="5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97880" y="3141360"/>
                <a:ext cx="43560" cy="19080"/>
              </a:xfrm>
              <a:custGeom>
                <a:avLst/>
                <a:gdLst/>
                <a:ahLst/>
                <a:rect l="l" t="t" r="r" b="b"/>
                <a:pathLst>
                  <a:path w="53" h="25">
                    <a:moveTo>
                      <a:pt x="5" y="0"/>
                    </a:moveTo>
                    <a:lnTo>
                      <a:pt x="0" y="25"/>
                    </a:lnTo>
                    <a:lnTo>
                      <a:pt x="49" y="25"/>
                    </a:lnTo>
                    <a:lnTo>
                      <a:pt x="53" y="0"/>
                    </a:lnTo>
                    <a:lnTo>
                      <a:pt x="4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89600" y="3162960"/>
                <a:ext cx="44280" cy="183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4" y="0"/>
                    </a:moveTo>
                    <a:lnTo>
                      <a:pt x="0" y="24"/>
                    </a:lnTo>
                    <a:lnTo>
                      <a:pt x="48" y="24"/>
                    </a:lnTo>
                    <a:lnTo>
                      <a:pt x="54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6360" y="3183480"/>
                <a:ext cx="41040" cy="19080"/>
              </a:xfrm>
              <a:custGeom>
                <a:avLst/>
                <a:gdLst/>
                <a:ahLst/>
                <a:rect l="l" t="t" r="r" b="b"/>
                <a:pathLst>
                  <a:path w="50" h="25">
                    <a:moveTo>
                      <a:pt x="3" y="0"/>
                    </a:moveTo>
                    <a:lnTo>
                      <a:pt x="0" y="25"/>
                    </a:lnTo>
                    <a:lnTo>
                      <a:pt x="46" y="25"/>
                    </a:lnTo>
                    <a:lnTo>
                      <a:pt x="50" y="0"/>
                    </a:lnTo>
                    <a:lnTo>
                      <a:pt x="2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57560" y="3118680"/>
                <a:ext cx="44640" cy="4176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54" y="0"/>
                    </a:moveTo>
                    <a:lnTo>
                      <a:pt x="43" y="54"/>
                    </a:lnTo>
                    <a:lnTo>
                      <a:pt x="0" y="54"/>
                    </a:lnTo>
                    <a:lnTo>
                      <a:pt x="20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4d4d4d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33960" y="3120480"/>
                <a:ext cx="36000" cy="18360"/>
              </a:xfrm>
              <a:custGeom>
                <a:avLst/>
                <a:gdLst/>
                <a:ahLst/>
                <a:rect l="l" t="t" r="r" b="b"/>
                <a:pathLst>
                  <a:path w="44" h="24">
                    <a:moveTo>
                      <a:pt x="4" y="0"/>
                    </a:moveTo>
                    <a:lnTo>
                      <a:pt x="0" y="24"/>
                    </a:lnTo>
                    <a:lnTo>
                      <a:pt x="42" y="24"/>
                    </a:lnTo>
                    <a:lnTo>
                      <a:pt x="44" y="0"/>
                    </a:lnTo>
                    <a:lnTo>
                      <a:pt x="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30360" y="314136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5" y="0"/>
                    </a:moveTo>
                    <a:lnTo>
                      <a:pt x="0" y="25"/>
                    </a:lnTo>
                    <a:lnTo>
                      <a:pt x="42" y="25"/>
                    </a:lnTo>
                    <a:lnTo>
                      <a:pt x="46" y="0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25680" y="3162960"/>
                <a:ext cx="38520" cy="18360"/>
              </a:xfrm>
              <a:custGeom>
                <a:avLst/>
                <a:gdLst/>
                <a:ahLst/>
                <a:rect l="l" t="t" r="r" b="b"/>
                <a:pathLst>
                  <a:path w="47" h="24">
                    <a:moveTo>
                      <a:pt x="5" y="0"/>
                    </a:moveTo>
                    <a:lnTo>
                      <a:pt x="0" y="24"/>
                    </a:lnTo>
                    <a:lnTo>
                      <a:pt x="44" y="24"/>
                    </a:lnTo>
                    <a:lnTo>
                      <a:pt x="47" y="0"/>
                    </a:lnTo>
                    <a:lnTo>
                      <a:pt x="4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23880" y="3183480"/>
                <a:ext cx="37080" cy="19080"/>
              </a:xfrm>
              <a:custGeom>
                <a:avLst/>
                <a:gdLst/>
                <a:ahLst/>
                <a:rect l="l" t="t" r="r" b="b"/>
                <a:pathLst>
                  <a:path w="45" h="25">
                    <a:moveTo>
                      <a:pt x="2" y="0"/>
                    </a:moveTo>
                    <a:lnTo>
                      <a:pt x="0" y="25"/>
                    </a:lnTo>
                    <a:lnTo>
                      <a:pt x="40" y="25"/>
                    </a:lnTo>
                    <a:lnTo>
                      <a:pt x="45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75000" y="3120480"/>
                <a:ext cx="35280" cy="16920"/>
              </a:xfrm>
              <a:custGeom>
                <a:avLst/>
                <a:gdLst/>
                <a:ahLst/>
                <a:rect l="l" t="t" r="r" b="b"/>
                <a:pathLst>
                  <a:path w="43" h="22">
                    <a:moveTo>
                      <a:pt x="3" y="0"/>
                    </a:moveTo>
                    <a:lnTo>
                      <a:pt x="0" y="22"/>
                    </a:lnTo>
                    <a:lnTo>
                      <a:pt x="39" y="22"/>
                    </a:lnTo>
                    <a:lnTo>
                      <a:pt x="4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72480" y="3141360"/>
                <a:ext cx="34560" cy="19080"/>
              </a:xfrm>
              <a:custGeom>
                <a:avLst/>
                <a:gdLst/>
                <a:ahLst/>
                <a:rect l="l" t="t" r="r" b="b"/>
                <a:pathLst>
                  <a:path w="42" h="25">
                    <a:moveTo>
                      <a:pt x="1" y="0"/>
                    </a:moveTo>
                    <a:lnTo>
                      <a:pt x="0" y="25"/>
                    </a:lnTo>
                    <a:lnTo>
                      <a:pt x="39" y="25"/>
                    </a:lnTo>
                    <a:lnTo>
                      <a:pt x="4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69960" y="3162960"/>
                <a:ext cx="32040" cy="1836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3" y="0"/>
                    </a:moveTo>
                    <a:lnTo>
                      <a:pt x="0" y="24"/>
                    </a:lnTo>
                    <a:lnTo>
                      <a:pt x="37" y="24"/>
                    </a:lnTo>
                    <a:lnTo>
                      <a:pt x="3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66000" y="3185640"/>
                <a:ext cx="33480" cy="1836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3" y="0"/>
                    </a:moveTo>
                    <a:lnTo>
                      <a:pt x="0" y="24"/>
                    </a:lnTo>
                    <a:lnTo>
                      <a:pt x="36" y="24"/>
                    </a:lnTo>
                    <a:lnTo>
                      <a:pt x="4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72640" y="3120480"/>
                <a:ext cx="40320" cy="1692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44" y="0"/>
                    </a:moveTo>
                    <a:lnTo>
                      <a:pt x="49" y="22"/>
                    </a:lnTo>
                    <a:lnTo>
                      <a:pt x="3" y="22"/>
                    </a:lnTo>
                    <a:lnTo>
                      <a:pt x="0" y="0"/>
                    </a:lnTo>
                    <a:lnTo>
                      <a:pt x="45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76960" y="3141360"/>
                <a:ext cx="38520" cy="1908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45" y="0"/>
                    </a:moveTo>
                    <a:lnTo>
                      <a:pt x="47" y="25"/>
                    </a:lnTo>
                    <a:lnTo>
                      <a:pt x="5" y="25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880920" y="3162960"/>
                <a:ext cx="38520" cy="18360"/>
              </a:xfrm>
              <a:custGeom>
                <a:avLst/>
                <a:gdLst/>
                <a:ahLst/>
                <a:rect l="l" t="t" r="r" b="b"/>
                <a:pathLst>
                  <a:path w="47" h="24">
                    <a:moveTo>
                      <a:pt x="45" y="0"/>
                    </a:moveTo>
                    <a:lnTo>
                      <a:pt x="47" y="24"/>
                    </a:lnTo>
                    <a:lnTo>
                      <a:pt x="3" y="24"/>
                    </a:lnTo>
                    <a:lnTo>
                      <a:pt x="0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85960" y="3183480"/>
                <a:ext cx="37800" cy="20880"/>
              </a:xfrm>
              <a:custGeom>
                <a:avLst/>
                <a:gdLst/>
                <a:ahLst/>
                <a:rect l="l" t="t" r="r" b="b"/>
                <a:pathLst>
                  <a:path w="46" h="27">
                    <a:moveTo>
                      <a:pt x="42" y="0"/>
                    </a:moveTo>
                    <a:lnTo>
                      <a:pt x="46" y="27"/>
                    </a:lnTo>
                    <a:lnTo>
                      <a:pt x="3" y="27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914760" y="3120480"/>
                <a:ext cx="39240" cy="1692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45" y="0"/>
                    </a:moveTo>
                    <a:lnTo>
                      <a:pt x="48" y="22"/>
                    </a:lnTo>
                    <a:lnTo>
                      <a:pt x="4" y="22"/>
                    </a:lnTo>
                    <a:lnTo>
                      <a:pt x="0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919440" y="3141360"/>
                <a:ext cx="41040" cy="19080"/>
              </a:xfrm>
              <a:custGeom>
                <a:avLst/>
                <a:gdLst/>
                <a:ahLst/>
                <a:rect l="l" t="t" r="r" b="b"/>
                <a:pathLst>
                  <a:path w="50" h="25">
                    <a:moveTo>
                      <a:pt x="45" y="0"/>
                    </a:moveTo>
                    <a:lnTo>
                      <a:pt x="50" y="25"/>
                    </a:lnTo>
                    <a:lnTo>
                      <a:pt x="4" y="25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920520" y="3162960"/>
                <a:ext cx="43200" cy="18360"/>
              </a:xfrm>
              <a:custGeom>
                <a:avLst/>
                <a:gdLst/>
                <a:ahLst/>
                <a:rect l="l" t="t" r="r" b="b"/>
                <a:pathLst>
                  <a:path w="53" h="24">
                    <a:moveTo>
                      <a:pt x="51" y="0"/>
                    </a:moveTo>
                    <a:lnTo>
                      <a:pt x="53" y="24"/>
                    </a:lnTo>
                    <a:lnTo>
                      <a:pt x="5" y="24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926280" y="3183480"/>
                <a:ext cx="41760" cy="20880"/>
              </a:xfrm>
              <a:custGeom>
                <a:avLst/>
                <a:gdLst/>
                <a:ahLst/>
                <a:rect l="l" t="t" r="r" b="b"/>
                <a:pathLst>
                  <a:path w="51" h="27">
                    <a:moveTo>
                      <a:pt x="48" y="0"/>
                    </a:moveTo>
                    <a:lnTo>
                      <a:pt x="51" y="27"/>
                    </a:lnTo>
                    <a:lnTo>
                      <a:pt x="4" y="27"/>
                    </a:lnTo>
                    <a:lnTo>
                      <a:pt x="0" y="0"/>
                    </a:lnTo>
                    <a:lnTo>
                      <a:pt x="50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956880" y="3120480"/>
                <a:ext cx="42480" cy="16920"/>
              </a:xfrm>
              <a:custGeom>
                <a:avLst/>
                <a:gdLst/>
                <a:ahLst/>
                <a:rect l="l" t="t" r="r" b="b"/>
                <a:pathLst>
                  <a:path w="52" h="22">
                    <a:moveTo>
                      <a:pt x="48" y="0"/>
                    </a:moveTo>
                    <a:lnTo>
                      <a:pt x="52" y="22"/>
                    </a:lnTo>
                    <a:lnTo>
                      <a:pt x="5" y="22"/>
                    </a:lnTo>
                    <a:lnTo>
                      <a:pt x="0" y="0"/>
                    </a:lnTo>
                    <a:lnTo>
                      <a:pt x="51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960840" y="3141360"/>
                <a:ext cx="43200" cy="19080"/>
              </a:xfrm>
              <a:custGeom>
                <a:avLst/>
                <a:gdLst/>
                <a:ahLst/>
                <a:rect l="l" t="t" r="r" b="b"/>
                <a:pathLst>
                  <a:path w="53" h="25">
                    <a:moveTo>
                      <a:pt x="49" y="0"/>
                    </a:moveTo>
                    <a:lnTo>
                      <a:pt x="53" y="25"/>
                    </a:lnTo>
                    <a:lnTo>
                      <a:pt x="4" y="25"/>
                    </a:lnTo>
                    <a:lnTo>
                      <a:pt x="0" y="0"/>
                    </a:lnTo>
                    <a:lnTo>
                      <a:pt x="50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965880" y="3162960"/>
                <a:ext cx="43560" cy="18360"/>
              </a:xfrm>
              <a:custGeom>
                <a:avLst/>
                <a:gdLst/>
                <a:ahLst/>
                <a:rect l="l" t="t" r="r" b="b"/>
                <a:pathLst>
                  <a:path w="53" h="24">
                    <a:moveTo>
                      <a:pt x="48" y="0"/>
                    </a:moveTo>
                    <a:lnTo>
                      <a:pt x="53" y="24"/>
                    </a:lnTo>
                    <a:lnTo>
                      <a:pt x="4" y="24"/>
                    </a:lnTo>
                    <a:lnTo>
                      <a:pt x="0" y="0"/>
                    </a:lnTo>
                    <a:lnTo>
                      <a:pt x="51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969120" y="3183480"/>
                <a:ext cx="43560" cy="20880"/>
              </a:xfrm>
              <a:custGeom>
                <a:avLst/>
                <a:gdLst/>
                <a:ahLst/>
                <a:rect l="l" t="t" r="r" b="b"/>
                <a:pathLst>
                  <a:path w="53" h="27">
                    <a:moveTo>
                      <a:pt x="50" y="0"/>
                    </a:moveTo>
                    <a:lnTo>
                      <a:pt x="53" y="27"/>
                    </a:lnTo>
                    <a:lnTo>
                      <a:pt x="5" y="27"/>
                    </a:lnTo>
                    <a:lnTo>
                      <a:pt x="0" y="0"/>
                    </a:lnTo>
                    <a:lnTo>
                      <a:pt x="51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4d4d4d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003680" y="3120480"/>
                <a:ext cx="42480" cy="4032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0" y="0"/>
                    </a:moveTo>
                    <a:lnTo>
                      <a:pt x="9" y="52"/>
                    </a:lnTo>
                    <a:lnTo>
                      <a:pt x="52" y="52"/>
                    </a:lnTo>
                    <a:lnTo>
                      <a:pt x="3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35560" y="3120480"/>
                <a:ext cx="36000" cy="16920"/>
              </a:xfrm>
              <a:custGeom>
                <a:avLst/>
                <a:gdLst/>
                <a:ahLst/>
                <a:rect l="l" t="t" r="r" b="b"/>
                <a:pathLst>
                  <a:path w="44" h="22">
                    <a:moveTo>
                      <a:pt x="40" y="0"/>
                    </a:moveTo>
                    <a:lnTo>
                      <a:pt x="44" y="22"/>
                    </a:lnTo>
                    <a:lnTo>
                      <a:pt x="2" y="22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38080" y="3141360"/>
                <a:ext cx="36000" cy="19080"/>
              </a:xfrm>
              <a:custGeom>
                <a:avLst/>
                <a:gdLst/>
                <a:ahLst/>
                <a:rect l="l" t="t" r="r" b="b"/>
                <a:pathLst>
                  <a:path w="44" h="25">
                    <a:moveTo>
                      <a:pt x="41" y="0"/>
                    </a:moveTo>
                    <a:lnTo>
                      <a:pt x="44" y="25"/>
                    </a:lnTo>
                    <a:lnTo>
                      <a:pt x="3" y="25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40600" y="3162960"/>
                <a:ext cx="36720" cy="18360"/>
              </a:xfrm>
              <a:custGeom>
                <a:avLst/>
                <a:gdLst/>
                <a:ahLst/>
                <a:rect l="l" t="t" r="r" b="b"/>
                <a:pathLst>
                  <a:path w="45" h="24">
                    <a:moveTo>
                      <a:pt x="41" y="0"/>
                    </a:moveTo>
                    <a:lnTo>
                      <a:pt x="45" y="24"/>
                    </a:lnTo>
                    <a:lnTo>
                      <a:pt x="3" y="2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44560" y="3183480"/>
                <a:ext cx="37800" cy="20880"/>
              </a:xfrm>
              <a:custGeom>
                <a:avLst/>
                <a:gdLst/>
                <a:ahLst/>
                <a:rect l="l" t="t" r="r" b="b"/>
                <a:pathLst>
                  <a:path w="46" h="27">
                    <a:moveTo>
                      <a:pt x="40" y="0"/>
                    </a:moveTo>
                    <a:lnTo>
                      <a:pt x="46" y="27"/>
                    </a:lnTo>
                    <a:lnTo>
                      <a:pt x="2" y="27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93800" y="3120480"/>
                <a:ext cx="36000" cy="16920"/>
              </a:xfrm>
              <a:custGeom>
                <a:avLst/>
                <a:gdLst/>
                <a:ahLst/>
                <a:rect l="l" t="t" r="r" b="b"/>
                <a:pathLst>
                  <a:path w="44" h="22">
                    <a:moveTo>
                      <a:pt x="42" y="0"/>
                    </a:moveTo>
                    <a:lnTo>
                      <a:pt x="44" y="22"/>
                    </a:lnTo>
                    <a:lnTo>
                      <a:pt x="4" y="22"/>
                    </a:lnTo>
                    <a:lnTo>
                      <a:pt x="0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97040" y="3141360"/>
                <a:ext cx="37080" cy="19080"/>
              </a:xfrm>
              <a:custGeom>
                <a:avLst/>
                <a:gdLst/>
                <a:ahLst/>
                <a:rect l="l" t="t" r="r" b="b"/>
                <a:pathLst>
                  <a:path w="45" h="25">
                    <a:moveTo>
                      <a:pt x="42" y="0"/>
                    </a:moveTo>
                    <a:lnTo>
                      <a:pt x="45" y="25"/>
                    </a:lnTo>
                    <a:lnTo>
                      <a:pt x="6" y="25"/>
                    </a:lnTo>
                    <a:lnTo>
                      <a:pt x="0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02080" y="3162960"/>
                <a:ext cx="34200" cy="19440"/>
              </a:xfrm>
              <a:custGeom>
                <a:avLst/>
                <a:gdLst/>
                <a:ahLst/>
                <a:rect l="l" t="t" r="r" b="b"/>
                <a:pathLst>
                  <a:path w="42" h="25">
                    <a:moveTo>
                      <a:pt x="39" y="0"/>
                    </a:moveTo>
                    <a:lnTo>
                      <a:pt x="42" y="25"/>
                    </a:lnTo>
                    <a:lnTo>
                      <a:pt x="4" y="25"/>
                    </a:lnTo>
                    <a:lnTo>
                      <a:pt x="0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06040" y="3185640"/>
                <a:ext cx="32760" cy="1836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38" y="0"/>
                    </a:moveTo>
                    <a:lnTo>
                      <a:pt x="40" y="24"/>
                    </a:lnTo>
                    <a:lnTo>
                      <a:pt x="3" y="24"/>
                    </a:lnTo>
                    <a:lnTo>
                      <a:pt x="0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14600" y="3120480"/>
                <a:ext cx="36000" cy="16920"/>
              </a:xfrm>
              <a:custGeom>
                <a:avLst/>
                <a:gdLst/>
                <a:ahLst/>
                <a:rect l="l" t="t" r="r" b="b"/>
                <a:pathLst>
                  <a:path w="44" h="22">
                    <a:moveTo>
                      <a:pt x="2" y="0"/>
                    </a:moveTo>
                    <a:lnTo>
                      <a:pt x="0" y="22"/>
                    </a:lnTo>
                    <a:lnTo>
                      <a:pt x="40" y="22"/>
                    </a:lnTo>
                    <a:lnTo>
                      <a:pt x="4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11360" y="3141360"/>
                <a:ext cx="35280" cy="19080"/>
              </a:xfrm>
              <a:custGeom>
                <a:avLst/>
                <a:gdLst/>
                <a:ahLst/>
                <a:rect l="l" t="t" r="r" b="b"/>
                <a:pathLst>
                  <a:path w="43" h="25">
                    <a:moveTo>
                      <a:pt x="3" y="0"/>
                    </a:moveTo>
                    <a:lnTo>
                      <a:pt x="0" y="25"/>
                    </a:lnTo>
                    <a:lnTo>
                      <a:pt x="39" y="25"/>
                    </a:lnTo>
                    <a:lnTo>
                      <a:pt x="4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09560" y="3162960"/>
                <a:ext cx="32760" cy="1836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2" y="0"/>
                    </a:moveTo>
                    <a:lnTo>
                      <a:pt x="0" y="24"/>
                    </a:lnTo>
                    <a:lnTo>
                      <a:pt x="38" y="24"/>
                    </a:lnTo>
                    <a:lnTo>
                      <a:pt x="4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04520" y="3185640"/>
                <a:ext cx="33480" cy="1836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3" y="0"/>
                    </a:moveTo>
                    <a:lnTo>
                      <a:pt x="0" y="24"/>
                    </a:lnTo>
                    <a:lnTo>
                      <a:pt x="36" y="24"/>
                    </a:lnTo>
                    <a:lnTo>
                      <a:pt x="4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46640" y="3162960"/>
                <a:ext cx="21240" cy="1836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6" y="0"/>
                    </a:moveTo>
                    <a:lnTo>
                      <a:pt x="1" y="0"/>
                    </a:lnTo>
                    <a:lnTo>
                      <a:pt x="0" y="24"/>
                    </a:lnTo>
                    <a:lnTo>
                      <a:pt x="24" y="24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74000" y="3162960"/>
                <a:ext cx="22680" cy="1836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2" y="24"/>
                    </a:moveTo>
                    <a:lnTo>
                      <a:pt x="0" y="0"/>
                    </a:lnTo>
                    <a:lnTo>
                      <a:pt x="26" y="0"/>
                    </a:lnTo>
                    <a:lnTo>
                      <a:pt x="28" y="24"/>
                    </a:lnTo>
                    <a:lnTo>
                      <a:pt x="2" y="24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43400" y="3185640"/>
                <a:ext cx="24480" cy="1836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30" y="0"/>
                    </a:moveTo>
                    <a:lnTo>
                      <a:pt x="30" y="24"/>
                    </a:lnTo>
                    <a:lnTo>
                      <a:pt x="0" y="24"/>
                    </a:lnTo>
                    <a:lnTo>
                      <a:pt x="3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77240" y="3185640"/>
                <a:ext cx="21960" cy="1836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0" y="0"/>
                    </a:moveTo>
                    <a:lnTo>
                      <a:pt x="0" y="24"/>
                    </a:lnTo>
                    <a:lnTo>
                      <a:pt x="27" y="24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54920" y="3120480"/>
                <a:ext cx="36000" cy="18360"/>
              </a:xfrm>
              <a:custGeom>
                <a:avLst/>
                <a:gdLst/>
                <a:ahLst/>
                <a:rect l="l" t="t" r="r" b="b"/>
                <a:pathLst>
                  <a:path w="44" h="24">
                    <a:moveTo>
                      <a:pt x="41" y="0"/>
                    </a:moveTo>
                    <a:lnTo>
                      <a:pt x="2" y="0"/>
                    </a:lnTo>
                    <a:lnTo>
                      <a:pt x="0" y="24"/>
                    </a:lnTo>
                    <a:lnTo>
                      <a:pt x="44" y="24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50600" y="3141360"/>
                <a:ext cx="42840" cy="19080"/>
              </a:xfrm>
              <a:custGeom>
                <a:avLst/>
                <a:gdLst/>
                <a:ahLst/>
                <a:rect l="l" t="t" r="r" b="b"/>
                <a:pathLst>
                  <a:path w="52" h="25">
                    <a:moveTo>
                      <a:pt x="49" y="0"/>
                    </a:moveTo>
                    <a:lnTo>
                      <a:pt x="4" y="0"/>
                    </a:lnTo>
                    <a:lnTo>
                      <a:pt x="0" y="25"/>
                    </a:lnTo>
                    <a:lnTo>
                      <a:pt x="52" y="25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b3b3b3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011240" y="3162960"/>
                <a:ext cx="53280" cy="39600"/>
              </a:xfrm>
              <a:custGeom>
                <a:avLst/>
                <a:gdLst/>
                <a:ahLst/>
                <a:rect l="l" t="t" r="r" b="b"/>
                <a:pathLst>
                  <a:path w="65" h="51">
                    <a:moveTo>
                      <a:pt x="0" y="0"/>
                    </a:moveTo>
                    <a:lnTo>
                      <a:pt x="8" y="51"/>
                    </a:lnTo>
                    <a:lnTo>
                      <a:pt x="65" y="51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01760" y="3183480"/>
                <a:ext cx="73800" cy="22320"/>
              </a:xfrm>
              <a:custGeom>
                <a:avLst/>
                <a:gdLst/>
                <a:ahLst/>
                <a:rect l="l" t="t" r="r" b="b"/>
                <a:pathLst>
                  <a:path w="90" h="29">
                    <a:moveTo>
                      <a:pt x="90" y="0"/>
                    </a:moveTo>
                    <a:lnTo>
                      <a:pt x="83" y="29"/>
                    </a:lnTo>
                    <a:lnTo>
                      <a:pt x="0" y="27"/>
                    </a:lnTo>
                    <a:lnTo>
                      <a:pt x="13" y="3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4d4d4d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3" name=""/>
          <p:cNvSpPr/>
          <p:nvPr/>
        </p:nvSpPr>
        <p:spPr>
          <a:xfrm>
            <a:off x="1295280" y="2666880"/>
            <a:ext cx="1524240" cy="3812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838080" y="3352680"/>
            <a:ext cx="0" cy="6098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28600" y="3962520"/>
            <a:ext cx="914400" cy="1141200"/>
            <a:chOff x="228600" y="3962520"/>
            <a:chExt cx="914400" cy="1141200"/>
          </a:xfrm>
        </p:grpSpPr>
        <p:sp>
          <p:nvSpPr>
            <p:cNvPr id="426" name=""/>
            <p:cNvSpPr/>
            <p:nvPr/>
          </p:nvSpPr>
          <p:spPr>
            <a:xfrm>
              <a:off x="228600" y="4100400"/>
              <a:ext cx="914400" cy="100332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14080" y="3962520"/>
              <a:ext cx="138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58640" y="4468680"/>
              <a:ext cx="5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/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6480000" y="129528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ventis Pha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7315200" y="3886200"/>
            <a:ext cx="762120" cy="1218960"/>
            <a:chOff x="7315200" y="3886200"/>
            <a:chExt cx="762120" cy="1218960"/>
          </a:xfrm>
        </p:grpSpPr>
        <p:sp>
          <p:nvSpPr>
            <p:cNvPr id="431" name=""/>
            <p:cNvSpPr/>
            <p:nvPr/>
          </p:nvSpPr>
          <p:spPr>
            <a:xfrm>
              <a:off x="7315200" y="4033440"/>
              <a:ext cx="762120" cy="107172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518600" y="3886200"/>
              <a:ext cx="1836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506720" y="4426920"/>
              <a:ext cx="5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/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 flipV="1">
            <a:off x="2133720" y="4038120"/>
            <a:ext cx="1066680" cy="3812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7238880" y="2057400"/>
            <a:ext cx="654120" cy="114768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 flipV="1">
            <a:off x="7620120" y="3276360"/>
            <a:ext cx="0" cy="6094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924680" y="2362320"/>
            <a:ext cx="83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-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5029200" y="2438280"/>
            <a:ext cx="2133720" cy="4572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486400" y="4267080"/>
            <a:ext cx="838080" cy="2286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20431200">
            <a:off x="2209680" y="41907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rot="773400">
            <a:off x="1523520" y="2590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tel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rot="773400">
            <a:off x="1523520" y="28195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4"/>
          <a:stretch/>
        </p:blipFill>
        <p:spPr>
          <a:xfrm>
            <a:off x="1752480" y="4114800"/>
            <a:ext cx="393840" cy="69048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5"/>
          <a:stretch/>
        </p:blipFill>
        <p:spPr>
          <a:xfrm>
            <a:off x="6324480" y="4038480"/>
            <a:ext cx="393840" cy="69084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 flipV="1">
            <a:off x="1219320" y="4495320"/>
            <a:ext cx="533160" cy="2286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6705360" y="4419360"/>
            <a:ext cx="609480" cy="1522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462680" y="5410080"/>
            <a:ext cx="100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196600" y="5410080"/>
            <a:ext cx="100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1828800" y="4876560"/>
            <a:ext cx="7632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6019920" y="4800240"/>
            <a:ext cx="30456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rot="20431200">
            <a:off x="2438280" y="388584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877800">
            <a:off x="5562360" y="40381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819520" y="2666880"/>
            <a:ext cx="2819160" cy="1990800"/>
            <a:chOff x="2819520" y="2666880"/>
            <a:chExt cx="2819160" cy="1990800"/>
          </a:xfrm>
        </p:grpSpPr>
        <p:sp>
          <p:nvSpPr>
            <p:cNvPr id="454" name=""/>
            <p:cNvSpPr/>
            <p:nvPr/>
          </p:nvSpPr>
          <p:spPr>
            <a:xfrm>
              <a:off x="2819520" y="2701800"/>
              <a:ext cx="841320" cy="8319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100320" y="2889360"/>
              <a:ext cx="1595520" cy="158112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48120" y="3073320"/>
              <a:ext cx="328320" cy="422280"/>
            </a:xfrm>
            <a:custGeom>
              <a:avLst/>
              <a:gdLst/>
              <a:ahLst/>
              <a:rect l="l" t="t" r="r" b="b"/>
              <a:pathLst>
                <a:path w="264" h="341">
                  <a:moveTo>
                    <a:pt x="226" y="0"/>
                  </a:moveTo>
                  <a:lnTo>
                    <a:pt x="0" y="298"/>
                  </a:lnTo>
                  <a:lnTo>
                    <a:pt x="112" y="341"/>
                  </a:lnTo>
                  <a:lnTo>
                    <a:pt x="264" y="29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665520" y="3076560"/>
              <a:ext cx="1595520" cy="158112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078520" y="3354480"/>
              <a:ext cx="560160" cy="55404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889520" y="4194000"/>
              <a:ext cx="371520" cy="37008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89520" y="3166920"/>
              <a:ext cx="371520" cy="36684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984920" y="3728880"/>
              <a:ext cx="558720" cy="55404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138560" y="2701800"/>
              <a:ext cx="841320" cy="8319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478320" y="3541680"/>
              <a:ext cx="841320" cy="8352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200400" y="2666880"/>
              <a:ext cx="2097000" cy="1791000"/>
            </a:xfrm>
            <a:custGeom>
              <a:avLst/>
              <a:gdLst/>
              <a:ahLst/>
              <a:rect l="l" t="t" r="r" b="b"/>
              <a:pathLst>
                <a:path w="1687" h="1453">
                  <a:moveTo>
                    <a:pt x="398" y="0"/>
                  </a:moveTo>
                  <a:lnTo>
                    <a:pt x="704" y="180"/>
                  </a:lnTo>
                  <a:lnTo>
                    <a:pt x="1073" y="133"/>
                  </a:lnTo>
                  <a:lnTo>
                    <a:pt x="1308" y="483"/>
                  </a:lnTo>
                  <a:lnTo>
                    <a:pt x="1370" y="510"/>
                  </a:lnTo>
                  <a:lnTo>
                    <a:pt x="1535" y="620"/>
                  </a:lnTo>
                  <a:lnTo>
                    <a:pt x="1578" y="710"/>
                  </a:lnTo>
                  <a:lnTo>
                    <a:pt x="1687" y="871"/>
                  </a:lnTo>
                  <a:lnTo>
                    <a:pt x="1669" y="923"/>
                  </a:lnTo>
                  <a:lnTo>
                    <a:pt x="1413" y="1397"/>
                  </a:lnTo>
                  <a:lnTo>
                    <a:pt x="1234" y="1453"/>
                  </a:lnTo>
                  <a:lnTo>
                    <a:pt x="647" y="1401"/>
                  </a:lnTo>
                  <a:lnTo>
                    <a:pt x="605" y="1325"/>
                  </a:lnTo>
                  <a:lnTo>
                    <a:pt x="218" y="1240"/>
                  </a:lnTo>
                  <a:lnTo>
                    <a:pt x="146" y="1273"/>
                  </a:lnTo>
                  <a:lnTo>
                    <a:pt x="0" y="491"/>
                  </a:lnTo>
                  <a:lnTo>
                    <a:pt x="3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455280" y="3224160"/>
              <a:ext cx="113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2819520" y="2895480"/>
              <a:ext cx="2133360" cy="1526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200400" y="4038480"/>
              <a:ext cx="2209680" cy="228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154440" y="1295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ankenh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337920" y="18702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nline 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119400" y="4724280"/>
            <a:ext cx="278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utom. Datenaustaus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52280" y="3657600"/>
            <a:ext cx="8763120" cy="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rot="880200">
            <a:off x="6630840" y="464796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DO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rot="20093400">
            <a:off x="1145520" y="4724280"/>
            <a:ext cx="64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D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02080" y="6400800"/>
            <a:ext cx="1140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Times New Roman"/>
              </a:rPr>
              <a:t>DH/September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-360" y="114300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insatz des Business Conne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2462040" y="3962520"/>
            <a:ext cx="6400800" cy="2759400"/>
            <a:chOff x="2462040" y="3962520"/>
            <a:chExt cx="6400800" cy="2759400"/>
          </a:xfrm>
        </p:grpSpPr>
        <p:sp>
          <p:nvSpPr>
            <p:cNvPr id="479" name=""/>
            <p:cNvSpPr/>
            <p:nvPr/>
          </p:nvSpPr>
          <p:spPr>
            <a:xfrm>
              <a:off x="2462040" y="3962520"/>
              <a:ext cx="13363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712760" y="4572000"/>
              <a:ext cx="2391120" cy="1143000"/>
            </a:xfrm>
            <a:custGeom>
              <a:avLst/>
              <a:gdLst/>
              <a:ahLst/>
              <a:rect l="l" t="t" r="r" b="b"/>
              <a:pathLst>
                <a:path w="1584" h="720">
                  <a:moveTo>
                    <a:pt x="1584" y="720"/>
                  </a:moveTo>
                  <a:lnTo>
                    <a:pt x="0" y="72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189840" y="5334120"/>
              <a:ext cx="2808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6893280" y="4876920"/>
              <a:ext cx="1969560" cy="1845000"/>
              <a:chOff x="6893280" y="4876920"/>
              <a:chExt cx="1969560" cy="1845000"/>
            </a:xfrm>
          </p:grpSpPr>
          <p:sp>
            <p:nvSpPr>
              <p:cNvPr id="483" name=""/>
              <p:cNvSpPr/>
              <p:nvPr/>
            </p:nvSpPr>
            <p:spPr>
              <a:xfrm>
                <a:off x="6893280" y="4952880"/>
                <a:ext cx="1969560" cy="16765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4" name=""/>
              <p:cNvGrpSpPr/>
              <p:nvPr/>
            </p:nvGrpSpPr>
            <p:grpSpPr>
              <a:xfrm>
                <a:off x="8136000" y="5334120"/>
                <a:ext cx="650160" cy="1387800"/>
                <a:chOff x="8136000" y="5334120"/>
                <a:chExt cx="650160" cy="138780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8136000" y="6353640"/>
                  <a:ext cx="650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Arial"/>
                    </a:rPr>
                    <a:t>SA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86" name="r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179200" y="5334120"/>
                  <a:ext cx="563040" cy="982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87" name=""/>
              <p:cNvSpPr/>
              <p:nvPr/>
            </p:nvSpPr>
            <p:spPr>
              <a:xfrm>
                <a:off x="7173360" y="4876920"/>
                <a:ext cx="1478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ieferant 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7385760" y="5791320"/>
                <a:ext cx="77328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8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034040" y="5486400"/>
                <a:ext cx="402480" cy="76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"/>
              <p:cNvSpPr/>
              <p:nvPr/>
            </p:nvSpPr>
            <p:spPr>
              <a:xfrm>
                <a:off x="7596720" y="5334120"/>
                <a:ext cx="0" cy="1066680"/>
              </a:xfrm>
              <a:prstGeom prst="line">
                <a:avLst/>
              </a:prstGeom>
              <a:ln w="7632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714080" y="5384880"/>
                <a:ext cx="2808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946200" y="6324480"/>
                <a:ext cx="50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Arial"/>
                  </a:rPr>
                  <a:t>B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3" name=""/>
          <p:cNvGrpSpPr/>
          <p:nvPr/>
        </p:nvGrpSpPr>
        <p:grpSpPr>
          <a:xfrm>
            <a:off x="2286000" y="1371600"/>
            <a:ext cx="6541200" cy="2057400"/>
            <a:chOff x="2286000" y="1371600"/>
            <a:chExt cx="6541200" cy="2057400"/>
          </a:xfrm>
        </p:grpSpPr>
        <p:sp>
          <p:nvSpPr>
            <p:cNvPr id="494" name=""/>
            <p:cNvSpPr/>
            <p:nvPr/>
          </p:nvSpPr>
          <p:spPr>
            <a:xfrm>
              <a:off x="2286000" y="2209680"/>
              <a:ext cx="1969560" cy="1219320"/>
            </a:xfrm>
            <a:custGeom>
              <a:avLst/>
              <a:gdLst/>
              <a:ahLst/>
              <a:rect l="l" t="t" r="r" b="b"/>
              <a:pathLst>
                <a:path w="1344" h="768">
                  <a:moveTo>
                    <a:pt x="0" y="768"/>
                  </a:moveTo>
                  <a:lnTo>
                    <a:pt x="0" y="528"/>
                  </a:lnTo>
                  <a:lnTo>
                    <a:pt x="864" y="528"/>
                  </a:lnTo>
                  <a:lnTo>
                    <a:pt x="864" y="0"/>
                  </a:lnTo>
                  <a:lnTo>
                    <a:pt x="1344" y="0"/>
                  </a:lnTo>
                </a:path>
              </a:pathLst>
            </a:custGeom>
            <a:noFill/>
            <a:ln w="2844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989440" y="2590920"/>
              <a:ext cx="2808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4255560" y="1371600"/>
              <a:ext cx="4571640" cy="1498680"/>
              <a:chOff x="4255560" y="1371600"/>
              <a:chExt cx="4571640" cy="1498680"/>
            </a:xfrm>
          </p:grpSpPr>
          <p:sp>
            <p:nvSpPr>
              <p:cNvPr id="497" name=""/>
              <p:cNvSpPr/>
              <p:nvPr/>
            </p:nvSpPr>
            <p:spPr>
              <a:xfrm>
                <a:off x="6857640" y="1447920"/>
                <a:ext cx="1969560" cy="14223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140600" y="1371600"/>
                <a:ext cx="147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ieferant 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255560" y="1905120"/>
                <a:ext cx="843840" cy="609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Mailbo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099400" y="2209680"/>
                <a:ext cx="175824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154560" y="1828800"/>
                <a:ext cx="2808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2" name=""/>
          <p:cNvGrpSpPr/>
          <p:nvPr/>
        </p:nvGrpSpPr>
        <p:grpSpPr>
          <a:xfrm>
            <a:off x="244440" y="2590920"/>
            <a:ext cx="8618040" cy="2819160"/>
            <a:chOff x="244440" y="2590920"/>
            <a:chExt cx="8618040" cy="2819160"/>
          </a:xfrm>
        </p:grpSpPr>
        <p:grpSp>
          <p:nvGrpSpPr>
            <p:cNvPr id="503" name=""/>
            <p:cNvGrpSpPr/>
            <p:nvPr/>
          </p:nvGrpSpPr>
          <p:grpSpPr>
            <a:xfrm>
              <a:off x="244440" y="2590920"/>
              <a:ext cx="2381040" cy="2819160"/>
              <a:chOff x="244440" y="2590920"/>
              <a:chExt cx="2381040" cy="2819160"/>
            </a:xfrm>
          </p:grpSpPr>
          <p:sp>
            <p:nvSpPr>
              <p:cNvPr id="504" name=""/>
              <p:cNvSpPr/>
              <p:nvPr/>
            </p:nvSpPr>
            <p:spPr>
              <a:xfrm>
                <a:off x="281160" y="2590920"/>
                <a:ext cx="2344320" cy="281916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1336320" y="3809880"/>
                <a:ext cx="77328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44440" y="2652840"/>
                <a:ext cx="1527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Krankenhau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7" name=""/>
              <p:cNvGrpSpPr/>
              <p:nvPr/>
            </p:nvGrpSpPr>
            <p:grpSpPr>
              <a:xfrm>
                <a:off x="492120" y="3276720"/>
                <a:ext cx="837360" cy="1680120"/>
                <a:chOff x="492120" y="3276720"/>
                <a:chExt cx="837360" cy="168012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585360" y="4588560"/>
                  <a:ext cx="650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Arial"/>
                    </a:rPr>
                    <a:t>SA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09" name="r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92120" y="3276720"/>
                  <a:ext cx="837360" cy="1264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1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109960" y="3429000"/>
                <a:ext cx="402840" cy="76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1" name=""/>
              <p:cNvSpPr/>
              <p:nvPr/>
            </p:nvSpPr>
            <p:spPr>
              <a:xfrm>
                <a:off x="1899000" y="3352680"/>
                <a:ext cx="0" cy="1676520"/>
              </a:xfrm>
              <a:prstGeom prst="line">
                <a:avLst/>
              </a:prstGeom>
              <a:ln w="7632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376640" y="495288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99"/>
                    </a:solidFill>
                    <a:latin typeface="Times New Roman"/>
                  </a:rPr>
                  <a:t>Firewal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523880" y="3429000"/>
                <a:ext cx="28116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022120" y="4572000"/>
                <a:ext cx="50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Arial"/>
                  </a:rPr>
                  <a:t>B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2461680" y="3200400"/>
              <a:ext cx="4641480" cy="1371600"/>
              <a:chOff x="2461680" y="3200400"/>
              <a:chExt cx="4641480" cy="1371600"/>
            </a:xfrm>
          </p:grpSpPr>
          <p:grpSp>
            <p:nvGrpSpPr>
              <p:cNvPr id="516" name=""/>
              <p:cNvGrpSpPr/>
              <p:nvPr/>
            </p:nvGrpSpPr>
            <p:grpSpPr>
              <a:xfrm>
                <a:off x="3657600" y="3200400"/>
                <a:ext cx="1828080" cy="1371600"/>
                <a:chOff x="3657600" y="3200400"/>
                <a:chExt cx="1828080" cy="137160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3657600" y="3321000"/>
                  <a:ext cx="544680" cy="53172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3838680" y="3440160"/>
                  <a:ext cx="1035720" cy="101124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805200" y="3557520"/>
                  <a:ext cx="213840" cy="271440"/>
                </a:xfrm>
                <a:custGeom>
                  <a:avLst/>
                  <a:gdLst/>
                  <a:ahLst/>
                  <a:rect l="l" t="t" r="r" b="b"/>
                  <a:pathLst>
                    <a:path w="264" h="341">
                      <a:moveTo>
                        <a:pt x="226" y="0"/>
                      </a:moveTo>
                      <a:lnTo>
                        <a:pt x="0" y="298"/>
                      </a:lnTo>
                      <a:lnTo>
                        <a:pt x="112" y="341"/>
                      </a:lnTo>
                      <a:lnTo>
                        <a:pt x="264" y="29"/>
                      </a:lnTo>
                      <a:lnTo>
                        <a:pt x="22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4206600" y="3560760"/>
                  <a:ext cx="1034640" cy="101124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5122440" y="3738600"/>
                  <a:ext cx="363240" cy="35388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4999320" y="4275000"/>
                  <a:ext cx="241560" cy="23652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4999320" y="3617640"/>
                  <a:ext cx="241560" cy="23508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5060880" y="3978000"/>
                  <a:ext cx="363240" cy="35424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962160" y="3200400"/>
                  <a:ext cx="544680" cy="53172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512960" y="3321000"/>
                  <a:ext cx="544680" cy="53172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268520" y="3200400"/>
                  <a:ext cx="543240" cy="53172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4084920" y="3857400"/>
                  <a:ext cx="545040" cy="53496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953160" y="3297240"/>
                  <a:ext cx="1361160" cy="1145880"/>
                </a:xfrm>
                <a:custGeom>
                  <a:avLst/>
                  <a:gdLst/>
                  <a:ahLst/>
                  <a:rect l="l" t="t" r="r" b="b"/>
                  <a:pathLst>
                    <a:path w="1687" h="1453">
                      <a:moveTo>
                        <a:pt x="398" y="0"/>
                      </a:moveTo>
                      <a:lnTo>
                        <a:pt x="704" y="180"/>
                      </a:lnTo>
                      <a:lnTo>
                        <a:pt x="1073" y="133"/>
                      </a:lnTo>
                      <a:lnTo>
                        <a:pt x="1308" y="483"/>
                      </a:lnTo>
                      <a:lnTo>
                        <a:pt x="1370" y="510"/>
                      </a:lnTo>
                      <a:lnTo>
                        <a:pt x="1535" y="620"/>
                      </a:lnTo>
                      <a:lnTo>
                        <a:pt x="1578" y="710"/>
                      </a:lnTo>
                      <a:lnTo>
                        <a:pt x="1687" y="871"/>
                      </a:lnTo>
                      <a:lnTo>
                        <a:pt x="1669" y="923"/>
                      </a:lnTo>
                      <a:lnTo>
                        <a:pt x="1413" y="1397"/>
                      </a:lnTo>
                      <a:lnTo>
                        <a:pt x="1234" y="1453"/>
                      </a:lnTo>
                      <a:lnTo>
                        <a:pt x="647" y="1401"/>
                      </a:lnTo>
                      <a:lnTo>
                        <a:pt x="605" y="1325"/>
                      </a:lnTo>
                      <a:lnTo>
                        <a:pt x="218" y="1240"/>
                      </a:lnTo>
                      <a:lnTo>
                        <a:pt x="146" y="1273"/>
                      </a:lnTo>
                      <a:lnTo>
                        <a:pt x="0" y="491"/>
                      </a:lnTo>
                      <a:lnTo>
                        <a:pt x="39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4026240" y="3654360"/>
                  <a:ext cx="1131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terne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1" name=""/>
              <p:cNvSpPr/>
              <p:nvPr/>
            </p:nvSpPr>
            <p:spPr>
              <a:xfrm flipH="1">
                <a:off x="5485680" y="3809880"/>
                <a:ext cx="161748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2461680" y="3809880"/>
                <a:ext cx="133632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024360" y="3505320"/>
                <a:ext cx="2808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189480" y="3429000"/>
                <a:ext cx="2808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6892920" y="2971800"/>
              <a:ext cx="1969560" cy="1845000"/>
              <a:chOff x="6892920" y="2971800"/>
              <a:chExt cx="1969560" cy="1845000"/>
            </a:xfrm>
          </p:grpSpPr>
          <p:sp>
            <p:nvSpPr>
              <p:cNvPr id="536" name=""/>
              <p:cNvSpPr/>
              <p:nvPr/>
            </p:nvSpPr>
            <p:spPr>
              <a:xfrm>
                <a:off x="6892920" y="3048120"/>
                <a:ext cx="1969560" cy="167616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7" name=""/>
              <p:cNvGrpSpPr/>
              <p:nvPr/>
            </p:nvGrpSpPr>
            <p:grpSpPr>
              <a:xfrm>
                <a:off x="8135640" y="3429000"/>
                <a:ext cx="650160" cy="1387800"/>
                <a:chOff x="8135640" y="3429000"/>
                <a:chExt cx="650160" cy="138780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8135640" y="4448520"/>
                  <a:ext cx="650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Arial"/>
                    </a:rPr>
                    <a:t>SA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39" name="r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178840" y="3429000"/>
                  <a:ext cx="563040" cy="983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40" name=""/>
              <p:cNvSpPr/>
              <p:nvPr/>
            </p:nvSpPr>
            <p:spPr>
              <a:xfrm>
                <a:off x="7383960" y="2971800"/>
                <a:ext cx="104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ff"/>
                    </a:solidFill>
                    <a:latin typeface="Times New Roman"/>
                  </a:rPr>
                  <a:t>Aventi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7385400" y="3886200"/>
                <a:ext cx="77328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4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033680" y="3581280"/>
                <a:ext cx="402480" cy="76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3" name=""/>
              <p:cNvSpPr/>
              <p:nvPr/>
            </p:nvSpPr>
            <p:spPr>
              <a:xfrm>
                <a:off x="7596360" y="3429000"/>
                <a:ext cx="0" cy="1066680"/>
              </a:xfrm>
              <a:prstGeom prst="line">
                <a:avLst/>
              </a:prstGeom>
              <a:ln w="7632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713720" y="3479760"/>
                <a:ext cx="2808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945840" y="4419720"/>
                <a:ext cx="50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99"/>
                    </a:solidFill>
                    <a:latin typeface="Arial"/>
                  </a:rPr>
                  <a:t>B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6" name=""/>
          <p:cNvGrpSpPr/>
          <p:nvPr/>
        </p:nvGrpSpPr>
        <p:grpSpPr>
          <a:xfrm>
            <a:off x="151560" y="57240"/>
            <a:ext cx="8925840" cy="855720"/>
            <a:chOff x="151560" y="57240"/>
            <a:chExt cx="8925840" cy="855720"/>
          </a:xfrm>
        </p:grpSpPr>
        <p:pic>
          <p:nvPicPr>
            <p:cNvPr id="547" name="Aventis_Logo_4C" descr=""/>
            <p:cNvPicPr/>
            <p:nvPr/>
          </p:nvPicPr>
          <p:blipFill>
            <a:blip r:embed="rId8"/>
            <a:stretch/>
          </p:blipFill>
          <p:spPr>
            <a:xfrm>
              <a:off x="6477120" y="57240"/>
              <a:ext cx="2600280" cy="8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151560" y="382680"/>
              <a:ext cx="249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Marketing 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28600" y="809640"/>
              <a:ext cx="571500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381960" y="6629400"/>
            <a:ext cx="116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99ff"/>
                </a:solidFill>
                <a:latin typeface="Times New Roman"/>
              </a:rPr>
              <a:t>DH/September 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5621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Vorteile des Business Conn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07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en für andere K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066680" y="2362320"/>
            <a:ext cx="747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möglicht eine sichere und kostengünstig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/3 - R/3 Kopplung via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066680" y="3124080"/>
            <a:ext cx="7554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hr geringe Übertragungsko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066680" y="3581280"/>
            <a:ext cx="7554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elle Schnittstelle (XML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55520" y="3962520"/>
            <a:ext cx="725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llgemeingültiger Internetbasierter Ein- und Ausg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066680" y="4419720"/>
            <a:ext cx="7554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rne zukunftsorientierte Technolo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066680" y="4876920"/>
            <a:ext cx="7631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infach für R/3 K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151560" y="57240"/>
            <a:ext cx="8925840" cy="855720"/>
            <a:chOff x="151560" y="57240"/>
            <a:chExt cx="8925840" cy="855720"/>
          </a:xfrm>
        </p:grpSpPr>
        <p:pic>
          <p:nvPicPr>
            <p:cNvPr id="560" name="Aventis_Logo_4C" descr=""/>
            <p:cNvPicPr/>
            <p:nvPr/>
          </p:nvPicPr>
          <p:blipFill>
            <a:blip r:embed="rId2"/>
            <a:stretch/>
          </p:blipFill>
          <p:spPr>
            <a:xfrm>
              <a:off x="6477120" y="57240"/>
              <a:ext cx="2600280" cy="8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151560" y="382680"/>
              <a:ext cx="249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Marketing 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28600" y="809640"/>
              <a:ext cx="57150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7973280" y="6477120"/>
            <a:ext cx="116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Times New Roman"/>
              </a:rPr>
              <a:t>DH/September 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3160" y="1143000"/>
            <a:ext cx="7467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ufwand auf Seiten des Krankenh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03440" y="2057400"/>
            <a:ext cx="7449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den Seiten ist die Installation und Parametrisierung des Business Connectors notwendig, sowie das zugehörige Customizing im SAP R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" y="3505320"/>
            <a:ext cx="7145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151560" y="57240"/>
            <a:ext cx="8925840" cy="855720"/>
            <a:chOff x="151560" y="57240"/>
            <a:chExt cx="8925840" cy="855720"/>
          </a:xfrm>
        </p:grpSpPr>
        <p:pic>
          <p:nvPicPr>
            <p:cNvPr id="568" name="Aventis_Logo_4C" descr=""/>
            <p:cNvPicPr/>
            <p:nvPr/>
          </p:nvPicPr>
          <p:blipFill>
            <a:blip r:embed="rId2"/>
            <a:stretch/>
          </p:blipFill>
          <p:spPr>
            <a:xfrm>
              <a:off x="6477120" y="57240"/>
              <a:ext cx="2600280" cy="8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151560" y="382680"/>
              <a:ext cx="249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Marketing 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8600" y="809640"/>
              <a:ext cx="57150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7849440" y="6477120"/>
            <a:ext cx="116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Times New Roman"/>
              </a:rPr>
              <a:t>DH/September 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28600" y="1218960"/>
            <a:ext cx="5029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Vorteile für Avent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7162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weiterung des Kunden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orbereitung auf Veränderungen im Pharma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ostenredu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mageverbesserung durch Internetauftri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orbereitung für OT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sätzliche Kunden werden Bestelldaten elektronisch übermitte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151560" y="57240"/>
            <a:ext cx="8925840" cy="855720"/>
            <a:chOff x="151560" y="57240"/>
            <a:chExt cx="8925840" cy="855720"/>
          </a:xfrm>
        </p:grpSpPr>
        <p:pic>
          <p:nvPicPr>
            <p:cNvPr id="575" name="Aventis_Logo_4C" descr=""/>
            <p:cNvPicPr/>
            <p:nvPr/>
          </p:nvPicPr>
          <p:blipFill>
            <a:blip r:embed="rId2"/>
            <a:stretch/>
          </p:blipFill>
          <p:spPr>
            <a:xfrm>
              <a:off x="6477120" y="57240"/>
              <a:ext cx="2600280" cy="8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151560" y="382680"/>
              <a:ext cx="249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Marketing 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28600" y="809640"/>
              <a:ext cx="57150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7773120" y="6477120"/>
            <a:ext cx="116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Times New Roman"/>
              </a:rPr>
              <a:t>DH/September 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838080" y="4724280"/>
            <a:ext cx="7239240" cy="19051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38080" y="1905120"/>
            <a:ext cx="7239240" cy="26668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548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unktionalität Online S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ine Bestel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ktkata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ftragsstat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fügbar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nsignationsbestä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ne Posten (Kontokorren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forderungen Rechnungsko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eitstellung kundenspezifischer Inform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stellverhal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isli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151560" y="57240"/>
            <a:ext cx="8925840" cy="855720"/>
            <a:chOff x="151560" y="57240"/>
            <a:chExt cx="8925840" cy="855720"/>
          </a:xfrm>
        </p:grpSpPr>
        <p:pic>
          <p:nvPicPr>
            <p:cNvPr id="584" name="Aventis_Logo_4C" descr=""/>
            <p:cNvPicPr/>
            <p:nvPr/>
          </p:nvPicPr>
          <p:blipFill>
            <a:blip r:embed="rId2"/>
            <a:stretch/>
          </p:blipFill>
          <p:spPr>
            <a:xfrm>
              <a:off x="6477120" y="57240"/>
              <a:ext cx="2600280" cy="8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"/>
            <p:cNvSpPr/>
            <p:nvPr/>
          </p:nvSpPr>
          <p:spPr>
            <a:xfrm>
              <a:off x="151560" y="382680"/>
              <a:ext cx="249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Marketing 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28600" y="809640"/>
              <a:ext cx="57150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7973280" y="6629400"/>
            <a:ext cx="116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Times New Roman"/>
              </a:rPr>
              <a:t>DH/September 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609480" y="804960"/>
            <a:ext cx="4734000" cy="18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Online Stor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9" name=""/>
          <p:cNvSpPr/>
          <p:nvPr/>
        </p:nvSpPr>
        <p:spPr>
          <a:xfrm>
            <a:off x="526680" y="3581280"/>
            <a:ext cx="78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URL: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www.onlinestore.pharma.aventis.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773120" y="6629400"/>
            <a:ext cx="116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Times New Roman"/>
              </a:rPr>
              <a:t>DH/September 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51560" y="57240"/>
            <a:ext cx="8925840" cy="855720"/>
            <a:chOff x="151560" y="57240"/>
            <a:chExt cx="8925840" cy="855720"/>
          </a:xfrm>
        </p:grpSpPr>
        <p:pic>
          <p:nvPicPr>
            <p:cNvPr id="53" name="Aventis_Logo_4C" descr=""/>
            <p:cNvPicPr/>
            <p:nvPr/>
          </p:nvPicPr>
          <p:blipFill>
            <a:blip r:embed="rId2"/>
            <a:stretch/>
          </p:blipFill>
          <p:spPr>
            <a:xfrm>
              <a:off x="6477120" y="57240"/>
              <a:ext cx="2600280" cy="8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51560" y="382680"/>
              <a:ext cx="249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Marketing 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600" y="809640"/>
              <a:ext cx="57150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64680" y="914400"/>
            <a:ext cx="8684640" cy="5231160"/>
            <a:chOff x="364680" y="914400"/>
            <a:chExt cx="8684640" cy="5231160"/>
          </a:xfrm>
        </p:grpSpPr>
        <p:sp>
          <p:nvSpPr>
            <p:cNvPr id="57" name=""/>
            <p:cNvSpPr/>
            <p:nvPr/>
          </p:nvSpPr>
          <p:spPr>
            <a:xfrm>
              <a:off x="383400" y="914400"/>
              <a:ext cx="456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ufgaben Marketing Servi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64680" y="1752480"/>
              <a:ext cx="86846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„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Sicherstellung der Durchführung einer kundenorientierten, tagesaktuell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und korrekten Auftragsabwicklung entsprechend den Anforderung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des Marktes und des Unternehmens für Aventis Pharma Deutschland GmbH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Aventis Behring GmbH und Chiron Behring“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78360" y="3200400"/>
              <a:ext cx="8063640" cy="29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chere tagesaktuelle Erfassung der Kundenaufträ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ufbau und Pflege von Kundenkontak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ey-Account hinsichtlich logistischer Vereinbarun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undenbindung durch Zuordnung der wichtigsten Kunden auf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feste Ansprech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DI - Projek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773120" y="6477120"/>
            <a:ext cx="116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Times New Roman"/>
              </a:rPr>
              <a:t>DH/September 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0" y="3168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2"/>
          <a:stretch/>
        </p:blipFill>
        <p:spPr>
          <a:xfrm>
            <a:off x="0" y="3168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" descr=""/>
          <p:cNvPicPr/>
          <p:nvPr/>
        </p:nvPicPr>
        <p:blipFill>
          <a:blip r:embed="rId2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estelleinga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296360" y="4308480"/>
            <a:ext cx="4288320" cy="1683000"/>
            <a:chOff x="1296360" y="4308480"/>
            <a:chExt cx="4288320" cy="1683000"/>
          </a:xfrm>
        </p:grpSpPr>
        <p:grpSp>
          <p:nvGrpSpPr>
            <p:cNvPr id="63" name=""/>
            <p:cNvGrpSpPr/>
            <p:nvPr/>
          </p:nvGrpSpPr>
          <p:grpSpPr>
            <a:xfrm>
              <a:off x="1296360" y="4308480"/>
              <a:ext cx="4288320" cy="1683000"/>
              <a:chOff x="1296360" y="4308480"/>
              <a:chExt cx="4288320" cy="1683000"/>
            </a:xfrm>
          </p:grpSpPr>
          <p:sp>
            <p:nvSpPr>
              <p:cNvPr id="64" name=""/>
              <p:cNvSpPr/>
              <p:nvPr/>
            </p:nvSpPr>
            <p:spPr>
              <a:xfrm>
                <a:off x="1296360" y="5410080"/>
                <a:ext cx="1533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Telefo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277080" y="5410080"/>
                <a:ext cx="85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Fax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725720" y="5410080"/>
                <a:ext cx="85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EDI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7647200">
                <a:off x="1828440" y="4647600"/>
                <a:ext cx="990360" cy="380880"/>
              </a:xfrm>
              <a:prstGeom prst="rightArrow">
                <a:avLst>
                  <a:gd name="adj1" fmla="val 50000"/>
                  <a:gd name="adj2" fmla="val 6500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6535400">
                <a:off x="3428280" y="4724280"/>
                <a:ext cx="990720" cy="380880"/>
              </a:xfrm>
              <a:prstGeom prst="rightArrow">
                <a:avLst>
                  <a:gd name="adj1" fmla="val 50000"/>
                  <a:gd name="adj2" fmla="val 65028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 flipH="1" rot="5064600">
              <a:off x="4723920" y="4723920"/>
              <a:ext cx="990720" cy="381240"/>
            </a:xfrm>
            <a:prstGeom prst="rightArrow">
              <a:avLst>
                <a:gd name="adj1" fmla="val 50000"/>
                <a:gd name="adj2" fmla="val 64967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324480" y="4343400"/>
            <a:ext cx="1600200" cy="1724400"/>
            <a:chOff x="6324480" y="4343400"/>
            <a:chExt cx="1600200" cy="1724400"/>
          </a:xfrm>
        </p:grpSpPr>
        <p:sp>
          <p:nvSpPr>
            <p:cNvPr id="71" name=""/>
            <p:cNvSpPr/>
            <p:nvPr/>
          </p:nvSpPr>
          <p:spPr>
            <a:xfrm>
              <a:off x="6324480" y="4343400"/>
              <a:ext cx="1524240" cy="16765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325560" y="5486400"/>
              <a:ext cx="1557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Interne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3952800">
              <a:off x="6323760" y="4723920"/>
              <a:ext cx="990360" cy="381240"/>
            </a:xfrm>
            <a:prstGeom prst="rightArrow">
              <a:avLst>
                <a:gd name="adj1" fmla="val 50000"/>
                <a:gd name="adj2" fmla="val 64943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162920" y="434340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V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51560" y="57240"/>
            <a:ext cx="8925840" cy="855720"/>
            <a:chOff x="151560" y="57240"/>
            <a:chExt cx="8925840" cy="855720"/>
          </a:xfrm>
        </p:grpSpPr>
        <p:pic>
          <p:nvPicPr>
            <p:cNvPr id="76" name="Aventis_Logo_4C" descr=""/>
            <p:cNvPicPr/>
            <p:nvPr/>
          </p:nvPicPr>
          <p:blipFill>
            <a:blip r:embed="rId2"/>
            <a:stretch/>
          </p:blipFill>
          <p:spPr>
            <a:xfrm>
              <a:off x="6477120" y="57240"/>
              <a:ext cx="2600280" cy="8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151560" y="382680"/>
              <a:ext cx="249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Marketing 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8600" y="809640"/>
              <a:ext cx="57150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" name="MVC-005X" descr=""/>
          <p:cNvPicPr/>
          <p:nvPr/>
        </p:nvPicPr>
        <p:blipFill>
          <a:blip r:embed="rId3"/>
          <a:stretch/>
        </p:blipFill>
        <p:spPr>
          <a:xfrm>
            <a:off x="2057400" y="1981080"/>
            <a:ext cx="3657600" cy="2278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773120" y="6477120"/>
            <a:ext cx="116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Times New Roman"/>
              </a:rPr>
              <a:t>DH/September 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2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" descr=""/>
          <p:cNvPicPr/>
          <p:nvPr/>
        </p:nvPicPr>
        <p:blipFill>
          <a:blip r:embed="rId2"/>
          <a:stretch/>
        </p:blipFill>
        <p:spPr>
          <a:xfrm>
            <a:off x="0" y="3024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" descr=""/>
          <p:cNvPicPr/>
          <p:nvPr/>
        </p:nvPicPr>
        <p:blipFill>
          <a:blip r:embed="rId2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Aventis_Logo_4C" descr=""/>
          <p:cNvPicPr/>
          <p:nvPr/>
        </p:nvPicPr>
        <p:blipFill>
          <a:blip r:embed="rId2"/>
          <a:stretch/>
        </p:blipFill>
        <p:spPr>
          <a:xfrm>
            <a:off x="6477120" y="57240"/>
            <a:ext cx="2600280" cy="855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51560" y="382680"/>
            <a:ext cx="24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arketing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809640"/>
            <a:ext cx="5715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H_590_Mal" descr=""/>
          <p:cNvPicPr/>
          <p:nvPr/>
        </p:nvPicPr>
        <p:blipFill>
          <a:blip r:embed="rId3"/>
          <a:stretch/>
        </p:blipFill>
        <p:spPr>
          <a:xfrm>
            <a:off x="6172200" y="3124080"/>
            <a:ext cx="2514600" cy="1285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391520" y="2286000"/>
            <a:ext cx="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84600" y="217008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d So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82520" y="2819520"/>
            <a:ext cx="21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Pharma Servicezentrum H 5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2320" y="1371600"/>
            <a:ext cx="43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ägliches Auftrags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1960" y="2209680"/>
            <a:ext cx="54050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träg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a.          9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ositione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a.     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odukt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a.       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805200"/>
            <a:ext cx="8556480" cy="30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Times New Roman"/>
              </a:rPr>
              <a:t>davon über E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hoenix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a. 50 Aufträg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5000 Posi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dkakom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a. 15 Aufträg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60 Posi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onstige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a. 20 Aufträg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30 Posi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davon per Telefon:</a:t>
            </a:r>
            <a:r>
              <a:rPr b="1" lang="de-DE" sz="24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ca.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2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davon per Fax:</a:t>
            </a: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ca.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5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5715000"/>
            <a:ext cx="990720" cy="380880"/>
          </a:xfrm>
          <a:prstGeom prst="leftArrow">
            <a:avLst>
              <a:gd name="adj1" fmla="val 50000"/>
              <a:gd name="adj2" fmla="val 650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MVC-005X" descr=""/>
          <p:cNvPicPr/>
          <p:nvPr/>
        </p:nvPicPr>
        <p:blipFill>
          <a:blip r:embed="rId4"/>
          <a:stretch/>
        </p:blipFill>
        <p:spPr>
          <a:xfrm>
            <a:off x="6400800" y="990720"/>
            <a:ext cx="1905120" cy="1209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697160" y="6477120"/>
            <a:ext cx="116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Times New Roman"/>
              </a:rPr>
              <a:t>DH/September 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Aventis_Logo_4C" descr=""/>
          <p:cNvPicPr/>
          <p:nvPr/>
        </p:nvPicPr>
        <p:blipFill>
          <a:blip r:embed="rId2"/>
          <a:stretch/>
        </p:blipFill>
        <p:spPr>
          <a:xfrm>
            <a:off x="6477120" y="57240"/>
            <a:ext cx="2600280" cy="855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51560" y="382680"/>
            <a:ext cx="24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arketing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809640"/>
            <a:ext cx="5715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80880" y="1395360"/>
          <a:ext cx="8382240" cy="515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395360"/>
                    <a:ext cx="838224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523880" y="990720"/>
            <a:ext cx="67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gleich Auftragspositionen zu Personalaufw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73120" y="6477120"/>
            <a:ext cx="116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Times New Roman"/>
              </a:rPr>
              <a:t>DH/September 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2280" y="990720"/>
          <a:ext cx="8667720" cy="5124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990720"/>
                    <a:ext cx="8667720" cy="51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000080" y="1371600"/>
          <a:ext cx="7162920" cy="4780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1371600"/>
                    <a:ext cx="7162920" cy="47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648320" y="16002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Umsatzverteilung Aven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auf Bestellverfahren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Aventis_Logo_4C" descr=""/>
          <p:cNvPicPr/>
          <p:nvPr/>
        </p:nvPicPr>
        <p:blipFill>
          <a:blip r:embed="rId6"/>
          <a:stretch/>
        </p:blipFill>
        <p:spPr>
          <a:xfrm>
            <a:off x="7086600" y="57240"/>
            <a:ext cx="1952640" cy="641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8153280" y="6659640"/>
            <a:ext cx="990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DH/September 20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85680" y="151560"/>
            <a:ext cx="4409640" cy="384840"/>
            <a:chOff x="85680" y="151560"/>
            <a:chExt cx="4409640" cy="384840"/>
          </a:xfrm>
        </p:grpSpPr>
        <p:sp>
          <p:nvSpPr>
            <p:cNvPr id="112" name=""/>
            <p:cNvSpPr/>
            <p:nvPr/>
          </p:nvSpPr>
          <p:spPr>
            <a:xfrm>
              <a:off x="85680" y="151560"/>
              <a:ext cx="440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99"/>
                  </a:solidFill>
                  <a:latin typeface="Arial"/>
                </a:rPr>
                <a:t>Möglichkeiten des E - Comme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0480" y="536400"/>
              <a:ext cx="39787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advTm="5000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Aventis_Logo_4C" descr=""/>
          <p:cNvPicPr/>
          <p:nvPr/>
        </p:nvPicPr>
        <p:blipFill>
          <a:blip r:embed="rId2"/>
          <a:stretch/>
        </p:blipFill>
        <p:spPr>
          <a:xfrm>
            <a:off x="6477120" y="57240"/>
            <a:ext cx="2600280" cy="855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51560" y="382680"/>
            <a:ext cx="24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arketing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809640"/>
            <a:ext cx="5715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9520" y="1143000"/>
            <a:ext cx="715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orteile elektronischer Bestellverfah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5560" y="2133720"/>
            <a:ext cx="711936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chnel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ic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Fehlerfr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osteneffiz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Möglichkeit der Datenrückübertrag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773120" y="6477120"/>
            <a:ext cx="116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Times New Roman"/>
              </a:rPr>
              <a:t>DH/September 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1295280"/>
            <a:ext cx="6858000" cy="4876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1752480"/>
            <a:ext cx="1752840" cy="1143000"/>
          </a:xfrm>
          <a:prstGeom prst="rect">
            <a:avLst/>
          </a:prstGeom>
          <a:solidFill>
            <a:srgbClr val="b6fcd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Times New Roman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cc"/>
                </a:solidFill>
                <a:latin typeface="Times New Roman"/>
              </a:rPr>
              <a:t>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4800600"/>
            <a:ext cx="1676520" cy="1143000"/>
          </a:xfrm>
          <a:prstGeom prst="rect">
            <a:avLst/>
          </a:prstGeom>
          <a:solidFill>
            <a:srgbClr val="b6fcd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57200" y="3200400"/>
            <a:ext cx="2895480" cy="1219320"/>
            <a:chOff x="457200" y="3200400"/>
            <a:chExt cx="2895480" cy="1219320"/>
          </a:xfrm>
        </p:grpSpPr>
        <p:sp>
          <p:nvSpPr>
            <p:cNvPr id="126" name=""/>
            <p:cNvSpPr/>
            <p:nvPr/>
          </p:nvSpPr>
          <p:spPr>
            <a:xfrm>
              <a:off x="457200" y="3200400"/>
              <a:ext cx="2895480" cy="1219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2480" y="3200400"/>
              <a:ext cx="2256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hoeni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0 Großhänd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Krankenha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867280" y="1133640"/>
            <a:ext cx="2895840" cy="5333400"/>
            <a:chOff x="5867280" y="1133640"/>
            <a:chExt cx="2895840" cy="5333400"/>
          </a:xfrm>
        </p:grpSpPr>
        <p:sp>
          <p:nvSpPr>
            <p:cNvPr id="129" name=""/>
            <p:cNvSpPr/>
            <p:nvPr/>
          </p:nvSpPr>
          <p:spPr>
            <a:xfrm>
              <a:off x="5867280" y="1133640"/>
              <a:ext cx="2895840" cy="761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Klassisch </a:t>
              </a: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Krh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Brief, FAX, Telef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67280" y="2819160"/>
              <a:ext cx="2895840" cy="1904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LC /Produkti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5 Krankenhausapothek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 Vorbereitung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0 Krankenhausapothek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67280" y="5705280"/>
              <a:ext cx="2895840" cy="761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ilot /S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 Krankenhausapothek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5867280" y="4798800"/>
              <a:ext cx="2895480" cy="772560"/>
              <a:chOff x="5867280" y="4798800"/>
              <a:chExt cx="2895480" cy="772560"/>
            </a:xfrm>
          </p:grpSpPr>
          <p:sp>
            <p:nvSpPr>
              <p:cNvPr id="133" name=""/>
              <p:cNvSpPr/>
              <p:nvPr/>
            </p:nvSpPr>
            <p:spPr>
              <a:xfrm>
                <a:off x="5867280" y="4809600"/>
                <a:ext cx="2895480" cy="761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995440" y="4798800"/>
                <a:ext cx="264060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CR / Produkti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 Krankenhausapothek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5867280" y="1965240"/>
              <a:ext cx="2895480" cy="767520"/>
              <a:chOff x="5867280" y="1965240"/>
              <a:chExt cx="2895480" cy="767520"/>
            </a:xfrm>
          </p:grpSpPr>
          <p:sp>
            <p:nvSpPr>
              <p:cNvPr id="136" name=""/>
              <p:cNvSpPr/>
              <p:nvPr/>
            </p:nvSpPr>
            <p:spPr>
              <a:xfrm>
                <a:off x="5867280" y="1971360"/>
                <a:ext cx="2895480" cy="761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010200" y="1965240"/>
                <a:ext cx="2616120" cy="73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KAKO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35 Krankenhausapotheke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38" name="Aventis_Logo_4C" descr=""/>
          <p:cNvPicPr/>
          <p:nvPr/>
        </p:nvPicPr>
        <p:blipFill>
          <a:blip r:embed="rId2"/>
          <a:stretch/>
        </p:blipFill>
        <p:spPr>
          <a:xfrm>
            <a:off x="7086600" y="57240"/>
            <a:ext cx="1952640" cy="641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8153280" y="6659640"/>
            <a:ext cx="990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DH/September 20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9400" y="72396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78720" y="71136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K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85680" y="151560"/>
            <a:ext cx="4409640" cy="384840"/>
            <a:chOff x="85680" y="151560"/>
            <a:chExt cx="4409640" cy="384840"/>
          </a:xfrm>
        </p:grpSpPr>
        <p:sp>
          <p:nvSpPr>
            <p:cNvPr id="143" name=""/>
            <p:cNvSpPr/>
            <p:nvPr/>
          </p:nvSpPr>
          <p:spPr>
            <a:xfrm>
              <a:off x="85680" y="151560"/>
              <a:ext cx="440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99"/>
                  </a:solidFill>
                  <a:latin typeface="Arial"/>
                </a:rPr>
                <a:t>Möglichkeiten des E - Comme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0480" y="536400"/>
              <a:ext cx="39787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5" name=""/>
          <p:cNvCxnSpPr/>
          <p:nvPr/>
        </p:nvCxnSpPr>
        <p:spPr>
          <a:xfrm rot="5400000">
            <a:off x="5279400" y="3291840"/>
            <a:ext cx="1197360" cy="101340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7" idx="3"/>
            <a:endCxn id="148" idx="3"/>
          </p:cNvCxnSpPr>
          <p:nvPr/>
        </p:nvCxnSpPr>
        <p:spPr>
          <a:xfrm flipV="1" rot="10800000">
            <a:off x="5368320" y="3085920"/>
            <a:ext cx="3642480" cy="2705760"/>
          </a:xfrm>
          <a:prstGeom prst="bentConnector3">
            <a:avLst>
              <a:gd name="adj1" fmla="val 7057"/>
            </a:avLst>
          </a:prstGeom>
          <a:ln w="28440">
            <a:solidFill>
              <a:srgbClr val="3c3cce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2680" y="1152360"/>
            <a:ext cx="81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lektronischer Bestelldatenaustausch via AESCUDATA/P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5640" y="2057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Ku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29120" y="20541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76640" y="205740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Car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57920" y="20541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0640" y="205416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ven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Aventis_Logo_4C" descr=""/>
          <p:cNvPicPr/>
          <p:nvPr/>
        </p:nvPicPr>
        <p:blipFill>
          <a:blip r:embed="rId2"/>
          <a:stretch/>
        </p:blipFill>
        <p:spPr>
          <a:xfrm>
            <a:off x="7086600" y="57240"/>
            <a:ext cx="1952640" cy="6411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8153280" y="6659640"/>
            <a:ext cx="990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99"/>
                </a:solidFill>
                <a:latin typeface="Times New Roman"/>
              </a:rPr>
              <a:t>DH/September 20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52280" y="2819520"/>
            <a:ext cx="1524240" cy="533160"/>
            <a:chOff x="152280" y="2819520"/>
            <a:chExt cx="1524240" cy="533160"/>
          </a:xfrm>
        </p:grpSpPr>
        <p:sp>
          <p:nvSpPr>
            <p:cNvPr id="159" name=""/>
            <p:cNvSpPr/>
            <p:nvPr/>
          </p:nvSpPr>
          <p:spPr>
            <a:xfrm>
              <a:off x="152280" y="2819520"/>
              <a:ext cx="152424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8600" y="289548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rankenha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610240" y="2819520"/>
            <a:ext cx="1523880" cy="533160"/>
            <a:chOff x="5610240" y="2819520"/>
            <a:chExt cx="1523880" cy="533160"/>
          </a:xfrm>
        </p:grpSpPr>
        <p:sp>
          <p:nvSpPr>
            <p:cNvPr id="162" name=""/>
            <p:cNvSpPr/>
            <p:nvPr/>
          </p:nvSpPr>
          <p:spPr>
            <a:xfrm>
              <a:off x="5610240" y="2819520"/>
              <a:ext cx="1523880" cy="533160"/>
            </a:xfrm>
            <a:prstGeom prst="rect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95920" y="2847600"/>
              <a:ext cx="137160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HOENI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EANCOM (geplan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844800" y="2819520"/>
            <a:ext cx="1524240" cy="533160"/>
            <a:chOff x="3844800" y="2819520"/>
            <a:chExt cx="1524240" cy="533160"/>
          </a:xfrm>
        </p:grpSpPr>
        <p:sp>
          <p:nvSpPr>
            <p:cNvPr id="165" name=""/>
            <p:cNvSpPr/>
            <p:nvPr/>
          </p:nvSpPr>
          <p:spPr>
            <a:xfrm>
              <a:off x="3844800" y="2819520"/>
              <a:ext cx="1524240" cy="5331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02000" y="28954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000160" y="2819520"/>
            <a:ext cx="1524240" cy="533160"/>
            <a:chOff x="2000160" y="2819520"/>
            <a:chExt cx="1524240" cy="533160"/>
          </a:xfrm>
        </p:grpSpPr>
        <p:sp>
          <p:nvSpPr>
            <p:cNvPr id="168" name=""/>
            <p:cNvSpPr/>
            <p:nvPr/>
          </p:nvSpPr>
          <p:spPr>
            <a:xfrm>
              <a:off x="2000160" y="2819520"/>
              <a:ext cx="1524240" cy="533160"/>
            </a:xfrm>
            <a:prstGeom prst="rect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133720" y="290484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ESCU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7486560" y="2819520"/>
            <a:ext cx="1523880" cy="533160"/>
            <a:chOff x="7486560" y="2819520"/>
            <a:chExt cx="1523880" cy="533160"/>
          </a:xfrm>
        </p:grpSpPr>
        <p:sp>
          <p:nvSpPr>
            <p:cNvPr id="147" name=""/>
            <p:cNvSpPr/>
            <p:nvPr/>
          </p:nvSpPr>
          <p:spPr>
            <a:xfrm>
              <a:off x="7486560" y="2819520"/>
              <a:ext cx="152388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15160" y="29239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iefer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844800" y="4267080"/>
            <a:ext cx="1523880" cy="533520"/>
            <a:chOff x="3844800" y="4267080"/>
            <a:chExt cx="1523880" cy="533520"/>
          </a:xfrm>
        </p:grpSpPr>
        <p:sp>
          <p:nvSpPr>
            <p:cNvPr id="173" name=""/>
            <p:cNvSpPr/>
            <p:nvPr/>
          </p:nvSpPr>
          <p:spPr>
            <a:xfrm>
              <a:off x="3844800" y="4267080"/>
              <a:ext cx="1523880" cy="5335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82960" y="436212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elebox 4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5" name=""/>
          <p:cNvCxnSpPr>
            <a:stCxn id="159" idx="3"/>
            <a:endCxn id="168" idx="1"/>
          </p:cNvCxnSpPr>
          <p:nvPr/>
        </p:nvCxnSpPr>
        <p:spPr>
          <a:xfrm>
            <a:off x="1676160" y="3085920"/>
            <a:ext cx="324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6" name=""/>
          <p:cNvCxnSpPr>
            <a:stCxn id="165" idx="3"/>
            <a:endCxn id="162" idx="1"/>
          </p:cNvCxnSpPr>
          <p:nvPr/>
        </p:nvCxnSpPr>
        <p:spPr>
          <a:xfrm>
            <a:off x="5369040" y="3085920"/>
            <a:ext cx="2419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68" idx="3"/>
            <a:endCxn id="165" idx="1"/>
          </p:cNvCxnSpPr>
          <p:nvPr/>
        </p:nvCxnSpPr>
        <p:spPr>
          <a:xfrm>
            <a:off x="3524400" y="3085920"/>
            <a:ext cx="321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8" name=""/>
          <p:cNvCxnSpPr>
            <a:stCxn id="173" idx="0"/>
            <a:endCxn id="165" idx="2"/>
          </p:cNvCxnSpPr>
          <p:nvPr/>
        </p:nvCxnSpPr>
        <p:spPr>
          <a:xfrm flipV="1">
            <a:off x="4606560" y="3352320"/>
            <a:ext cx="1080" cy="915120"/>
          </a:xfrm>
          <a:prstGeom prst="straightConnector1">
            <a:avLst/>
          </a:prstGeom>
          <a:ln w="28440">
            <a:solidFill>
              <a:srgbClr val="3c3cce"/>
            </a:solidFill>
            <a:miter/>
            <a:tailEnd len="med" type="triangle" w="med"/>
          </a:ln>
        </p:spPr>
      </p:cxnSp>
      <p:cxnSp>
        <p:nvCxnSpPr>
          <p:cNvPr id="179" name=""/>
          <p:cNvCxnSpPr/>
          <p:nvPr/>
        </p:nvCxnSpPr>
        <p:spPr>
          <a:xfrm flipV="1">
            <a:off x="5368680" y="3361680"/>
            <a:ext cx="2880360" cy="118188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3844800" y="5524560"/>
            <a:ext cx="1524240" cy="53352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82960" y="55054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ANCO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VO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80" idx="0"/>
            <a:endCxn id="173" idx="2"/>
          </p:cNvCxnSpPr>
          <p:nvPr/>
        </p:nvCxnSpPr>
        <p:spPr>
          <a:xfrm flipV="1">
            <a:off x="4606560" y="4800600"/>
            <a:ext cx="1080" cy="705240"/>
          </a:xfrm>
          <a:prstGeom prst="straightConnector1">
            <a:avLst/>
          </a:prstGeom>
          <a:ln w="28440">
            <a:solidFill>
              <a:srgbClr val="3c3cce"/>
            </a:solidFill>
            <a:miter/>
            <a:tailEnd len="med" type="triangle" w="med"/>
          </a:ln>
        </p:spPr>
      </p:cxnSp>
      <p:grpSp>
        <p:nvGrpSpPr>
          <p:cNvPr id="182" name=""/>
          <p:cNvGrpSpPr/>
          <p:nvPr/>
        </p:nvGrpSpPr>
        <p:grpSpPr>
          <a:xfrm>
            <a:off x="85680" y="151560"/>
            <a:ext cx="4409640" cy="384840"/>
            <a:chOff x="85680" y="151560"/>
            <a:chExt cx="4409640" cy="384840"/>
          </a:xfrm>
        </p:grpSpPr>
        <p:sp>
          <p:nvSpPr>
            <p:cNvPr id="183" name=""/>
            <p:cNvSpPr/>
            <p:nvPr/>
          </p:nvSpPr>
          <p:spPr>
            <a:xfrm>
              <a:off x="85680" y="151560"/>
              <a:ext cx="440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99"/>
                  </a:solidFill>
                  <a:latin typeface="Arial"/>
                </a:rPr>
                <a:t>Möglichkeiten des E - Comme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40480" y="536400"/>
              <a:ext cx="39787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9T13:10:37Z</dcterms:created>
  <dc:creator>Andreas Schmid ~ HMR/DE </dc:creator>
  <dc:description/>
  <dc:language>en-US</dc:language>
  <cp:lastModifiedBy>Dr. Jochen Winkler</cp:lastModifiedBy>
  <cp:lastPrinted>2000-03-21T13:55:11Z</cp:lastPrinted>
  <dcterms:modified xsi:type="dcterms:W3CDTF">2000-09-25T16:46:08Z</dcterms:modified>
  <cp:revision>47</cp:revision>
  <dc:subject/>
  <dc:title>Kein Folientitel</dc:title>
</cp:coreProperties>
</file>