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A88B567-593A-437F-B595-1FD2A90CEE9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8440" y="7101000"/>
            <a:ext cx="4809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688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 Adre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68580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enstru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8381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it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Kundendatenb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führung einiger Highligh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öglichkeiten der Auswer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Darstell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87836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Darstellungsän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448632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Sum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5000"/>
          </a:bodyPr>
          <a:p>
            <a:pPr marL="197640" indent="-197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gepaßte Lösung fü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keting und Vertri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bination von Stammdaten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en Zusatz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nzentration auf notwendige Informa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en über Kunden für 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n- und Außendien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in kompakter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bersichtlicher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Stamm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Zusatzinforma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8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rfassung von Interessenten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wandlung von Interessenten zu Ku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tieg in KD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und Kom.- 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739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Jochen Winkler</cp:lastModifiedBy>
  <cp:lastPrinted>2000-08-22T08:01:00Z</cp:lastPrinted>
  <dcterms:modified xsi:type="dcterms:W3CDTF">2000-09-17T18:28:31Z</dcterms:modified>
  <cp:revision>54</cp:revision>
  <dc:subject/>
  <dc:title>Kein Folientitel</dc:title>
</cp:coreProperties>
</file>