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39040" y="6421320"/>
            <a:ext cx="1411200" cy="303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52440" y="6103800"/>
            <a:ext cx="1254240" cy="595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22116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7E6A0DC-82E8-4C31-B1CE-E1607486B78D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18600" y="6391440"/>
            <a:ext cx="50904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9.08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781280" y="6391440"/>
            <a:ext cx="820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r. A.S. Schmid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70720" y="6391440"/>
            <a:ext cx="9478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ogistik im SAP R/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58120" y="6448320"/>
            <a:ext cx="1322280" cy="285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3440" y="479520"/>
            <a:ext cx="6676920" cy="4408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33920" y="4343400"/>
            <a:ext cx="50292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e Logistik im SAP R/3-System</a:t>
            </a:r>
            <a:br>
              <a:rPr sz="24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öglichkeiten zur Optimierung der Effizienz</a:t>
            </a:r>
            <a:br>
              <a:rPr sz="2000"/>
            </a:br>
            <a:br>
              <a:rPr sz="20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r. A.S. Schmidt</a:t>
            </a:r>
            <a:br>
              <a:rPr sz="20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rankfurt-Höchst, 2000-09-19</a:t>
            </a:r>
            <a:r>
              <a:rPr b="0" lang="en-US" sz="26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752480" y="1752480"/>
            <a:ext cx="4988880" cy="3795120"/>
            <a:chOff x="1752480" y="1752480"/>
            <a:chExt cx="4988880" cy="3795120"/>
          </a:xfrm>
        </p:grpSpPr>
        <p:grpSp>
          <p:nvGrpSpPr>
            <p:cNvPr id="53" name=""/>
            <p:cNvGrpSpPr/>
            <p:nvPr/>
          </p:nvGrpSpPr>
          <p:grpSpPr>
            <a:xfrm>
              <a:off x="1752480" y="1752480"/>
              <a:ext cx="4988880" cy="3795120"/>
              <a:chOff x="1752480" y="1752480"/>
              <a:chExt cx="4988880" cy="3795120"/>
            </a:xfrm>
          </p:grpSpPr>
          <p:sp>
            <p:nvSpPr>
              <p:cNvPr id="54" name=""/>
              <p:cNvSpPr/>
              <p:nvPr/>
            </p:nvSpPr>
            <p:spPr>
              <a:xfrm>
                <a:off x="3830400" y="4594320"/>
                <a:ext cx="833040" cy="1800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246200" y="1752480"/>
                <a:ext cx="249516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246200" y="1752480"/>
                <a:ext cx="249516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52480" y="1752480"/>
                <a:ext cx="249552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52480" y="1752480"/>
                <a:ext cx="2495520" cy="379512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68280" y="302184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68280" y="302184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999160" y="4465080"/>
                <a:ext cx="415800" cy="54432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99160" y="4465080"/>
                <a:ext cx="415800" cy="54432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910480" y="3021840"/>
                <a:ext cx="415800" cy="54000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1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10480" y="3742200"/>
                <a:ext cx="415800" cy="54000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10480" y="3742200"/>
                <a:ext cx="415800" cy="54000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497200" y="4106520"/>
                <a:ext cx="412920" cy="53604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497200" y="4106520"/>
                <a:ext cx="412920" cy="53604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079240" y="446688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79240" y="446688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99160" y="2665800"/>
                <a:ext cx="415800" cy="53604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99160" y="2665800"/>
                <a:ext cx="415800" cy="53604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99160" y="2665800"/>
                <a:ext cx="415800" cy="53604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68280" y="374220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168280" y="3742200"/>
                <a:ext cx="412920" cy="54000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14960" y="2301120"/>
                <a:ext cx="417240" cy="538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414960" y="2301120"/>
                <a:ext cx="417240" cy="538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81200" y="410652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581200" y="410652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88040" y="2479320"/>
                <a:ext cx="3322080" cy="2114640"/>
              </a:xfrm>
              <a:custGeom>
                <a:avLst/>
                <a:gdLst/>
                <a:ahLst/>
                <a:rect l="l" t="t" r="r" b="b"/>
                <a:pathLst>
                  <a:path w="2830" h="1996">
                    <a:moveTo>
                      <a:pt x="1003" y="1996"/>
                    </a:moveTo>
                    <a:lnTo>
                      <a:pt x="0" y="1026"/>
                    </a:lnTo>
                    <a:lnTo>
                      <a:pt x="1062" y="0"/>
                    </a:lnTo>
                    <a:lnTo>
                      <a:pt x="1769" y="0"/>
                    </a:lnTo>
                    <a:lnTo>
                      <a:pt x="2830" y="1026"/>
                    </a:lnTo>
                    <a:lnTo>
                      <a:pt x="1828" y="1996"/>
                    </a:lnTo>
                    <a:lnTo>
                      <a:pt x="1003" y="199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81200" y="302184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81200" y="3021840"/>
                <a:ext cx="417600" cy="54252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999160" y="1938600"/>
                <a:ext cx="833040" cy="72432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999160" y="1938600"/>
                <a:ext cx="833040" cy="72432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81200" y="2299320"/>
                <a:ext cx="833400" cy="7200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581200" y="2299320"/>
                <a:ext cx="833400" cy="7200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66120" y="2663280"/>
                <a:ext cx="830880" cy="71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66120" y="2663280"/>
                <a:ext cx="830880" cy="71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66120" y="3384360"/>
                <a:ext cx="830880" cy="72216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66120" y="3384360"/>
                <a:ext cx="830880" cy="72216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81200" y="3742200"/>
                <a:ext cx="833400" cy="72252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81200" y="3742200"/>
                <a:ext cx="833400" cy="72252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999160" y="4109040"/>
                <a:ext cx="833040" cy="71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fff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99160" y="4109040"/>
                <a:ext cx="833040" cy="71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414960" y="4465080"/>
                <a:ext cx="417240" cy="54432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14960" y="4465080"/>
                <a:ext cx="417240" cy="54432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63440" y="4466880"/>
                <a:ext cx="415800" cy="54252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63440" y="4466880"/>
                <a:ext cx="415800" cy="54252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663440" y="4109040"/>
                <a:ext cx="833400" cy="71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63440" y="4109040"/>
                <a:ext cx="833400" cy="71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079240" y="3742200"/>
                <a:ext cx="830880" cy="72252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79240" y="3742200"/>
                <a:ext cx="830880" cy="72252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63440" y="2301120"/>
                <a:ext cx="415800" cy="538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63440" y="2301120"/>
                <a:ext cx="415800" cy="538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79240" y="266580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79240" y="2665800"/>
                <a:ext cx="417600" cy="53604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97200" y="2665800"/>
                <a:ext cx="828720" cy="71568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97200" y="2665800"/>
                <a:ext cx="828720" cy="71568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79240" y="2299320"/>
                <a:ext cx="830880" cy="72000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79240" y="2299320"/>
                <a:ext cx="830880" cy="72000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63440" y="1938600"/>
                <a:ext cx="833400" cy="72432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63440" y="1938600"/>
                <a:ext cx="833400" cy="72432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97200" y="3021840"/>
                <a:ext cx="412920" cy="54252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97200" y="3021840"/>
                <a:ext cx="412920" cy="54252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97200" y="3384360"/>
                <a:ext cx="828720" cy="72216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7200" y="3384360"/>
                <a:ext cx="828720" cy="72216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283200" y="3085560"/>
              <a:ext cx="184320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46480" y="2956320"/>
              <a:ext cx="5396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7120" y="293076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960" y="3649320"/>
              <a:ext cx="56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29280" y="36493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4760" y="400932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58040" y="398160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68000" y="436716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10920" y="43398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4760" y="257220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58040" y="254484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9920" y="221400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82480" y="2212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42000" y="2186640"/>
              <a:ext cx="5374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38560" y="21614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8720" y="2572200"/>
              <a:ext cx="5374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78760" y="254484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64240" y="2956320"/>
              <a:ext cx="5396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04640" y="2930760"/>
              <a:ext cx="27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367416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4520" y="3649320"/>
              <a:ext cx="2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6800" y="4009320"/>
              <a:ext cx="5680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7920" y="3981600"/>
              <a:ext cx="27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5480" y="4392720"/>
              <a:ext cx="5659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82400" y="4367160"/>
              <a:ext cx="16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2560" y="2988000"/>
              <a:ext cx="2453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orkbe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SAP R/3 Standard: „Unzulängliche Mächtigkeit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31240" y="1538280"/>
            <a:ext cx="7095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Unzulänglichkeiten der Logistik im SAP R/3 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9840" y="1184400"/>
            <a:ext cx="8147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nteilung in zwei Kategori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ktionale Defizi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spiel Qualitätskontrolle/Analytik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rd auch im Release 4.6 noch stiefmütterlich behandel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Zusammenhang mit Produktion/Vertrieb fallen auf 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/3-Landkarte eine ganze Reihe weißer Flecken au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zite in der Handhabung</a:t>
            </a:r>
            <a:br>
              <a:rPr sz="2200"/>
            </a:b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tzung ausreichend vorhandener Funktionalität nahezu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zumutbar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spiel: Für die Herstellung von 2 Chargen los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e und dem Abfüllen in drei unterschiedliche Gebindetyp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üssen im R/3 Standard 39 Bilder durchlaufen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68600" y="2552760"/>
            <a:ext cx="3373560" cy="2843280"/>
            <a:chOff x="2568600" y="2552760"/>
            <a:chExt cx="3373560" cy="2843280"/>
          </a:xfrm>
        </p:grpSpPr>
        <p:grpSp>
          <p:nvGrpSpPr>
            <p:cNvPr id="147" name=""/>
            <p:cNvGrpSpPr/>
            <p:nvPr/>
          </p:nvGrpSpPr>
          <p:grpSpPr>
            <a:xfrm>
              <a:off x="2568600" y="2552760"/>
              <a:ext cx="3373560" cy="2843280"/>
              <a:chOff x="2568600" y="2552760"/>
              <a:chExt cx="3373560" cy="2843280"/>
            </a:xfrm>
          </p:grpSpPr>
          <p:sp>
            <p:nvSpPr>
              <p:cNvPr id="148" name=""/>
              <p:cNvSpPr/>
              <p:nvPr/>
            </p:nvSpPr>
            <p:spPr>
              <a:xfrm>
                <a:off x="3973680" y="4681800"/>
                <a:ext cx="563400" cy="1350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54840" y="2552760"/>
                <a:ext cx="168732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54840" y="2552760"/>
                <a:ext cx="168732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1417" y="343"/>
                    </a:moveTo>
                    <a:lnTo>
                      <a:pt x="1417" y="511"/>
                    </a:lnTo>
                    <a:lnTo>
                      <a:pt x="1417" y="343"/>
                    </a:lnTo>
                    <a:lnTo>
                      <a:pt x="1066" y="680"/>
                    </a:lnTo>
                    <a:lnTo>
                      <a:pt x="1066" y="853"/>
                    </a:lnTo>
                    <a:lnTo>
                      <a:pt x="1417" y="511"/>
                    </a:lnTo>
                    <a:lnTo>
                      <a:pt x="1684" y="766"/>
                    </a:lnTo>
                    <a:lnTo>
                      <a:pt x="1774" y="680"/>
                    </a:lnTo>
                    <a:lnTo>
                      <a:pt x="1417" y="1018"/>
                    </a:lnTo>
                    <a:lnTo>
                      <a:pt x="1417" y="1191"/>
                    </a:lnTo>
                    <a:lnTo>
                      <a:pt x="1774" y="853"/>
                    </a:lnTo>
                    <a:lnTo>
                      <a:pt x="1774" y="680"/>
                    </a:lnTo>
                    <a:lnTo>
                      <a:pt x="1774" y="853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2127" y="1191"/>
                    </a:lnTo>
                    <a:lnTo>
                      <a:pt x="1862" y="1448"/>
                    </a:lnTo>
                    <a:lnTo>
                      <a:pt x="1774" y="1365"/>
                    </a:lnTo>
                    <a:lnTo>
                      <a:pt x="1774" y="1532"/>
                    </a:lnTo>
                    <a:lnTo>
                      <a:pt x="1774" y="1365"/>
                    </a:lnTo>
                    <a:lnTo>
                      <a:pt x="1862" y="1448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063" y="2729"/>
                    </a:lnTo>
                    <a:lnTo>
                      <a:pt x="1153" y="2815"/>
                    </a:lnTo>
                    <a:lnTo>
                      <a:pt x="1417" y="2553"/>
                    </a:lnTo>
                    <a:lnTo>
                      <a:pt x="1684" y="2815"/>
                    </a:lnTo>
                    <a:lnTo>
                      <a:pt x="1774" y="2729"/>
                    </a:lnTo>
                    <a:lnTo>
                      <a:pt x="1774" y="2900"/>
                    </a:lnTo>
                    <a:lnTo>
                      <a:pt x="1774" y="2729"/>
                    </a:lnTo>
                    <a:lnTo>
                      <a:pt x="1417" y="3073"/>
                    </a:lnTo>
                    <a:lnTo>
                      <a:pt x="1063" y="2729"/>
                    </a:lnTo>
                    <a:lnTo>
                      <a:pt x="1063" y="2900"/>
                    </a:lnTo>
                    <a:lnTo>
                      <a:pt x="1063" y="2729"/>
                    </a:lnTo>
                    <a:lnTo>
                      <a:pt x="709" y="3070"/>
                    </a:lnTo>
                    <a:lnTo>
                      <a:pt x="356" y="2723"/>
                    </a:lnTo>
                    <a:lnTo>
                      <a:pt x="356" y="2892"/>
                    </a:lnTo>
                    <a:lnTo>
                      <a:pt x="356" y="2723"/>
                    </a:lnTo>
                    <a:lnTo>
                      <a:pt x="0" y="3070"/>
                    </a:lnTo>
                    <a:lnTo>
                      <a:pt x="89" y="3155"/>
                    </a:lnTo>
                    <a:lnTo>
                      <a:pt x="356" y="2892"/>
                    </a:lnTo>
                    <a:lnTo>
                      <a:pt x="621" y="3155"/>
                    </a:lnTo>
                    <a:lnTo>
                      <a:pt x="709" y="3070"/>
                    </a:lnTo>
                    <a:lnTo>
                      <a:pt x="798" y="3155"/>
                    </a:lnTo>
                    <a:lnTo>
                      <a:pt x="1063" y="2900"/>
                    </a:lnTo>
                    <a:lnTo>
                      <a:pt x="1331" y="3155"/>
                    </a:lnTo>
                    <a:lnTo>
                      <a:pt x="1417" y="3073"/>
                    </a:lnTo>
                    <a:lnTo>
                      <a:pt x="1417" y="3241"/>
                    </a:lnTo>
                    <a:lnTo>
                      <a:pt x="1417" y="3073"/>
                    </a:lnTo>
                    <a:lnTo>
                      <a:pt x="1063" y="3411"/>
                    </a:lnTo>
                    <a:lnTo>
                      <a:pt x="709" y="3070"/>
                    </a:lnTo>
                    <a:lnTo>
                      <a:pt x="709" y="3241"/>
                    </a:lnTo>
                    <a:lnTo>
                      <a:pt x="709" y="3070"/>
                    </a:lnTo>
                    <a:lnTo>
                      <a:pt x="356" y="3411"/>
                    </a:lnTo>
                    <a:lnTo>
                      <a:pt x="0" y="3070"/>
                    </a:lnTo>
                    <a:lnTo>
                      <a:pt x="0" y="3241"/>
                    </a:lnTo>
                    <a:lnTo>
                      <a:pt x="356" y="3582"/>
                    </a:lnTo>
                    <a:lnTo>
                      <a:pt x="356" y="3411"/>
                    </a:lnTo>
                    <a:lnTo>
                      <a:pt x="356" y="3582"/>
                    </a:lnTo>
                    <a:lnTo>
                      <a:pt x="709" y="3241"/>
                    </a:lnTo>
                    <a:lnTo>
                      <a:pt x="1063" y="3582"/>
                    </a:lnTo>
                    <a:lnTo>
                      <a:pt x="1063" y="3411"/>
                    </a:lnTo>
                    <a:lnTo>
                      <a:pt x="1063" y="3582"/>
                    </a:lnTo>
                    <a:lnTo>
                      <a:pt x="2127" y="2553"/>
                    </a:lnTo>
                    <a:lnTo>
                      <a:pt x="2127" y="2380"/>
                    </a:lnTo>
                    <a:lnTo>
                      <a:pt x="2041" y="2474"/>
                    </a:lnTo>
                    <a:lnTo>
                      <a:pt x="1774" y="2729"/>
                    </a:lnTo>
                    <a:lnTo>
                      <a:pt x="1417" y="2386"/>
                    </a:lnTo>
                    <a:lnTo>
                      <a:pt x="1417" y="2553"/>
                    </a:lnTo>
                    <a:lnTo>
                      <a:pt x="1417" y="2386"/>
                    </a:lnTo>
                    <a:lnTo>
                      <a:pt x="1508" y="2474"/>
                    </a:lnTo>
                    <a:lnTo>
                      <a:pt x="1774" y="2212"/>
                    </a:lnTo>
                    <a:lnTo>
                      <a:pt x="2041" y="2474"/>
                    </a:lnTo>
                    <a:lnTo>
                      <a:pt x="2127" y="2380"/>
                    </a:lnTo>
                    <a:lnTo>
                      <a:pt x="1774" y="2045"/>
                    </a:lnTo>
                    <a:lnTo>
                      <a:pt x="1774" y="2212"/>
                    </a:lnTo>
                    <a:lnTo>
                      <a:pt x="1774" y="2045"/>
                    </a:lnTo>
                    <a:lnTo>
                      <a:pt x="1862" y="2130"/>
                    </a:lnTo>
                    <a:lnTo>
                      <a:pt x="2127" y="1871"/>
                    </a:lnTo>
                    <a:lnTo>
                      <a:pt x="2127" y="1701"/>
                    </a:lnTo>
                    <a:lnTo>
                      <a:pt x="2041" y="1789"/>
                    </a:lnTo>
                    <a:lnTo>
                      <a:pt x="1774" y="1532"/>
                    </a:lnTo>
                    <a:lnTo>
                      <a:pt x="1417" y="1874"/>
                    </a:lnTo>
                    <a:lnTo>
                      <a:pt x="1417" y="1706"/>
                    </a:lnTo>
                    <a:lnTo>
                      <a:pt x="2041" y="1107"/>
                    </a:lnTo>
                    <a:lnTo>
                      <a:pt x="2127" y="1018"/>
                    </a:lnTo>
                    <a:lnTo>
                      <a:pt x="1068" y="0"/>
                    </a:lnTo>
                    <a:lnTo>
                      <a:pt x="1068" y="168"/>
                    </a:lnTo>
                    <a:lnTo>
                      <a:pt x="1068" y="0"/>
                    </a:lnTo>
                    <a:lnTo>
                      <a:pt x="714" y="341"/>
                    </a:lnTo>
                    <a:lnTo>
                      <a:pt x="359" y="0"/>
                    </a:lnTo>
                    <a:lnTo>
                      <a:pt x="359" y="168"/>
                    </a:lnTo>
                    <a:lnTo>
                      <a:pt x="359" y="0"/>
                    </a:lnTo>
                    <a:lnTo>
                      <a:pt x="2" y="343"/>
                    </a:lnTo>
                    <a:lnTo>
                      <a:pt x="2" y="511"/>
                    </a:lnTo>
                    <a:lnTo>
                      <a:pt x="356" y="853"/>
                    </a:lnTo>
                    <a:lnTo>
                      <a:pt x="356" y="680"/>
                    </a:lnTo>
                    <a:lnTo>
                      <a:pt x="0" y="343"/>
                    </a:lnTo>
                    <a:lnTo>
                      <a:pt x="91" y="425"/>
                    </a:lnTo>
                    <a:lnTo>
                      <a:pt x="359" y="168"/>
                    </a:lnTo>
                    <a:lnTo>
                      <a:pt x="714" y="511"/>
                    </a:lnTo>
                    <a:lnTo>
                      <a:pt x="714" y="341"/>
                    </a:lnTo>
                    <a:lnTo>
                      <a:pt x="714" y="511"/>
                    </a:lnTo>
                    <a:lnTo>
                      <a:pt x="1068" y="168"/>
                    </a:lnTo>
                    <a:lnTo>
                      <a:pt x="1331" y="425"/>
                    </a:lnTo>
                    <a:lnTo>
                      <a:pt x="1417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68600" y="2552760"/>
                <a:ext cx="168768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  <a:close/>
                  </a:path>
                </a:pathLst>
              </a:custGeom>
              <a:solidFill>
                <a:srgbClr val="dd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68600" y="2552760"/>
                <a:ext cx="1687680" cy="2843280"/>
              </a:xfrm>
              <a:custGeom>
                <a:avLst/>
                <a:gdLst/>
                <a:ahLst/>
                <a:rect l="l" t="t" r="r" b="b"/>
                <a:pathLst>
                  <a:path w="2127" h="3582">
                    <a:moveTo>
                      <a:pt x="710" y="343"/>
                    </a:moveTo>
                    <a:lnTo>
                      <a:pt x="710" y="511"/>
                    </a:lnTo>
                    <a:lnTo>
                      <a:pt x="710" y="343"/>
                    </a:lnTo>
                    <a:lnTo>
                      <a:pt x="1061" y="680"/>
                    </a:lnTo>
                    <a:lnTo>
                      <a:pt x="1061" y="853"/>
                    </a:lnTo>
                    <a:lnTo>
                      <a:pt x="710" y="511"/>
                    </a:lnTo>
                    <a:lnTo>
                      <a:pt x="443" y="766"/>
                    </a:lnTo>
                    <a:lnTo>
                      <a:pt x="354" y="680"/>
                    </a:lnTo>
                    <a:lnTo>
                      <a:pt x="710" y="1018"/>
                    </a:lnTo>
                    <a:lnTo>
                      <a:pt x="710" y="1191"/>
                    </a:lnTo>
                    <a:lnTo>
                      <a:pt x="354" y="853"/>
                    </a:lnTo>
                    <a:lnTo>
                      <a:pt x="354" y="680"/>
                    </a:lnTo>
                    <a:lnTo>
                      <a:pt x="354" y="853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0" y="1191"/>
                    </a:lnTo>
                    <a:lnTo>
                      <a:pt x="265" y="1448"/>
                    </a:lnTo>
                    <a:lnTo>
                      <a:pt x="354" y="1365"/>
                    </a:lnTo>
                    <a:lnTo>
                      <a:pt x="354" y="1532"/>
                    </a:lnTo>
                    <a:lnTo>
                      <a:pt x="354" y="1365"/>
                    </a:lnTo>
                    <a:lnTo>
                      <a:pt x="265" y="1448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1064" y="2729"/>
                    </a:lnTo>
                    <a:lnTo>
                      <a:pt x="974" y="2815"/>
                    </a:lnTo>
                    <a:lnTo>
                      <a:pt x="710" y="2553"/>
                    </a:lnTo>
                    <a:lnTo>
                      <a:pt x="443" y="2815"/>
                    </a:lnTo>
                    <a:lnTo>
                      <a:pt x="354" y="2729"/>
                    </a:lnTo>
                    <a:lnTo>
                      <a:pt x="354" y="2900"/>
                    </a:lnTo>
                    <a:lnTo>
                      <a:pt x="354" y="2729"/>
                    </a:lnTo>
                    <a:lnTo>
                      <a:pt x="710" y="3073"/>
                    </a:lnTo>
                    <a:lnTo>
                      <a:pt x="1064" y="2729"/>
                    </a:lnTo>
                    <a:lnTo>
                      <a:pt x="1064" y="2900"/>
                    </a:lnTo>
                    <a:lnTo>
                      <a:pt x="1064" y="2729"/>
                    </a:lnTo>
                    <a:lnTo>
                      <a:pt x="1418" y="3070"/>
                    </a:lnTo>
                    <a:lnTo>
                      <a:pt x="1771" y="2723"/>
                    </a:lnTo>
                    <a:lnTo>
                      <a:pt x="1771" y="2892"/>
                    </a:lnTo>
                    <a:lnTo>
                      <a:pt x="1771" y="2723"/>
                    </a:lnTo>
                    <a:lnTo>
                      <a:pt x="2127" y="3070"/>
                    </a:lnTo>
                    <a:lnTo>
                      <a:pt x="2038" y="3155"/>
                    </a:lnTo>
                    <a:lnTo>
                      <a:pt x="1771" y="2892"/>
                    </a:lnTo>
                    <a:lnTo>
                      <a:pt x="1506" y="3155"/>
                    </a:lnTo>
                    <a:lnTo>
                      <a:pt x="1418" y="3070"/>
                    </a:lnTo>
                    <a:lnTo>
                      <a:pt x="1329" y="3155"/>
                    </a:lnTo>
                    <a:lnTo>
                      <a:pt x="1064" y="2900"/>
                    </a:lnTo>
                    <a:lnTo>
                      <a:pt x="796" y="3155"/>
                    </a:lnTo>
                    <a:lnTo>
                      <a:pt x="710" y="3073"/>
                    </a:lnTo>
                    <a:lnTo>
                      <a:pt x="710" y="3241"/>
                    </a:lnTo>
                    <a:lnTo>
                      <a:pt x="710" y="3073"/>
                    </a:lnTo>
                    <a:lnTo>
                      <a:pt x="1064" y="3411"/>
                    </a:lnTo>
                    <a:lnTo>
                      <a:pt x="1418" y="3070"/>
                    </a:lnTo>
                    <a:lnTo>
                      <a:pt x="1418" y="3241"/>
                    </a:lnTo>
                    <a:lnTo>
                      <a:pt x="1418" y="3070"/>
                    </a:lnTo>
                    <a:lnTo>
                      <a:pt x="1771" y="3411"/>
                    </a:lnTo>
                    <a:lnTo>
                      <a:pt x="2127" y="3070"/>
                    </a:lnTo>
                    <a:lnTo>
                      <a:pt x="2127" y="3241"/>
                    </a:lnTo>
                    <a:lnTo>
                      <a:pt x="1771" y="3582"/>
                    </a:lnTo>
                    <a:lnTo>
                      <a:pt x="1771" y="3411"/>
                    </a:lnTo>
                    <a:lnTo>
                      <a:pt x="1771" y="3582"/>
                    </a:lnTo>
                    <a:lnTo>
                      <a:pt x="1418" y="3241"/>
                    </a:lnTo>
                    <a:lnTo>
                      <a:pt x="1064" y="3582"/>
                    </a:lnTo>
                    <a:lnTo>
                      <a:pt x="1064" y="3411"/>
                    </a:lnTo>
                    <a:lnTo>
                      <a:pt x="1064" y="3582"/>
                    </a:lnTo>
                    <a:lnTo>
                      <a:pt x="0" y="2553"/>
                    </a:lnTo>
                    <a:lnTo>
                      <a:pt x="0" y="2380"/>
                    </a:lnTo>
                    <a:lnTo>
                      <a:pt x="86" y="2474"/>
                    </a:lnTo>
                    <a:lnTo>
                      <a:pt x="354" y="2729"/>
                    </a:lnTo>
                    <a:lnTo>
                      <a:pt x="710" y="2386"/>
                    </a:lnTo>
                    <a:lnTo>
                      <a:pt x="710" y="2553"/>
                    </a:lnTo>
                    <a:lnTo>
                      <a:pt x="710" y="2386"/>
                    </a:lnTo>
                    <a:lnTo>
                      <a:pt x="619" y="2474"/>
                    </a:lnTo>
                    <a:lnTo>
                      <a:pt x="354" y="2212"/>
                    </a:lnTo>
                    <a:lnTo>
                      <a:pt x="86" y="2474"/>
                    </a:lnTo>
                    <a:lnTo>
                      <a:pt x="0" y="2380"/>
                    </a:lnTo>
                    <a:lnTo>
                      <a:pt x="354" y="2045"/>
                    </a:lnTo>
                    <a:lnTo>
                      <a:pt x="354" y="2212"/>
                    </a:lnTo>
                    <a:lnTo>
                      <a:pt x="354" y="2045"/>
                    </a:lnTo>
                    <a:lnTo>
                      <a:pt x="265" y="2130"/>
                    </a:lnTo>
                    <a:lnTo>
                      <a:pt x="0" y="1871"/>
                    </a:lnTo>
                    <a:lnTo>
                      <a:pt x="0" y="1701"/>
                    </a:lnTo>
                    <a:lnTo>
                      <a:pt x="86" y="1789"/>
                    </a:lnTo>
                    <a:lnTo>
                      <a:pt x="354" y="1532"/>
                    </a:lnTo>
                    <a:lnTo>
                      <a:pt x="710" y="1874"/>
                    </a:lnTo>
                    <a:lnTo>
                      <a:pt x="710" y="1706"/>
                    </a:lnTo>
                    <a:lnTo>
                      <a:pt x="86" y="1107"/>
                    </a:lnTo>
                    <a:lnTo>
                      <a:pt x="0" y="1018"/>
                    </a:lnTo>
                    <a:lnTo>
                      <a:pt x="1059" y="0"/>
                    </a:lnTo>
                    <a:lnTo>
                      <a:pt x="1059" y="168"/>
                    </a:lnTo>
                    <a:lnTo>
                      <a:pt x="1059" y="0"/>
                    </a:lnTo>
                    <a:lnTo>
                      <a:pt x="1413" y="341"/>
                    </a:lnTo>
                    <a:lnTo>
                      <a:pt x="1768" y="0"/>
                    </a:lnTo>
                    <a:lnTo>
                      <a:pt x="1768" y="168"/>
                    </a:lnTo>
                    <a:lnTo>
                      <a:pt x="1768" y="0"/>
                    </a:lnTo>
                    <a:lnTo>
                      <a:pt x="2127" y="343"/>
                    </a:lnTo>
                    <a:lnTo>
                      <a:pt x="2127" y="511"/>
                    </a:lnTo>
                    <a:lnTo>
                      <a:pt x="1771" y="853"/>
                    </a:lnTo>
                    <a:lnTo>
                      <a:pt x="1771" y="680"/>
                    </a:lnTo>
                    <a:lnTo>
                      <a:pt x="2127" y="343"/>
                    </a:lnTo>
                    <a:lnTo>
                      <a:pt x="2036" y="425"/>
                    </a:lnTo>
                    <a:lnTo>
                      <a:pt x="1768" y="168"/>
                    </a:lnTo>
                    <a:lnTo>
                      <a:pt x="1413" y="511"/>
                    </a:lnTo>
                    <a:lnTo>
                      <a:pt x="1413" y="341"/>
                    </a:lnTo>
                    <a:lnTo>
                      <a:pt x="1413" y="511"/>
                    </a:lnTo>
                    <a:lnTo>
                      <a:pt x="1059" y="168"/>
                    </a:lnTo>
                    <a:lnTo>
                      <a:pt x="796" y="425"/>
                    </a:lnTo>
                    <a:lnTo>
                      <a:pt x="710" y="343"/>
                    </a:lnTo>
                  </a:path>
                </a:pathLst>
              </a:custGeom>
              <a:noFill/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849760" y="350388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49760" y="350388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1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11720" y="4584960"/>
                <a:ext cx="281160" cy="40788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11720" y="4584960"/>
                <a:ext cx="281160" cy="407880"/>
              </a:xfrm>
              <a:custGeom>
                <a:avLst/>
                <a:gdLst/>
                <a:ahLst/>
                <a:rect l="l" t="t" r="r" b="b"/>
                <a:pathLst>
                  <a:path w="354" h="512">
                    <a:moveTo>
                      <a:pt x="0" y="170"/>
                    </a:moveTo>
                    <a:lnTo>
                      <a:pt x="0" y="0"/>
                    </a:lnTo>
                    <a:lnTo>
                      <a:pt x="354" y="341"/>
                    </a:lnTo>
                    <a:lnTo>
                      <a:pt x="354" y="512"/>
                    </a:lnTo>
                    <a:lnTo>
                      <a:pt x="0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80200" y="3503880"/>
                <a:ext cx="281160" cy="4046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1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80200" y="4043520"/>
                <a:ext cx="281160" cy="4046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80200" y="4043520"/>
                <a:ext cx="281160" cy="4046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341"/>
                    </a:moveTo>
                    <a:lnTo>
                      <a:pt x="0" y="511"/>
                    </a:lnTo>
                    <a:lnTo>
                      <a:pt x="354" y="172"/>
                    </a:lnTo>
                    <a:lnTo>
                      <a:pt x="354" y="0"/>
                    </a:lnTo>
                    <a:lnTo>
                      <a:pt x="0" y="341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00840" y="4316400"/>
                <a:ext cx="279360" cy="40176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00840" y="4316400"/>
                <a:ext cx="279360" cy="401760"/>
              </a:xfrm>
              <a:custGeom>
                <a:avLst/>
                <a:gdLst/>
                <a:ahLst/>
                <a:rect l="l" t="t" r="r" b="b"/>
                <a:pathLst>
                  <a:path w="351" h="507">
                    <a:moveTo>
                      <a:pt x="0" y="337"/>
                    </a:moveTo>
                    <a:lnTo>
                      <a:pt x="0" y="507"/>
                    </a:lnTo>
                    <a:lnTo>
                      <a:pt x="351" y="169"/>
                    </a:lnTo>
                    <a:lnTo>
                      <a:pt x="351" y="0"/>
                    </a:lnTo>
                    <a:lnTo>
                      <a:pt x="0" y="337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18240" y="458640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7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18240" y="458640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1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40"/>
                    </a:lnTo>
                    <a:lnTo>
                      <a:pt x="0" y="511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11720" y="3237120"/>
                <a:ext cx="281160" cy="40176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11720" y="3237120"/>
                <a:ext cx="281160" cy="40176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11720" y="3237120"/>
                <a:ext cx="281160" cy="401760"/>
              </a:xfrm>
              <a:custGeom>
                <a:avLst/>
                <a:gdLst/>
                <a:ahLst/>
                <a:rect l="l" t="t" r="r" b="b"/>
                <a:pathLst>
                  <a:path w="354" h="505">
                    <a:moveTo>
                      <a:pt x="354" y="165"/>
                    </a:moveTo>
                    <a:lnTo>
                      <a:pt x="354" y="0"/>
                    </a:lnTo>
                    <a:lnTo>
                      <a:pt x="0" y="334"/>
                    </a:lnTo>
                    <a:lnTo>
                      <a:pt x="0" y="505"/>
                    </a:lnTo>
                    <a:lnTo>
                      <a:pt x="354" y="1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49760" y="404352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49760" y="4043520"/>
                <a:ext cx="279360" cy="404640"/>
              </a:xfrm>
              <a:custGeom>
                <a:avLst/>
                <a:gdLst/>
                <a:ahLst/>
                <a:rect l="l" t="t" r="r" b="b"/>
                <a:pathLst>
                  <a:path w="351" h="511">
                    <a:moveTo>
                      <a:pt x="351" y="341"/>
                    </a:moveTo>
                    <a:lnTo>
                      <a:pt x="351" y="511"/>
                    </a:lnTo>
                    <a:lnTo>
                      <a:pt x="0" y="172"/>
                    </a:lnTo>
                    <a:lnTo>
                      <a:pt x="0" y="0"/>
                    </a:lnTo>
                    <a:lnTo>
                      <a:pt x="351" y="341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92880" y="2963880"/>
                <a:ext cx="282240" cy="403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92880" y="2963880"/>
                <a:ext cx="282240" cy="403200"/>
              </a:xfrm>
              <a:custGeom>
                <a:avLst/>
                <a:gdLst/>
                <a:ahLst/>
                <a:rect l="l" t="t" r="r" b="b"/>
                <a:pathLst>
                  <a:path w="355" h="507">
                    <a:moveTo>
                      <a:pt x="355" y="169"/>
                    </a:moveTo>
                    <a:lnTo>
                      <a:pt x="355" y="0"/>
                    </a:lnTo>
                    <a:lnTo>
                      <a:pt x="0" y="339"/>
                    </a:lnTo>
                    <a:lnTo>
                      <a:pt x="0" y="507"/>
                    </a:lnTo>
                    <a:lnTo>
                      <a:pt x="355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29120" y="431640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  <a:close/>
                  </a:path>
                </a:pathLst>
              </a:cu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29120" y="431640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7">
                    <a:moveTo>
                      <a:pt x="356" y="337"/>
                    </a:moveTo>
                    <a:lnTo>
                      <a:pt x="356" y="50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356" y="337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33800" y="3097440"/>
                <a:ext cx="2246400" cy="1584360"/>
              </a:xfrm>
              <a:custGeom>
                <a:avLst/>
                <a:gdLst/>
                <a:ahLst/>
                <a:rect l="l" t="t" r="r" b="b"/>
                <a:pathLst>
                  <a:path w="2830" h="1996">
                    <a:moveTo>
                      <a:pt x="1003" y="1996"/>
                    </a:moveTo>
                    <a:lnTo>
                      <a:pt x="0" y="1026"/>
                    </a:lnTo>
                    <a:lnTo>
                      <a:pt x="1062" y="0"/>
                    </a:lnTo>
                    <a:lnTo>
                      <a:pt x="1769" y="0"/>
                    </a:lnTo>
                    <a:lnTo>
                      <a:pt x="2830" y="1026"/>
                    </a:lnTo>
                    <a:lnTo>
                      <a:pt x="1828" y="1996"/>
                    </a:lnTo>
                    <a:lnTo>
                      <a:pt x="1003" y="199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29120" y="350388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29120" y="3503880"/>
                <a:ext cx="282600" cy="406440"/>
              </a:xfrm>
              <a:custGeom>
                <a:avLst/>
                <a:gdLst/>
                <a:ahLst/>
                <a:rect l="l" t="t" r="r" b="b"/>
                <a:pathLst>
                  <a:path w="356" h="510">
                    <a:moveTo>
                      <a:pt x="356" y="169"/>
                    </a:moveTo>
                    <a:lnTo>
                      <a:pt x="356" y="0"/>
                    </a:lnTo>
                    <a:lnTo>
                      <a:pt x="0" y="339"/>
                    </a:lnTo>
                    <a:lnTo>
                      <a:pt x="0" y="510"/>
                    </a:lnTo>
                    <a:lnTo>
                      <a:pt x="356" y="169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11720" y="2692440"/>
                <a:ext cx="563400" cy="54288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11720" y="2692440"/>
                <a:ext cx="563400" cy="542880"/>
              </a:xfrm>
              <a:custGeom>
                <a:avLst/>
                <a:gdLst/>
                <a:ahLst/>
                <a:rect l="l" t="t" r="r" b="b"/>
                <a:pathLst>
                  <a:path w="709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09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129120" y="2962440"/>
                <a:ext cx="563760" cy="53964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9120" y="2962440"/>
                <a:ext cx="563760" cy="53964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6" y="0"/>
                    </a:moveTo>
                    <a:lnTo>
                      <a:pt x="0" y="341"/>
                    </a:lnTo>
                    <a:lnTo>
                      <a:pt x="356" y="679"/>
                    </a:lnTo>
                    <a:lnTo>
                      <a:pt x="71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48320" y="3235320"/>
                <a:ext cx="561960" cy="53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48320" y="3235320"/>
                <a:ext cx="561960" cy="538200"/>
              </a:xfrm>
              <a:custGeom>
                <a:avLst/>
                <a:gdLst/>
                <a:ahLst/>
                <a:rect l="l" t="t" r="r" b="b"/>
                <a:pathLst>
                  <a:path w="708" h="679">
                    <a:moveTo>
                      <a:pt x="352" y="0"/>
                    </a:moveTo>
                    <a:lnTo>
                      <a:pt x="708" y="338"/>
                    </a:lnTo>
                    <a:lnTo>
                      <a:pt x="354" y="679"/>
                    </a:lnTo>
                    <a:lnTo>
                      <a:pt x="0" y="338"/>
                    </a:lnTo>
                    <a:lnTo>
                      <a:pt x="352" y="0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48320" y="3775320"/>
                <a:ext cx="561960" cy="54108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48320" y="3775320"/>
                <a:ext cx="561960" cy="541080"/>
              </a:xfrm>
              <a:custGeom>
                <a:avLst/>
                <a:gdLst/>
                <a:ahLst/>
                <a:rect l="l" t="t" r="r" b="b"/>
                <a:pathLst>
                  <a:path w="708" h="682">
                    <a:moveTo>
                      <a:pt x="354" y="682"/>
                    </a:moveTo>
                    <a:lnTo>
                      <a:pt x="708" y="339"/>
                    </a:lnTo>
                    <a:lnTo>
                      <a:pt x="354" y="0"/>
                    </a:lnTo>
                    <a:lnTo>
                      <a:pt x="0" y="339"/>
                    </a:lnTo>
                    <a:lnTo>
                      <a:pt x="354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29120" y="4043520"/>
                <a:ext cx="563760" cy="54144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129120" y="4043520"/>
                <a:ext cx="563760" cy="541440"/>
              </a:xfrm>
              <a:custGeom>
                <a:avLst/>
                <a:gdLst/>
                <a:ahLst/>
                <a:rect l="l" t="t" r="r" b="b"/>
                <a:pathLst>
                  <a:path w="710" h="682">
                    <a:moveTo>
                      <a:pt x="356" y="682"/>
                    </a:moveTo>
                    <a:lnTo>
                      <a:pt x="0" y="345"/>
                    </a:lnTo>
                    <a:lnTo>
                      <a:pt x="356" y="0"/>
                    </a:lnTo>
                    <a:lnTo>
                      <a:pt x="71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7f21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11720" y="4318200"/>
                <a:ext cx="563400" cy="53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fff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11720" y="4318200"/>
                <a:ext cx="563400" cy="538200"/>
              </a:xfrm>
              <a:custGeom>
                <a:avLst/>
                <a:gdLst/>
                <a:ahLst/>
                <a:rect l="l" t="t" r="r" b="b"/>
                <a:pathLst>
                  <a:path w="709" h="679">
                    <a:moveTo>
                      <a:pt x="354" y="679"/>
                    </a:moveTo>
                    <a:lnTo>
                      <a:pt x="0" y="338"/>
                    </a:lnTo>
                    <a:lnTo>
                      <a:pt x="354" y="0"/>
                    </a:lnTo>
                    <a:lnTo>
                      <a:pt x="709" y="338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92880" y="4584960"/>
                <a:ext cx="282240" cy="40788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92880" y="4584960"/>
                <a:ext cx="282240" cy="407880"/>
              </a:xfrm>
              <a:custGeom>
                <a:avLst/>
                <a:gdLst/>
                <a:ahLst/>
                <a:rect l="l" t="t" r="r" b="b"/>
                <a:pathLst>
                  <a:path w="355" h="512">
                    <a:moveTo>
                      <a:pt x="355" y="170"/>
                    </a:moveTo>
                    <a:lnTo>
                      <a:pt x="355" y="0"/>
                    </a:lnTo>
                    <a:lnTo>
                      <a:pt x="0" y="341"/>
                    </a:lnTo>
                    <a:lnTo>
                      <a:pt x="0" y="512"/>
                    </a:lnTo>
                    <a:lnTo>
                      <a:pt x="355" y="170"/>
                    </a:lnTo>
                  </a:path>
                </a:pathLst>
              </a:custGeom>
              <a:noFill/>
              <a:ln w="0">
                <a:solidFill>
                  <a:srgbClr val="7f6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37080" y="4586400"/>
                <a:ext cx="281160" cy="4064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bc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37080" y="4586400"/>
                <a:ext cx="281160" cy="406440"/>
              </a:xfrm>
              <a:custGeom>
                <a:avLst/>
                <a:gdLst/>
                <a:ahLst/>
                <a:rect l="l" t="t" r="r" b="b"/>
                <a:pathLst>
                  <a:path w="354" h="511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40"/>
                    </a:lnTo>
                    <a:lnTo>
                      <a:pt x="354" y="511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37080" y="4318200"/>
                <a:ext cx="563760" cy="53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37080" y="4318200"/>
                <a:ext cx="563760" cy="538200"/>
              </a:xfrm>
              <a:custGeom>
                <a:avLst/>
                <a:gdLst/>
                <a:ahLst/>
                <a:rect l="l" t="t" r="r" b="b"/>
                <a:pathLst>
                  <a:path w="710" h="679">
                    <a:moveTo>
                      <a:pt x="354" y="679"/>
                    </a:moveTo>
                    <a:lnTo>
                      <a:pt x="0" y="341"/>
                    </a:lnTo>
                    <a:lnTo>
                      <a:pt x="354" y="0"/>
                    </a:lnTo>
                    <a:lnTo>
                      <a:pt x="710" y="341"/>
                    </a:lnTo>
                    <a:lnTo>
                      <a:pt x="354" y="679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8240" y="4043520"/>
                <a:ext cx="561960" cy="54144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  <a:close/>
                  </a:path>
                </a:pathLst>
              </a:custGeom>
              <a:solidFill>
                <a:srgbClr val="9b9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18240" y="4043520"/>
                <a:ext cx="561960" cy="541440"/>
              </a:xfrm>
              <a:custGeom>
                <a:avLst/>
                <a:gdLst/>
                <a:ahLst/>
                <a:rect l="l" t="t" r="r" b="b"/>
                <a:pathLst>
                  <a:path w="707" h="682">
                    <a:moveTo>
                      <a:pt x="356" y="682"/>
                    </a:moveTo>
                    <a:lnTo>
                      <a:pt x="707" y="345"/>
                    </a:lnTo>
                    <a:lnTo>
                      <a:pt x="356" y="0"/>
                    </a:lnTo>
                    <a:lnTo>
                      <a:pt x="0" y="345"/>
                    </a:lnTo>
                    <a:lnTo>
                      <a:pt x="356" y="682"/>
                    </a:lnTo>
                  </a:path>
                </a:pathLst>
              </a:custGeom>
              <a:noFill/>
              <a:ln w="0">
                <a:solidFill>
                  <a:srgbClr val="0000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37080" y="2963880"/>
                <a:ext cx="281160" cy="403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37080" y="2963880"/>
                <a:ext cx="281160" cy="403200"/>
              </a:xfrm>
              <a:custGeom>
                <a:avLst/>
                <a:gdLst/>
                <a:ahLst/>
                <a:rect l="l" t="t" r="r" b="b"/>
                <a:pathLst>
                  <a:path w="354" h="507">
                    <a:moveTo>
                      <a:pt x="0" y="169"/>
                    </a:moveTo>
                    <a:lnTo>
                      <a:pt x="0" y="0"/>
                    </a:lnTo>
                    <a:lnTo>
                      <a:pt x="354" y="339"/>
                    </a:lnTo>
                    <a:lnTo>
                      <a:pt x="354" y="507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18240" y="323712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818240" y="3237120"/>
                <a:ext cx="282600" cy="401760"/>
              </a:xfrm>
              <a:custGeom>
                <a:avLst/>
                <a:gdLst/>
                <a:ahLst/>
                <a:rect l="l" t="t" r="r" b="b"/>
                <a:pathLst>
                  <a:path w="356" h="505">
                    <a:moveTo>
                      <a:pt x="0" y="165"/>
                    </a:moveTo>
                    <a:lnTo>
                      <a:pt x="0" y="0"/>
                    </a:lnTo>
                    <a:lnTo>
                      <a:pt x="356" y="334"/>
                    </a:lnTo>
                    <a:lnTo>
                      <a:pt x="356" y="505"/>
                    </a:lnTo>
                    <a:lnTo>
                      <a:pt x="0" y="165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00840" y="3237120"/>
                <a:ext cx="560520" cy="53640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0840" y="3237120"/>
                <a:ext cx="560520" cy="536400"/>
              </a:xfrm>
              <a:custGeom>
                <a:avLst/>
                <a:gdLst/>
                <a:ahLst/>
                <a:rect l="l" t="t" r="r" b="b"/>
                <a:pathLst>
                  <a:path w="705" h="677">
                    <a:moveTo>
                      <a:pt x="351" y="0"/>
                    </a:moveTo>
                    <a:lnTo>
                      <a:pt x="0" y="336"/>
                    </a:lnTo>
                    <a:lnTo>
                      <a:pt x="351" y="677"/>
                    </a:lnTo>
                    <a:lnTo>
                      <a:pt x="705" y="336"/>
                    </a:lnTo>
                    <a:lnTo>
                      <a:pt x="351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818240" y="2962440"/>
                <a:ext cx="561960" cy="53964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18240" y="2962440"/>
                <a:ext cx="561960" cy="539640"/>
              </a:xfrm>
              <a:custGeom>
                <a:avLst/>
                <a:gdLst/>
                <a:ahLst/>
                <a:rect l="l" t="t" r="r" b="b"/>
                <a:pathLst>
                  <a:path w="707" h="679">
                    <a:moveTo>
                      <a:pt x="356" y="0"/>
                    </a:moveTo>
                    <a:lnTo>
                      <a:pt x="707" y="341"/>
                    </a:lnTo>
                    <a:lnTo>
                      <a:pt x="356" y="679"/>
                    </a:lnTo>
                    <a:lnTo>
                      <a:pt x="0" y="341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37080" y="2692440"/>
                <a:ext cx="563760" cy="54288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37080" y="2692440"/>
                <a:ext cx="563760" cy="542880"/>
              </a:xfrm>
              <a:custGeom>
                <a:avLst/>
                <a:gdLst/>
                <a:ahLst/>
                <a:rect l="l" t="t" r="r" b="b"/>
                <a:pathLst>
                  <a:path w="710" h="683">
                    <a:moveTo>
                      <a:pt x="354" y="0"/>
                    </a:moveTo>
                    <a:lnTo>
                      <a:pt x="0" y="341"/>
                    </a:lnTo>
                    <a:lnTo>
                      <a:pt x="354" y="683"/>
                    </a:lnTo>
                    <a:lnTo>
                      <a:pt x="710" y="341"/>
                    </a:lnTo>
                    <a:lnTo>
                      <a:pt x="354" y="0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100840" y="3503880"/>
                <a:ext cx="279360" cy="40644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00840" y="3503880"/>
                <a:ext cx="279360" cy="406440"/>
              </a:xfrm>
              <a:custGeom>
                <a:avLst/>
                <a:gdLst/>
                <a:ahLst/>
                <a:rect l="l" t="t" r="r" b="b"/>
                <a:pathLst>
                  <a:path w="351" h="510">
                    <a:moveTo>
                      <a:pt x="0" y="169"/>
                    </a:moveTo>
                    <a:lnTo>
                      <a:pt x="0" y="0"/>
                    </a:lnTo>
                    <a:lnTo>
                      <a:pt x="351" y="339"/>
                    </a:lnTo>
                    <a:lnTo>
                      <a:pt x="351" y="510"/>
                    </a:lnTo>
                    <a:lnTo>
                      <a:pt x="0" y="169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00840" y="3775320"/>
                <a:ext cx="560520" cy="54108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  <a:close/>
                  </a:path>
                </a:pathLst>
              </a:custGeom>
              <a:solidFill>
                <a:srgbClr val="ff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00840" y="3775320"/>
                <a:ext cx="560520" cy="541080"/>
              </a:xfrm>
              <a:custGeom>
                <a:avLst/>
                <a:gdLst/>
                <a:ahLst/>
                <a:rect l="l" t="t" r="r" b="b"/>
                <a:pathLst>
                  <a:path w="705" h="682">
                    <a:moveTo>
                      <a:pt x="351" y="682"/>
                    </a:moveTo>
                    <a:lnTo>
                      <a:pt x="0" y="339"/>
                    </a:lnTo>
                    <a:lnTo>
                      <a:pt x="351" y="0"/>
                    </a:lnTo>
                    <a:lnTo>
                      <a:pt x="705" y="339"/>
                    </a:lnTo>
                    <a:lnTo>
                      <a:pt x="351" y="682"/>
                    </a:lnTo>
                  </a:path>
                </a:pathLst>
              </a:custGeom>
              <a:noFill/>
              <a:ln w="0">
                <a:solidFill>
                  <a:srgbClr val="7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603600" y="3551400"/>
              <a:ext cx="124632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70360" y="3454560"/>
              <a:ext cx="3650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85920" y="34354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32200" y="3973680"/>
              <a:ext cx="3841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27600" y="3973680"/>
              <a:ext cx="18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19480" y="42433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6320" y="422280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5840" y="45115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22680" y="44910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19480" y="31669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16680" y="3146400"/>
              <a:ext cx="18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06760" y="28987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03600" y="2897280"/>
              <a:ext cx="15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57680" y="2878200"/>
              <a:ext cx="363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90520" y="28591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25880" y="3166920"/>
              <a:ext cx="3636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1280" y="314640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13520" y="3454560"/>
              <a:ext cx="3650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08560" y="3435480"/>
              <a:ext cx="17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13520" y="399240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29080" y="39736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44960" y="4243320"/>
              <a:ext cx="3841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40000" y="422280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19520" y="4530600"/>
              <a:ext cx="3826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52720" y="451152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7560" y="3478320"/>
              <a:ext cx="16588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66"/>
                  </a:solidFill>
                  <a:latin typeface="Arial"/>
                </a:rPr>
                <a:t>Workbe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/3-Defizite induzieren meist „konventionelle“ Problem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857240" y="2977920"/>
            <a:ext cx="1663920" cy="245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6440" y="4656240"/>
            <a:ext cx="387360" cy="10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222880" y="2808000"/>
            <a:ext cx="1482840" cy="33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970520" y="2166840"/>
            <a:ext cx="1735200" cy="71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57240" y="2759040"/>
            <a:ext cx="1471680" cy="379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57240" y="4179600"/>
            <a:ext cx="1214640" cy="11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57240" y="2195640"/>
            <a:ext cx="1730520" cy="672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42120" y="4132440"/>
            <a:ext cx="1265040" cy="83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65720" y="3197160"/>
            <a:ext cx="1440000" cy="1077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57240" y="3168360"/>
            <a:ext cx="1430640" cy="5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57240" y="4124160"/>
            <a:ext cx="11448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535120" y="4398840"/>
            <a:ext cx="831960" cy="130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195012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hnu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t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260100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reditkarten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24396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705720" y="3892680"/>
            <a:ext cx="1814400" cy="597600"/>
            <a:chOff x="6705720" y="3892680"/>
            <a:chExt cx="1814400" cy="597600"/>
          </a:xfrm>
        </p:grpSpPr>
        <p:sp>
          <p:nvSpPr>
            <p:cNvPr id="253" name=""/>
            <p:cNvSpPr/>
            <p:nvPr/>
          </p:nvSpPr>
          <p:spPr>
            <a:xfrm>
              <a:off x="6705720" y="4031280"/>
              <a:ext cx="1144440" cy="459000"/>
            </a:xfrm>
            <a:prstGeom prst="rect">
              <a:avLst/>
            </a:prstGeom>
            <a:solidFill>
              <a:srgbClr val="ff5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ist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7702560" y="3892680"/>
              <a:ext cx="817560" cy="588960"/>
              <a:chOff x="7702560" y="3892680"/>
              <a:chExt cx="817560" cy="588960"/>
            </a:xfrm>
          </p:grpSpPr>
          <p:sp>
            <p:nvSpPr>
              <p:cNvPr id="255" name=""/>
              <p:cNvSpPr/>
              <p:nvPr/>
            </p:nvSpPr>
            <p:spPr>
              <a:xfrm>
                <a:off x="8192880" y="4268880"/>
                <a:ext cx="179280" cy="84240"/>
              </a:xfrm>
              <a:custGeom>
                <a:avLst/>
                <a:gdLst/>
                <a:ahLst/>
                <a:rect l="l" t="t" r="r" b="b"/>
                <a:pathLst>
                  <a:path w="562" h="266">
                    <a:moveTo>
                      <a:pt x="0" y="27"/>
                    </a:moveTo>
                    <a:lnTo>
                      <a:pt x="209" y="0"/>
                    </a:lnTo>
                    <a:lnTo>
                      <a:pt x="256" y="8"/>
                    </a:lnTo>
                    <a:lnTo>
                      <a:pt x="292" y="33"/>
                    </a:lnTo>
                    <a:lnTo>
                      <a:pt x="342" y="164"/>
                    </a:lnTo>
                    <a:lnTo>
                      <a:pt x="375" y="214"/>
                    </a:lnTo>
                    <a:lnTo>
                      <a:pt x="402" y="239"/>
                    </a:lnTo>
                    <a:lnTo>
                      <a:pt x="431" y="249"/>
                    </a:lnTo>
                    <a:lnTo>
                      <a:pt x="474" y="259"/>
                    </a:lnTo>
                    <a:lnTo>
                      <a:pt x="562" y="26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02560" y="4364280"/>
                <a:ext cx="650880" cy="117360"/>
              </a:xfrm>
              <a:custGeom>
                <a:avLst/>
                <a:gdLst/>
                <a:ahLst/>
                <a:rect l="l" t="t" r="r" b="b"/>
                <a:pathLst>
                  <a:path w="2048" h="369">
                    <a:moveTo>
                      <a:pt x="254" y="0"/>
                    </a:moveTo>
                    <a:lnTo>
                      <a:pt x="1800" y="0"/>
                    </a:lnTo>
                    <a:lnTo>
                      <a:pt x="2045" y="336"/>
                    </a:lnTo>
                    <a:lnTo>
                      <a:pt x="2048" y="351"/>
                    </a:lnTo>
                    <a:lnTo>
                      <a:pt x="2039" y="365"/>
                    </a:lnTo>
                    <a:lnTo>
                      <a:pt x="2023" y="369"/>
                    </a:lnTo>
                    <a:lnTo>
                      <a:pt x="29" y="369"/>
                    </a:lnTo>
                    <a:lnTo>
                      <a:pt x="9" y="363"/>
                    </a:lnTo>
                    <a:lnTo>
                      <a:pt x="0" y="347"/>
                    </a:lnTo>
                    <a:lnTo>
                      <a:pt x="4" y="328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38920" y="4389480"/>
                <a:ext cx="431640" cy="74880"/>
              </a:xfrm>
              <a:custGeom>
                <a:avLst/>
                <a:gdLst/>
                <a:ahLst/>
                <a:rect l="l" t="t" r="r" b="b"/>
                <a:pathLst>
                  <a:path w="1362" h="236">
                    <a:moveTo>
                      <a:pt x="183" y="0"/>
                    </a:moveTo>
                    <a:lnTo>
                      <a:pt x="1298" y="0"/>
                    </a:lnTo>
                    <a:lnTo>
                      <a:pt x="1362" y="236"/>
                    </a:lnTo>
                    <a:lnTo>
                      <a:pt x="0" y="236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84960" y="4389480"/>
                <a:ext cx="130320" cy="74880"/>
              </a:xfrm>
              <a:custGeom>
                <a:avLst/>
                <a:gdLst/>
                <a:ahLst/>
                <a:rect l="l" t="t" r="r" b="b"/>
                <a:pathLst>
                  <a:path w="412" h="236">
                    <a:moveTo>
                      <a:pt x="0" y="0"/>
                    </a:moveTo>
                    <a:lnTo>
                      <a:pt x="244" y="0"/>
                    </a:lnTo>
                    <a:lnTo>
                      <a:pt x="412" y="236"/>
                    </a:lnTo>
                    <a:lnTo>
                      <a:pt x="77" y="2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50160" y="4077000"/>
                <a:ext cx="336600" cy="264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99120" y="4114800"/>
                <a:ext cx="238320" cy="1778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356320" y="3892680"/>
                <a:ext cx="163800" cy="542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05640" y="3943440"/>
                <a:ext cx="88920" cy="142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416800" y="3988080"/>
                <a:ext cx="12600" cy="55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91320" y="3973680"/>
                <a:ext cx="1800" cy="17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91320" y="4038840"/>
                <a:ext cx="1800" cy="1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5241960" y="3157560"/>
            <a:ext cx="146376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7160" y="473292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ic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/In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05320" y="5720400"/>
            <a:ext cx="1144440" cy="459000"/>
          </a:xfrm>
          <a:prstGeom prst="rect">
            <a:avLst/>
          </a:prstGeom>
          <a:solidFill>
            <a:srgbClr val="ffde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ise-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5720400"/>
            <a:ext cx="114480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rt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2800" y="506952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abInfo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2800" y="452016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wel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857240" y="4159080"/>
            <a:ext cx="1185840" cy="58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396612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g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2800" y="195948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.sab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2800" y="250092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issi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57240" y="2738520"/>
            <a:ext cx="167004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2800" y="302796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wieg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9280" y="1516680"/>
            <a:ext cx="1144800" cy="2764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Commer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14720" y="1798560"/>
            <a:ext cx="523800" cy="10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9120" y="1798560"/>
            <a:ext cx="242640" cy="13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95840" y="1334160"/>
            <a:ext cx="114444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stell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4240" y="1334160"/>
            <a:ext cx="1144800" cy="459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fa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59040" y="1566720"/>
            <a:ext cx="175716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59040" y="1590840"/>
            <a:ext cx="1493640" cy="153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677760" y="1798560"/>
            <a:ext cx="692280" cy="9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7160" y="5345640"/>
            <a:ext cx="1144440" cy="459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orschungs-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2800" y="4199040"/>
            <a:ext cx="1314360" cy="141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857240" y="2735280"/>
            <a:ext cx="846360" cy="901800"/>
            <a:chOff x="1857240" y="2735280"/>
            <a:chExt cx="846360" cy="901800"/>
          </a:xfrm>
        </p:grpSpPr>
        <p:sp>
          <p:nvSpPr>
            <p:cNvPr id="290" name=""/>
            <p:cNvSpPr/>
            <p:nvPr/>
          </p:nvSpPr>
          <p:spPr>
            <a:xfrm>
              <a:off x="1857240" y="273672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2280" y="273528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1320" y="27367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62280" y="311796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1320" y="3119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352760" y="1973160"/>
            <a:ext cx="846360" cy="901800"/>
            <a:chOff x="4352760" y="1973160"/>
            <a:chExt cx="846360" cy="901800"/>
          </a:xfrm>
        </p:grpSpPr>
        <p:sp>
          <p:nvSpPr>
            <p:cNvPr id="296" name=""/>
            <p:cNvSpPr/>
            <p:nvPr/>
          </p:nvSpPr>
          <p:spPr>
            <a:xfrm>
              <a:off x="4352760" y="197496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57800" y="197316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6840" y="197496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57800" y="235584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76840" y="2357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435720" y="3102120"/>
            <a:ext cx="839880" cy="901440"/>
            <a:chOff x="6435720" y="3102120"/>
            <a:chExt cx="839880" cy="901440"/>
          </a:xfrm>
        </p:grpSpPr>
        <p:sp>
          <p:nvSpPr>
            <p:cNvPr id="302" name=""/>
            <p:cNvSpPr/>
            <p:nvPr/>
          </p:nvSpPr>
          <p:spPr>
            <a:xfrm>
              <a:off x="6435720" y="3103560"/>
              <a:ext cx="839880" cy="754200"/>
            </a:xfrm>
            <a:custGeom>
              <a:avLst/>
              <a:gdLst/>
              <a:ahLst/>
              <a:rect l="l" t="t" r="r" b="b"/>
              <a:pathLst>
                <a:path w="529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28" y="238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3320" y="310212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35720" y="310356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325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3320" y="34844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35720" y="348624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854760" y="3479760"/>
            <a:ext cx="839880" cy="905040"/>
            <a:chOff x="6854760" y="3479760"/>
            <a:chExt cx="839880" cy="905040"/>
          </a:xfrm>
        </p:grpSpPr>
        <p:sp>
          <p:nvSpPr>
            <p:cNvPr id="308" name=""/>
            <p:cNvSpPr/>
            <p:nvPr/>
          </p:nvSpPr>
          <p:spPr>
            <a:xfrm>
              <a:off x="6854760" y="34830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72360" y="3479760"/>
              <a:ext cx="41760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54760" y="3479760"/>
              <a:ext cx="416160" cy="52092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72360" y="38656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4760" y="3870360"/>
              <a:ext cx="41616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35720" y="3855960"/>
            <a:ext cx="839880" cy="905040"/>
            <a:chOff x="6435720" y="3855960"/>
            <a:chExt cx="839880" cy="905040"/>
          </a:xfrm>
        </p:grpSpPr>
        <p:sp>
          <p:nvSpPr>
            <p:cNvPr id="314" name=""/>
            <p:cNvSpPr/>
            <p:nvPr/>
          </p:nvSpPr>
          <p:spPr>
            <a:xfrm>
              <a:off x="6435720" y="38592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3320" y="3855960"/>
              <a:ext cx="41760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35720" y="3855960"/>
              <a:ext cx="415800" cy="52092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3320" y="424188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35720" y="424656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4760" y="4237200"/>
            <a:ext cx="839880" cy="904680"/>
            <a:chOff x="6854760" y="4237200"/>
            <a:chExt cx="839880" cy="904680"/>
          </a:xfrm>
        </p:grpSpPr>
        <p:sp>
          <p:nvSpPr>
            <p:cNvPr id="320" name=""/>
            <p:cNvSpPr/>
            <p:nvPr/>
          </p:nvSpPr>
          <p:spPr>
            <a:xfrm>
              <a:off x="6854760" y="424008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72360" y="4237200"/>
              <a:ext cx="41760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54760" y="4237200"/>
              <a:ext cx="416160" cy="5205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72360" y="46227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54760" y="4627440"/>
              <a:ext cx="41616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274840" y="2357280"/>
            <a:ext cx="846360" cy="901800"/>
            <a:chOff x="2274840" y="2357280"/>
            <a:chExt cx="846360" cy="901800"/>
          </a:xfrm>
        </p:grpSpPr>
        <p:sp>
          <p:nvSpPr>
            <p:cNvPr id="326" name=""/>
            <p:cNvSpPr/>
            <p:nvPr/>
          </p:nvSpPr>
          <p:spPr>
            <a:xfrm>
              <a:off x="2274840" y="235908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79520" y="235728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98920" y="235908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79520" y="27399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98920" y="274176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695680" y="3103560"/>
            <a:ext cx="41724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325"/>
                </a:moveTo>
                <a:lnTo>
                  <a:pt x="262" y="235"/>
                </a:lnTo>
                <a:lnTo>
                  <a:pt x="0" y="0"/>
                </a:lnTo>
                <a:lnTo>
                  <a:pt x="0" y="91"/>
                </a:lnTo>
                <a:lnTo>
                  <a:pt x="262" y="325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95680" y="3486240"/>
            <a:ext cx="417240" cy="5173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08200" y="1976400"/>
            <a:ext cx="846360" cy="901800"/>
            <a:chOff x="3508200" y="1976400"/>
            <a:chExt cx="846360" cy="901800"/>
          </a:xfrm>
        </p:grpSpPr>
        <p:sp>
          <p:nvSpPr>
            <p:cNvPr id="334" name=""/>
            <p:cNvSpPr/>
            <p:nvPr/>
          </p:nvSpPr>
          <p:spPr>
            <a:xfrm>
              <a:off x="3508200" y="197820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13240" y="197640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32280" y="197820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13240" y="235908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32280" y="23605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693880" y="1981080"/>
            <a:ext cx="846360" cy="901800"/>
            <a:chOff x="2693880" y="1981080"/>
            <a:chExt cx="846360" cy="901800"/>
          </a:xfrm>
        </p:grpSpPr>
        <p:sp>
          <p:nvSpPr>
            <p:cNvPr id="340" name=""/>
            <p:cNvSpPr/>
            <p:nvPr/>
          </p:nvSpPr>
          <p:spPr>
            <a:xfrm>
              <a:off x="2693880" y="1982880"/>
              <a:ext cx="84636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98920" y="198108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17960" y="198288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98920" y="236376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17960" y="236520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436760" y="3114720"/>
            <a:ext cx="846000" cy="901800"/>
            <a:chOff x="1436760" y="3114720"/>
            <a:chExt cx="846000" cy="901800"/>
          </a:xfrm>
        </p:grpSpPr>
        <p:sp>
          <p:nvSpPr>
            <p:cNvPr id="346" name=""/>
            <p:cNvSpPr/>
            <p:nvPr/>
          </p:nvSpPr>
          <p:spPr>
            <a:xfrm>
              <a:off x="1436760" y="3116520"/>
              <a:ext cx="846000" cy="75384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1440" y="311472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60480" y="311652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1440" y="3497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60480" y="34988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433520" y="3849840"/>
            <a:ext cx="846000" cy="901440"/>
            <a:chOff x="1433520" y="3849840"/>
            <a:chExt cx="846000" cy="901440"/>
          </a:xfrm>
        </p:grpSpPr>
        <p:sp>
          <p:nvSpPr>
            <p:cNvPr id="352" name=""/>
            <p:cNvSpPr/>
            <p:nvPr/>
          </p:nvSpPr>
          <p:spPr>
            <a:xfrm>
              <a:off x="1433520" y="3851280"/>
              <a:ext cx="84600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8200" y="384984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7240" y="3851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38200" y="42321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57240" y="423396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857240" y="4237200"/>
            <a:ext cx="838440" cy="903240"/>
            <a:chOff x="1857240" y="4237200"/>
            <a:chExt cx="838440" cy="903240"/>
          </a:xfrm>
        </p:grpSpPr>
        <p:sp>
          <p:nvSpPr>
            <p:cNvPr id="358" name=""/>
            <p:cNvSpPr/>
            <p:nvPr/>
          </p:nvSpPr>
          <p:spPr>
            <a:xfrm>
              <a:off x="1857240" y="423720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59040" y="42372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78080" y="424008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59040" y="462276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78080" y="462456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600880" y="2349360"/>
            <a:ext cx="844200" cy="903600"/>
            <a:chOff x="5600880" y="2349360"/>
            <a:chExt cx="844200" cy="903600"/>
          </a:xfrm>
        </p:grpSpPr>
        <p:sp>
          <p:nvSpPr>
            <p:cNvPr id="364" name=""/>
            <p:cNvSpPr/>
            <p:nvPr/>
          </p:nvSpPr>
          <p:spPr>
            <a:xfrm>
              <a:off x="5600880" y="2352600"/>
              <a:ext cx="84420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234936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00880" y="2352600"/>
              <a:ext cx="419040" cy="5176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325"/>
                  </a:moveTo>
                  <a:lnTo>
                    <a:pt x="0" y="234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273528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00880" y="2736720"/>
              <a:ext cx="41904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018120" y="2727360"/>
            <a:ext cx="843120" cy="900000"/>
            <a:chOff x="6018120" y="2727360"/>
            <a:chExt cx="843120" cy="900000"/>
          </a:xfrm>
        </p:grpSpPr>
        <p:sp>
          <p:nvSpPr>
            <p:cNvPr id="370" name=""/>
            <p:cNvSpPr/>
            <p:nvPr/>
          </p:nvSpPr>
          <p:spPr>
            <a:xfrm>
              <a:off x="6019920" y="2728800"/>
              <a:ext cx="841320" cy="757440"/>
            </a:xfrm>
            <a:custGeom>
              <a:avLst/>
              <a:gdLst/>
              <a:ahLst/>
              <a:rect l="l" t="t" r="r" b="b"/>
              <a:pathLst>
                <a:path w="530" h="477">
                  <a:moveTo>
                    <a:pt x="266" y="0"/>
                  </a:moveTo>
                  <a:lnTo>
                    <a:pt x="0" y="240"/>
                  </a:lnTo>
                  <a:lnTo>
                    <a:pt x="266" y="476"/>
                  </a:lnTo>
                  <a:lnTo>
                    <a:pt x="529" y="240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35720" y="272736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323"/>
                  </a:moveTo>
                  <a:lnTo>
                    <a:pt x="263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3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8120" y="272880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324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5720" y="3110040"/>
              <a:ext cx="419040" cy="51732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0"/>
                  </a:moveTo>
                  <a:lnTo>
                    <a:pt x="263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3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8120" y="311148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91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435720" y="4613400"/>
            <a:ext cx="844560" cy="903240"/>
            <a:chOff x="6435720" y="4613400"/>
            <a:chExt cx="844560" cy="903240"/>
          </a:xfrm>
        </p:grpSpPr>
        <p:sp>
          <p:nvSpPr>
            <p:cNvPr id="376" name=""/>
            <p:cNvSpPr/>
            <p:nvPr/>
          </p:nvSpPr>
          <p:spPr>
            <a:xfrm>
              <a:off x="6435720" y="461340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58000" y="4613400"/>
              <a:ext cx="414360" cy="51588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35720" y="461628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8000" y="499896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35720" y="500076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014880" y="4991040"/>
            <a:ext cx="841680" cy="905040"/>
            <a:chOff x="6014880" y="4991040"/>
            <a:chExt cx="841680" cy="905040"/>
          </a:xfrm>
        </p:grpSpPr>
        <p:sp>
          <p:nvSpPr>
            <p:cNvPr id="382" name=""/>
            <p:cNvSpPr/>
            <p:nvPr/>
          </p:nvSpPr>
          <p:spPr>
            <a:xfrm>
              <a:off x="6018120" y="4995720"/>
              <a:ext cx="838440" cy="758880"/>
            </a:xfrm>
            <a:custGeom>
              <a:avLst/>
              <a:gdLst/>
              <a:ahLst/>
              <a:rect l="l" t="t" r="r" b="b"/>
              <a:pathLst>
                <a:path w="528" h="478">
                  <a:moveTo>
                    <a:pt x="265" y="0"/>
                  </a:moveTo>
                  <a:lnTo>
                    <a:pt x="0" y="239"/>
                  </a:lnTo>
                  <a:lnTo>
                    <a:pt x="265" y="477"/>
                  </a:lnTo>
                  <a:lnTo>
                    <a:pt x="527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31040" y="499104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4880" y="4994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31040" y="53751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14880" y="5378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611680" y="5353200"/>
            <a:ext cx="844560" cy="904680"/>
            <a:chOff x="5611680" y="5353200"/>
            <a:chExt cx="844560" cy="904680"/>
          </a:xfrm>
        </p:grpSpPr>
        <p:sp>
          <p:nvSpPr>
            <p:cNvPr id="388" name=""/>
            <p:cNvSpPr/>
            <p:nvPr/>
          </p:nvSpPr>
          <p:spPr>
            <a:xfrm>
              <a:off x="5611680" y="535608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31080" y="5353200"/>
              <a:ext cx="41724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1680" y="535788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31080" y="5737320"/>
              <a:ext cx="41724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11680" y="5737320"/>
              <a:ext cx="41760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0"/>
                  </a:moveTo>
                  <a:lnTo>
                    <a:pt x="0" y="91"/>
                  </a:lnTo>
                  <a:lnTo>
                    <a:pt x="262" y="327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111480" y="3111480"/>
            <a:ext cx="417600" cy="515880"/>
          </a:xfrm>
          <a:custGeom>
            <a:avLst/>
            <a:gdLst/>
            <a:ahLst/>
            <a:rect l="l" t="t" r="r" b="b"/>
            <a:pathLst>
              <a:path w="263" h="325">
                <a:moveTo>
                  <a:pt x="262" y="0"/>
                </a:moveTo>
                <a:lnTo>
                  <a:pt x="262" y="91"/>
                </a:lnTo>
                <a:lnTo>
                  <a:pt x="0" y="324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71600" y="3855960"/>
            <a:ext cx="846360" cy="905040"/>
            <a:chOff x="2271600" y="3855960"/>
            <a:chExt cx="846360" cy="905040"/>
          </a:xfrm>
        </p:grpSpPr>
        <p:sp>
          <p:nvSpPr>
            <p:cNvPr id="395" name=""/>
            <p:cNvSpPr/>
            <p:nvPr/>
          </p:nvSpPr>
          <p:spPr>
            <a:xfrm>
              <a:off x="2271600" y="3859200"/>
              <a:ext cx="84636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76640" y="3855960"/>
              <a:ext cx="41724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95680" y="3855960"/>
              <a:ext cx="417240" cy="52092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76640" y="424188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95680" y="424656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271600" y="4613400"/>
            <a:ext cx="838440" cy="903240"/>
            <a:chOff x="2271600" y="4613400"/>
            <a:chExt cx="838440" cy="903240"/>
          </a:xfrm>
        </p:grpSpPr>
        <p:sp>
          <p:nvSpPr>
            <p:cNvPr id="401" name=""/>
            <p:cNvSpPr/>
            <p:nvPr/>
          </p:nvSpPr>
          <p:spPr>
            <a:xfrm>
              <a:off x="2271600" y="461340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73400" y="4613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2440" y="461628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3400" y="4998960"/>
              <a:ext cx="415800" cy="51444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92440" y="500076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692440" y="4995720"/>
            <a:ext cx="844560" cy="75888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98920" y="4991040"/>
            <a:ext cx="414000" cy="51444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323"/>
                </a:moveTo>
                <a:lnTo>
                  <a:pt x="0" y="233"/>
                </a:lnTo>
                <a:lnTo>
                  <a:pt x="260" y="0"/>
                </a:lnTo>
                <a:lnTo>
                  <a:pt x="260" y="89"/>
                </a:lnTo>
                <a:lnTo>
                  <a:pt x="0" y="323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19400" y="4994280"/>
            <a:ext cx="415800" cy="51768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325"/>
                </a:moveTo>
                <a:lnTo>
                  <a:pt x="261" y="234"/>
                </a:lnTo>
                <a:lnTo>
                  <a:pt x="0" y="0"/>
                </a:lnTo>
                <a:lnTo>
                  <a:pt x="0" y="90"/>
                </a:lnTo>
                <a:lnTo>
                  <a:pt x="261" y="325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698920" y="5375160"/>
            <a:ext cx="414000" cy="517680"/>
          </a:xfrm>
          <a:custGeom>
            <a:avLst/>
            <a:gdLst/>
            <a:ahLst/>
            <a:rect l="l" t="t" r="r" b="b"/>
            <a:pathLst>
              <a:path w="261" h="326">
                <a:moveTo>
                  <a:pt x="0" y="0"/>
                </a:moveTo>
                <a:lnTo>
                  <a:pt x="0" y="91"/>
                </a:lnTo>
                <a:lnTo>
                  <a:pt x="260" y="325"/>
                </a:lnTo>
                <a:lnTo>
                  <a:pt x="260" y="235"/>
                </a:lnTo>
                <a:lnTo>
                  <a:pt x="0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19400" y="5378400"/>
            <a:ext cx="415800" cy="51768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0"/>
                </a:moveTo>
                <a:lnTo>
                  <a:pt x="261" y="91"/>
                </a:lnTo>
                <a:lnTo>
                  <a:pt x="0" y="325"/>
                </a:lnTo>
                <a:lnTo>
                  <a:pt x="0" y="235"/>
                </a:lnTo>
                <a:lnTo>
                  <a:pt x="261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094200" y="5353200"/>
            <a:ext cx="844560" cy="904680"/>
            <a:chOff x="3094200" y="5353200"/>
            <a:chExt cx="844560" cy="904680"/>
          </a:xfrm>
        </p:grpSpPr>
        <p:sp>
          <p:nvSpPr>
            <p:cNvPr id="412" name=""/>
            <p:cNvSpPr/>
            <p:nvPr/>
          </p:nvSpPr>
          <p:spPr>
            <a:xfrm>
              <a:off x="3094200" y="535608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98880" y="5353200"/>
              <a:ext cx="41760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19360" y="5357880"/>
              <a:ext cx="41616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98880" y="573732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19360" y="5737320"/>
              <a:ext cx="416160" cy="5205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68920" y="2349360"/>
            <a:ext cx="841320" cy="903600"/>
            <a:chOff x="4768920" y="2349360"/>
            <a:chExt cx="841320" cy="903600"/>
          </a:xfrm>
        </p:grpSpPr>
        <p:sp>
          <p:nvSpPr>
            <p:cNvPr id="418" name=""/>
            <p:cNvSpPr/>
            <p:nvPr/>
          </p:nvSpPr>
          <p:spPr>
            <a:xfrm>
              <a:off x="4768920" y="2352600"/>
              <a:ext cx="841320" cy="75564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72160" y="234936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89400" y="2352600"/>
              <a:ext cx="419400" cy="5176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325"/>
                  </a:moveTo>
                  <a:lnTo>
                    <a:pt x="263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3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72160" y="2735280"/>
              <a:ext cx="419040" cy="5176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0"/>
                  </a:moveTo>
                  <a:lnTo>
                    <a:pt x="0" y="90"/>
                  </a:lnTo>
                  <a:lnTo>
                    <a:pt x="263" y="325"/>
                  </a:lnTo>
                  <a:lnTo>
                    <a:pt x="263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933720" y="2349360"/>
            <a:ext cx="841320" cy="903600"/>
            <a:chOff x="3933720" y="2349360"/>
            <a:chExt cx="841320" cy="903600"/>
          </a:xfrm>
        </p:grpSpPr>
        <p:sp>
          <p:nvSpPr>
            <p:cNvPr id="423" name=""/>
            <p:cNvSpPr/>
            <p:nvPr/>
          </p:nvSpPr>
          <p:spPr>
            <a:xfrm>
              <a:off x="3933720" y="2352600"/>
              <a:ext cx="841320" cy="75564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3720" y="23493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9880" y="2352600"/>
              <a:ext cx="423720" cy="517680"/>
            </a:xfrm>
            <a:custGeom>
              <a:avLst/>
              <a:gdLst/>
              <a:ahLst/>
              <a:rect l="l" t="t" r="r" b="b"/>
              <a:pathLst>
                <a:path w="267" h="326">
                  <a:moveTo>
                    <a:pt x="266" y="325"/>
                  </a:moveTo>
                  <a:lnTo>
                    <a:pt x="266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6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9880" y="2736720"/>
              <a:ext cx="423720" cy="516240"/>
            </a:xfrm>
            <a:custGeom>
              <a:avLst/>
              <a:gdLst/>
              <a:ahLst/>
              <a:rect l="l" t="t" r="r" b="b"/>
              <a:pathLst>
                <a:path w="267" h="325">
                  <a:moveTo>
                    <a:pt x="266" y="0"/>
                  </a:moveTo>
                  <a:lnTo>
                    <a:pt x="266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929040" y="5361120"/>
            <a:ext cx="844560" cy="904680"/>
            <a:chOff x="3929040" y="5361120"/>
            <a:chExt cx="844560" cy="904680"/>
          </a:xfrm>
        </p:grpSpPr>
        <p:sp>
          <p:nvSpPr>
            <p:cNvPr id="428" name=""/>
            <p:cNvSpPr/>
            <p:nvPr/>
          </p:nvSpPr>
          <p:spPr>
            <a:xfrm>
              <a:off x="3929040" y="53658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33720" y="5361120"/>
              <a:ext cx="416160" cy="5140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9880" y="5361120"/>
              <a:ext cx="420480" cy="519120"/>
            </a:xfrm>
            <a:custGeom>
              <a:avLst/>
              <a:gdLst/>
              <a:ahLst/>
              <a:rect l="l" t="t" r="r" b="b"/>
              <a:pathLst>
                <a:path w="265" h="327">
                  <a:moveTo>
                    <a:pt x="264" y="326"/>
                  </a:moveTo>
                  <a:lnTo>
                    <a:pt x="264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4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3720" y="5745240"/>
              <a:ext cx="41616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9880" y="5748480"/>
              <a:ext cx="420480" cy="51732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264" y="0"/>
                  </a:moveTo>
                  <a:lnTo>
                    <a:pt x="264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4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776840" y="5361120"/>
            <a:ext cx="841320" cy="904680"/>
            <a:chOff x="4776840" y="5361120"/>
            <a:chExt cx="841320" cy="904680"/>
          </a:xfrm>
        </p:grpSpPr>
        <p:sp>
          <p:nvSpPr>
            <p:cNvPr id="434" name=""/>
            <p:cNvSpPr/>
            <p:nvPr/>
          </p:nvSpPr>
          <p:spPr>
            <a:xfrm>
              <a:off x="4776840" y="5365800"/>
              <a:ext cx="841320" cy="75564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1520" y="5361120"/>
              <a:ext cx="415800" cy="5140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00560" y="5361120"/>
              <a:ext cx="41760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326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81520" y="574524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00560" y="574848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5189400" y="2736720"/>
            <a:ext cx="419400" cy="516240"/>
          </a:xfrm>
          <a:custGeom>
            <a:avLst/>
            <a:gdLst/>
            <a:ahLst/>
            <a:rect l="l" t="t" r="r" b="b"/>
            <a:pathLst>
              <a:path w="264" h="325">
                <a:moveTo>
                  <a:pt x="263" y="0"/>
                </a:moveTo>
                <a:lnTo>
                  <a:pt x="263" y="89"/>
                </a:lnTo>
                <a:lnTo>
                  <a:pt x="0" y="324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33720" y="273528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0"/>
                </a:lnTo>
                <a:lnTo>
                  <a:pt x="262" y="325"/>
                </a:lnTo>
                <a:lnTo>
                  <a:pt x="262" y="234"/>
                </a:lnTo>
                <a:lnTo>
                  <a:pt x="0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02120" y="3106800"/>
            <a:ext cx="3322440" cy="2268360"/>
          </a:xfrm>
          <a:custGeom>
            <a:avLst/>
            <a:gdLst/>
            <a:ahLst/>
            <a:rect l="l" t="t" r="r" b="b"/>
            <a:pathLst>
              <a:path w="2093" h="1429">
                <a:moveTo>
                  <a:pt x="800" y="0"/>
                </a:moveTo>
                <a:lnTo>
                  <a:pt x="1818" y="0"/>
                </a:lnTo>
                <a:lnTo>
                  <a:pt x="2092" y="624"/>
                </a:lnTo>
                <a:lnTo>
                  <a:pt x="1593" y="1424"/>
                </a:lnTo>
                <a:lnTo>
                  <a:pt x="530" y="1428"/>
                </a:lnTo>
                <a:lnTo>
                  <a:pt x="0" y="621"/>
                </a:lnTo>
                <a:lnTo>
                  <a:pt x="286" y="0"/>
                </a:lnTo>
                <a:lnTo>
                  <a:pt x="800" y="0"/>
                </a:lnTo>
              </a:path>
            </a:pathLst>
          </a:custGeom>
          <a:solidFill>
            <a:srgbClr val="0066f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21160" y="2579760"/>
            <a:ext cx="844560" cy="76176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3527280" y="4986360"/>
            <a:ext cx="844560" cy="904680"/>
            <a:chOff x="3527280" y="4986360"/>
            <a:chExt cx="844560" cy="904680"/>
          </a:xfrm>
        </p:grpSpPr>
        <p:sp>
          <p:nvSpPr>
            <p:cNvPr id="444" name=""/>
            <p:cNvSpPr/>
            <p:nvPr/>
          </p:nvSpPr>
          <p:spPr>
            <a:xfrm>
              <a:off x="3527280" y="49896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32320" y="4986360"/>
              <a:ext cx="417240" cy="5205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52800" y="4991040"/>
              <a:ext cx="41616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32320" y="5370480"/>
              <a:ext cx="41724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52800" y="5370480"/>
              <a:ext cx="416160" cy="5205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098880" y="4467240"/>
            <a:ext cx="844560" cy="75420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46680" y="2957400"/>
            <a:ext cx="415800" cy="51588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91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27280" y="3335400"/>
            <a:ext cx="419400" cy="514440"/>
          </a:xfrm>
          <a:custGeom>
            <a:avLst/>
            <a:gdLst/>
            <a:ahLst/>
            <a:rect l="l" t="t" r="r" b="b"/>
            <a:pathLst>
              <a:path w="264" h="324">
                <a:moveTo>
                  <a:pt x="263" y="0"/>
                </a:moveTo>
                <a:lnTo>
                  <a:pt x="263" y="89"/>
                </a:lnTo>
                <a:lnTo>
                  <a:pt x="0" y="323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6800" y="371304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87760" y="3713040"/>
            <a:ext cx="420480" cy="51768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89"/>
                </a:lnTo>
                <a:lnTo>
                  <a:pt x="264" y="325"/>
                </a:lnTo>
                <a:lnTo>
                  <a:pt x="264" y="234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87760" y="4467240"/>
            <a:ext cx="420480" cy="51768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91"/>
                </a:lnTo>
                <a:lnTo>
                  <a:pt x="264" y="325"/>
                </a:lnTo>
                <a:lnTo>
                  <a:pt x="264" y="235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06800" y="4840200"/>
            <a:ext cx="414360" cy="519120"/>
          </a:xfrm>
          <a:custGeom>
            <a:avLst/>
            <a:gdLst/>
            <a:ahLst/>
            <a:rect l="l" t="t" r="r" b="b"/>
            <a:pathLst>
              <a:path w="261" h="327">
                <a:moveTo>
                  <a:pt x="0" y="0"/>
                </a:moveTo>
                <a:lnTo>
                  <a:pt x="0" y="90"/>
                </a:lnTo>
                <a:lnTo>
                  <a:pt x="260" y="326"/>
                </a:lnTo>
                <a:lnTo>
                  <a:pt x="260" y="236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36960" y="5211720"/>
            <a:ext cx="843120" cy="755640"/>
          </a:xfrm>
          <a:custGeom>
            <a:avLst/>
            <a:gdLst/>
            <a:ahLst/>
            <a:rect l="l" t="t" r="r" b="b"/>
            <a:pathLst>
              <a:path w="531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0" y="239"/>
                </a:lnTo>
                <a:lnTo>
                  <a:pt x="267" y="0"/>
                </a:lnTo>
              </a:path>
            </a:pathLst>
          </a:custGeom>
          <a:solidFill>
            <a:srgbClr val="b3b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33720" y="5592600"/>
            <a:ext cx="416160" cy="51624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0" y="0"/>
                </a:moveTo>
                <a:lnTo>
                  <a:pt x="0" y="89"/>
                </a:lnTo>
                <a:lnTo>
                  <a:pt x="261" y="324"/>
                </a:lnTo>
                <a:lnTo>
                  <a:pt x="261" y="233"/>
                </a:lnTo>
                <a:lnTo>
                  <a:pt x="0" y="0"/>
                </a:lnTo>
              </a:path>
            </a:pathLst>
          </a:custGeom>
          <a:solidFill>
            <a:srgbClr val="ad6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2760" y="5597640"/>
            <a:ext cx="417600" cy="5173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87760" y="4078440"/>
            <a:ext cx="834840" cy="758520"/>
          </a:xfrm>
          <a:custGeom>
            <a:avLst/>
            <a:gdLst/>
            <a:ahLst/>
            <a:rect l="l" t="t" r="r" b="b"/>
            <a:pathLst>
              <a:path w="526" h="478">
                <a:moveTo>
                  <a:pt x="264" y="0"/>
                </a:moveTo>
                <a:lnTo>
                  <a:pt x="0" y="241"/>
                </a:lnTo>
                <a:lnTo>
                  <a:pt x="264" y="477"/>
                </a:lnTo>
                <a:lnTo>
                  <a:pt x="525" y="241"/>
                </a:lnTo>
                <a:lnTo>
                  <a:pt x="264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07000" y="2957400"/>
            <a:ext cx="846360" cy="75420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11680" y="4467240"/>
            <a:ext cx="844560" cy="75420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95880" y="4840200"/>
            <a:ext cx="844560" cy="755640"/>
          </a:xfrm>
          <a:custGeom>
            <a:avLst/>
            <a:gdLst/>
            <a:ahLst/>
            <a:rect l="l" t="t" r="r" b="b"/>
            <a:pathLst>
              <a:path w="532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07000" y="3335400"/>
            <a:ext cx="414360" cy="51444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0"/>
                </a:moveTo>
                <a:lnTo>
                  <a:pt x="0" y="89"/>
                </a:lnTo>
                <a:lnTo>
                  <a:pt x="260" y="323"/>
                </a:lnTo>
                <a:lnTo>
                  <a:pt x="260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24600" y="3713040"/>
            <a:ext cx="415800" cy="51768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43640" y="371304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f4546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43640" y="446724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27840" y="4840200"/>
            <a:ext cx="417240" cy="519120"/>
          </a:xfrm>
          <a:custGeom>
            <a:avLst/>
            <a:gdLst/>
            <a:ahLst/>
            <a:rect l="l" t="t" r="r" b="b"/>
            <a:pathLst>
              <a:path w="263" h="327">
                <a:moveTo>
                  <a:pt x="262" y="0"/>
                </a:moveTo>
                <a:lnTo>
                  <a:pt x="262" y="90"/>
                </a:lnTo>
                <a:lnTo>
                  <a:pt x="0" y="326"/>
                </a:lnTo>
                <a:lnTo>
                  <a:pt x="0" y="236"/>
                </a:lnTo>
                <a:lnTo>
                  <a:pt x="262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16720" y="5216400"/>
            <a:ext cx="415800" cy="51624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89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95880" y="521640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1"/>
                </a:lnTo>
                <a:lnTo>
                  <a:pt x="262" y="325"/>
                </a:lnTo>
                <a:lnTo>
                  <a:pt x="262" y="235"/>
                </a:lnTo>
                <a:lnTo>
                  <a:pt x="0" y="0"/>
                </a:lnTo>
              </a:path>
            </a:pathLst>
          </a:custGeom>
          <a:solidFill>
            <a:srgbClr val="6a00c2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24600" y="4089240"/>
            <a:ext cx="844560" cy="75744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89400" y="2957400"/>
            <a:ext cx="412920" cy="515880"/>
          </a:xfrm>
          <a:custGeom>
            <a:avLst/>
            <a:gdLst/>
            <a:ahLst/>
            <a:rect l="l" t="t" r="r" b="b"/>
            <a:pathLst>
              <a:path w="260" h="325">
                <a:moveTo>
                  <a:pt x="0" y="0"/>
                </a:moveTo>
                <a:lnTo>
                  <a:pt x="0" y="91"/>
                </a:lnTo>
                <a:lnTo>
                  <a:pt x="259" y="324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9400" y="257796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76880" y="2674800"/>
            <a:ext cx="669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Finanz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wes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2720" y="2716200"/>
            <a:ext cx="711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Vertri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47400" y="5240160"/>
            <a:ext cx="8460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Personal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92929"/>
                </a:solidFill>
                <a:latin typeface="Arial"/>
              </a:rPr>
              <a:t>wirt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07280" y="3511440"/>
            <a:ext cx="215496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66"/>
                </a:solidFill>
                <a:latin typeface="Arial"/>
              </a:rPr>
              <a:t>SAP R/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91200" y="4848120"/>
            <a:ext cx="873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92929"/>
                </a:solidFill>
                <a:latin typeface="Arial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92929"/>
                </a:solidFill>
                <a:latin typeface="Arial"/>
              </a:rPr>
              <a:t>Branch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92929"/>
                </a:solidFill>
                <a:latin typeface="Arial"/>
              </a:rPr>
              <a:t>lös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23200" y="4529160"/>
            <a:ext cx="81396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92929"/>
                </a:solidFill>
                <a:latin typeface="Arial"/>
              </a:rPr>
              <a:t>W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292929"/>
                </a:solidFill>
                <a:latin typeface="Arial"/>
              </a:rPr>
              <a:t>Workfl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54360" y="3706920"/>
            <a:ext cx="412560" cy="514080"/>
          </a:xfrm>
          <a:custGeom>
            <a:avLst/>
            <a:gdLst/>
            <a:ahLst/>
            <a:rect l="l" t="t" r="r" b="b"/>
            <a:pathLst>
              <a:path w="260" h="324">
                <a:moveTo>
                  <a:pt x="0" y="0"/>
                </a:moveTo>
                <a:lnTo>
                  <a:pt x="0" y="88"/>
                </a:lnTo>
                <a:lnTo>
                  <a:pt x="259" y="323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96400" y="4125960"/>
            <a:ext cx="8305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Qualitäts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271600" y="3711600"/>
            <a:ext cx="846360" cy="896760"/>
            <a:chOff x="2271600" y="3711600"/>
            <a:chExt cx="846360" cy="896760"/>
          </a:xfrm>
        </p:grpSpPr>
        <p:sp>
          <p:nvSpPr>
            <p:cNvPr id="482" name=""/>
            <p:cNvSpPr/>
            <p:nvPr/>
          </p:nvSpPr>
          <p:spPr>
            <a:xfrm>
              <a:off x="2271600" y="3711600"/>
              <a:ext cx="84636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76640" y="4094280"/>
              <a:ext cx="41724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1852560" y="4092480"/>
            <a:ext cx="841320" cy="73836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65" y="0"/>
                </a:moveTo>
                <a:lnTo>
                  <a:pt x="0" y="232"/>
                </a:lnTo>
                <a:lnTo>
                  <a:pt x="265" y="464"/>
                </a:lnTo>
                <a:lnTo>
                  <a:pt x="529" y="232"/>
                </a:lnTo>
                <a:lnTo>
                  <a:pt x="265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57240" y="4465800"/>
            <a:ext cx="416160" cy="500040"/>
          </a:xfrm>
          <a:custGeom>
            <a:avLst/>
            <a:gdLst/>
            <a:ahLst/>
            <a:rect l="l" t="t" r="r" b="b"/>
            <a:pathLst>
              <a:path w="262" h="315">
                <a:moveTo>
                  <a:pt x="0" y="0"/>
                </a:moveTo>
                <a:lnTo>
                  <a:pt x="0" y="87"/>
                </a:lnTo>
                <a:lnTo>
                  <a:pt x="261" y="314"/>
                </a:lnTo>
                <a:lnTo>
                  <a:pt x="261" y="227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81320" y="3754440"/>
            <a:ext cx="79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Charg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434960" y="4621320"/>
            <a:ext cx="846360" cy="901440"/>
            <a:chOff x="1434960" y="4621320"/>
            <a:chExt cx="846360" cy="901440"/>
          </a:xfrm>
        </p:grpSpPr>
        <p:sp>
          <p:nvSpPr>
            <p:cNvPr id="488" name=""/>
            <p:cNvSpPr/>
            <p:nvPr/>
          </p:nvSpPr>
          <p:spPr>
            <a:xfrm>
              <a:off x="1434960" y="462276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40000" y="4621320"/>
              <a:ext cx="41724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59040" y="46227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0000" y="5003640"/>
              <a:ext cx="41724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9040" y="50054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854360" y="4992840"/>
            <a:ext cx="846000" cy="901440"/>
            <a:chOff x="1854360" y="4992840"/>
            <a:chExt cx="846000" cy="901440"/>
          </a:xfrm>
        </p:grpSpPr>
        <p:sp>
          <p:nvSpPr>
            <p:cNvPr id="494" name=""/>
            <p:cNvSpPr/>
            <p:nvPr/>
          </p:nvSpPr>
          <p:spPr>
            <a:xfrm>
              <a:off x="1854360" y="4994280"/>
              <a:ext cx="84600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59040" y="499284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78080" y="4994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59040" y="537516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78080" y="537696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2855880" y="301932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1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03560" y="2957400"/>
            <a:ext cx="843120" cy="754200"/>
          </a:xfrm>
          <a:custGeom>
            <a:avLst/>
            <a:gdLst/>
            <a:ahLst/>
            <a:rect l="l" t="t" r="r" b="b"/>
            <a:pathLst>
              <a:path w="531" h="475">
                <a:moveTo>
                  <a:pt x="266" y="0"/>
                </a:moveTo>
                <a:lnTo>
                  <a:pt x="0" y="238"/>
                </a:lnTo>
                <a:lnTo>
                  <a:pt x="266" y="474"/>
                </a:lnTo>
                <a:lnTo>
                  <a:pt x="530" y="238"/>
                </a:lnTo>
                <a:lnTo>
                  <a:pt x="266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92440" y="256536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02120" y="219384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82720" y="3332160"/>
            <a:ext cx="844560" cy="75888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40"/>
                </a:lnTo>
                <a:lnTo>
                  <a:pt x="267" y="477"/>
                </a:lnTo>
                <a:lnTo>
                  <a:pt x="531" y="240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58920" y="2997360"/>
            <a:ext cx="10119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Materialwir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66920" y="4454640"/>
            <a:ext cx="846000" cy="758880"/>
          </a:xfrm>
          <a:custGeom>
            <a:avLst/>
            <a:gdLst/>
            <a:ahLst/>
            <a:rect l="l" t="t" r="r" b="b"/>
            <a:pathLst>
              <a:path w="533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2" y="239"/>
                </a:lnTo>
                <a:lnTo>
                  <a:pt x="267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71600" y="4836960"/>
            <a:ext cx="417600" cy="51444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0" y="0"/>
                </a:moveTo>
                <a:lnTo>
                  <a:pt x="0" y="89"/>
                </a:lnTo>
                <a:lnTo>
                  <a:pt x="262" y="323"/>
                </a:lnTo>
                <a:lnTo>
                  <a:pt x="262" y="233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90640" y="4842000"/>
            <a:ext cx="417600" cy="5140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12920" y="4521240"/>
            <a:ext cx="945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LIMS-Funk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tionalität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24400" y="4849920"/>
            <a:ext cx="417240" cy="5173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60800" y="4521240"/>
            <a:ext cx="72720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Instand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halt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0400" y="3711600"/>
            <a:ext cx="839880" cy="758880"/>
          </a:xfrm>
          <a:custGeom>
            <a:avLst/>
            <a:gdLst/>
            <a:ahLst/>
            <a:rect l="l" t="t" r="r" b="b"/>
            <a:pathLst>
              <a:path w="529" h="478">
                <a:moveTo>
                  <a:pt x="266" y="0"/>
                </a:moveTo>
                <a:lnTo>
                  <a:pt x="0" y="239"/>
                </a:lnTo>
                <a:lnTo>
                  <a:pt x="266" y="477"/>
                </a:lnTo>
                <a:lnTo>
                  <a:pt x="528" y="239"/>
                </a:lnTo>
                <a:lnTo>
                  <a:pt x="266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0" y="4094280"/>
            <a:ext cx="417600" cy="5140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91440" y="3749760"/>
            <a:ext cx="9694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Investitons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38760" y="2216160"/>
            <a:ext cx="841320" cy="73800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71" y="0"/>
                </a:moveTo>
                <a:lnTo>
                  <a:pt x="0" y="227"/>
                </a:lnTo>
                <a:lnTo>
                  <a:pt x="260" y="464"/>
                </a:lnTo>
                <a:lnTo>
                  <a:pt x="529" y="238"/>
                </a:lnTo>
                <a:lnTo>
                  <a:pt x="271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57800" y="2589120"/>
            <a:ext cx="417240" cy="51444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86280" y="2244600"/>
            <a:ext cx="749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Kund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D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68360" y="2946240"/>
            <a:ext cx="844560" cy="76212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854760" y="4994280"/>
            <a:ext cx="844560" cy="903240"/>
            <a:chOff x="6854760" y="4994280"/>
            <a:chExt cx="844560" cy="903240"/>
          </a:xfrm>
        </p:grpSpPr>
        <p:sp>
          <p:nvSpPr>
            <p:cNvPr id="519" name=""/>
            <p:cNvSpPr/>
            <p:nvPr/>
          </p:nvSpPr>
          <p:spPr>
            <a:xfrm>
              <a:off x="6854760" y="499428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77040" y="4994280"/>
              <a:ext cx="414360" cy="51588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54760" y="4997520"/>
              <a:ext cx="41904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77040" y="5380200"/>
              <a:ext cx="414360" cy="51408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54760" y="5381640"/>
              <a:ext cx="419040" cy="51588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6853320" y="4848120"/>
            <a:ext cx="417600" cy="51768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24560" y="4465800"/>
            <a:ext cx="844560" cy="75708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79680" y="4224240"/>
            <a:ext cx="7041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Projek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34280" y="4842000"/>
            <a:ext cx="415800" cy="51732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89720" y="4610160"/>
            <a:ext cx="7178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FEA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Sup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66960" y="4149720"/>
            <a:ext cx="7286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Umwelt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schu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89280" y="2270160"/>
            <a:ext cx="97092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Abfall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MM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6200" y="1333440"/>
            <a:ext cx="1735200" cy="3070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gistik,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2960" y="1790640"/>
            <a:ext cx="1737000" cy="3070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Logistik, add-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18120" y="1333440"/>
            <a:ext cx="1805400" cy="307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Finanzw.,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17040" y="1790640"/>
            <a:ext cx="1824840" cy="3070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00"/>
                </a:solidFill>
                <a:latin typeface="Arial"/>
              </a:rPr>
              <a:t>Finanzw., add-ons</a:t>
            </a:r>
            <a:r>
              <a:rPr b="1" lang="de-DE" sz="1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te Lösung: SAP R/3-System des SG Sivent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49320" y="3322800"/>
            <a:ext cx="844560" cy="76176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577240" y="3402000"/>
            <a:ext cx="11386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4880" y="3044880"/>
            <a:ext cx="11386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95680" y="3373560"/>
            <a:ext cx="8125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Prod.-</a:t>
            </a:r>
            <a:br>
              <a:rPr sz="1100"/>
            </a:b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Durchfr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39000" y="2583000"/>
            <a:ext cx="846000" cy="75384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50120" y="2955960"/>
            <a:ext cx="417240" cy="51444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24600" y="3332160"/>
            <a:ext cx="844560" cy="75888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8" y="0"/>
                </a:moveTo>
                <a:lnTo>
                  <a:pt x="0" y="240"/>
                </a:lnTo>
                <a:lnTo>
                  <a:pt x="268" y="477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23880" y="3341520"/>
            <a:ext cx="846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Anlage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31000" y="2630520"/>
            <a:ext cx="104256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Ist-Hrstllkst.-</a:t>
            </a:r>
            <a:br>
              <a:rPr sz="1100"/>
            </a:br>
            <a:r>
              <a:rPr b="1" lang="de-DE" sz="1100" spc="-1" strike="noStrike">
                <a:solidFill>
                  <a:srgbClr val="ffff00"/>
                </a:solidFill>
                <a:latin typeface="Arial"/>
              </a:rPr>
              <a:t>Rechn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571720" y="3073320"/>
            <a:ext cx="9298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Controll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0880" y="1295280"/>
            <a:ext cx="83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gehensweise 1: Modifizierung des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ge zur schnittstellenfreien Lösung (1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24280" y="2327400"/>
            <a:ext cx="2286000" cy="213336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24280" y="2327400"/>
            <a:ext cx="228600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ifizierte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4280" y="2333520"/>
            <a:ext cx="2286000" cy="213372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24280" y="2333520"/>
            <a:ext cx="228600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25800" y="2589120"/>
            <a:ext cx="3676320" cy="708120"/>
            <a:chOff x="325800" y="2589120"/>
            <a:chExt cx="3676320" cy="708120"/>
          </a:xfrm>
        </p:grpSpPr>
        <p:sp>
          <p:nvSpPr>
            <p:cNvPr id="553" name=""/>
            <p:cNvSpPr/>
            <p:nvPr/>
          </p:nvSpPr>
          <p:spPr>
            <a:xfrm>
              <a:off x="325800" y="2589120"/>
              <a:ext cx="31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pezifische Oberfläche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nd Menü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3356280" y="2982600"/>
              <a:ext cx="645840" cy="314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325800" y="2589120"/>
            <a:ext cx="3676320" cy="708120"/>
            <a:chOff x="325800" y="2589120"/>
            <a:chExt cx="3676320" cy="708120"/>
          </a:xfrm>
        </p:grpSpPr>
        <p:sp>
          <p:nvSpPr>
            <p:cNvPr id="556" name=""/>
            <p:cNvSpPr/>
            <p:nvPr/>
          </p:nvSpPr>
          <p:spPr>
            <a:xfrm>
              <a:off x="325800" y="2589120"/>
              <a:ext cx="310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pezifische Oberfläche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nd Menü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3356280" y="2982600"/>
              <a:ext cx="645840" cy="314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153040" y="4076640"/>
            <a:ext cx="3175560" cy="1210320"/>
            <a:chOff x="5153040" y="4076640"/>
            <a:chExt cx="3175560" cy="1210320"/>
          </a:xfrm>
        </p:grpSpPr>
        <p:sp>
          <p:nvSpPr>
            <p:cNvPr id="559" name=""/>
            <p:cNvSpPr/>
            <p:nvPr/>
          </p:nvSpPr>
          <p:spPr>
            <a:xfrm>
              <a:off x="6181920" y="4583160"/>
              <a:ext cx="214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zusätzli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unktionalitä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53040" y="4076640"/>
              <a:ext cx="1009440" cy="792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5160960" y="4079880"/>
            <a:ext cx="3175560" cy="1210320"/>
            <a:chOff x="5160960" y="4079880"/>
            <a:chExt cx="3175560" cy="1210320"/>
          </a:xfrm>
        </p:grpSpPr>
        <p:sp>
          <p:nvSpPr>
            <p:cNvPr id="562" name=""/>
            <p:cNvSpPr/>
            <p:nvPr/>
          </p:nvSpPr>
          <p:spPr>
            <a:xfrm>
              <a:off x="6189840" y="4586400"/>
              <a:ext cx="214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zusätzli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unktionalitä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60960" y="4079880"/>
              <a:ext cx="1009440" cy="792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3944880" y="2344680"/>
            <a:ext cx="203364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363840" y="2600280"/>
            <a:ext cx="3048120" cy="3048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45080" y="2981160"/>
            <a:ext cx="2286000" cy="2286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25960" y="3362400"/>
            <a:ext cx="1523880" cy="152388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Rele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295280"/>
            <a:ext cx="83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alenmodell zur modifikationsfreien Realisierung von Zusatzfunktionalitäten, Oberflächen und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786280" y="4110120"/>
            <a:ext cx="3202920" cy="1362600"/>
            <a:chOff x="5786280" y="4110120"/>
            <a:chExt cx="3202920" cy="1362600"/>
          </a:xfrm>
        </p:grpSpPr>
        <p:sp>
          <p:nvSpPr>
            <p:cNvPr id="570" name=""/>
            <p:cNvSpPr/>
            <p:nvPr/>
          </p:nvSpPr>
          <p:spPr>
            <a:xfrm>
              <a:off x="6600240" y="4464000"/>
              <a:ext cx="238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Zusätzli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nutzerdefiniert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unktionalitä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86280" y="4110120"/>
              <a:ext cx="895680" cy="696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766080" y="2565360"/>
            <a:ext cx="3093120" cy="1313640"/>
            <a:chOff x="766080" y="2565360"/>
            <a:chExt cx="3093120" cy="1313640"/>
          </a:xfrm>
        </p:grpSpPr>
        <p:sp>
          <p:nvSpPr>
            <p:cNvPr id="573" name=""/>
            <p:cNvSpPr/>
            <p:nvPr/>
          </p:nvSpPr>
          <p:spPr>
            <a:xfrm>
              <a:off x="766080" y="2565360"/>
              <a:ext cx="2388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pezifisch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nutzerdefiniert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berfläche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nd Menü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3076560" y="2959200"/>
              <a:ext cx="782640" cy="24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4127400" y="3365640"/>
            <a:ext cx="1524240" cy="15238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P R/3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tandard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Release X+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ge zur schnittstellenfreien Lösung (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0600" y="1486080"/>
            <a:ext cx="8439120" cy="38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180720" indent="-18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olut modifikationsfrei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 fü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tzfunktionalitä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tatransaktionen zur Beschleunigung von Abläu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ividuelle Ausprägungen, z.B. Oberflächen, Menü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SAP-Werkzeuge (z.B. Workbench, Klassen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toty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gängigkeit der funktionalen Ergänz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atte Abläufe über alle Module hin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20409600">
            <a:off x="1452600" y="2693160"/>
            <a:ext cx="7378560" cy="1556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 Rounded MT Bold"/>
              </a:rPr>
              <a:t>Grundsätzliche Bedingu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 Rounded MT Bold"/>
              </a:rPr>
              <a:t>Keine Modifikationen am Standard,</a:t>
            </a:r>
            <a:br>
              <a:rPr sz="3200"/>
            </a:br>
            <a:r>
              <a:rPr b="1" lang="de-DE" sz="3200" spc="-1" strike="noStrike">
                <a:solidFill>
                  <a:srgbClr val="ff3300"/>
                </a:solidFill>
                <a:latin typeface="Arial Rounded MT Bold"/>
              </a:rPr>
              <a:t>Releasewechselfähigkeit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rchitektur des Sivento-System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gleich der beiden Lösungsansätz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-technische Nachteile der „konventionellen“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lzahl von Schnitt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lzahl von Hardware-Plattfor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ndant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gleich mehrerer Datenbanke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ktionale Nachteile der „konventionellen“ Lö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äufig bieten die „R/3-externen“ Anwendungen nicht den Umfang 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ktionalität wie die „R/3-internen“ Entwicklunge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asp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rund der Vielzahl von Schnittstellen, Hardware-Plattformen u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nbanken ergeben sich auch hier für die „konventionelle“ Lösung deutliche Nachte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2:48:35Z</dcterms:created>
  <dc:creator>Dr. A.S. Schmidt</dc:creator>
  <dc:description/>
  <dc:language>en-US</dc:language>
  <cp:lastModifiedBy>Dr. Jochen Winkler</cp:lastModifiedBy>
  <cp:lastPrinted>2000-09-04T10:14:31Z</cp:lastPrinted>
  <dcterms:modified xsi:type="dcterms:W3CDTF">2000-09-25T11:10:21Z</dcterms:modified>
  <cp:revision>30</cp:revision>
  <dc:subject/>
  <dc:title>Die Logistik im SAP R/3-System Möglichkeiten zur Optimierung der Effizienz   Frankfurt-Höchst, 2000-09-19 </dc:title>
</cp:coreProperties>
</file>