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F19E35D-FBDC-4A06-80B6-9BB2FDF30E6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440" y="7101000"/>
            <a:ext cx="22748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ä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ä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welche die nötigen Verbrauchs- und Erzeugungszahlen absolut und prozentual präsentiert, und über welche die Differenzen zum SAP-Bestand automatisch o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forderungen an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Produktionsplanung und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atspla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e Sicht auf unternehmensspezifische Merkmale (z.B. der Stoff) bei der Planung als auch bei den Auswert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iebige darunter liegende Struktur,  um das operative Geschäft PP SD MM-IM MM-WM abzubilden (z.B. Chargen, Spezifikationen, verpackte Ware, lose War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planung Sivento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Produktionsplanung erfolgt auf Basis von Absatzplanung von Stoffen (chemisch) bzw. mit der logistischen Differenzierung eigenhergestellt, Zukauf, verzollt u.ä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Werkzeuge der SAP-Standardgrobplanung SOP inklusive Vers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r Standardgrobplanung um eine Sekundärbedarfsauflösung zur Planung der Produktion und Rohstoffe für die 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passte Oberfläche: Erfassen aller Planzahlen inklusive  Darstellung der sich daraus ergebenden Konsequenzen ü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Planungstableau für alle Stoff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chsel der Führung Produktionsplanung und 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61080" y="35812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 und Ausblick Monatsplanung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sste Lösung für  Produktion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ption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sourcen und Kapazitätspla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wirkungen von Engpässen kritischer W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Jochen Winkler</cp:lastModifiedBy>
  <cp:lastPrinted>2000-08-22T08:01:00Z</cp:lastPrinted>
  <dcterms:modified xsi:type="dcterms:W3CDTF">2000-09-18T08:30:25Z</dcterms:modified>
  <cp:revision>67</cp:revision>
  <dc:subject/>
  <dc:title>Kein Folientitel</dc:title>
</cp:coreProperties>
</file>