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2D52EDA-477B-4FB8-844F-6622A657F76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8440" y="7101000"/>
            <a:ext cx="4809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1440" y="7101000"/>
            <a:ext cx="22748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ktionsplanung und Monatsabschlu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ionsplanung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ss Sivento: Motiv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lem: Exaktes untermonatiges Erfassen aller Materialverbräuche und der Produktion (flächendeckende Messtechnik, Verfahrenstechnik: Nachlauf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lständige Kostenträger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erte Stücklisten und Planungsrez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1600200"/>
            <a:ext cx="4724280" cy="21337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1828800"/>
            <a:ext cx="35053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imierung der auftragsneutralen Aufwände (Kostenstellenverbräuche, Inventurbuch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352680"/>
            <a:ext cx="236196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505320"/>
            <a:ext cx="236232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Statisti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: Einmaliges Erfassen der Tankstände von Rohstoffen, Produkten und Halbprodukten oder Energieabrechnungen am Ende des Monats und Ausbuchen der Differenzen anteilig auf die verbrauchenden und erzeugenden Aufträge des Mon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ss Sivento: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9144000" cy="5527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Standa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zumutbares Handling beim Recherchieren der Aufträge und Ermitteln der Aufteilrege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der daraus folgenden Buchungspositionen außerhalb des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eblicher Aufwand, da die so ermittelten Buchungspositionen einzeln erfasst werden mü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 übersichtliches Tableau zum Erfassen aller exakten Bestände (optional automatische Abfrage von Prozessleitsysteme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Oberfläche, welche die nötigen Verbrauchs- und Erzeugungszahlen absolut und prozentual präsentiert, und über welche die Differenzen zum SAP-Bestand automatisch ober manuell änderbar erfasst und gespeicher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Knopfdruck werden alle Positionen verbu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r Abschluss aller offenen 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ionsplanung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ionsplanung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forderungen an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Produktionsplanung und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natspla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eiche Sicht auf unternehmensspezifische Merkmale (z.B. der Stoff) bei der Planung als auch bei den Auswertun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liebige darunter liegende Struktur,  um das operative Geschäft PP SD MM-IM MM-WM abzubilden (z.B. Chargen, Spezifikationen, verpackte Ware, lose War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743200"/>
            <a:ext cx="9524880" cy="2743200"/>
          </a:xfrm>
          <a:prstGeom prst="ellipse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943600"/>
            <a:ext cx="9068040" cy="106668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prüche an die Systemati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80880" y="1294920"/>
            <a:ext cx="9068040" cy="91440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37160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6480" y="1258920"/>
            <a:ext cx="138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1905120"/>
            <a:ext cx="220968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647712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760" y="6553080"/>
            <a:ext cx="1348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5638680"/>
            <a:ext cx="221004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88620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eratives Geschä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1440" y="2932200"/>
            <a:ext cx="203256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4267080"/>
            <a:ext cx="20444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 -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iedl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r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98360" y="2895480"/>
            <a:ext cx="28461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W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eid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.B. 180 Kg Gebinde v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Kg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43320" y="4267080"/>
            <a:ext cx="20325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45080" y="4343400"/>
            <a:ext cx="24728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kaufspre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8760" y="2895480"/>
            <a:ext cx="247284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planung Sivento: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Produktionsplanung erfolgt auf Basis von Absatzplanung von Stoffen (chemisch) bzw. mit der logistischen Differenzierung eigenhergestellt, Zukauf, verzollt u.ä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ung der Werkzeuge der SAP-Standardgrobplanung SOP inklusive Vers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ung der Standardgrobplanung um eine Sekundärbedarfsauflösung zur Planung der Produktion und Rohstoffe für die 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passte Oberfläche: Erfassen aller Planzahlen inklusive  Darstellung der sich daraus ergebenden Konsequenzen ü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Planungstableau für alle Stoff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chsel der Führung Produktionsplanung und Absatz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61080" y="35812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 und Ausblick Monatsplanu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gepasste Lösung für  Produktion und Vertri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gonomische Bedie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lle Integration in SAP R/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ptiona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ssourcen und Kapazitätspla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swirkungen von Engpässen kritischer We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Jochen Winkler</cp:lastModifiedBy>
  <cp:lastPrinted>2000-08-22T08:01:00Z</cp:lastPrinted>
  <dcterms:modified xsi:type="dcterms:W3CDTF">2000-09-18T08:30:25Z</dcterms:modified>
  <cp:revision>67</cp:revision>
  <dc:subject/>
  <dc:title>Kein Folientitel</dc:title>
</cp:coreProperties>
</file>