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712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48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8876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712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48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380880"/>
            <a:ext cx="8229600" cy="594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07280" y="6459480"/>
            <a:ext cx="1392120" cy="284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40560" y="6477120"/>
            <a:ext cx="90684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9E79F61A-D693-484B-8D68-ABCF24B5D7C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2360" y="6477120"/>
            <a:ext cx="64620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pt 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39960" y="6477120"/>
            <a:ext cx="114156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V-OS-ES / Dr. 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023640" y="6477120"/>
            <a:ext cx="331776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AP R/3 Workshop für die chemische und pharmazeutische Indust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39720" y="838080"/>
            <a:ext cx="7866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968400"/>
            <a:ext cx="80769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SAP R/3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für die chemische und pharmazeutische Indus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2652840"/>
            <a:ext cx="792144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Dr. Michael H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Degussa-Hüls 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4960" y="5564160"/>
            <a:ext cx="807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Frankfurt, den 19. September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Warum Zusatzprogramme als Add-on?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in integriertes Zusatzprogramm (Add-on) benötigt naturgemäß keine Schnittstellen zum SAP-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066680" y="1525680"/>
            <a:ext cx="2514600" cy="2589120"/>
            <a:chOff x="1066680" y="1525680"/>
            <a:chExt cx="2514600" cy="2589120"/>
          </a:xfrm>
        </p:grpSpPr>
        <p:sp>
          <p:nvSpPr>
            <p:cNvPr id="191" name=""/>
            <p:cNvSpPr/>
            <p:nvPr/>
          </p:nvSpPr>
          <p:spPr>
            <a:xfrm>
              <a:off x="1066680" y="1752480"/>
              <a:ext cx="762120" cy="762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7400" y="2666880"/>
              <a:ext cx="1523880" cy="144792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30240" y="1525680"/>
              <a:ext cx="17496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xternes Zusatzprogra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87240" y="2092680"/>
            <a:ext cx="1781640" cy="1106640"/>
            <a:chOff x="687240" y="2092680"/>
            <a:chExt cx="1781640" cy="1106640"/>
          </a:xfrm>
        </p:grpSpPr>
        <p:sp>
          <p:nvSpPr>
            <p:cNvPr id="195" name=""/>
            <p:cNvSpPr/>
            <p:nvPr/>
          </p:nvSpPr>
          <p:spPr>
            <a:xfrm rot="18900000">
              <a:off x="1447920" y="2209320"/>
              <a:ext cx="457200" cy="304920"/>
            </a:xfrm>
            <a:prstGeom prst="ellipse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8960000">
              <a:off x="1969560" y="2739960"/>
              <a:ext cx="457200" cy="304920"/>
            </a:xfrm>
            <a:prstGeom prst="ellipse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7240" y="2897280"/>
              <a:ext cx="1292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chnittstel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386000" y="2046240"/>
            <a:ext cx="1141200" cy="1141560"/>
            <a:chOff x="1386000" y="2046240"/>
            <a:chExt cx="1141200" cy="1141560"/>
          </a:xfrm>
        </p:grpSpPr>
        <p:sp>
          <p:nvSpPr>
            <p:cNvPr id="199" name=""/>
            <p:cNvSpPr/>
            <p:nvPr/>
          </p:nvSpPr>
          <p:spPr>
            <a:xfrm>
              <a:off x="1386000" y="2224080"/>
              <a:ext cx="963360" cy="9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1512720" y="2046240"/>
              <a:ext cx="1014480" cy="101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181480" y="1754280"/>
            <a:ext cx="3503880" cy="2779560"/>
            <a:chOff x="5181480" y="1754280"/>
            <a:chExt cx="3503880" cy="2779560"/>
          </a:xfrm>
        </p:grpSpPr>
        <p:sp>
          <p:nvSpPr>
            <p:cNvPr id="202" name=""/>
            <p:cNvSpPr/>
            <p:nvPr/>
          </p:nvSpPr>
          <p:spPr>
            <a:xfrm>
              <a:off x="5562720" y="2552760"/>
              <a:ext cx="1676160" cy="16765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5181480" y="2247840"/>
              <a:ext cx="2451240" cy="2286000"/>
              <a:chOff x="5181480" y="2247840"/>
              <a:chExt cx="2451240" cy="2286000"/>
            </a:xfrm>
          </p:grpSpPr>
          <p:pic>
            <p:nvPicPr>
              <p:cNvPr id="20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181480" y="2247840"/>
                <a:ext cx="245124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5603760" y="2614680"/>
                <a:ext cx="15940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6935760" y="1754280"/>
              <a:ext cx="17496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tegriertes Zusatzprogra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0800" y="2452680"/>
              <a:ext cx="0" cy="50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Warum Zusatzprogramme als Add-on?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361960"/>
            <a:ext cx="590724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nutzen systemeigene Tabellen und Routi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arbeiten mit anderen integrierten Zusatzprogrammen zusam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und SAP R/3 sind mit der gleichen Programmiersprache erste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sind zukunftssicher, release-stab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sind individu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85800" y="1143000"/>
            <a:ext cx="1384200" cy="1290600"/>
            <a:chOff x="685800" y="1143000"/>
            <a:chExt cx="1384200" cy="1290600"/>
          </a:xfrm>
        </p:grpSpPr>
        <p:sp>
          <p:nvSpPr>
            <p:cNvPr id="211" name=""/>
            <p:cNvSpPr/>
            <p:nvPr/>
          </p:nvSpPr>
          <p:spPr>
            <a:xfrm>
              <a:off x="900000" y="1314360"/>
              <a:ext cx="943200" cy="9432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685800" y="1143000"/>
              <a:ext cx="1384200" cy="1290600"/>
              <a:chOff x="685800" y="1143000"/>
              <a:chExt cx="1384200" cy="129060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1143000"/>
                <a:ext cx="1384200" cy="12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952560" y="1363680"/>
                <a:ext cx="838080" cy="83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Menüs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431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nwender aus der Produktion akzeptieren das SAP-Standardmenü ni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00200" y="990720"/>
            <a:ext cx="7785000" cy="923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90480" y="2743200"/>
            <a:ext cx="7812000" cy="1003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38080" y="3809880"/>
            <a:ext cx="74311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nwenderbezogen designte Menüs sind übersichtli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uf alle wichtigen Funktionen kann schnell und ohne Umwege zugegriffen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Menüs können auf Standardtransaktionen und auf Add-ons verweis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Personalisierte Menüs entsprechen dem Berechtigungsprofil und werden vom Anwender angenomm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914400"/>
            <a:ext cx="79250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28640" y="1084320"/>
            <a:ext cx="7709040" cy="37288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Menüs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5181120"/>
            <a:ext cx="7431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er Weg zur Prozessauftragsbearbeitung ist denkbar kur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45360" y="1787400"/>
            <a:ext cx="299880" cy="486000"/>
          </a:xfrm>
          <a:custGeom>
            <a:avLst/>
            <a:gdLst/>
            <a:ahLst/>
            <a:rect l="l" t="t" r="r" b="b"/>
            <a:pathLst>
              <a:path w="189" h="306">
                <a:moveTo>
                  <a:pt x="21" y="231"/>
                </a:moveTo>
                <a:lnTo>
                  <a:pt x="82" y="196"/>
                </a:lnTo>
                <a:lnTo>
                  <a:pt x="144" y="305"/>
                </a:lnTo>
                <a:lnTo>
                  <a:pt x="188" y="279"/>
                </a:lnTo>
                <a:lnTo>
                  <a:pt x="127" y="171"/>
                </a:lnTo>
                <a:lnTo>
                  <a:pt x="188" y="136"/>
                </a:lnTo>
                <a:lnTo>
                  <a:pt x="0" y="0"/>
                </a:lnTo>
                <a:lnTo>
                  <a:pt x="21" y="231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Abwicklung der Produktion über Prozessaufträge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4154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ll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Standardoperation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in der Produktion werden mit Prozessaufträgen abgebild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Herstellen Loser 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Abfüllen zu Verpackter 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Umfü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Entpac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Zu berücksichtigen s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estands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Chargenverwal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Retrograde Rohstoffentnah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514600"/>
            <a:ext cx="2361960" cy="5335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25920" y="2560680"/>
            <a:ext cx="2178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le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3809880"/>
            <a:ext cx="2361960" cy="533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25920" y="3855960"/>
            <a:ext cx="2178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ilrückmel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5105520"/>
            <a:ext cx="236196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32400" y="5157720"/>
            <a:ext cx="2165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drückmel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15280" y="3048120"/>
            <a:ext cx="1440" cy="763560"/>
          </a:xfrm>
          <a:custGeom>
            <a:avLst/>
            <a:gdLst/>
            <a:ahLst/>
            <a:rect l="l" t="t" r="r" b="b"/>
            <a:pathLst>
              <a:path w="1" h="481">
                <a:moveTo>
                  <a:pt x="0" y="0"/>
                </a:moveTo>
                <a:lnTo>
                  <a:pt x="0" y="48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15280" y="4343400"/>
            <a:ext cx="1440" cy="763560"/>
          </a:xfrm>
          <a:custGeom>
            <a:avLst/>
            <a:gdLst/>
            <a:ahLst/>
            <a:rect l="l" t="t" r="r" b="b"/>
            <a:pathLst>
              <a:path w="1" h="481">
                <a:moveTo>
                  <a:pt x="0" y="0"/>
                </a:moveTo>
                <a:lnTo>
                  <a:pt x="0" y="48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05560" y="3429000"/>
            <a:ext cx="1504800" cy="1258920"/>
          </a:xfrm>
          <a:custGeom>
            <a:avLst/>
            <a:gdLst/>
            <a:ahLst/>
            <a:rect l="l" t="t" r="r" b="b"/>
            <a:pathLst>
              <a:path w="948" h="793">
                <a:moveTo>
                  <a:pt x="6" y="576"/>
                </a:moveTo>
                <a:lnTo>
                  <a:pt x="6" y="792"/>
                </a:lnTo>
                <a:lnTo>
                  <a:pt x="947" y="792"/>
                </a:lnTo>
                <a:lnTo>
                  <a:pt x="947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72040" y="32767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Abwicklung der Produktion über Prozessaufträge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398680" y="2285640"/>
            <a:ext cx="60595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Prozessaufträge zur Herstellung Loser Ware werden einmal monatlich angele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Beim Anlegen eines Prozessauftrags wird die Produktionsplanung berücksichti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Teilrückmeldungen erfolgen tägli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ie Endrückmeldung erfolgt zum Monatse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85800" y="1143000"/>
            <a:ext cx="1319040" cy="1295280"/>
            <a:chOff x="685800" y="1143000"/>
            <a:chExt cx="1319040" cy="1295280"/>
          </a:xfrm>
        </p:grpSpPr>
        <p:sp>
          <p:nvSpPr>
            <p:cNvPr id="240" name=""/>
            <p:cNvSpPr/>
            <p:nvPr/>
          </p:nvSpPr>
          <p:spPr>
            <a:xfrm>
              <a:off x="685800" y="1143000"/>
              <a:ext cx="1143000" cy="2206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7960" y="1189080"/>
              <a:ext cx="95868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5800" y="1679400"/>
              <a:ext cx="1143000" cy="222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7960" y="1725480"/>
              <a:ext cx="95868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5800" y="2217600"/>
              <a:ext cx="1143000" cy="22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4080" y="2270160"/>
              <a:ext cx="94644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57480" y="1363680"/>
              <a:ext cx="1440" cy="31752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0"/>
                  </a:moveTo>
                  <a:lnTo>
                    <a:pt x="0" y="1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57480" y="1901880"/>
              <a:ext cx="1440" cy="317520"/>
            </a:xfrm>
            <a:custGeom>
              <a:avLst/>
              <a:gdLst/>
              <a:ahLst/>
              <a:rect l="l" t="t" r="r" b="b"/>
              <a:pathLst>
                <a:path w="1" h="200">
                  <a:moveTo>
                    <a:pt x="0" y="0"/>
                  </a:moveTo>
                  <a:lnTo>
                    <a:pt x="0" y="1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52440" y="1522440"/>
              <a:ext cx="752400" cy="523800"/>
            </a:xfrm>
            <a:custGeom>
              <a:avLst/>
              <a:gdLst/>
              <a:ahLst/>
              <a:rect l="l" t="t" r="r" b="b"/>
              <a:pathLst>
                <a:path w="474" h="330">
                  <a:moveTo>
                    <a:pt x="3" y="239"/>
                  </a:moveTo>
                  <a:lnTo>
                    <a:pt x="3" y="329"/>
                  </a:lnTo>
                  <a:lnTo>
                    <a:pt x="473" y="329"/>
                  </a:lnTo>
                  <a:lnTo>
                    <a:pt x="47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95400" y="1459080"/>
              <a:ext cx="25704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Screens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Prozessaufträge werden auf einem für ein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nwendergruppe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spezifischen Screen abgewicke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ieser Screen wird durch Berücksichtigung der Benutzerdaten  zum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Personalisierten Scre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Personalisiertes Menü und Personalisierter Screen werden vom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 zur Abwicklung von Prozessaufträ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gesteu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832880" cy="16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Screens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352680" y="2819160"/>
            <a:ext cx="510552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em Anwender steht das Add-on zur Bearbeitung von Prozessaufträgen zur Verfüg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er Anwender ist über einen Eintrag in den Benutzervorgaben mit seinem Betrieb verknüp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r bekommt deshalb auch nur die Produkte seines Betriebes zur Bearbeitung angebo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832880" cy="1612800"/>
          </a:xfrm>
          <a:prstGeom prst="rect">
            <a:avLst/>
          </a:prstGeom>
          <a:ln w="0">
            <a:noFill/>
          </a:ln>
        </p:spPr>
      </p:pic>
      <p:grpSp>
        <p:nvGrpSpPr>
          <p:cNvPr id="256" name=""/>
          <p:cNvGrpSpPr/>
          <p:nvPr/>
        </p:nvGrpSpPr>
        <p:grpSpPr>
          <a:xfrm>
            <a:off x="533520" y="914400"/>
            <a:ext cx="8076960" cy="5156280"/>
            <a:chOff x="533520" y="914400"/>
            <a:chExt cx="8076960" cy="5156280"/>
          </a:xfrm>
        </p:grpSpPr>
        <p:sp>
          <p:nvSpPr>
            <p:cNvPr id="257" name=""/>
            <p:cNvSpPr/>
            <p:nvPr/>
          </p:nvSpPr>
          <p:spPr>
            <a:xfrm>
              <a:off x="533520" y="914400"/>
              <a:ext cx="807696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762120" y="1066680"/>
              <a:ext cx="2374920" cy="5004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Screens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5334120"/>
            <a:ext cx="74311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Nutzer des QM-Moduls melden ihre Produkte über einen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Personalisierten Scre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zur Freigabeanalyse 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832880" cy="40510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4648320" y="1447920"/>
            <a:ext cx="3849480" cy="3352680"/>
            <a:chOff x="4648320" y="1447920"/>
            <a:chExt cx="3849480" cy="3352680"/>
          </a:xfrm>
        </p:grpSpPr>
        <p:sp>
          <p:nvSpPr>
            <p:cNvPr id="263" name=""/>
            <p:cNvSpPr/>
            <p:nvPr/>
          </p:nvSpPr>
          <p:spPr>
            <a:xfrm>
              <a:off x="4648320" y="1447920"/>
              <a:ext cx="3733560" cy="33526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52880" y="1905120"/>
              <a:ext cx="3544920" cy="25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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 Rounded MT Bold"/>
                </a:rPr>
                <a:t>Nur notwendige Daten werden abgefrag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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 Rounded MT Bold"/>
                </a:rPr>
                <a:t>Die Masken verwenden Begriffe aus der Welt der Anwende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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 Rounded MT Bold"/>
                </a:rPr>
                <a:t>Geringer Lernaufw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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 Rounded MT Bold"/>
                </a:rPr>
                <a:t>Hohe Akteptanz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Nach Auswahl des Produkts wird ein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Prozessauftrag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angelegt oder ausgewäh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832880" cy="15364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85800" y="53341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in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Charge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wird angegeben oder ausgewählt. Zahlreiche Prüfungen werden vorgenom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09480" y="914400"/>
            <a:ext cx="7925040" cy="4356000"/>
            <a:chOff x="609480" y="914400"/>
            <a:chExt cx="7925040" cy="4356000"/>
          </a:xfrm>
        </p:grpSpPr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685800" y="3575160"/>
              <a:ext cx="783288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09480" y="914400"/>
              <a:ext cx="7925040" cy="167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4960" y="981000"/>
            <a:ext cx="807408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Erfahrungen und Vision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mit SAP R/3 in der Produk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20880" y="2368440"/>
            <a:ext cx="7378560" cy="33256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119160" bIns="1191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en für die Produ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en als Add-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Menü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Scre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zur Bearbeitung von Prozessaufträ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Nut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Ausbl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4571640"/>
            <a:ext cx="77151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i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Me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der hergestellten Materialien werden angege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mit sind alle Angaben zu den hergestellten Materialien gemacht (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IEL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83288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68024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84680" indent="-18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i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Einsatzme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der werden zur retrograden Entnahme änderbar vorgeschla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s werden alle Angaben zu den eingesetzten Materialien gemacht (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QUELLE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685800" y="990720"/>
            <a:ext cx="7832880" cy="3940200"/>
            <a:chOff x="685800" y="990720"/>
            <a:chExt cx="7832880" cy="394020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>
              <a:off x="685800" y="990720"/>
              <a:ext cx="7832880" cy="394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9" name=""/>
            <p:cNvGrpSpPr/>
            <p:nvPr/>
          </p:nvGrpSpPr>
          <p:grpSpPr>
            <a:xfrm>
              <a:off x="1258920" y="3490920"/>
              <a:ext cx="1446120" cy="795240"/>
              <a:chOff x="1258920" y="3490920"/>
              <a:chExt cx="1446120" cy="795240"/>
            </a:xfrm>
          </p:grpSpPr>
          <p:sp>
            <p:nvSpPr>
              <p:cNvPr id="280" name=""/>
              <p:cNvSpPr/>
              <p:nvPr/>
            </p:nvSpPr>
            <p:spPr>
              <a:xfrm>
                <a:off x="1258920" y="3490920"/>
                <a:ext cx="14461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258920" y="4286160"/>
                <a:ext cx="14461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258920" y="3962520"/>
                <a:ext cx="14461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288040" cy="37101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871640" y="2438280"/>
            <a:ext cx="54864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84680" indent="-18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Nach Start der Transaktion wird auf den Prozessauftrag für di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Lose Ware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teilrückgemeld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Ggf. werden Prozessaufträge zur Herstellung der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Verpackten Ware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angelegt und endrückgemeld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4794120" cy="1231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85800" y="4648320"/>
            <a:ext cx="4794120" cy="12319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564160" y="2970360"/>
            <a:ext cx="28926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ach Anlegen einer neuen Charge wird zum Anlegen der </a:t>
            </a:r>
            <a:r>
              <a:rPr b="0" lang="de-DE" sz="1600" spc="-1" strike="noStrike">
                <a:solidFill>
                  <a:srgbClr val="ff0000"/>
                </a:solidFill>
                <a:latin typeface="Arial Rounded MT Bold"/>
              </a:rPr>
              <a:t>Freigabeanalyse</a:t>
            </a: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 verzweig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4160" y="4738680"/>
            <a:ext cx="2892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Für Verpackte Ware wird die </a:t>
            </a:r>
            <a:r>
              <a:rPr b="0" lang="de-DE" sz="1600" spc="-1" strike="noStrike">
                <a:solidFill>
                  <a:srgbClr val="ff0000"/>
                </a:solidFill>
                <a:latin typeface="Arial Rounded MT Bold"/>
              </a:rPr>
              <a:t>Umlagerung</a:t>
            </a: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 in das Zentrale Lager angebo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2819520"/>
            <a:ext cx="495324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 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Informationen aus dem System gezog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Auswahllisten zusammen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 hat Eingabeda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gesammel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verglichen und geprüf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verknüpf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umgewand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ruft als </a:t>
            </a:r>
            <a:r>
              <a:rPr b="1" lang="de-DE" sz="1600" spc="-1" strike="noStrike">
                <a:solidFill>
                  <a:srgbClr val="ff0000"/>
                </a:solidFill>
                <a:latin typeface="Arial Rounded MT Bold"/>
              </a:rPr>
              <a:t>Metatransaktion</a:t>
            </a: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 Standard-Transaktionen auf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schreibt Daten in Standard-Screen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wertet Rückgabedaten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 bie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enutzerspezifische Auswahlmöglichkei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Personalisierte Menüs und Screen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die Steuerung von Metatransa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 vermeidet Fehlbedienun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 senkt den Bedienaufwand dramatis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Nutze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7" name=""/>
          <p:cNvSpPr/>
          <p:nvPr/>
        </p:nvSpPr>
        <p:spPr>
          <a:xfrm>
            <a:off x="611280" y="1068480"/>
            <a:ext cx="7921440" cy="13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Im </a:t>
            </a:r>
            <a:r>
              <a:rPr b="0" lang="de-DE" sz="2000" spc="-1" strike="noStrike">
                <a:solidFill>
                  <a:srgbClr val="ff0000"/>
                </a:solidFill>
                <a:latin typeface="Arial Rounded MT Bold"/>
              </a:rPr>
              <a:t>SAP-Standard</a:t>
            </a: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 muß der Anwender in der Produktion für 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Abwicklung seiner produktionsbezogenen Geschä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 Rounded MT Bold"/>
              </a:rPr>
              <a:t>30-40 Standardeingabemasken</a:t>
            </a: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 benutz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14400" y="3124080"/>
            <a:ext cx="7315200" cy="91152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35000" y="3198960"/>
            <a:ext cx="707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vorgestellte Add-on verlangt die Bedie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nur einer einzigen Mas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Nutze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1" name=""/>
          <p:cNvSpPr/>
          <p:nvPr/>
        </p:nvSpPr>
        <p:spPr>
          <a:xfrm>
            <a:off x="1219320" y="2066760"/>
            <a:ext cx="6705360" cy="263232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47760" y="2095560"/>
            <a:ext cx="664848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155520" bIns="15552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Durch die Zusatzprogrammierung wird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Zeitaufwand um 80-90% reduziert</a:t>
            </a: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Die Zusatzprogramme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vom Bertriebspersonal bedient</a:t>
            </a: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Ausblick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Kopplung SAP/Add-on - PL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lektronische Verfolgung der Materialbewegun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System erstellt einen täglichen Arbeitplan und macht vorschläge zu seiner Abarbeit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Rückmel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estandsbeobach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Rohstoffanfor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Anlagenbelegung/Kapaz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erücksichtigung des Personalangeb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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kurzfristige Planän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533520" y="968400"/>
            <a:ext cx="80769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SAP R/3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für die chemische und pharmazeutische Indus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1280" y="2652840"/>
            <a:ext cx="792144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Dr. Michael H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Degussa-Hüls 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4960" y="5564160"/>
            <a:ext cx="807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Frankfurt, den 19. September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685800" y="3324240"/>
            <a:ext cx="4267080" cy="1292040"/>
            <a:chOff x="685800" y="3324240"/>
            <a:chExt cx="4267080" cy="1292040"/>
          </a:xfrm>
        </p:grpSpPr>
        <p:sp>
          <p:nvSpPr>
            <p:cNvPr id="53" name=""/>
            <p:cNvSpPr/>
            <p:nvPr/>
          </p:nvSpPr>
          <p:spPr>
            <a:xfrm>
              <a:off x="685800" y="4267080"/>
              <a:ext cx="2666880" cy="349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3720" y="4275000"/>
              <a:ext cx="2651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bsatzplan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28800" y="3324240"/>
              <a:ext cx="3124080" cy="40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6720" y="3332160"/>
              <a:ext cx="310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roduktionsplan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ie Produk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2057400"/>
            <a:ext cx="358164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22720" y="2109960"/>
            <a:ext cx="3384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1143000"/>
            <a:ext cx="3124080" cy="409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42040" y="1150920"/>
            <a:ext cx="3108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iodenab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700200" y="1893960"/>
            <a:ext cx="7745400" cy="3147840"/>
            <a:chOff x="700200" y="1893960"/>
            <a:chExt cx="7745400" cy="3147840"/>
          </a:xfrm>
        </p:grpSpPr>
        <p:sp>
          <p:nvSpPr>
            <p:cNvPr id="63" name=""/>
            <p:cNvSpPr/>
            <p:nvPr/>
          </p:nvSpPr>
          <p:spPr>
            <a:xfrm>
              <a:off x="3747960" y="4114800"/>
              <a:ext cx="1573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5334120" y="3189240"/>
              <a:ext cx="0" cy="938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48160" y="3200400"/>
              <a:ext cx="1725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086600" y="1893960"/>
              <a:ext cx="0" cy="1319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01000" y="1905120"/>
              <a:ext cx="1344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3733920" y="4103640"/>
              <a:ext cx="0" cy="938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0200" y="5029200"/>
              <a:ext cx="3020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Rounded MT Bold"/>
              </a:rPr>
              <a:t>Die realitätsnahe Abbildung der Produktion erfordert im Vergleich den höchsten Aufw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er Aufwand zur Abbildung der Produkti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er Bedienungsaufwand lässt sich durch optimierten Systemaufwand begrenz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3708360"/>
            <a:ext cx="5411520" cy="992160"/>
          </a:xfrm>
          <a:custGeom>
            <a:avLst/>
            <a:gdLst/>
            <a:ahLst/>
            <a:rect l="l" t="t" r="r" b="b"/>
            <a:pathLst>
              <a:path w="3409" h="625">
                <a:moveTo>
                  <a:pt x="3092" y="0"/>
                </a:moveTo>
                <a:lnTo>
                  <a:pt x="3092" y="105"/>
                </a:lnTo>
                <a:lnTo>
                  <a:pt x="0" y="105"/>
                </a:lnTo>
                <a:lnTo>
                  <a:pt x="0" y="519"/>
                </a:lnTo>
                <a:lnTo>
                  <a:pt x="3092" y="519"/>
                </a:lnTo>
                <a:lnTo>
                  <a:pt x="3092" y="624"/>
                </a:lnTo>
                <a:lnTo>
                  <a:pt x="3408" y="312"/>
                </a:lnTo>
                <a:lnTo>
                  <a:pt x="3092" y="0"/>
                </a:lnTo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96920" y="3876840"/>
            <a:ext cx="49039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160" bIns="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w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642960" y="2847960"/>
            <a:ext cx="3722760" cy="4572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-640080" y="2846520"/>
            <a:ext cx="371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angs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56280" y="2863800"/>
            <a:ext cx="3733920" cy="4572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6058080" y="2863080"/>
            <a:ext cx="3730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spr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905120" y="2565360"/>
            <a:ext cx="5411520" cy="1023840"/>
            <a:chOff x="1905120" y="2565360"/>
            <a:chExt cx="5411520" cy="1023840"/>
          </a:xfrm>
        </p:grpSpPr>
        <p:grpSp>
          <p:nvGrpSpPr>
            <p:cNvPr id="80" name=""/>
            <p:cNvGrpSpPr/>
            <p:nvPr/>
          </p:nvGrpSpPr>
          <p:grpSpPr>
            <a:xfrm>
              <a:off x="1905120" y="2565360"/>
              <a:ext cx="5411520" cy="1023840"/>
              <a:chOff x="1905120" y="2565360"/>
              <a:chExt cx="5411520" cy="1023840"/>
            </a:xfrm>
          </p:grpSpPr>
          <p:sp>
            <p:nvSpPr>
              <p:cNvPr id="81" name=""/>
              <p:cNvSpPr/>
              <p:nvPr/>
            </p:nvSpPr>
            <p:spPr>
              <a:xfrm>
                <a:off x="1905120" y="2565360"/>
                <a:ext cx="5411520" cy="1023840"/>
              </a:xfrm>
              <a:custGeom>
                <a:avLst/>
                <a:gdLst/>
                <a:ahLst/>
                <a:rect l="l" t="t" r="r" b="b"/>
                <a:pathLst>
                  <a:path w="3409" h="645">
                    <a:moveTo>
                      <a:pt x="3092" y="0"/>
                    </a:moveTo>
                    <a:lnTo>
                      <a:pt x="3092" y="108"/>
                    </a:lnTo>
                    <a:lnTo>
                      <a:pt x="0" y="108"/>
                    </a:lnTo>
                    <a:lnTo>
                      <a:pt x="0" y="536"/>
                    </a:lnTo>
                    <a:lnTo>
                      <a:pt x="3092" y="536"/>
                    </a:lnTo>
                    <a:lnTo>
                      <a:pt x="3092" y="644"/>
                    </a:lnTo>
                    <a:lnTo>
                      <a:pt x="3408" y="322"/>
                    </a:lnTo>
                    <a:lnTo>
                      <a:pt x="3092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996920" y="2738520"/>
                <a:ext cx="4903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11160" bIns="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Bedienu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1905120" y="2743200"/>
              <a:ext cx="1523880" cy="668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905120" y="1397160"/>
            <a:ext cx="5411520" cy="1023840"/>
            <a:chOff x="1905120" y="1397160"/>
            <a:chExt cx="5411520" cy="1023840"/>
          </a:xfrm>
        </p:grpSpPr>
        <p:grpSp>
          <p:nvGrpSpPr>
            <p:cNvPr id="85" name=""/>
            <p:cNvGrpSpPr/>
            <p:nvPr/>
          </p:nvGrpSpPr>
          <p:grpSpPr>
            <a:xfrm>
              <a:off x="1905120" y="1397160"/>
              <a:ext cx="5411520" cy="1023840"/>
              <a:chOff x="1905120" y="1397160"/>
              <a:chExt cx="5411520" cy="1023840"/>
            </a:xfrm>
          </p:grpSpPr>
          <p:sp>
            <p:nvSpPr>
              <p:cNvPr id="86" name=""/>
              <p:cNvSpPr/>
              <p:nvPr/>
            </p:nvSpPr>
            <p:spPr>
              <a:xfrm>
                <a:off x="1905120" y="1397160"/>
                <a:ext cx="5411520" cy="1023840"/>
              </a:xfrm>
              <a:custGeom>
                <a:avLst/>
                <a:gdLst/>
                <a:ahLst/>
                <a:rect l="l" t="t" r="r" b="b"/>
                <a:pathLst>
                  <a:path w="3409" h="645">
                    <a:moveTo>
                      <a:pt x="3092" y="0"/>
                    </a:moveTo>
                    <a:lnTo>
                      <a:pt x="3092" y="107"/>
                    </a:lnTo>
                    <a:lnTo>
                      <a:pt x="0" y="107"/>
                    </a:lnTo>
                    <a:lnTo>
                      <a:pt x="0" y="537"/>
                    </a:lnTo>
                    <a:lnTo>
                      <a:pt x="3092" y="537"/>
                    </a:lnTo>
                    <a:lnTo>
                      <a:pt x="3092" y="644"/>
                    </a:lnTo>
                    <a:lnTo>
                      <a:pt x="3408" y="322"/>
                    </a:lnTo>
                    <a:lnTo>
                      <a:pt x="3092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96920" y="1569960"/>
                <a:ext cx="4902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11160" bIns="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      </a:t>
                </a: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Bedienu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908000" y="1574640"/>
              <a:ext cx="3030840" cy="66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 rot="20400000">
            <a:off x="6172200" y="1981080"/>
            <a:ext cx="1676520" cy="106704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20400000">
            <a:off x="6488280" y="2174400"/>
            <a:ext cx="10443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eitaufw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lifik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033800" y="1066680"/>
            <a:ext cx="2671920" cy="2673360"/>
            <a:chOff x="4033800" y="1066680"/>
            <a:chExt cx="2671920" cy="2673360"/>
          </a:xfrm>
        </p:grpSpPr>
        <p:sp>
          <p:nvSpPr>
            <p:cNvPr id="92" name=""/>
            <p:cNvSpPr/>
            <p:nvPr/>
          </p:nvSpPr>
          <p:spPr>
            <a:xfrm>
              <a:off x="4033800" y="1066680"/>
              <a:ext cx="1682640" cy="2673360"/>
            </a:xfrm>
            <a:custGeom>
              <a:avLst/>
              <a:gdLst/>
              <a:ahLst/>
              <a:rect l="l" t="t" r="r" b="b"/>
              <a:pathLst>
                <a:path w="1060" h="1684">
                  <a:moveTo>
                    <a:pt x="1059" y="0"/>
                  </a:moveTo>
                  <a:lnTo>
                    <a:pt x="0" y="16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24280" y="1066680"/>
              <a:ext cx="1981440" cy="609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22920" y="1119240"/>
              <a:ext cx="17841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stands- und Warehouse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438280" y="1066680"/>
            <a:ext cx="2673360" cy="2673360"/>
            <a:chOff x="2438280" y="1066680"/>
            <a:chExt cx="2673360" cy="2673360"/>
          </a:xfrm>
        </p:grpSpPr>
        <p:sp>
          <p:nvSpPr>
            <p:cNvPr id="96" name=""/>
            <p:cNvSpPr/>
            <p:nvPr/>
          </p:nvSpPr>
          <p:spPr>
            <a:xfrm>
              <a:off x="3429000" y="1066680"/>
              <a:ext cx="1682640" cy="2673360"/>
            </a:xfrm>
            <a:custGeom>
              <a:avLst/>
              <a:gdLst/>
              <a:ahLst/>
              <a:rect l="l" t="t" r="r" b="b"/>
              <a:pathLst>
                <a:path w="1060" h="1684">
                  <a:moveTo>
                    <a:pt x="0" y="0"/>
                  </a:moveTo>
                  <a:lnTo>
                    <a:pt x="1059" y="16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38280" y="1066680"/>
              <a:ext cx="1981440" cy="609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36920" y="1119240"/>
              <a:ext cx="17841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Contro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Finanzbuchhalt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438280" y="2662200"/>
            <a:ext cx="2673360" cy="2673360"/>
            <a:chOff x="2438280" y="2662200"/>
            <a:chExt cx="2673360" cy="2673360"/>
          </a:xfrm>
        </p:grpSpPr>
        <p:sp>
          <p:nvSpPr>
            <p:cNvPr id="100" name=""/>
            <p:cNvSpPr/>
            <p:nvPr/>
          </p:nvSpPr>
          <p:spPr>
            <a:xfrm>
              <a:off x="3429000" y="2662200"/>
              <a:ext cx="1682640" cy="2673360"/>
            </a:xfrm>
            <a:custGeom>
              <a:avLst/>
              <a:gdLst/>
              <a:ahLst/>
              <a:rect l="l" t="t" r="r" b="b"/>
              <a:pathLst>
                <a:path w="1060" h="1684">
                  <a:moveTo>
                    <a:pt x="0" y="1683"/>
                  </a:moveTo>
                  <a:lnTo>
                    <a:pt x="105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38280" y="4724280"/>
              <a:ext cx="1981440" cy="609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36920" y="4776840"/>
              <a:ext cx="17841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ertri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033800" y="2662200"/>
            <a:ext cx="2671920" cy="2673360"/>
            <a:chOff x="4033800" y="2662200"/>
            <a:chExt cx="2671920" cy="2673360"/>
          </a:xfrm>
        </p:grpSpPr>
        <p:sp>
          <p:nvSpPr>
            <p:cNvPr id="104" name=""/>
            <p:cNvSpPr/>
            <p:nvPr/>
          </p:nvSpPr>
          <p:spPr>
            <a:xfrm>
              <a:off x="4033800" y="2662200"/>
              <a:ext cx="1682640" cy="2673360"/>
            </a:xfrm>
            <a:custGeom>
              <a:avLst/>
              <a:gdLst/>
              <a:ahLst/>
              <a:rect l="l" t="t" r="r" b="b"/>
              <a:pathLst>
                <a:path w="1060" h="1684">
                  <a:moveTo>
                    <a:pt x="0" y="0"/>
                  </a:moveTo>
                  <a:lnTo>
                    <a:pt x="1059" y="16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24280" y="4724280"/>
              <a:ext cx="1981440" cy="6098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22920" y="4776840"/>
              <a:ext cx="17841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Qualitäts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632040" y="2257560"/>
            <a:ext cx="1882800" cy="1882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78360" y="2571840"/>
            <a:ext cx="119052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ie Produktion im Zusammenspiel mit anderen Module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55623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182520" indent="-182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ie Produktion ist nicht nur durch Stoffströme gekennzeichnet. Parallel müssen Forderungen anderer Module berücksichtig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2438280"/>
            <a:ext cx="1524240" cy="1524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98960" y="2695680"/>
            <a:ext cx="9460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200400" y="2286000"/>
            <a:ext cx="835200" cy="1830240"/>
            <a:chOff x="3200400" y="2286000"/>
            <a:chExt cx="835200" cy="1830240"/>
          </a:xfrm>
        </p:grpSpPr>
        <p:sp>
          <p:nvSpPr>
            <p:cNvPr id="114" name=""/>
            <p:cNvSpPr/>
            <p:nvPr/>
          </p:nvSpPr>
          <p:spPr>
            <a:xfrm>
              <a:off x="3429000" y="2286000"/>
              <a:ext cx="606600" cy="378000"/>
            </a:xfrm>
            <a:custGeom>
              <a:avLst/>
              <a:gdLst/>
              <a:ahLst/>
              <a:rect l="l" t="t" r="r" b="b"/>
              <a:pathLst>
                <a:path w="382" h="238">
                  <a:moveTo>
                    <a:pt x="0" y="0"/>
                  </a:moveTo>
                  <a:lnTo>
                    <a:pt x="381" y="237"/>
                  </a:lnTo>
                </a:path>
              </a:pathLst>
            </a:custGeom>
            <a:noFill/>
            <a:ln cap="rnd" w="12600">
              <a:solidFill>
                <a:srgbClr val="66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00400" y="3200400"/>
              <a:ext cx="611280" cy="1440"/>
            </a:xfrm>
            <a:custGeom>
              <a:avLst/>
              <a:gdLst/>
              <a:ahLst/>
              <a:rect l="l" t="t" r="r" b="b"/>
              <a:pathLst>
                <a:path w="385" h="1">
                  <a:moveTo>
                    <a:pt x="0" y="0"/>
                  </a:moveTo>
                  <a:lnTo>
                    <a:pt x="384" y="0"/>
                  </a:lnTo>
                </a:path>
              </a:pathLst>
            </a:custGeom>
            <a:noFill/>
            <a:ln cap="rnd" w="12600">
              <a:solidFill>
                <a:srgbClr val="66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9000" y="3738600"/>
              <a:ext cx="606600" cy="377640"/>
            </a:xfrm>
            <a:custGeom>
              <a:avLst/>
              <a:gdLst/>
              <a:ahLst/>
              <a:rect l="l" t="t" r="r" b="b"/>
              <a:pathLst>
                <a:path w="382" h="238">
                  <a:moveTo>
                    <a:pt x="0" y="237"/>
                  </a:moveTo>
                  <a:lnTo>
                    <a:pt x="381" y="0"/>
                  </a:lnTo>
                </a:path>
              </a:pathLst>
            </a:custGeom>
            <a:noFill/>
            <a:ln cap="rnd" w="12600">
              <a:solidFill>
                <a:srgbClr val="66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638680" y="1981080"/>
            <a:ext cx="2286000" cy="2438640"/>
            <a:chOff x="5638680" y="1981080"/>
            <a:chExt cx="2286000" cy="2438640"/>
          </a:xfrm>
        </p:grpSpPr>
        <p:sp>
          <p:nvSpPr>
            <p:cNvPr id="118" name=""/>
            <p:cNvSpPr/>
            <p:nvPr/>
          </p:nvSpPr>
          <p:spPr>
            <a:xfrm>
              <a:off x="5867280" y="2895480"/>
              <a:ext cx="2057400" cy="609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Zwischenproduk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8680" y="3809880"/>
              <a:ext cx="2057400" cy="609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n- und Abfäl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38680" y="1981080"/>
              <a:ext cx="2057400" cy="609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Endproduk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110200" y="2286000"/>
            <a:ext cx="758880" cy="1830240"/>
            <a:chOff x="5110200" y="2286000"/>
            <a:chExt cx="758880" cy="1830240"/>
          </a:xfrm>
        </p:grpSpPr>
        <p:sp>
          <p:nvSpPr>
            <p:cNvPr id="122" name=""/>
            <p:cNvSpPr/>
            <p:nvPr/>
          </p:nvSpPr>
          <p:spPr>
            <a:xfrm>
              <a:off x="5110200" y="2286000"/>
              <a:ext cx="530280" cy="378000"/>
            </a:xfrm>
            <a:custGeom>
              <a:avLst/>
              <a:gdLst/>
              <a:ahLst/>
              <a:rect l="l" t="t" r="r" b="b"/>
              <a:pathLst>
                <a:path w="334" h="238">
                  <a:moveTo>
                    <a:pt x="0" y="237"/>
                  </a:moveTo>
                  <a:lnTo>
                    <a:pt x="333" y="0"/>
                  </a:lnTo>
                </a:path>
              </a:pathLst>
            </a:custGeom>
            <a:noFill/>
            <a:ln cap="rnd" w="12600">
              <a:solidFill>
                <a:srgbClr val="99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4120" y="3200400"/>
              <a:ext cx="534960" cy="1440"/>
            </a:xfrm>
            <a:custGeom>
              <a:avLst/>
              <a:gdLst/>
              <a:ahLst/>
              <a:rect l="l" t="t" r="r" b="b"/>
              <a:pathLst>
                <a:path w="337" h="1">
                  <a:moveTo>
                    <a:pt x="0" y="0"/>
                  </a:moveTo>
                  <a:lnTo>
                    <a:pt x="336" y="0"/>
                  </a:lnTo>
                </a:path>
              </a:pathLst>
            </a:custGeom>
            <a:noFill/>
            <a:ln cap="rnd" w="12600">
              <a:solidFill>
                <a:srgbClr val="99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10200" y="3738600"/>
              <a:ext cx="530280" cy="377640"/>
            </a:xfrm>
            <a:custGeom>
              <a:avLst/>
              <a:gdLst/>
              <a:ahLst/>
              <a:rect l="l" t="t" r="r" b="b"/>
              <a:pathLst>
                <a:path w="334" h="238">
                  <a:moveTo>
                    <a:pt x="0" y="0"/>
                  </a:moveTo>
                  <a:lnTo>
                    <a:pt x="333" y="237"/>
                  </a:lnTo>
                </a:path>
              </a:pathLst>
            </a:custGeom>
            <a:noFill/>
            <a:ln cap="rnd" w="12600">
              <a:solidFill>
                <a:srgbClr val="99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143000" y="1981080"/>
            <a:ext cx="2286000" cy="2438640"/>
            <a:chOff x="1143000" y="1981080"/>
            <a:chExt cx="2286000" cy="2438640"/>
          </a:xfrm>
        </p:grpSpPr>
        <p:sp>
          <p:nvSpPr>
            <p:cNvPr id="126" name=""/>
            <p:cNvSpPr/>
            <p:nvPr/>
          </p:nvSpPr>
          <p:spPr>
            <a:xfrm>
              <a:off x="1143000" y="2895480"/>
              <a:ext cx="2057400" cy="609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Energi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71600" y="3809880"/>
              <a:ext cx="2057400" cy="609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nlagen und Pers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71600" y="1981080"/>
              <a:ext cx="2057400" cy="609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Rohstoffe und Zwischenproduk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en senken den Bedienaufwand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5257440"/>
            <a:ext cx="7507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155880" indent="-15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Bei fixer Leistung des Systemstandards hat das Ausmaß der Zusatzprogrammierung den entscheidenden Einfluß auf die gesamte System-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642960" y="2847960"/>
            <a:ext cx="3722760" cy="4572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-640080" y="2846520"/>
            <a:ext cx="371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angs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6280" y="2863800"/>
            <a:ext cx="3733920" cy="4572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6058080" y="2863080"/>
            <a:ext cx="3730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spr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1880" y="1676520"/>
            <a:ext cx="5414760" cy="2896920"/>
            <a:chOff x="1901880" y="1676520"/>
            <a:chExt cx="5414760" cy="2896920"/>
          </a:xfrm>
        </p:grpSpPr>
        <p:grpSp>
          <p:nvGrpSpPr>
            <p:cNvPr id="136" name=""/>
            <p:cNvGrpSpPr/>
            <p:nvPr/>
          </p:nvGrpSpPr>
          <p:grpSpPr>
            <a:xfrm>
              <a:off x="1901880" y="3549600"/>
              <a:ext cx="5414760" cy="1023840"/>
              <a:chOff x="1901880" y="3549600"/>
              <a:chExt cx="5414760" cy="102384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1905120" y="3549600"/>
                <a:ext cx="5411520" cy="1023840"/>
                <a:chOff x="1905120" y="3549600"/>
                <a:chExt cx="5411520" cy="10238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905120" y="3549600"/>
                  <a:ext cx="5411520" cy="1023840"/>
                </a:xfrm>
                <a:custGeom>
                  <a:avLst/>
                  <a:gdLst/>
                  <a:ahLst/>
                  <a:rect l="l" t="t" r="r" b="b"/>
                  <a:pathLst>
                    <a:path w="3409" h="645">
                      <a:moveTo>
                        <a:pt x="3092" y="0"/>
                      </a:moveTo>
                      <a:lnTo>
                        <a:pt x="3092" y="108"/>
                      </a:lnTo>
                      <a:lnTo>
                        <a:pt x="0" y="108"/>
                      </a:lnTo>
                      <a:lnTo>
                        <a:pt x="0" y="536"/>
                      </a:lnTo>
                      <a:lnTo>
                        <a:pt x="3092" y="536"/>
                      </a:lnTo>
                      <a:lnTo>
                        <a:pt x="3092" y="644"/>
                      </a:lnTo>
                      <a:lnTo>
                        <a:pt x="3408" y="322"/>
                      </a:lnTo>
                      <a:lnTo>
                        <a:pt x="3092" y="0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996920" y="3722760"/>
                  <a:ext cx="49039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                        </a:t>
                  </a:r>
                  <a:r>
                    <a:rPr b="1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Bedienu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"/>
              <p:cNvSpPr/>
              <p:nvPr/>
            </p:nvSpPr>
            <p:spPr>
              <a:xfrm>
                <a:off x="1901880" y="3724200"/>
                <a:ext cx="1454040" cy="67464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11160" bIns="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SAP R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Stand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901880" y="1676520"/>
              <a:ext cx="5414760" cy="1023840"/>
              <a:chOff x="1901880" y="1676520"/>
              <a:chExt cx="5414760" cy="102384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1905120" y="1676520"/>
                <a:ext cx="5411520" cy="1023840"/>
                <a:chOff x="1905120" y="1676520"/>
                <a:chExt cx="5411520" cy="10238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905120" y="1676520"/>
                  <a:ext cx="5411520" cy="1023840"/>
                </a:xfrm>
                <a:custGeom>
                  <a:avLst/>
                  <a:gdLst/>
                  <a:ahLst/>
                  <a:rect l="l" t="t" r="r" b="b"/>
                  <a:pathLst>
                    <a:path w="3409" h="645">
                      <a:moveTo>
                        <a:pt x="3092" y="0"/>
                      </a:moveTo>
                      <a:lnTo>
                        <a:pt x="3092" y="108"/>
                      </a:lnTo>
                      <a:lnTo>
                        <a:pt x="0" y="108"/>
                      </a:lnTo>
                      <a:lnTo>
                        <a:pt x="0" y="536"/>
                      </a:lnTo>
                      <a:lnTo>
                        <a:pt x="3092" y="536"/>
                      </a:lnTo>
                      <a:lnTo>
                        <a:pt x="3092" y="644"/>
                      </a:lnTo>
                      <a:lnTo>
                        <a:pt x="3408" y="322"/>
                      </a:lnTo>
                      <a:lnTo>
                        <a:pt x="3092" y="0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96920" y="1849320"/>
                  <a:ext cx="490392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1160" bIns="11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                                                                              </a:t>
                  </a:r>
                  <a:r>
                    <a:rPr b="1" lang="de-DE" sz="1100" spc="-1" strike="noStrike">
                      <a:solidFill>
                        <a:srgbClr val="000000"/>
                      </a:solidFill>
                      <a:latin typeface="Arial"/>
                    </a:rPr>
                    <a:t>Bedienun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>
                <a:off x="1901880" y="1851120"/>
                <a:ext cx="1454040" cy="67464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11160" bIns="11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SAP R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Stand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"/>
          <p:cNvSpPr/>
          <p:nvPr/>
        </p:nvSpPr>
        <p:spPr>
          <a:xfrm>
            <a:off x="3352680" y="3727440"/>
            <a:ext cx="1524240" cy="66852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3" y="0"/>
                </a:lnTo>
                <a:lnTo>
                  <a:pt x="21600" y="10800"/>
                </a:lnTo>
                <a:lnTo>
                  <a:pt x="170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44840" y="3738600"/>
            <a:ext cx="11984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11160" bIns="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Arial"/>
              </a:rPr>
              <a:t>Zusatz-programmie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828800" y="1854360"/>
            <a:ext cx="5486400" cy="2732040"/>
            <a:chOff x="1828800" y="1854360"/>
            <a:chExt cx="5486400" cy="2732040"/>
          </a:xfrm>
        </p:grpSpPr>
        <p:sp>
          <p:nvSpPr>
            <p:cNvPr id="149" name=""/>
            <p:cNvSpPr/>
            <p:nvPr/>
          </p:nvSpPr>
          <p:spPr>
            <a:xfrm>
              <a:off x="3352680" y="1854360"/>
              <a:ext cx="2438640" cy="668160"/>
            </a:xfrm>
            <a:custGeom>
              <a:avLst/>
              <a:gdLst>
                <a:gd name="textAreaLeft" fmla="*/ 0 w 2438640"/>
                <a:gd name="textAreaRight" fmla="*/ 2438640 w 2438640"/>
                <a:gd name="textAreaTop" fmla="*/ 0 h 668160"/>
                <a:gd name="textAreaBottom" fmla="*/ 668520 h 66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03" y="0"/>
                  </a:lnTo>
                  <a:lnTo>
                    <a:pt x="21600" y="10800"/>
                  </a:lnTo>
                  <a:lnTo>
                    <a:pt x="1860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44840" y="1865160"/>
              <a:ext cx="20970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Zusatz-programmier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3519360"/>
              <a:ext cx="5486400" cy="10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2743200" y="1600200"/>
            <a:ext cx="3365640" cy="3137040"/>
            <a:chOff x="2743200" y="1600200"/>
            <a:chExt cx="3365640" cy="3137040"/>
          </a:xfrm>
        </p:grpSpPr>
        <p:sp>
          <p:nvSpPr>
            <p:cNvPr id="153" name=""/>
            <p:cNvSpPr/>
            <p:nvPr/>
          </p:nvSpPr>
          <p:spPr>
            <a:xfrm>
              <a:off x="3784680" y="2590920"/>
              <a:ext cx="1295280" cy="11430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2743200" y="1600200"/>
              <a:ext cx="3365640" cy="3137040"/>
              <a:chOff x="2743200" y="1600200"/>
              <a:chExt cx="3365640" cy="3137040"/>
            </a:xfrm>
          </p:grpSpPr>
          <p:pic>
            <p:nvPicPr>
              <p:cNvPr id="15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43200" y="1600200"/>
                <a:ext cx="3365640" cy="313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>
                <a:off x="3300480" y="2090880"/>
                <a:ext cx="2238480" cy="21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2973240" y="1754280"/>
              <a:ext cx="2892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usatz-programm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 als Ergänzung zum SAP-Standard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Zusatzprogrammierungen sollen den SAP-Standard sinnvoll ergänz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38280" y="2666880"/>
            <a:ext cx="1524240" cy="68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36920" y="2719440"/>
            <a:ext cx="13269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ersonalisierte Menü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2666880"/>
            <a:ext cx="1523880" cy="68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75200" y="2719440"/>
            <a:ext cx="1327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ersonalisierte Scre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3581280"/>
            <a:ext cx="1523880" cy="68580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55880" y="3633840"/>
            <a:ext cx="1327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ta-transaktio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 als Ergänzung zum SAP-Standard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09680" y="2209680"/>
            <a:ext cx="60595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88280" indent="-188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berücksichtigen die Abläufe in den Bereichen, für die sie erstellt wu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erweitern das Standard-SAP um Ihre betrieblichen Abläu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entfalten ihre Vorteile bei Neueinführung von SAP R/3 oder in einer bestehenden Systemumgeb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Betriebliche Abläufe müssen nicht angepass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5800" y="1143000"/>
            <a:ext cx="1440000" cy="1149480"/>
            <a:chOff x="685800" y="1143000"/>
            <a:chExt cx="1440000" cy="1149480"/>
          </a:xfrm>
        </p:grpSpPr>
        <p:sp>
          <p:nvSpPr>
            <p:cNvPr id="169" name=""/>
            <p:cNvSpPr/>
            <p:nvPr/>
          </p:nvSpPr>
          <p:spPr>
            <a:xfrm>
              <a:off x="1174680" y="1503360"/>
              <a:ext cx="471600" cy="4158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797040" y="1143000"/>
              <a:ext cx="1230120" cy="1149480"/>
              <a:chOff x="797040" y="1143000"/>
              <a:chExt cx="1230120" cy="1149480"/>
            </a:xfrm>
          </p:grpSpPr>
          <p:pic>
            <p:nvPicPr>
              <p:cNvPr id="1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7040" y="1143000"/>
                <a:ext cx="1230120" cy="114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1041480" y="1343160"/>
                <a:ext cx="728640" cy="73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685800" y="1530360"/>
              <a:ext cx="554040" cy="25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71760" y="1530360"/>
              <a:ext cx="554040" cy="25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28600" y="1863720"/>
              <a:ext cx="554040" cy="249120"/>
            </a:xfrm>
            <a:prstGeom prst="rect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80920" y="1189080"/>
              <a:ext cx="1049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Zusatz-programmier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 als Ergänzung zum SAP-Standard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09680" y="2209320"/>
            <a:ext cx="60595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berücksichtigen die Qualifikation der Anwe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entlasten von Routine- einga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vermeiden unnötige Systembedienungen und Fehleinga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nwender in die Entwicklung einbeziehen. Key-User als Mitglieder der Projektorganis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85800" y="1143000"/>
            <a:ext cx="1440000" cy="1149480"/>
            <a:chOff x="685800" y="1143000"/>
            <a:chExt cx="1440000" cy="1149480"/>
          </a:xfrm>
        </p:grpSpPr>
        <p:sp>
          <p:nvSpPr>
            <p:cNvPr id="180" name=""/>
            <p:cNvSpPr/>
            <p:nvPr/>
          </p:nvSpPr>
          <p:spPr>
            <a:xfrm>
              <a:off x="1174680" y="1503360"/>
              <a:ext cx="471600" cy="4158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797040" y="1143000"/>
              <a:ext cx="1230120" cy="1149480"/>
              <a:chOff x="797040" y="1143000"/>
              <a:chExt cx="1230120" cy="1149480"/>
            </a:xfrm>
          </p:grpSpPr>
          <p:pic>
            <p:nvPicPr>
              <p:cNvPr id="18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7040" y="1143000"/>
                <a:ext cx="1230120" cy="114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1041480" y="1343160"/>
                <a:ext cx="728640" cy="73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685800" y="1530360"/>
              <a:ext cx="554040" cy="25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71760" y="1530360"/>
              <a:ext cx="554040" cy="250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8600" y="1863720"/>
              <a:ext cx="554040" cy="249120"/>
            </a:xfrm>
            <a:prstGeom prst="rect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80920" y="1189080"/>
              <a:ext cx="1049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Arial"/>
                </a:rPr>
                <a:t>Zusatz-programmier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1:26:31Z</dcterms:created>
  <dc:creator>Degussa AG</dc:creator>
  <dc:description/>
  <dc:language>en-US</dc:language>
  <cp:lastModifiedBy>Dr.Jochen Winkler</cp:lastModifiedBy>
  <cp:lastPrinted>2000-09-11T06:16:39Z</cp:lastPrinted>
  <dcterms:modified xsi:type="dcterms:W3CDTF">2000-09-12T15:59:36Z</dcterms:modified>
  <cp:revision>1</cp:revision>
  <dc:subject/>
  <dc:title>Musterfolie Degussa-Hüls, farbig, TNR 32</dc:title>
</cp:coreProperties>
</file>