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F060CF6-E1D6-45BC-97E3-F6A901FC4C3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.09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6840" y="7101000"/>
            <a:ext cx="1695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0 - Chem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1000"/>
          </a:bodyPr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dhaltungsabwicklung (Mitarbe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utsche Amphibolin Werke, Ober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8960" indent="-1890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jekte 2000 -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 Pharma GmbH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2000 - Chemie / Pharma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Chemie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harma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s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Monat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2000 - Chemie / Pharma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Datenban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Auftr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IstHerstellkosten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 (Chemi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Einbind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Jochen Winkler</cp:lastModifiedBy>
  <cp:lastPrinted>2000-01-20T10:19:05Z</cp:lastPrinted>
  <dcterms:modified xsi:type="dcterms:W3CDTF">2000-09-16T20:35:52Z</dcterms:modified>
  <cp:revision>49</cp:revision>
  <dc:subject/>
  <dc:title>Kein Folientitel</dc:title>
</cp:coreProperties>
</file>