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3EE080F-1DBC-42FE-A32C-BBADCF54D13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9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695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- Chem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1000"/>
          </a:bodyPr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dhaltungsabwicklung (Mitarb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utsche Amphibolin Werke, Ober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jekte 2000 -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 Pharma GmbH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2000 - Chemie / Pharma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Chemie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harma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s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Monat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2000 - Chemie / Pharma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IstHerstellkosten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Chemi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Einbind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Jochen Winkler</cp:lastModifiedBy>
  <cp:lastPrinted>2000-01-20T10:19:05Z</cp:lastPrinted>
  <dcterms:modified xsi:type="dcterms:W3CDTF">2000-09-16T20:35:52Z</dcterms:modified>
  <cp:revision>49</cp:revision>
  <dc:subject/>
  <dc:title>Kein Folientitel</dc:title>
</cp:coreProperties>
</file>