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wmf" ContentType="image/x-wmf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907588" cy="7621588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7256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6424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8088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7256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6424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423360"/>
            <a:ext cx="91440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077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60520" indent="-20808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9640" y="1015920"/>
            <a:ext cx="8017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00280" y="10159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01760" y="1100160"/>
            <a:ext cx="90914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86160" y="7101000"/>
            <a:ext cx="9061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F6E7AD5B-F602-4EAF-92C1-28DB87D31849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270600" y="7101000"/>
            <a:ext cx="57708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.08.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904040" y="7101000"/>
            <a:ext cx="92124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Thomas Mickle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952880" y="7101000"/>
            <a:ext cx="239220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jektsystem in der Forschung und Entwickl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20920" y="6870600"/>
            <a:ext cx="605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ktsystem in der Forschung und Entwicklung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pl. Ing. Thomas Mickley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ulting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nkfurt, den 25.8.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809880" y="2666880"/>
          <a:ext cx="990720" cy="68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666880"/>
                    <a:ext cx="9907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80880" y="42372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ktablau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1371600"/>
            <a:ext cx="914400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rmAutofit/>
          </a:bodyPr>
          <a:p>
            <a:pPr marL="208080" indent="-2080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finition des Projek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586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586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ktbegi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586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kte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7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fbau der Projektstruktur durch PSP-Elem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58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ition der Unterprojek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6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finition von Meilenstei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58680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ktfreigabe ertei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58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kt in Produktion überfüh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6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knüpfung mit Rezepturen, Proben und Dokumen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80880" y="42372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ktablau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1440000"/>
            <a:ext cx="9144000" cy="53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rmAutofit/>
          </a:bodyPr>
          <a:p>
            <a:pPr marL="208080" indent="-2080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uswertu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320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S-Standardauswertu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320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satzauswertungen über eigene Struktu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5520" indent="78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zeptur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5520" indent="78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üfergebni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5520" indent="78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ergleiche mit Wettbewerberproduk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5520" indent="78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Metatransaktionen über PS und eigene Struktu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320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sken sind auf Anwender zugeschnit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320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gration der </a:t>
            </a:r>
            <a:r>
              <a:rPr b="1" lang="de-DE" sz="1800" spc="-1" strike="noStrike">
                <a:solidFill>
                  <a:srgbClr val="000000"/>
                </a:solidFill>
                <a:latin typeface="Braggadocio"/>
              </a:rPr>
              <a:t>jw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zepturdatenbank und des </a:t>
            </a:r>
            <a:r>
              <a:rPr b="1" lang="de-DE" sz="2000" spc="-1" strike="noStrike">
                <a:solidFill>
                  <a:srgbClr val="000000"/>
                </a:solidFill>
                <a:latin typeface="Braggadocio"/>
              </a:rPr>
              <a:t>jw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I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320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weiterb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itere Möglichkeit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Nutzung von Netzplän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3204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lanung und Überwachung von Termin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3204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ssourcenmanag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Materialmanagem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320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ar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320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s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320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terialfluß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Fertigungshilfsmitt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320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320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ermi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üme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9144000" cy="404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ariable Abbildung und Steuerung von Projek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infache Bedienbarkeit durch angepaßte Pflegemask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Terminier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ostenabrechn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rweiterba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tegration zusätzlicher Komponen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Releasesich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80880" y="42372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ktsystem für Forschung und Entwicklung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1440000"/>
            <a:ext cx="9144000" cy="53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rmAutofit/>
          </a:bodyPr>
          <a:p>
            <a:pPr marL="208080" indent="-208080"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pl. Ing. Thomas Mickley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ulting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nkfurt, den 25.8.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3809880" y="2666880"/>
          <a:ext cx="990720" cy="68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666880"/>
                    <a:ext cx="9907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142640" y="19807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700"/>
              </a:spcBef>
              <a:spcAft>
                <a:spcPts val="1749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orbemerkung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700"/>
              </a:spcBef>
              <a:spcAft>
                <a:spcPts val="1749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uktur von F&amp;E Projekt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700"/>
              </a:spcBef>
              <a:spcAft>
                <a:spcPts val="1749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lauf von F&amp;E Projekt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700"/>
              </a:spcBef>
              <a:spcAft>
                <a:spcPts val="1749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itere Möglichkeit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700"/>
              </a:spcBef>
              <a:spcAft>
                <a:spcPts val="1749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üme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700"/>
              </a:spcBef>
              <a:spcAft>
                <a:spcPts val="1749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kus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380880" y="533520"/>
            <a:ext cx="9144000" cy="5666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ktsystem in der Forschung und Entwicklung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ktsystem in der F&amp;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9144000" cy="3894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700"/>
              </a:spcBef>
              <a:spcAft>
                <a:spcPts val="3501"/>
              </a:spcAft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Vorbemerkung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40000"/>
              </a:lnSpc>
              <a:spcBef>
                <a:spcPts val="550"/>
              </a:spcBef>
              <a:spcAft>
                <a:spcPts val="2750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Grundlage Modul Projektsystem im SA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rweiterung des Standards durch </a:t>
            </a:r>
            <a:r>
              <a:rPr b="0" lang="de-DE" sz="18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Forschung&amp;Entwickl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86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gene Strukture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8680">
              <a:spcBef>
                <a:spcPts val="499"/>
              </a:spcBef>
              <a:spcAft>
                <a:spcPts val="2500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gene Mask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spcAft>
                <a:spcPts val="2750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grammierung mit ABAP Workbenc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uktur von F&amp;E Projekt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9144000" cy="31320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lnSpc>
                <a:spcPct val="13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de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6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jektbegin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6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stansätze und Prüf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6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ntscheidung ob es produktiv genutzt werden kan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6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jekten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80880" y="838080"/>
            <a:ext cx="92203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762120"/>
            <a:ext cx="251460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6934320"/>
            <a:ext cx="921996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Entwicklung" descr=""/>
          <p:cNvPicPr/>
          <p:nvPr/>
        </p:nvPicPr>
        <p:blipFill>
          <a:blip r:embed="rId1"/>
          <a:stretch/>
        </p:blipFill>
        <p:spPr>
          <a:xfrm>
            <a:off x="1371600" y="152280"/>
            <a:ext cx="58723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uktur von F&amp;E Projekt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lnSpc>
                <a:spcPct val="13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bildung der Struktur durch PSP-Element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0772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terteilung in Unterprojek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utzung einer umfangreichen Statusverwalt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knüpfung mit Rezeptur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knüpfung mit Laborprob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knüpfung mit Dokumen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0772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.B. Word, Excel und Grafik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80880" y="42372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kt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884240" y="1608120"/>
          <a:ext cx="6135840" cy="440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84240" y="1608120"/>
                    <a:ext cx="6135840" cy="44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ktablauf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265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lnSpc>
                <a:spcPct val="13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Meilensteine für Terminierung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6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Zusammenspiel von Status und Meilenstein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6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Triggerung von Workflowaufgab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86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formation bestimmter Person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86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legen eines Prüfauftrages im LI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6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ostenabrechnung auf Projekt bzw. Unterprojek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86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üfkosten intern/exter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86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zei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5T12:09:53Z</dcterms:created>
  <dc:creator>Thomas Mickley</dc:creator>
  <dc:description/>
  <dc:language>en-US</dc:language>
  <cp:lastModifiedBy>Dr.Jochen Winkler</cp:lastModifiedBy>
  <cp:lastPrinted>2000-08-22T07:43:11Z</cp:lastPrinted>
  <dcterms:modified xsi:type="dcterms:W3CDTF">2000-08-23T12:45:45Z</dcterms:modified>
  <cp:revision>69</cp:revision>
  <dc:subject/>
  <dc:title>Kein Folientitel</dc:title>
</cp:coreProperties>
</file>