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748D0B8A-4F91-4655-A4EA-E54BE2B591E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0600" y="7101000"/>
            <a:ext cx="5770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.08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4040" y="7101000"/>
            <a:ext cx="921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23922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ktsystem in der Forschung und Entwickl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ystem in der Forschung und Entwicklung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25.8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blau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371600"/>
            <a:ext cx="914400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 des Projek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begi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e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7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bau der Projektstruktur durch PSP-Ele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der Unterproje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 von Meilenstei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freigabe ertei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 in Produktion überfüh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Rezepturen, Proben und Dokumen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blau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swert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S-Standardauswert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atzauswertungen über eigene Strukt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zeptur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ergebni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gleiche mit Wettbewerberproduk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etatransaktionen über PS und eigene Strukt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sken sind auf Anwender zugeschn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gration der </a:t>
            </a:r>
            <a:r>
              <a:rPr b="1" lang="de-DE" sz="1800" spc="-1" strike="noStrike">
                <a:solidFill>
                  <a:srgbClr val="0000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zepturdatenbank und des </a:t>
            </a:r>
            <a:r>
              <a:rPr b="1" lang="de-DE" sz="2000" spc="-1" strike="noStrike">
                <a:solidFill>
                  <a:srgbClr val="0000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tere Möglichkei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utzung von Netzplän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nung und Überwachung von Termi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ssourcen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aterial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ar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flu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ertigungshilfsmitt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rm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9144000" cy="404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ariable Abbildung und Steuerung von Proje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fache Bedienbarkeit durch angepaßte Pflegemas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ermini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stenab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zusätzlicher Komponen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leasesich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ystem für Forschung und Entwicklu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25.8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rbemerkun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ktur von F&amp;E Projek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lauf von F&amp;E Projek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itere Möglichkei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80880" y="533520"/>
            <a:ext cx="9144000" cy="566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ystem in der Forschung und Entwicklung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ystem in der F&amp;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9144000" cy="389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bemerkun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40000"/>
              </a:lnSpc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rundlage Modul Projektsystem im SA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ung des Standards durch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orschung&amp;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gene Struktur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spcAft>
                <a:spcPts val="250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gene Mas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grammierung mit ABAP Workbenc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ktur von F&amp;E Projek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9144000" cy="3132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ktbegin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stansätze und 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scheidung ob es produktiv genutzt werden kan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kten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838080"/>
            <a:ext cx="92203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762120"/>
            <a:ext cx="251460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6934320"/>
            <a:ext cx="92199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Entwicklung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58723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ktur von F&amp;E Projek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bildung der Struktur durch PSP-Elemen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erteilung in Unter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tzung einer umfangreichen Statu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Rezeptu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Laborpro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Dokumen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.B. Word, Excel und Grafi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884240" y="1608120"/>
          <a:ext cx="613584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4240" y="1608120"/>
                    <a:ext cx="613584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blau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265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eilensteine für Terminieru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sammenspiel von Status und Meilenstei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riggerung von Workflowaufga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bestimmter Pers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legen eines Prüfauftrages im LI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stenabrechnung auf Projekt bzw. Unterprojek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kosten intern/exter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zei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Jochen Winkler</cp:lastModifiedBy>
  <cp:lastPrinted>2000-08-22T07:43:11Z</cp:lastPrinted>
  <dcterms:modified xsi:type="dcterms:W3CDTF">2000-08-23T12:45:45Z</dcterms:modified>
  <cp:revision>69</cp:revision>
  <dc:subject/>
  <dc:title>Kein Folientitel</dc:title>
</cp:coreProperties>
</file>