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65DC7CC-154D-4B0F-A43A-7A1015870A8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8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2207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entrale Rezepturdatenbank und 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Generierung von SAP-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von externen Systemen und Masch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3589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 auf alle im SAP vorhandenen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wenderspezifisch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8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4191120"/>
          <a:ext cx="30481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91120"/>
                    <a:ext cx="30481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erführung von Entwicklungsrezepturen in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 mit Hilfe der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AP-Strukturen und Ergänzung durch eigene   Struk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 am SAP-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legemasken sind auf Anwender abgestimm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iebig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eilung in Kopf und Posi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satzgröß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r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s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ons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itionsart z.B. Text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satzst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spcAft>
                <a:spcPts val="275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Jochen Winkler</cp:lastModifiedBy>
  <cp:lastPrinted>2000-08-22T08:01:00Z</cp:lastPrinted>
  <dcterms:modified xsi:type="dcterms:W3CDTF">2000-08-23T12:41:12Z</dcterms:modified>
  <cp:revision>24</cp:revision>
  <dc:subject/>
  <dc:title>Kein Folientitel</dc:title>
</cp:coreProperties>
</file>