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0580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52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244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0580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52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2440" y="380880"/>
            <a:ext cx="8439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190440" indent="-1904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990720"/>
            <a:ext cx="8391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19800" y="6391440"/>
            <a:ext cx="79416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4A5C015-FE0E-4181-84DE-317915E0A92F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35160" y="6391440"/>
            <a:ext cx="6066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5.08.2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76600" y="6391440"/>
            <a:ext cx="62208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urt Fan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82080" y="6391440"/>
            <a:ext cx="4572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wLIM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85280" y="6183360"/>
            <a:ext cx="551880" cy="52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9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SAP R/3 QM 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Workshop</a:t>
            </a:r>
            <a:br>
              <a:rPr sz="31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der</a:t>
            </a:r>
            <a:br>
              <a:rPr sz="3100"/>
            </a:br>
            <a:r>
              <a:rPr b="0" lang="de-DE" sz="31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consulting</a:t>
            </a:r>
            <a:br>
              <a:rPr sz="2000"/>
            </a:br>
            <a:br>
              <a:rPr sz="20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8.20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schu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iodisches, automatisches Anlegen von Pro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llen von Berich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andhaltung (P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mittelverwaltung innerhalb Q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pla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aufträ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prüf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pektionsplanung und -abwicklung innerhalb PM mittels Prüfaufträgen in Q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D / FI (in Entwicklu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ll integrierte automatische Abwicklung für Dienstleistungslab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bindung von Kunden über Intra- und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 Prüfkostenabrechnung über alle Pro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O- und GMP-kompati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I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sschutz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dit-Trail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olgsfaktoren bei der Realisier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bau auf einem erprobten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ranchen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ahrenes, eingespieltes Beraterte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ximale Unterstützung durch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lle Releasefähig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ektive Modellierung komplexer technologisch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ennung Oberfläche von  Daten und 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nutzerdefinierte Menüs und 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führliche Funktions- und Anwendungsdokum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r Geschäftsprozesse (z.B. LIM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st Vermeidung von bidirektionalen Kopplun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isierte Einbindung von Pre- und Postprozess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etzwerke von Systemen (ALE/IDOC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zenten (z.B. Chemiewe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leister (z.B. Zentraleinkau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, Liefera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aller anfallenden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zessbegleitende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schungs- und Entwickl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der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mdmust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ücksichtigung von Nachweis- 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stimmungsgrenzen bei der Ergebnis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knüpfen von beliebigen Dokumenten mit Merkma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d / oder Prob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dundanzfreie Q-Sicht auf Bestän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ntrale Datenh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 probenbezogene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registr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ssourc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fassende Such- und Auswerte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dit-Trail-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griffsschutz / Daten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ahme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abellarische Werte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 Prüfkosten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 Zertifikatsdru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gleich aller Bestände bei Spezifikationsän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 ungeplanten Proben sind alle Prüfparameter bis zur Ergebniseingabe modifizi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umfang ungeplanter Proben kann aus allen Prüfplänen und / oder Spezifikationen frei zusammengestellt werd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ung (VE) gegen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rstellung des Verwendungsentscheids für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 QM 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9528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folgsfaktoren für S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oraussetzungen für ein integriertes SAP-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nforderungen an ein solches 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folgsfaktoren für die Einfüh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ntwicklungsprinzipien </a:t>
            </a:r>
            <a:r>
              <a:rPr b="0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nktionalität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skuss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te Funktionen zur Nachuntersuchung (MHD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e Änderungsfunktion für Halt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rhythmen für alle Merkmal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, periodischer Prüfanstoß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otbildung, mit automatischer Mittelwertberechnung der Prüfwerte und automatischen Materialumbuch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ariable Validierung von Ergebnissen und 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71360" indent="-171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teilte Prüfungen über mehrere Labo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fremdvergebener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ückstellmuster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waltung von Hilfsstoffen und Reagenz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lanung, Verwaltung und Durchführung von Frei- und / Schnellbewitterungen sowie Objektmonitor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schluß von Meßgeräten / Barcodeleser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mittel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r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ibr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29528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mmdaten in SAP Standardtabe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en sind als SAP Prüfpläne zum Stoff abgebild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lle relevanten Daten zur Spezifikation ,d.h. auch die Zertifikatsrelevanz, werden zentral im Prüfplan gepfle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en können an beliebige Objekte geknüpf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gru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ä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29528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 Spezifikationsverarbei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ordnung Stoff / Spezifikation zum Kun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Spezifikationsermittlung im Auftrag (Auswahl bei fehlender Eindeutigke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plette VE-Info über alle verfügbaren Spezifikationen in allen Bestandssi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 und / oder Kunde als zusätzliches Selektionskriterium in den Bestandssi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Chargenfindung in der Lief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Verwendbarkeitsprüfung von Chargen in der Lief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9528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rtifikatserstell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r eine Vorlag je Zertifikatstyp notwendig                (Ausnahme =&gt; Zertifikat mit Daten aus der Produktionsket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verse Add-Ons und Zusatzfunktionen zur Zertifikatserstellung verfüg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 mit Zusatz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mmenfassung von Prüfwe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chen- oder Monatszertifikate mit Kennwertberechn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Freigabepro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6800"/>
          <a:stretch/>
        </p:blipFill>
        <p:spPr>
          <a:xfrm>
            <a:off x="304920" y="609480"/>
            <a:ext cx="853416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Sonderpro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22114"/>
          <a:stretch/>
        </p:blipFill>
        <p:spPr>
          <a:xfrm>
            <a:off x="228600" y="685800"/>
            <a:ext cx="86868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Sonderprob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auswahl (I)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20003"/>
          <a:stretch/>
        </p:blipFill>
        <p:spPr>
          <a:xfrm>
            <a:off x="304920" y="990720"/>
            <a:ext cx="8610480" cy="51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Sonderprob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auswahl (II)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21573"/>
          <a:stretch/>
        </p:blipFill>
        <p:spPr>
          <a:xfrm>
            <a:off x="304920" y="990720"/>
            <a:ext cx="8686800" cy="51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rteeingabe Sonderprob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24448"/>
          <a:stretch/>
        </p:blipFill>
        <p:spPr>
          <a:xfrm>
            <a:off x="380880" y="914400"/>
            <a:ext cx="83822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wird  SAP R/3 eingesetz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914400"/>
          <a:ext cx="84582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4582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Freigabepro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39543"/>
          <a:stretch/>
        </p:blipFill>
        <p:spPr>
          <a:xfrm>
            <a:off x="304920" y="990720"/>
            <a:ext cx="8686800" cy="51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elle Zertifikate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31732" b="0"/>
          <a:stretch/>
        </p:blipFill>
        <p:spPr>
          <a:xfrm>
            <a:off x="380880" y="685800"/>
            <a:ext cx="838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elle Zertifikate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- und langfristig erheblichen Kostenvortei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SAP R/3 QM 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Workshop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der</a:t>
            </a:r>
            <a:br>
              <a:rPr sz="3100"/>
            </a:br>
            <a:r>
              <a:rPr b="0" lang="de-DE" sz="31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consulting </a:t>
            </a:r>
            <a:br>
              <a:rPr sz="2000"/>
            </a:br>
            <a:br>
              <a:rPr sz="20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8.20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wird  SAP R/3 eingesetz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ndard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deckung aller Geschäfts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nehmensweite 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nehmensweite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konsist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ungewollten Redunda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wird  SAP R/3 eingesetz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 Transparenz d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mierung von Proz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von Synerg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reduz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lfd. 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wird  SAP R/3 eingesetz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izienzsteig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einfachung von technologischen Upgrad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fügbarkeit und Qualität von Informatione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en gesamten Produktlebenszyk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lang des gesamten primären logistischen Proz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aussetzungen für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ich Logisti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eckung alle benötigten Prüf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achung und Anpassung Haltbar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enbeurteilung aus Q-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llen und Bearbeiten v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eferantenreklam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reklam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n Problemmeld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erstellung und -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ich Forschung &amp; 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und flexible Probener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führung von Frei- und / Schnellbewitterungen sowie Objekt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Verwaltung von allen nicht in SAP zu führenden Materialien wie Hilfsstoffen und Reagenz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bilitäts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HISS-Nr.:62450</dc:creator>
  <dc:description/>
  <dc:language>en-US</dc:language>
  <cp:lastModifiedBy>Kurt Fantes</cp:lastModifiedBy>
  <cp:lastPrinted>1998-06-23T09:46:52Z</cp:lastPrinted>
  <dcterms:modified xsi:type="dcterms:W3CDTF">2000-08-24T18:02:31Z</dcterms:modified>
  <cp:revision>139</cp:revision>
  <dc:subject/>
  <dc:title>Intergriertes SAP R/3 LIMS</dc:title>
</cp:coreProperties>
</file>