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FB91005-AC1F-4C47-A68F-65A7369A9E9C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3516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.08.2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8528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</a:t>
            </a:r>
            <a:br>
              <a:rPr sz="31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consulting</a:t>
            </a: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8.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iodisches, automatisches Anlegen von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llen von Berich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ndhaltung (P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mittelverwaltung innerhalb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la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rüf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pektionsplanung und -abwicklung innerhalb PM mittels Prüfaufträgen in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D / FI (in Entwick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ll integrierte automatische Abwicklung für Dienstleistungslab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bindung von Kunden über Intra- und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Prüfkostenabrechnung über alle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- und GMP-kompat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aller anfallenden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ücksichtigung von Nachweis- 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immungsgrenzen bei der Ergebnis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en von beliebigen Dokumenten mit Merkma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 / oder Prob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dundanzfreie Q-Sicht auf Bestä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ntrale Datenh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 probenbezogene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registr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ahme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bellarische 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Bestände bei Spezifikations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ng (V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rstellung des Verwendungsentscheids für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S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forderungen an ein solches 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te Funktionen zur Nachuntersuchung (MHD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Änderungsfunktion für Halt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rhythmen für alle Merkmal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tbildung, mit automatischer Mittelwertberechnung der Prüfwerte und automatischen Materialumbuch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Validierung von Ergebnissen und 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eilte Prüfungen über mehrere Lab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stellmuste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altung von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, Verwaltung und Durchführung von Frei- und / Schnellbewitterungen sowie Objektmonitor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schluß von Meßgeräten / Barcodeles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9528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in SAP Standardtabe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sind als SAP Prüfpläne zum Stoff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relevanten Daten zur Spezifikation ,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gru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Spezifikationsverarbei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toff / Spezifikation zum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VE-Info über alle verfügbaren Spezifikationen in all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Verwendbarkeitsprüfung von Chargen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2952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von Prüfwe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chen- oder Monatszertifikate mit Kennwertbere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6800"/>
          <a:stretch/>
        </p:blipFill>
        <p:spPr>
          <a:xfrm>
            <a:off x="304920" y="609480"/>
            <a:ext cx="853416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22114"/>
          <a:stretch/>
        </p:blipFill>
        <p:spPr>
          <a:xfrm>
            <a:off x="228600" y="6858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(I)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20003"/>
          <a:stretch/>
        </p:blipFill>
        <p:spPr>
          <a:xfrm>
            <a:off x="304920" y="990720"/>
            <a:ext cx="861048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(II)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21573"/>
          <a:stretch/>
        </p:blipFill>
        <p:spPr>
          <a:xfrm>
            <a:off x="304920" y="990720"/>
            <a:ext cx="8686800" cy="51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eeingabe Sonderprob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24448"/>
          <a:stretch/>
        </p:blipFill>
        <p:spPr>
          <a:xfrm>
            <a:off x="380880" y="91440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914400"/>
          <a:ext cx="845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39543"/>
          <a:stretch/>
        </p:blipFill>
        <p:spPr>
          <a:xfrm>
            <a:off x="304920" y="990720"/>
            <a:ext cx="868680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380880" y="6858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consulting </a:t>
            </a: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8.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alle benötigten Prüf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achung und Anpassung 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beurteilung aus Q-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en und Bearbeiten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n Problemmel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erstellung und -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Forschung &amp;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führung von Frei- und / Schnellbewitterungen sowie Objekt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Verwaltung von allen nicht in SAP zu führenden Materialien wie Hilfsstoffen und Reagenz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bilität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Kurt Fantes</cp:lastModifiedBy>
  <cp:lastPrinted>1998-06-23T09:46:52Z</cp:lastPrinted>
  <dcterms:modified xsi:type="dcterms:W3CDTF">2000-08-24T18:02:31Z</dcterms:modified>
  <cp:revision>139</cp:revision>
  <dc:subject/>
  <dc:title>Intergriertes SAP R/3 LIMS</dc:title>
</cp:coreProperties>
</file>