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ACC982C-B8D4-4EF0-BBFE-BD5AB974B32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3480" y="70866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08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6840" y="7101000"/>
            <a:ext cx="1695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e und Entwicklungen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jekte 2000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marL="2016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datenbank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arbeit Instandhaltungsabwickl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jekte 2000 - Pharma /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/ LIMS, Materialwirtschaf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, 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erne St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elldaten über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3 Kopplungen im Klinikum Stuttgart (Studie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linikum Wuppert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2000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hemie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harma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sPlanun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19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19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sAbrechn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19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Datenbank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19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pothek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20.9.)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genHerstell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20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hemoTherapi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20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Jochen Winkler</cp:lastModifiedBy>
  <cp:lastPrinted>2000-01-20T10:19:05Z</cp:lastPrinted>
  <dcterms:modified xsi:type="dcterms:W3CDTF">2000-08-25T19:44:43Z</dcterms:modified>
  <cp:revision>31</cp:revision>
  <dc:subject/>
  <dc:title>Kein Folientitel</dc:title>
</cp:coreProperties>
</file>