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7621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9DC72448-C51E-42BD-8AFC-2BD4A51BD23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13480" y="7086600"/>
            <a:ext cx="5770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.08.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23880" y="7086600"/>
            <a:ext cx="332100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r. J. Winkler       http://www.jwconsulting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6840" y="7101000"/>
            <a:ext cx="169560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jekte und Entwicklungen 2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2092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e und Entwicklungen 200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25.8.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jekte 2000 - Chemie / Phar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7000"/>
          </a:bodyPr>
          <a:p>
            <a:pPr marL="20160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-Hüls AG / SG Sivento, Rheinfel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1600" indent="-2012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gration in gemeinsames Chemie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1600" indent="-2012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griertes LI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1600" indent="-2012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duktionsplanung, -durchführung und -abrech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1600" indent="-2012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stkostenrech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1600" indent="-2012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undendatenbank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160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-Hüls AG / SG Creanova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1600" indent="-2012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M für Lackrohstoff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1600" indent="-2012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MS für Technische Kunststoff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160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fracor GmbH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1600" indent="-2012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arbeit Instandhaltungsabwicklung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160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ventis Pharma Deutschland GmbH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1600" indent="-2012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zneimittelbestellungen über Intern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jekte 2000 - Pharma / Mediz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sta Medica GmbH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M / LIMS, Materialwirtschaf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eferantenbeurteilung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atharinenhospital, Stuttga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potheke, Eigenherstel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xterne Stati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hemotherapi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telldaten über Intern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/3 Kopplungen im Klinikum Stuttgart (Studie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linikum Wuppert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pothek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ntwicklungen 2000 - Chemie / Phar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hemieLab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harmaLab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duktionsPlanung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(Workshop 19.9.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duktion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(Workshop 19.9.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onatsAbrechnung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(Workshop 19.9.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Forschung&amp;Entwick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undenDatenbank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(Workshop 19.9.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stkostenRechnung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en 2000 - Mediz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potheke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(Workshop 20.9.)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igenHerstellung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(Workshop 20.9.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hemoTherapie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(Workshop 20.9.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e und Entwicklungen 200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25.8.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Dr.Jochen Winkler</dc:creator>
  <dc:description/>
  <dc:language>en-US</dc:language>
  <cp:lastModifiedBy>Dr.Jochen Winkler</cp:lastModifiedBy>
  <cp:lastPrinted>2000-01-20T10:19:05Z</cp:lastPrinted>
  <dcterms:modified xsi:type="dcterms:W3CDTF">2000-08-25T19:44:43Z</dcterms:modified>
  <cp:revision>31</cp:revision>
  <dc:subject/>
  <dc:title>Kein Folientitel</dc:title>
</cp:coreProperties>
</file>