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86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ndner Congress 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25.08.2000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19920"/>
            <a:ext cx="8915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7AF0BE5-7449-48BA-8941-EA7FEA5D061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s SAP R/3-System und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dd-Ons von 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104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105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111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117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123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41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53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59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65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71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77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83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89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95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201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207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214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220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31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37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42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47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53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63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310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317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323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54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52280" y="617220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1F084D9-F43E-4D17-B508-34DF2DB1A71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onderheit der </a:t>
            </a:r>
            <a:r>
              <a:rPr b="1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73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in der Lage, viele SAP R/3 Module in kurzer Zeit mit hoher Qualität und Funktionalität einzuführ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73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etet on top dem Kunden release-feste Add-ons zur Einführung 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73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624852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D12010D-398B-4395-BD53-75297AFC811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zeigen von R/3-Funktionalitäten im Standard und darüber hinaus mit Hilfe von Add-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609588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BA139F74-E94F-48B7-BBDE-C59A2C13267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808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AP R/3 QM und das integrierte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beim Herstellen und Prüfen von Labor-, Technikums- und Produktionsansätz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bindung von Prüfmethoden an Dokum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argenverwaltung incl. -verwendungsnachweise,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. B. für Rohstoffe und Ansätz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estlegung von speziellen Prüfungen bei neuen Produkten mit langfristiger Prüfplan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kostenabrechn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609480"/>
            <a:ext cx="7239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enschwerpunk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278400"/>
            <a:ext cx="8839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0DCD5D0-9F42-4381-8E29-9DD80E608BE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AP R/3 PS in Verbindung mit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MS und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auftragung von F&amp;E-Projek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scheidung über neue Entwicklungsprojekte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wie deren Steuer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verwaltung mit Termin- und Kostenverfolg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controll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atisti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recherch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-Istkostenerfassung und -auswert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609480"/>
            <a:ext cx="72392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enschwerpunk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17220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46BBCAC-EEE3-43CA-9DB1-6E93D6A9FCC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971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.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114800"/>
            <a:ext cx="777240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17220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B19E659-989E-4D4B-98B7-24980A7AEEA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632448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734E4BE-4E55-478C-AD82-AD980A077B0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766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2362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209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2514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286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3124080"/>
            <a:ext cx="6858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chtigstes Ziel de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ein sicherer Produktivstart und eine hohe Akzeptanz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Anwende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17220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8B536AD-4504-4C41-AB1B-3B916B555EE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laufstelle für Fragen zu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ne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1760" y="236196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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http://www.jwconsulting.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32448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8229A18-4249-4CCF-978F-A3A11376BF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üls Sivento Chemie GmbH, Rheinfeld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nnolit Kunststoff GmbH, Isman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(Creanova), Mar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, Frankfurt (Charme-Projek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15328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fahrungen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Austausch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4560" y="8380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248520"/>
            <a:ext cx="89154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FD27DFB-54AC-4249-8469-971BAA1297F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-31680" y="0"/>
          <a:ext cx="9175680" cy="6862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680" y="0"/>
                    <a:ext cx="917568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52280" y="6324480"/>
            <a:ext cx="899172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A936A4E-58D4-4228-8509-225E729E81F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8.2000 in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1:20:53Z</dcterms:created>
  <dc:creator>ARS</dc:creator>
  <dc:description/>
  <dc:language>en-US</dc:language>
  <cp:lastModifiedBy>Dr.Jochen Winkler</cp:lastModifiedBy>
  <cp:lastPrinted>2000-08-23T10:48:55Z</cp:lastPrinted>
  <dcterms:modified xsi:type="dcterms:W3CDTF">2000-08-24T10:16:44Z</dcterms:modified>
  <cp:revision>85</cp:revision>
  <dc:subject/>
  <dc:title>SAP QM-Workshop der  jw consulting  17. 02.2000 </dc:title>
</cp:coreProperties>
</file>