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86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59560" y="63360"/>
            <a:ext cx="17492400" cy="13588920"/>
            <a:chOff x="-8359560" y="63360"/>
            <a:chExt cx="17492400" cy="135889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59560" y="63360"/>
              <a:ext cx="16719120" cy="135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36" swAng="5396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36" swAng="539673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ndner Congress Hote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25.08.2000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19920"/>
            <a:ext cx="8915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C5D4431D-4C9C-4F10-AA68-44A3E0FF78F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s SAP R/3-System und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Add-Ons von 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104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105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111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117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123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129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41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47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53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59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65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71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77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83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89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95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201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207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214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220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231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37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42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47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53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63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71480" y="3143160"/>
              <a:ext cx="2574000" cy="15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/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lient / Serv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orkbenc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310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317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323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ffcc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54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52280" y="6172200"/>
            <a:ext cx="899172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3ADE8D32-C1CE-455A-BD33-85DAEE864BA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onderheit der </a:t>
            </a:r>
            <a:r>
              <a:rPr b="1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762120" y="2362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673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 in der Lage, viele SAP R/3 Module in kurzer Zeit mit hoher Qualität und Funktionalität einzuführ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73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etet on top dem Kunden release-feste Add-ons zur Einführung 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73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" y="6248520"/>
            <a:ext cx="891540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C8001064-5716-49D4-B375-56B94A17631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762120" y="2362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zeigen von R/3-Funktionalitäten im Standard und darüber hinaus mit Hilfe von Add-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" y="6095880"/>
            <a:ext cx="891540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10F1820-A864-47EE-BBF6-DB0ED319832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AP R/3 QM und das integrierte </a:t>
            </a:r>
            <a:r>
              <a:rPr b="1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stützung beim Herstellen und Prüfen von Labor-, Technikums- und Produktionsansätz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bindung von Prüfmethoden an Dokumen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hargenverwaltung incl. -verwendungsnachweise,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. B. für Rohstoffe und Ansätz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estlegung von speziellen Prüfungen bei neuen Produkten mit langfristiger Prüfplanu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kostenabrechnu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609480"/>
            <a:ext cx="7239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menschwerpunk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6278400"/>
            <a:ext cx="8839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117F17A8-5F6C-46B9-A0E4-520DAD51A8A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AP R/3 PS in Verbindung mit </a:t>
            </a:r>
            <a:r>
              <a:rPr b="1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IMS und </a:t>
            </a:r>
            <a:r>
              <a:rPr b="1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auftragung von F&amp;E-Projek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scheidung über neue Entwicklungsprojekte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owie deren Steueru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verwaltung mit Termin- und Kostenverfolgu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controll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statisti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recherch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-Istkostenerfassung und -auswertu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609480"/>
            <a:ext cx="7239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menschwerpunk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172200"/>
            <a:ext cx="891540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2AE14761-8495-4EB4-9853-15660C863EB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urde a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. Juli 1996 von Dr. Jochen Winkler gegründet.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114800"/>
            <a:ext cx="777240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 Systemen in Unternehmen der Prozessindustri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172200"/>
            <a:ext cx="899172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1A622EE3-20A4-4461-AB00-0842ABB8EE3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61760" y="31237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6095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6324480"/>
            <a:ext cx="899172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58F89E70-FD84-4908-9F5D-C9C892C6B19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766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2362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2096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2514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2860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3124080"/>
            <a:ext cx="6858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chtigstes Ziel der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 ein sicherer Produktivstart und eine hohe Akzeptanz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Anwender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172200"/>
            <a:ext cx="891540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DC561A78-C3CF-4E5C-BC50-D1F017532EB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11430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laufstelle für Fragen zu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terne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61760" y="236196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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http://www.jwconsulting.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095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6324480"/>
            <a:ext cx="899172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DC9FB263-76F6-4EB2-880A-DCBCCA23B4F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üls Sivento Chemie GmbH, Rheinfeld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nnolit Kunststoff GmbH, Isman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(Creanova), Mar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, Frankfurt (Charme-Projekt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15328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fahrungen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Austausch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04560" y="8380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248520"/>
            <a:ext cx="891540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51F5339C-4B84-47A3-9CF3-E91C80C3778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-31680" y="0"/>
          <a:ext cx="9175680" cy="6862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680" y="0"/>
                    <a:ext cx="917568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52280" y="6324480"/>
            <a:ext cx="899172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7E93E82D-7297-43E8-A132-C4E4EE7A079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11:20:53Z</dcterms:created>
  <dc:creator>ARS</dc:creator>
  <dc:description/>
  <dc:language>en-US</dc:language>
  <cp:lastModifiedBy>Dr.Jochen Winkler</cp:lastModifiedBy>
  <cp:lastPrinted>2000-08-23T10:48:55Z</cp:lastPrinted>
  <dcterms:modified xsi:type="dcterms:W3CDTF">2000-08-24T10:16:44Z</dcterms:modified>
  <cp:revision>85</cp:revision>
  <dc:subject/>
  <dc:title>SAP QM-Workshop der  jw consulting  17. 02.2000 </dc:title>
</cp:coreProperties>
</file>