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9.jpeg" ContentType="image/jpeg"/>
  <Override PartName="/ppt/media/image13.png" ContentType="image/png"/>
  <Override PartName="/ppt/media/image29.png" ContentType="image/png"/>
  <Override PartName="/ppt/media/image32.wmf" ContentType="image/x-wmf"/>
  <Override PartName="/ppt/media/image8.jpeg" ContentType="image/jpeg"/>
  <Override PartName="/ppt/media/image28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594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209680"/>
            <a:ext cx="65530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as neue auftragsbasierte LIMS (eLab) für die Analytisch Technischen Services der Infracor GmbH in Marl und der Industriepark Wolfgang GmbH in Hanau-Wolfgang</a:t>
            </a:r>
            <a:br>
              <a:rPr sz="2400"/>
            </a:b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560" y="4266720"/>
            <a:ext cx="3219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Dr. Sophia F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Analytisch Technisch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Projektleitung e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10.09.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Ziele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inführung von e-Business bis Ende 2002, 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d.h. Abwicklung der Geschäftsprozesse über Intranet bzw.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Internet (B2C und B2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Vereinfachung und Harmonisierung der Geschäftsabläufe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- mit dem Kunden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- AS i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Verstärkung der Kunden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rreichen neuer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Ausgangssituation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terschiedliche „selbst gestrickte“ LIMS-Systeme an den Standorten Marl und Hanau-Wolfgang mit nachgeschalteter Abrechnung im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uftragung durch Kunden erfolgt i.d.R. schriftlich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eingabe erfolgt ins System erfolgt durch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übermittlung erfolgt in Papierform per Post, Hauspost, Fax und in Ausnahmefällen per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tusverfolgung der Aufträge erfolgt durch Rückfragen der Kunden bei AS (meist telefon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Auftragsabwickl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523880"/>
            <a:ext cx="4648320" cy="426744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2286000"/>
            <a:ext cx="1523880" cy="23623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3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66688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27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614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2"/>
            <a:endCxn id="180" idx="2"/>
          </p:cNvCxnSpPr>
          <p:nvPr/>
        </p:nvCxnSpPr>
        <p:spPr>
          <a:xfrm rot="5400000">
            <a:off x="4285800" y="1847880"/>
            <a:ext cx="305280" cy="5906160"/>
          </a:xfrm>
          <a:prstGeom prst="bentConnector3">
            <a:avLst>
              <a:gd name="adj1" fmla="val 17497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495680" y="289548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9080" y="304812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0880" y="1752480"/>
            <a:ext cx="2411640" cy="3200400"/>
            <a:chOff x="380880" y="1752480"/>
            <a:chExt cx="2411640" cy="3200400"/>
          </a:xfrm>
        </p:grpSpPr>
        <p:sp>
          <p:nvSpPr>
            <p:cNvPr id="184" name=""/>
            <p:cNvSpPr/>
            <p:nvPr/>
          </p:nvSpPr>
          <p:spPr>
            <a:xfrm>
              <a:off x="892080" y="274320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175248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533520" y="220968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828800" y="220968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533520" y="429912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373040" y="422280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905120" y="382428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0160" y="423144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666880" y="3048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352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9056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30481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3526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4876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Auftragerteilung - B2C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876560" cy="3886200"/>
          </a:xfrm>
          <a:prstGeom prst="rect">
            <a:avLst/>
          </a:prstGeom>
          <a:solidFill>
            <a:srgbClr val="ffff66">
              <a:alpha val="50000"/>
            </a:srgbClr>
          </a:solidFill>
          <a:ln w="41400">
            <a:solidFill>
              <a:srgbClr val="003366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Aufträge können über Browser a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jedem PC eingeben werden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ie Auftragsmasken sind logisch und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einfach gestaltet, 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iele Felder sind weitgehend vorbelegt,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für den Auftrag wichtige Infos werde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abgefragt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eutliche Zeitersparnis und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einfachung für Kunden und AS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440080" cy="3047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0880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8763120" cy="6410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46640" y="1981080"/>
            <a:ext cx="53924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777777"/>
                </a:solidFill>
                <a:latin typeface="Arial"/>
              </a:rPr>
              <a:t>Analytisch </a:t>
            </a:r>
            <a:br>
              <a:rPr sz="4000"/>
            </a:br>
            <a:r>
              <a:rPr b="0" lang="de-DE" sz="4000" spc="-1" strike="noStrike">
                <a:solidFill>
                  <a:srgbClr val="777777"/>
                </a:solidFill>
                <a:latin typeface="Arial"/>
              </a:rPr>
              <a:t>Technische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1885680" cy="4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2590920" cy="67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70600" y="54482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Auftragerteilung - B2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4267440" cy="4800600"/>
          </a:xfrm>
          <a:prstGeom prst="rect">
            <a:avLst/>
          </a:prstGeom>
          <a:solidFill>
            <a:srgbClr val="6699ff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direkte Kopplung von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und eLab (SAP,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Non-SA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löst bei A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automatisch Auftrag aus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Datenaustausch läuft üb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bserver, XML-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oraussetzung: Kundensystem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üssen mit AS-Webserv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ommunizieren können (XML-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chnittstell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große Zeitersparnis und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ereinfachung für Kunden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2514600"/>
            <a:ext cx="3733920" cy="2378160"/>
            <a:chOff x="228600" y="2514600"/>
            <a:chExt cx="3733920" cy="23781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228600" y="347508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905120" y="251460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401840" y="3314520"/>
              <a:ext cx="1000080" cy="803520"/>
            </a:xfrm>
            <a:custGeom>
              <a:avLst/>
              <a:gdLst/>
              <a:ahLst/>
              <a:rect l="l" t="t" r="r" b="b"/>
              <a:pathLst>
                <a:path w="630" h="506">
                  <a:moveTo>
                    <a:pt x="0" y="506"/>
                  </a:moveTo>
                  <a:cubicBezTo>
                    <a:pt x="26" y="478"/>
                    <a:pt x="34" y="437"/>
                    <a:pt x="68" y="420"/>
                  </a:cubicBezTo>
                  <a:cubicBezTo>
                    <a:pt x="97" y="405"/>
                    <a:pt x="163" y="394"/>
                    <a:pt x="163" y="394"/>
                  </a:cubicBezTo>
                  <a:cubicBezTo>
                    <a:pt x="205" y="366"/>
                    <a:pt x="191" y="342"/>
                    <a:pt x="223" y="308"/>
                  </a:cubicBezTo>
                  <a:cubicBezTo>
                    <a:pt x="232" y="270"/>
                    <a:pt x="228" y="203"/>
                    <a:pt x="266" y="180"/>
                  </a:cubicBezTo>
                  <a:cubicBezTo>
                    <a:pt x="272" y="176"/>
                    <a:pt x="310" y="165"/>
                    <a:pt x="317" y="163"/>
                  </a:cubicBezTo>
                  <a:cubicBezTo>
                    <a:pt x="334" y="157"/>
                    <a:pt x="368" y="146"/>
                    <a:pt x="368" y="146"/>
                  </a:cubicBezTo>
                  <a:cubicBezTo>
                    <a:pt x="404" y="110"/>
                    <a:pt x="466" y="103"/>
                    <a:pt x="514" y="94"/>
                  </a:cubicBezTo>
                  <a:cubicBezTo>
                    <a:pt x="523" y="69"/>
                    <a:pt x="541" y="46"/>
                    <a:pt x="566" y="34"/>
                  </a:cubicBezTo>
                  <a:cubicBezTo>
                    <a:pt x="630" y="3"/>
                    <a:pt x="606" y="37"/>
                    <a:pt x="626" y="0"/>
                  </a:cubicBezTo>
                </a:path>
              </a:pathLst>
            </a:custGeom>
            <a:noFill/>
            <a:ln w="223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10280" cy="5259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11480" y="2362320"/>
            <a:ext cx="6931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ir sind ein in den Degussa-Konzern eingebundener, aber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abhängig agierender Dienstleister für analytische und biologische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ragestell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 einer von den Standort-Gesellschaften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fracor in Marl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und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dustriepark Wolfgang in Hanau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getragenen standortüber-greifenden Organisation beschäftigen wir etwa 340 Mitarbeiter und betreiben räumlich darüber hinaus ein Labor in Gelsenkirchen-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cholven und ein Service-Büro in Frankfurt Höch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sere Märkte sind: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Gesellschaften und Geschäftsfelder des Degussa-Konzerns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andere Unternehmen an den Standorten Marl und Hanau-Wolfgang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externe Kund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1886040" cy="48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15000" y="609480"/>
            <a:ext cx="2590920" cy="67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70120" y="1847880"/>
            <a:ext cx="615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77777"/>
                </a:solidFill>
                <a:latin typeface="Arial"/>
              </a:rPr>
              <a:t>Analytisch Technisch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Ergebnisübermittlung - B2C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733920" y="1981080"/>
            <a:ext cx="4647960" cy="4114800"/>
          </a:xfrm>
          <a:prstGeom prst="rect">
            <a:avLst/>
          </a:prstGeom>
          <a:solidFill>
            <a:srgbClr val="ffff66">
              <a:alpha val="50000"/>
            </a:srgbClr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Kunden können Ergebnisse über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Intranet bzw. Internet ab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e (inklusive Anlagen) liege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igital vor, 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können von Kunden direkt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weiterbearbeite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 ist schnell und ohne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zögerung verfüg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 bleibt auch für Kunden auf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Webserver recherchierbar (2 Jah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einfachung und Zeit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4120" y="0"/>
            <a:ext cx="3657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304920"/>
            <a:ext cx="365760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838080"/>
            <a:ext cx="11430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81080" y="152280"/>
          <a:ext cx="4356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280"/>
                    <a:ext cx="4356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Ergebnisübermittlung - B2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00" y="2743200"/>
            <a:ext cx="3733920" cy="2378160"/>
            <a:chOff x="228600" y="2743200"/>
            <a:chExt cx="3733920" cy="23781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28600" y="370368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905120" y="274320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401840" y="3543120"/>
              <a:ext cx="1000080" cy="803520"/>
            </a:xfrm>
            <a:custGeom>
              <a:avLst/>
              <a:gdLst/>
              <a:ahLst/>
              <a:rect l="l" t="t" r="r" b="b"/>
              <a:pathLst>
                <a:path w="630" h="506">
                  <a:moveTo>
                    <a:pt x="0" y="506"/>
                  </a:moveTo>
                  <a:cubicBezTo>
                    <a:pt x="26" y="478"/>
                    <a:pt x="34" y="437"/>
                    <a:pt x="68" y="420"/>
                  </a:cubicBezTo>
                  <a:cubicBezTo>
                    <a:pt x="97" y="405"/>
                    <a:pt x="163" y="394"/>
                    <a:pt x="163" y="394"/>
                  </a:cubicBezTo>
                  <a:cubicBezTo>
                    <a:pt x="205" y="366"/>
                    <a:pt x="191" y="342"/>
                    <a:pt x="223" y="308"/>
                  </a:cubicBezTo>
                  <a:cubicBezTo>
                    <a:pt x="232" y="270"/>
                    <a:pt x="228" y="203"/>
                    <a:pt x="266" y="180"/>
                  </a:cubicBezTo>
                  <a:cubicBezTo>
                    <a:pt x="272" y="176"/>
                    <a:pt x="310" y="165"/>
                    <a:pt x="317" y="163"/>
                  </a:cubicBezTo>
                  <a:cubicBezTo>
                    <a:pt x="334" y="157"/>
                    <a:pt x="368" y="146"/>
                    <a:pt x="368" y="146"/>
                  </a:cubicBezTo>
                  <a:cubicBezTo>
                    <a:pt x="404" y="110"/>
                    <a:pt x="466" y="103"/>
                    <a:pt x="514" y="94"/>
                  </a:cubicBezTo>
                  <a:cubicBezTo>
                    <a:pt x="523" y="69"/>
                    <a:pt x="541" y="46"/>
                    <a:pt x="566" y="34"/>
                  </a:cubicBezTo>
                  <a:cubicBezTo>
                    <a:pt x="630" y="3"/>
                    <a:pt x="606" y="37"/>
                    <a:pt x="626" y="0"/>
                  </a:cubicBezTo>
                </a:path>
              </a:pathLst>
            </a:custGeom>
            <a:noFill/>
            <a:ln w="223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191120" y="2133720"/>
            <a:ext cx="4572000" cy="4190760"/>
          </a:xfrm>
          <a:prstGeom prst="rect">
            <a:avLst/>
          </a:prstGeom>
          <a:solidFill>
            <a:srgbClr val="6699ff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Ergebnisse und Prüfbericht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rden automatisch an da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übergeben 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e müssen üb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entsprechende Schnittstelle zu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AS-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bserver verfügen,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erschieden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öglichkeiten in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Abhängigkeit der Kundenanforderung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große Vereinfachung und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Zeitersparnis für die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3333cc"/>
              </a:buClr>
              <a:buFont typeface="Wingdings" charset="2"/>
              <a:buChar char="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19160" y="1447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Online-Statusverfol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514600"/>
            <a:ext cx="7772400" cy="27432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status kann jederzeit online über Browser abgefra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Zwischenergebnisse können jederzeit über Browser abgefra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ückfragen und Telefonate bleiben ers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ße Vereinfachung und Zeiterspa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1271520"/>
            <a:ext cx="3886200" cy="31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11430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Analytisch Technisc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43000" y="2133720"/>
            <a:ext cx="6857640" cy="4493880"/>
            <a:chOff x="1143000" y="2133720"/>
            <a:chExt cx="6857640" cy="4493880"/>
          </a:xfrm>
        </p:grpSpPr>
        <p:graphicFrame>
          <p:nvGraphicFramePr>
            <p:cNvPr id="108" name=""/>
            <p:cNvGraphicFramePr/>
            <p:nvPr/>
          </p:nvGraphicFramePr>
          <p:xfrm>
            <a:off x="1143000" y="2559600"/>
            <a:ext cx="6857640" cy="347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2559600"/>
                      <a:ext cx="6857640" cy="34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"/>
            <p:cNvGrpSpPr/>
            <p:nvPr/>
          </p:nvGrpSpPr>
          <p:grpSpPr>
            <a:xfrm>
              <a:off x="1553040" y="2161800"/>
              <a:ext cx="1939680" cy="1248840"/>
              <a:chOff x="1553040" y="2161800"/>
              <a:chExt cx="1939680" cy="1248840"/>
            </a:xfrm>
          </p:grpSpPr>
          <p:sp>
            <p:nvSpPr>
              <p:cNvPr id="111" name=""/>
              <p:cNvSpPr/>
              <p:nvPr/>
            </p:nvSpPr>
            <p:spPr>
              <a:xfrm>
                <a:off x="1553040" y="2161800"/>
                <a:ext cx="155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terne Kund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21480" y="245880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,0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75760" y="2820960"/>
                <a:ext cx="516960" cy="58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693040" y="2133720"/>
              <a:ext cx="1035720" cy="1060560"/>
              <a:chOff x="5693040" y="2133720"/>
              <a:chExt cx="1035720" cy="1060560"/>
            </a:xfrm>
          </p:grpSpPr>
          <p:sp>
            <p:nvSpPr>
              <p:cNvPr id="115" name=""/>
              <p:cNvSpPr/>
              <p:nvPr/>
            </p:nvSpPr>
            <p:spPr>
              <a:xfrm>
                <a:off x="5973480" y="2133720"/>
                <a:ext cx="75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frac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2880" y="242820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,8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693040" y="2702880"/>
                <a:ext cx="516600" cy="49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917240" y="5574240"/>
              <a:ext cx="1204560" cy="1053360"/>
              <a:chOff x="4917240" y="5574240"/>
              <a:chExt cx="1204560" cy="1053360"/>
            </a:xfrm>
          </p:grpSpPr>
          <p:sp>
            <p:nvSpPr>
              <p:cNvPr id="119" name=""/>
              <p:cNvSpPr/>
              <p:nvPr/>
            </p:nvSpPr>
            <p:spPr>
              <a:xfrm>
                <a:off x="4917240" y="6119280"/>
                <a:ext cx="1204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egussa A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32600" y="638388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4,2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973400" y="5574240"/>
                <a:ext cx="646200" cy="39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762120" y="393840"/>
          <a:ext cx="45162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3840"/>
                    <a:ext cx="45162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410080" y="228600"/>
            <a:ext cx="35816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762120"/>
            <a:ext cx="106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chnungsstel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777240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omatische Faktura i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aillierte Leistungsdarstellung auf Fak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höhung der Transpa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Zusammenfass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hrfacheingaben entf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uftragung ist sehr einf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se/Zwischenergebnisse stehen dem Kunden direkt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se sind digital verfügbar und können direkt weiterbearbeit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status ist für Kunden jederzeit nachvollzieh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istungen und Kosten werden für den Kunden transparent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590920"/>
            <a:ext cx="8077320" cy="236196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 Ende 2002 wird bei den Analytisch Technischen Services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ine neues, zukunftsweisendes und kundenfreundliche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abwicklungssystem zur Verfügung stehen, das auch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ür unsere Kunden vereinfachte Abläufe und Zeitersparnis bedeuten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320" y="614520"/>
            <a:ext cx="8534160" cy="624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124080" y="2514600"/>
            <a:ext cx="6019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Analytisch Technische Services bedienen</a:t>
            </a:r>
            <a:br>
              <a:rPr sz="2400"/>
            </a:b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Marktseg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505320"/>
            <a:ext cx="58672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Orga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Anorga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Umweltmatrices</a:t>
            </a:r>
            <a:br>
              <a:rPr sz="1800"/>
            </a:br>
            <a:br>
              <a:rPr sz="18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ezielle F&amp;E-Projekte mit analytisch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Schwerpun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aborserv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54720" y="76320"/>
            <a:ext cx="3537000" cy="1085760"/>
            <a:chOff x="5454720" y="76320"/>
            <a:chExt cx="3537000" cy="108576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454720" y="76320"/>
              <a:ext cx="144756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7238880" y="149040"/>
              <a:ext cx="99072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7848720" y="42048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50440" y="25380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614520"/>
            <a:ext cx="8534160" cy="6243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95480" y="2514600"/>
            <a:ext cx="6248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nalytik an den Standorten Marl und Han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505320"/>
            <a:ext cx="6172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ährliches Probenvolumen ca. 120.0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lfgang: ca. 12.000 Aufträge und ca. 40.000 Prob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arl: ca. 25.000 Aufträge und ca. 80.000 Prob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lfgang: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a. 12.000 Befun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l: ca. 25.000 Befund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a. 1.000 Leistungen an jedem Stand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54720" y="76320"/>
            <a:ext cx="3537000" cy="1085760"/>
            <a:chOff x="5454720" y="76320"/>
            <a:chExt cx="3537000" cy="108576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454720" y="76320"/>
              <a:ext cx="144756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7238880" y="149040"/>
              <a:ext cx="99072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7848720" y="42048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50440" y="25380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1371600"/>
            <a:ext cx="775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Unsere Zulass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kreditierung nach EN 45001 / ISO 17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Labor Praxis (GLP)-Bescheini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erkennung als außerbetriebliche Messstelle nach TRGS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Trinkwasserverord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19 Bundesseuchen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3 Klärschlammverordnung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oxinuntersuchungen (NRW und Hambu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25 Landesabfallgesetz NR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§ 5+6 der hessischen EKVO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wasseruntersuch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en nach § 67 Arzneimittelgesetz (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2560" y="1370160"/>
            <a:ext cx="690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Wir nehmen unsere Verpflichtung ernst: </a:t>
            </a:r>
            <a:br>
              <a:rPr sz="2000"/>
            </a:b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Wir sind rundum zertifiz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840" y="1945440"/>
            <a:ext cx="5480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h DIN ISO 9001 für das Qualitäts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h DIN ISO 14001 für das Umwelt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h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32040" y="3898800"/>
            <a:ext cx="2806560" cy="280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15120" y="3300480"/>
            <a:ext cx="1981080" cy="3384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2560" y="19782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e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Einführung von e-Business bei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9480" y="1981080"/>
            <a:ext cx="3504600" cy="4114440"/>
            <a:chOff x="609480" y="1981080"/>
            <a:chExt cx="3504600" cy="4114440"/>
          </a:xfrm>
        </p:grpSpPr>
        <p:sp>
          <p:nvSpPr>
            <p:cNvPr id="159" name=""/>
            <p:cNvSpPr/>
            <p:nvPr/>
          </p:nvSpPr>
          <p:spPr>
            <a:xfrm>
              <a:off x="1352160" y="3254760"/>
              <a:ext cx="150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1981080"/>
              <a:ext cx="3211920" cy="411444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831240" y="2568600"/>
              <a:ext cx="1979280" cy="22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713680" y="2568600"/>
              <a:ext cx="128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831240" y="5254920"/>
              <a:ext cx="118080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2051280" y="5157000"/>
              <a:ext cx="11811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824560" y="4644720"/>
              <a:ext cx="128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000800" y="5168520"/>
              <a:ext cx="1134360" cy="47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8:09:18Z</dcterms:created>
  <dc:creator>Degussa AG</dc:creator>
  <dc:description/>
  <dc:language>en-US</dc:language>
  <cp:lastModifiedBy>Dr. Jochen Winkler</cp:lastModifiedBy>
  <cp:lastPrinted>2002-08-27T08:34:20Z</cp:lastPrinted>
  <dcterms:modified xsi:type="dcterms:W3CDTF">2002-09-12T20:39:33Z</dcterms:modified>
  <cp:revision>57</cp:revision>
  <dc:subject/>
  <dc:title>Das Projekt eLab   Einführung von e-Business bei den Analytisch Technischen Services</dc:title>
</cp:coreProperties>
</file>