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7B4B335F-1BA7-4A43-A632-266FBFDBF6A6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7024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um 10.09.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05120" y="7101000"/>
            <a:ext cx="7552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rit Klock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2880" y="7101000"/>
            <a:ext cx="3006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eLab  – Aufbau und Funktionsweise aus technischer Sich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Lab-Aufbau und Funktionsweise 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us technischer Sich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Kfr. Grit Klockow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au, den 10.09.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ystemarchitektu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AP R/3 ist Master bez. aller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tammda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ynchronisation mit Webserver periodis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der auf Anforder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Kein direkter Zugriff auf SAP-Tabellen v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eb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undenanbindung B2B und B2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565200" indent="0">
              <a:spcBef>
                <a:spcPts val="774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77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B2C – Business to Customer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479520"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Kunde kommuniziert manuell über IE mit Webserver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0">
              <a:spcBef>
                <a:spcPts val="700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2B – Business to Busin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479520"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Kundensystem übergibt automatisch Daten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479520">
              <a:spcBef>
                <a:spcPts val="624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Kundensystem übernimmt automatisch Daten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undenanbindung B2B und B2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1981080"/>
            <a:ext cx="183960" cy="21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133720" y="1295280"/>
            <a:ext cx="5257800" cy="5268960"/>
            <a:chOff x="2133720" y="1295280"/>
            <a:chExt cx="5257800" cy="5268960"/>
          </a:xfrm>
        </p:grpSpPr>
        <p:sp>
          <p:nvSpPr>
            <p:cNvPr id="87" name=""/>
            <p:cNvSpPr/>
            <p:nvPr/>
          </p:nvSpPr>
          <p:spPr>
            <a:xfrm>
              <a:off x="2133720" y="5256360"/>
              <a:ext cx="5143320" cy="1307880"/>
            </a:xfrm>
            <a:prstGeom prst="rect">
              <a:avLst/>
            </a:prstGeom>
            <a:solidFill>
              <a:srgbClr val="a7b5c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133720" y="1825560"/>
              <a:ext cx="9144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row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619440" y="1825560"/>
              <a:ext cx="18288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AP R/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62720" y="1825560"/>
              <a:ext cx="18288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 S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619440" y="3425760"/>
              <a:ext cx="2057400" cy="343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eb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76920" y="3768840"/>
              <a:ext cx="799920" cy="6872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ana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619440" y="3768840"/>
              <a:ext cx="800280" cy="6872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ar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90920" y="5370480"/>
              <a:ext cx="2057400" cy="343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andant Mar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48320" y="5370480"/>
              <a:ext cx="2171520" cy="343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dant Hana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733920" y="5827680"/>
              <a:ext cx="1714320" cy="343080"/>
            </a:xfrm>
            <a:prstGeom prst="rect">
              <a:avLst/>
            </a:prstGeom>
            <a:solidFill>
              <a:srgbClr val="a7b5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P System PM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19520" y="4913280"/>
              <a:ext cx="1600200" cy="343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onver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76920" y="4913280"/>
              <a:ext cx="1600200" cy="343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onver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33920" y="2168640"/>
              <a:ext cx="1600200" cy="3427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onver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76840" y="2168640"/>
              <a:ext cx="1600200" cy="342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eb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2476080" y="2282760"/>
              <a:ext cx="1257480" cy="10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05040" y="2282760"/>
              <a:ext cx="114300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19720" y="262584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4533840" y="2625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5257800" y="2666880"/>
              <a:ext cx="91440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5486400" y="2590560"/>
              <a:ext cx="1028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62520" y="44560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4076640" y="44560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9640" y="44560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5334120" y="44560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62320" y="1295280"/>
              <a:ext cx="685800" cy="34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2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05240" y="1295280"/>
              <a:ext cx="685800" cy="34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2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48520" y="1295280"/>
              <a:ext cx="685800" cy="34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2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91320" y="3352680"/>
              <a:ext cx="114120" cy="1143000"/>
            </a:xfrm>
            <a:custGeom>
              <a:avLst/>
              <a:gdLst>
                <a:gd name="textAreaLeft" fmla="*/ 0 w 114120"/>
                <a:gd name="textAreaRight" fmla="*/ 41040 w 11412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19920" y="3581280"/>
              <a:ext cx="1371600" cy="80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chtung von  Auftrag und Prüfergebniss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390840" y="6107040"/>
              <a:ext cx="2400480" cy="343080"/>
            </a:xfrm>
            <a:prstGeom prst="rect">
              <a:avLst/>
            </a:prstGeom>
            <a:solidFill>
              <a:srgbClr val="a7b5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M-System + Vertriebsabwicklu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opplung Webserver - SA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476280" indent="-476280"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aten sind redundant und strukturidentisch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uf beiden Systemen vorhand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0">
              <a:lnSpc>
                <a:spcPct val="100000"/>
              </a:lnSpc>
              <a:spcBef>
                <a:spcPts val="181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900" spc="-1" strike="noStrike">
                <a:solidFill>
                  <a:srgbClr val="ff3300"/>
                </a:solidFill>
                <a:latin typeface="Wingdings"/>
                <a:ea typeface="Wingdings"/>
              </a:rPr>
              <a:t></a:t>
            </a:r>
            <a:r>
              <a:rPr b="0" lang="en-US" sz="25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Web </a:t>
            </a:r>
            <a:r>
              <a:rPr b="1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SAP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622520" indent="-390600">
              <a:spcBef>
                <a:spcPts val="1312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Auftragsdate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0">
              <a:lnSpc>
                <a:spcPct val="100000"/>
              </a:lnSpc>
              <a:spcBef>
                <a:spcPts val="181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900" spc="-1" strike="noStrike">
                <a:solidFill>
                  <a:srgbClr val="ff3300"/>
                </a:solidFill>
                <a:latin typeface="Wingdings"/>
                <a:ea typeface="Wingdings"/>
              </a:rPr>
              <a:t>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SAP </a:t>
            </a:r>
            <a:r>
              <a:rPr b="1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Web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622520" indent="-390600">
              <a:spcBef>
                <a:spcPts val="1312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mmdaten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622520" indent="-390600">
              <a:spcBef>
                <a:spcPts val="1312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üfergebnisse und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622520" indent="-390600">
              <a:spcBef>
                <a:spcPts val="1312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kture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0">
              <a:spcBef>
                <a:spcPts val="181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spcBef>
                <a:spcPts val="726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Kopplung Webserver - SA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1600200"/>
            <a:ext cx="9220320" cy="45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565200" indent="-565200">
              <a:lnSpc>
                <a:spcPct val="9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mwandlung der Datensätze in XML-      Str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9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Übertragung mittels Remote Function Call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RF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9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++ - Programme (Server, Client) für RFC-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andling auf Web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9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XML –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Kopplung Webserver - SA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1148" t="11078" r="17414" b="7490"/>
          <a:stretch/>
        </p:blipFill>
        <p:spPr>
          <a:xfrm>
            <a:off x="1079640" y="1219320"/>
            <a:ext cx="7683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Kopplung Webserver - SA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669960" indent="-669960">
              <a:lnSpc>
                <a:spcPct val="13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XML-Struktur angelehnt an openTR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9960" indent="-669960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andardisierung von Geschäftsdokumen-ten, wie Auftrag, Lieferschein, Rechnung als Grundlage für elektr. System–zu-System-Kommunik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kumentenmanagementsyst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565200" indent="0">
              <a:spcBef>
                <a:spcPts val="200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lgende Dokumente sind dem Objekt zugeordne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39920" indent="-479520">
              <a:spcBef>
                <a:spcPts val="181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Auftragskopf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339920" indent="-479520">
              <a:spcBef>
                <a:spcPts val="181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Probe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339920" indent="-479520">
              <a:spcBef>
                <a:spcPts val="181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Stammdaten (Dienstleistungen)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Dokumentenmanagementsyst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905120"/>
            <a:ext cx="967752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387360" indent="-387360">
              <a:lnSpc>
                <a:spcPct val="13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Zugriff vom SAP und vom Web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lle Arten von Dokumenten sind denkb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4400" indent="-20808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Bilder (jpg, gif, bmp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4400" indent="-20808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Word (doc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4400" indent="-20808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Excel (xls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4400" indent="-20808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usw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rstellung Prüfergebnis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476280" indent="0">
              <a:spcBef>
                <a:spcPts val="200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ierung von PDF-Dokumenten im S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Übermittlung an Webserv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unde kan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54080" indent="-387360">
              <a:spcBef>
                <a:spcPts val="1811"/>
              </a:spcBef>
              <a:buClr>
                <a:srgbClr val="ff0000"/>
              </a:buClr>
              <a:buFont typeface="Wingdings" charset="2"/>
              <a:buChar char="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Prüfergebnisse im Browser ansehen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054080" indent="-387360">
              <a:spcBef>
                <a:spcPts val="1811"/>
              </a:spcBef>
              <a:buClr>
                <a:srgbClr val="ff0000"/>
              </a:buClr>
              <a:buFont typeface="Wingdings" charset="2"/>
              <a:buChar char="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auf lokalem Drucker ausgeben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054080" indent="-387360">
              <a:spcBef>
                <a:spcPts val="1811"/>
              </a:spcBef>
              <a:buClr>
                <a:srgbClr val="ff0000"/>
              </a:buClr>
              <a:buFont typeface="Wingdings" charset="2"/>
              <a:buChar char="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auf seinem Rechner speichern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spcBef>
                <a:spcPts val="726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Lab-Aufbau und Funktionsweise 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us technischer Sich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991360" cy="4190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13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architektu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undenanbindung B2C und B2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pplung Webserver – S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management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Fakturierung von Prüfleistung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52480" y="1371600"/>
            <a:ext cx="2857680" cy="2279520"/>
            <a:chOff x="1752480" y="1371600"/>
            <a:chExt cx="2857680" cy="2279520"/>
          </a:xfrm>
        </p:grpSpPr>
        <p:sp>
          <p:nvSpPr>
            <p:cNvPr id="133" name=""/>
            <p:cNvSpPr/>
            <p:nvPr/>
          </p:nvSpPr>
          <p:spPr>
            <a:xfrm>
              <a:off x="1752480" y="1371600"/>
              <a:ext cx="2857680" cy="2279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52760" y="1941480"/>
              <a:ext cx="114120" cy="1254240"/>
            </a:xfrm>
            <a:custGeom>
              <a:avLst/>
              <a:gdLst>
                <a:gd name="textAreaLeft" fmla="*/ 0 w 114120"/>
                <a:gd name="textAreaRight" fmla="*/ 41040 w 114120"/>
                <a:gd name="textAreaTop" fmla="*/ 32400 h 1254240"/>
                <a:gd name="textAreaBottom" fmla="*/ 1221840 h 125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752480" y="1371600"/>
            <a:ext cx="6400800" cy="5586480"/>
            <a:chOff x="1752480" y="1371600"/>
            <a:chExt cx="6400800" cy="5586480"/>
          </a:xfrm>
        </p:grpSpPr>
        <p:sp>
          <p:nvSpPr>
            <p:cNvPr id="136" name=""/>
            <p:cNvSpPr/>
            <p:nvPr/>
          </p:nvSpPr>
          <p:spPr>
            <a:xfrm>
              <a:off x="5067360" y="1371600"/>
              <a:ext cx="2057400" cy="14828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10080" y="1827360"/>
              <a:ext cx="2057400" cy="15969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53160" y="2170080"/>
              <a:ext cx="2057400" cy="1595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95880" y="2511360"/>
              <a:ext cx="2057400" cy="15969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7360" y="1371600"/>
              <a:ext cx="2050920" cy="2300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robenauftrag 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10080" y="1827360"/>
              <a:ext cx="2051280" cy="2300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robenauftrag 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53160" y="2170080"/>
              <a:ext cx="2050920" cy="2271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robenauftrag 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095880" y="2511360"/>
              <a:ext cx="2057400" cy="15969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robenauftrag 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eistungen 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H-Wertbestimm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usseh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icht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66960" y="4449600"/>
              <a:ext cx="2905200" cy="1595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24160" y="4905360"/>
              <a:ext cx="2905200" cy="15969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81360" y="5362560"/>
              <a:ext cx="2905200" cy="1595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3123720" y="3994200"/>
              <a:ext cx="29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24080" y="3994200"/>
              <a:ext cx="0" cy="34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10160" y="251136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52480" y="1371600"/>
              <a:ext cx="2857680" cy="2279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undenauftrag : 1LW.02..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be 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istungen: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be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be 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PH-Wertbestimmu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be 4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Ausseh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ch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be 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66960" y="4449600"/>
              <a:ext cx="2879640" cy="2667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robenauftrag 1 Leistung: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H-Wertbest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24160" y="4905360"/>
              <a:ext cx="2879640" cy="2667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robenauftrag1 Leistung: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usseh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81360" y="5362560"/>
              <a:ext cx="2879640" cy="1595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robenauftrag 1 Leistung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ichtebest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erkmale + Method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emperatur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icht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438280" y="1828800"/>
            <a:ext cx="114480" cy="1333440"/>
          </a:xfrm>
          <a:custGeom>
            <a:avLst/>
            <a:gdLst>
              <a:gd name="textAreaLeft" fmla="*/ 0 w 114480"/>
              <a:gd name="textAreaRight" fmla="*/ 41400 w 114480"/>
              <a:gd name="textAreaTop" fmla="*/ 34560 h 1333440"/>
              <a:gd name="textAreaBottom" fmla="*/ 1298880 h 13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kturierung von Prüfleistung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9144000" cy="4841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565200" indent="-565200"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undenauftrag mit mehreren Proben wird auf Webserver erstel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 Probe wird ein Probenauftrag im SAP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geleg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S-Auftrag (externe Kunden) bzw. PM-Auftrag (interne Kunden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aktura als Folgebeleg aus SD-Auftr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5200" indent="0">
              <a:spcBef>
                <a:spcPts val="200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Fakturierung von Prüfleistung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1600200"/>
            <a:ext cx="92962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476280" indent="-476280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Kunde kann sich Leistungsaufstellung des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Auftrages auf Webserver als PDF-Dok.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anzeigen l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schäftsvorfall für Kunden auf Webserver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vollständig nachvollzieh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08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Auftrag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08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Prüfergebniss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08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Leistungsübersich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ümee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476280" indent="-476280"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Nutzung von zukunftsorientierten  Technologien (XML, openTRAN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nbindung von SAP und Non SAP System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Keine Fehler durch manuelle Bearbei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anueller Eingriff ist mögli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Nachvollziehbarkeit aller Transaktion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lab-Aufbau und Funktionsweise aus technischer S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1440000"/>
            <a:ext cx="9144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Kfr. Grit Klockow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au, den 10.09.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Lab-Aufbau und Funktionsweise 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us technischer Sich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991360" cy="4190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13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rstellung Prüfergebnis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kturierung von Prüfleistun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kus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architektu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669960" indent="0">
              <a:spcBef>
                <a:spcPts val="799"/>
              </a:spcBef>
              <a:buNone/>
              <a:tabLst>
                <a:tab algn="l" pos="56520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9960" indent="-669960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56520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ie Systemarchitektur besteht aus folgenden Teilen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9960" indent="0">
              <a:spcBef>
                <a:spcPts val="774"/>
              </a:spcBef>
              <a:buNone/>
              <a:tabLst>
                <a:tab algn="l" pos="56520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1428840" indent="0">
              <a:lnSpc>
                <a:spcPct val="130000"/>
              </a:lnSpc>
              <a:spcBef>
                <a:spcPts val="726"/>
              </a:spcBef>
              <a:buNone/>
              <a:tabLst>
                <a:tab algn="l" pos="0"/>
                <a:tab algn="l" pos="56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500" spc="-1" strike="noStrike">
                <a:solidFill>
                  <a:srgbClr val="ff3535"/>
                </a:solidFill>
                <a:latin typeface="Wingdings"/>
                <a:ea typeface="Wingdings"/>
              </a:rPr>
              <a:t></a:t>
            </a:r>
            <a:r>
              <a:rPr b="0" lang="de-DE" sz="2500" spc="-1" strike="noStrike">
                <a:solidFill>
                  <a:srgbClr val="ff3535"/>
                </a:solidFill>
                <a:latin typeface="Arial"/>
              </a:rPr>
              <a:t>	</a:t>
            </a:r>
            <a:r>
              <a:rPr b="1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SAP R/3 – Standard (PM1) Release 4.6C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428840" indent="0">
              <a:lnSpc>
                <a:spcPct val="130000"/>
              </a:lnSpc>
              <a:spcBef>
                <a:spcPts val="726"/>
              </a:spcBef>
              <a:buNone/>
              <a:tabLst>
                <a:tab algn="l" pos="56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428840" indent="0">
              <a:lnSpc>
                <a:spcPct val="130000"/>
              </a:lnSpc>
              <a:spcBef>
                <a:spcPts val="726"/>
              </a:spcBef>
              <a:buNone/>
              <a:tabLst>
                <a:tab algn="l" pos="0"/>
                <a:tab algn="l" pos="56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500" spc="-1" strike="noStrike">
                <a:solidFill>
                  <a:srgbClr val="ff3535"/>
                </a:solidFill>
                <a:latin typeface="Wingdings"/>
                <a:ea typeface="Wingdings"/>
              </a:rPr>
              <a:t>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900" spc="-1" strike="noStrike">
                <a:solidFill>
                  <a:srgbClr val="ff0000"/>
                </a:solidFill>
                <a:latin typeface="Braggadocio"/>
                <a:ea typeface="Times New Roman"/>
              </a:rPr>
              <a:t>jw</a:t>
            </a:r>
            <a:r>
              <a:rPr b="1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LIMS (R/3 Add-on)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69960" indent="0">
              <a:spcBef>
                <a:spcPts val="726"/>
              </a:spcBef>
              <a:buNone/>
              <a:tabLst>
                <a:tab algn="l" pos="56520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architektu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565200" indent="0">
              <a:spcBef>
                <a:spcPts val="726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Browsergestützter Intranetteil mit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-380880"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Auftragserfassung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-380880"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Ergebnisdarstellung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-380880"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Rechnungsdarstellung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0">
              <a:spcBef>
                <a:spcPts val="649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XML / openTRANS gestützte Kopplung zu Fremdsystemen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65200" indent="0"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0">
              <a:spcBef>
                <a:spcPts val="726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0">
              <a:spcBef>
                <a:spcPts val="726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ystemarchitektu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1905120"/>
            <a:ext cx="929628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ebserver mit folgender Konfiguration: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00000"/>
              </a:lnSpc>
              <a:spcBef>
                <a:spcPts val="181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Betriebssystem Windows 2000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00000"/>
              </a:lnSpc>
              <a:spcBef>
                <a:spcPts val="181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Datenbank Oracle Version 8.1.7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60000"/>
              </a:lnSpc>
              <a:spcBef>
                <a:spcPts val="181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Laufzeitumgebung Entwicklungssystem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60000"/>
              </a:lnSpc>
              <a:spcBef>
                <a:spcPts val="1811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Apache Tomcat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ystemarchitektu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447920"/>
            <a:ext cx="9144000" cy="45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9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Laufzeitumgebung Test- und Produktiv-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:  Websphere Application Server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9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mierung auf Client-Seite mit HTML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und JavaScrip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9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mierung auf Server-Seite mit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JavaServerPages (JSP), Java und C++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ystemarchitektu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1447920"/>
            <a:ext cx="9144000" cy="45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523880" y="1905120"/>
            <a:ext cx="6591600" cy="3695760"/>
            <a:chOff x="1523880" y="1905120"/>
            <a:chExt cx="6591600" cy="3695760"/>
          </a:xfrm>
        </p:grpSpPr>
        <p:sp>
          <p:nvSpPr>
            <p:cNvPr id="67" name=""/>
            <p:cNvSpPr/>
            <p:nvPr/>
          </p:nvSpPr>
          <p:spPr>
            <a:xfrm>
              <a:off x="4267080" y="2590920"/>
              <a:ext cx="1600200" cy="18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05720" y="3048120"/>
              <a:ext cx="1257120" cy="1028520"/>
            </a:xfrm>
            <a:prstGeom prst="ca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57400" y="1905120"/>
              <a:ext cx="102888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267080" y="1905120"/>
              <a:ext cx="160020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eb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29400" y="1905120"/>
              <a:ext cx="14860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enb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752480" y="4800600"/>
              <a:ext cx="6058080" cy="80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avaScript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58000" y="3429000"/>
              <a:ext cx="1028880" cy="457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rac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81560" y="2741760"/>
              <a:ext cx="1333440" cy="1600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pache Tomcat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Websphe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29000" y="3429000"/>
              <a:ext cx="571680" cy="114480"/>
            </a:xfrm>
            <a:prstGeom prst="leftRightArrow">
              <a:avLst>
                <a:gd name="adj1" fmla="val 50000"/>
                <a:gd name="adj2" fmla="val 9941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19920" y="3429000"/>
              <a:ext cx="571320" cy="114480"/>
            </a:xfrm>
            <a:prstGeom prst="leftRightArrow">
              <a:avLst>
                <a:gd name="adj1" fmla="val 50000"/>
                <a:gd name="adj2" fmla="val 99349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" name="HH02126_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1523880" y="2590920"/>
              <a:ext cx="1724040" cy="176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ystemarchitektu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523880"/>
            <a:ext cx="9144000" cy="33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476280" indent="-476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wicklung der Browsermasken optimier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ü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200" indent="-6048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et Explorer 5.5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200" indent="-6048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Bildschirmauflösung: 1024 x 768 Pix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Thomas Mickley</dc:creator>
  <dc:description/>
  <dc:language>en-US</dc:language>
  <cp:lastModifiedBy>Dr. Jochen Winkler</cp:lastModifiedBy>
  <cp:lastPrinted>2002-09-02T07:59:36Z</cp:lastPrinted>
  <dcterms:modified xsi:type="dcterms:W3CDTF">2002-09-12T20:36:22Z</dcterms:modified>
  <cp:revision>266</cp:revision>
  <dc:subject/>
  <dc:title>Kein Folientitel</dc:title>
</cp:coreProperties>
</file>