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CE19864-66EB-4467-AE75-B0C6EBDA92B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10.09.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5120" y="7101000"/>
            <a:ext cx="7552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rit Klock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3006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eLab  – Aufbau und Funktionsweise aus technischer Sic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Kfr. Grit Klockow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9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ist Master bez. alle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ynchronisation mit Webserver periodi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der auf Anfor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in direkter Zugriff auf SAP-Tabellen v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77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7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B2C – Business to Customer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 kommuniziert manuell über IE mit Webserv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7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2B – Business to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nsystem übergibt automatisch Dat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624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nsystem übernimmt automatisch Daten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1981080"/>
            <a:ext cx="183960" cy="2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33720" y="1295280"/>
            <a:ext cx="5257800" cy="5268960"/>
            <a:chOff x="2133720" y="1295280"/>
            <a:chExt cx="5257800" cy="5268960"/>
          </a:xfrm>
        </p:grpSpPr>
        <p:sp>
          <p:nvSpPr>
            <p:cNvPr id="87" name=""/>
            <p:cNvSpPr/>
            <p:nvPr/>
          </p:nvSpPr>
          <p:spPr>
            <a:xfrm>
              <a:off x="2133720" y="5256360"/>
              <a:ext cx="5143320" cy="1307880"/>
            </a:xfrm>
            <a:prstGeom prst="rect">
              <a:avLst/>
            </a:prstGeom>
            <a:solidFill>
              <a:srgbClr val="a7b5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3720" y="1825560"/>
              <a:ext cx="9144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1944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6272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19440" y="3425760"/>
              <a:ext cx="2057400" cy="34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76920" y="3768840"/>
              <a:ext cx="79992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n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19440" y="3768840"/>
              <a:ext cx="80028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90920" y="5370480"/>
              <a:ext cx="2057400" cy="343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ndant Ma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8320" y="5370480"/>
              <a:ext cx="2171520" cy="343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dant Han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3920" y="5827680"/>
              <a:ext cx="1714320" cy="343080"/>
            </a:xfrm>
            <a:prstGeom prst="rect">
              <a:avLst/>
            </a:prstGeom>
            <a:solidFill>
              <a:srgbClr val="a7b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 System P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19520" y="4913280"/>
              <a:ext cx="1600200" cy="34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76920" y="4913280"/>
              <a:ext cx="1600200" cy="34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3920" y="2168640"/>
              <a:ext cx="1600200" cy="342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76840" y="2168640"/>
              <a:ext cx="160020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476080" y="2282760"/>
              <a:ext cx="1257480" cy="10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05040" y="2282760"/>
              <a:ext cx="1143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19720" y="26258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533840" y="2625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257800" y="2666880"/>
              <a:ext cx="9144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486400" y="2590560"/>
              <a:ext cx="10288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625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076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9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3341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6232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0524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52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3352680"/>
              <a:ext cx="114120" cy="114300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3581280"/>
              <a:ext cx="137160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chtung von  Auftrag und Prüfergebnis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90840" y="6107040"/>
              <a:ext cx="2400480" cy="343080"/>
            </a:xfrm>
            <a:prstGeom prst="rect">
              <a:avLst/>
            </a:prstGeom>
            <a:solidFill>
              <a:srgbClr val="a7b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M-System + Vertriebsabwickl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ten sind redundant und strukturidentisc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f beiden Systemen vorhan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Wingdings"/>
                <a:ea typeface="Wingdings"/>
              </a:rPr>
              <a:t>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Web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SAP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date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Wingdings"/>
                <a:ea typeface="Wingdings"/>
              </a:rPr>
              <a:t>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Web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mmdaten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üfergebnisse un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kture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600200"/>
            <a:ext cx="92203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65200" indent="-56520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mwandlung der Datensätze in XML-     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tragung mittels Remote Function Cal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RF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++ - Programme (Server, Client) für RFC-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ndling auf Web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ML –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1148" t="11078" r="17414" b="7490"/>
          <a:stretch/>
        </p:blipFill>
        <p:spPr>
          <a:xfrm>
            <a:off x="1079640" y="1219320"/>
            <a:ext cx="7683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669960" indent="-66996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ML-Struktur angelehnt an openTR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sierung von Geschäftsdokumen-ten, wie Auftrag, Lieferschein, Rechnung als Grundlage für elektr. System–zu-System-Kommunik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20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gende Dokumente sind dem Objekt zugeordne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kopf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b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tammdaten (Dienstleistungen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905120"/>
            <a:ext cx="967752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ugriff vom SAP und vom Web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lle Arten von Dokumenten sind denkb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ilder (jpg, gif, bmp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Word (do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(xl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usw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rstellung Prüfergebnis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0">
              <a:spcBef>
                <a:spcPts val="20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erung von PDF-Dokumenten im S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Übermittlung an Web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 kan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üfergebnisse im Browser anseh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 lokalem Drucker ausgeb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 seinem Rechner speicher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4190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nanbindung B2C und B2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pplung Webserver – S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52480" y="1371600"/>
            <a:ext cx="2857680" cy="2279520"/>
            <a:chOff x="1752480" y="1371600"/>
            <a:chExt cx="2857680" cy="2279520"/>
          </a:xfrm>
        </p:grpSpPr>
        <p:sp>
          <p:nvSpPr>
            <p:cNvPr id="133" name=""/>
            <p:cNvSpPr/>
            <p:nvPr/>
          </p:nvSpPr>
          <p:spPr>
            <a:xfrm>
              <a:off x="1752480" y="1371600"/>
              <a:ext cx="2857680" cy="2279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52760" y="1941480"/>
              <a:ext cx="114120" cy="125424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32400 h 1254240"/>
                <a:gd name="textAreaBottom" fmla="*/ 122184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752480" y="1371600"/>
            <a:ext cx="6400800" cy="5586480"/>
            <a:chOff x="1752480" y="1371600"/>
            <a:chExt cx="6400800" cy="5586480"/>
          </a:xfrm>
        </p:grpSpPr>
        <p:sp>
          <p:nvSpPr>
            <p:cNvPr id="136" name=""/>
            <p:cNvSpPr/>
            <p:nvPr/>
          </p:nvSpPr>
          <p:spPr>
            <a:xfrm>
              <a:off x="5067360" y="1371600"/>
              <a:ext cx="2057400" cy="14828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0080" y="1827360"/>
              <a:ext cx="2057400" cy="1596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3160" y="2170080"/>
              <a:ext cx="2057400" cy="1595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5880" y="2511360"/>
              <a:ext cx="2057400" cy="1596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7360" y="1371600"/>
              <a:ext cx="2050920" cy="230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benauftrag 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0080" y="1827360"/>
              <a:ext cx="2051280" cy="2300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benauftrag 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53160" y="2170080"/>
              <a:ext cx="2050920" cy="227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benauftrag 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5880" y="2511360"/>
              <a:ext cx="2057400" cy="15969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benauftrag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eistungen 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H-Wertbestimm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usseh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ch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66960" y="4449600"/>
              <a:ext cx="2905200" cy="1595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24160" y="4905360"/>
              <a:ext cx="2905200" cy="1596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81360" y="5362560"/>
              <a:ext cx="2905200" cy="1595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23720" y="3994200"/>
              <a:ext cx="29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3994200"/>
              <a:ext cx="0" cy="34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10160" y="25113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480" y="1371600"/>
              <a:ext cx="2857680" cy="227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undenauftrag : 1LW.02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be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istungen: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b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be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PH-Wertbestim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be 4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Ausseh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ch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be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66960" y="4449600"/>
              <a:ext cx="2879640" cy="266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benauftrag 1 Leistung: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H-Wertbes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4905360"/>
              <a:ext cx="2879640" cy="2667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benauftrag1 Leistung: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usseh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1360" y="5362560"/>
              <a:ext cx="2879640" cy="1595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benauftrag 1 Leistung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ichtebest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rkmale + Method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eratur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ich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438280" y="1828800"/>
            <a:ext cx="114480" cy="1333440"/>
          </a:xfrm>
          <a:custGeom>
            <a:avLst/>
            <a:gdLst>
              <a:gd name="textAreaLeft" fmla="*/ 0 w 114480"/>
              <a:gd name="textAreaRight" fmla="*/ 41400 w 114480"/>
              <a:gd name="textAreaTop" fmla="*/ 34560 h 1333440"/>
              <a:gd name="textAreaBottom" fmla="*/ 1298880 h 13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9144000" cy="484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nauftrag mit mehreren Proben wird auf Webserver erstel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 Probe wird ein Probenauftrag im SAP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eg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-Auftrag (externe Kunden) bzw. PM-Auftrag (interne Kunde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aktura als Folgebeleg aus SD-Auftr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20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600200"/>
            <a:ext cx="9296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unde kann sich Leistungsaufstellung des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uftrages auf Webserver als PDF-Dok.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nzeigen l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schäftsvorfall für Kunden auf Webserver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vollständig nachvollzieh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üfergebnis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eistungsübersi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utzung von zukunftsorientierten  Technologien (XML, openTRAN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bindung von SAP und Non SAP Syste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ine Fehler durch manuelle Bearbei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nueller Eingriff ist mögli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lab-Aufbau und Funktionsweise aus technischer S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Kfr. Grit Klockow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9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9880" y="2666880"/>
          <a:ext cx="99072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990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4190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stellung Prüfergebnis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669960" indent="0">
              <a:spcBef>
                <a:spcPts val="799"/>
              </a:spcBef>
              <a:buNone/>
              <a:tabLst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9960" indent="-66996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e Systemarchitektur besteht aus folgenden Teil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9960" indent="0">
              <a:spcBef>
                <a:spcPts val="774"/>
              </a:spcBef>
              <a:buNone/>
              <a:tabLst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130000"/>
              </a:lnSpc>
              <a:spcBef>
                <a:spcPts val="726"/>
              </a:spcBef>
              <a:buNone/>
              <a:tabLst>
                <a:tab algn="l" pos="0"/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500" spc="-1" strike="noStrike">
                <a:solidFill>
                  <a:srgbClr val="ff3535"/>
                </a:solidFill>
                <a:latin typeface="Wingdings"/>
                <a:ea typeface="Wingdings"/>
              </a:rPr>
              <a:t></a:t>
            </a:r>
            <a:r>
              <a:rPr b="0" lang="de-DE" sz="2500" spc="-1" strike="noStrike">
                <a:solidFill>
                  <a:srgbClr val="ff3535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– Standard (PM1) Release 4.6C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130000"/>
              </a:lnSpc>
              <a:spcBef>
                <a:spcPts val="726"/>
              </a:spcBef>
              <a:buNone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lnSpc>
                <a:spcPct val="130000"/>
              </a:lnSpc>
              <a:spcBef>
                <a:spcPts val="726"/>
              </a:spcBef>
              <a:buNone/>
              <a:tabLst>
                <a:tab algn="l" pos="0"/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500" spc="-1" strike="noStrike">
                <a:solidFill>
                  <a:srgbClr val="ff3535"/>
                </a:solidFill>
                <a:latin typeface="Wingdings"/>
                <a:ea typeface="Wingdings"/>
              </a:rPr>
              <a:t>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900" spc="-1" strike="noStrike">
                <a:solidFill>
                  <a:srgbClr val="ff0000"/>
                </a:solidFill>
                <a:latin typeface="Braggadocio"/>
                <a:ea typeface="Times New Roman"/>
              </a:rPr>
              <a:t>jw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IMS (R/3 Add-on)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69960" indent="0">
              <a:spcBef>
                <a:spcPts val="726"/>
              </a:spcBef>
              <a:buNone/>
              <a:tabLst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gestützter Intranetteil mi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8088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erfass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8088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Ergebnisdarstell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8088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Rechnungsdarstell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64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XML / openTRANS gestützte Kopplung zu Fremdsystem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26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26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05120"/>
            <a:ext cx="929628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bserver mit folgender Konfiguration: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etriebssystem Windows 2000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Datenbank Oracle Version 8.1.7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6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aufzeitumgebung Entwicklungssystem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60000"/>
              </a:lnSpc>
              <a:spcBef>
                <a:spcPts val="181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pache Tomca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91440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aufzeitumgebung Test- und Produktiv-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:  Websphere Application Server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erung auf Client-Seite mit HTML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und JavaScrip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erung auf Server-Seite mi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20772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JavaServerPages (JSP), Java und C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447920"/>
            <a:ext cx="91440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23880" y="1905120"/>
            <a:ext cx="6591600" cy="3695760"/>
            <a:chOff x="1523880" y="1905120"/>
            <a:chExt cx="6591600" cy="3695760"/>
          </a:xfrm>
        </p:grpSpPr>
        <p:sp>
          <p:nvSpPr>
            <p:cNvPr id="67" name=""/>
            <p:cNvSpPr/>
            <p:nvPr/>
          </p:nvSpPr>
          <p:spPr>
            <a:xfrm>
              <a:off x="4267080" y="2590920"/>
              <a:ext cx="1600200" cy="18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5720" y="3048120"/>
              <a:ext cx="1257120" cy="10285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7400" y="1905120"/>
              <a:ext cx="10288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7080" y="1905120"/>
              <a:ext cx="16002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1905120"/>
              <a:ext cx="1486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2480" y="4800600"/>
              <a:ext cx="605808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Scrip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0" y="3429000"/>
              <a:ext cx="102888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81560" y="2741760"/>
              <a:ext cx="1333440" cy="160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ache Tomcat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Web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3429000"/>
              <a:ext cx="571680" cy="114480"/>
            </a:xfrm>
            <a:prstGeom prst="leftRightArrow">
              <a:avLst>
                <a:gd name="adj1" fmla="val 50000"/>
                <a:gd name="adj2" fmla="val 994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9920" y="3429000"/>
              <a:ext cx="571320" cy="114480"/>
            </a:xfrm>
            <a:prstGeom prst="leftRightArrow">
              <a:avLst>
                <a:gd name="adj1" fmla="val 50000"/>
                <a:gd name="adj2" fmla="val 99349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HH02126_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523880" y="2590920"/>
              <a:ext cx="1724040" cy="176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523880"/>
            <a:ext cx="9144000" cy="33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wicklung der Browsermasken optimie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ü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Explorer 5.5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ildschirmauflösung: 1024 x 768 Pix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2-09-02T07:59:36Z</cp:lastPrinted>
  <dcterms:modified xsi:type="dcterms:W3CDTF">2002-09-12T20:36:22Z</dcterms:modified>
  <cp:revision>266</cp:revision>
  <dc:subject/>
  <dc:title>Kein Folientitel</dc:title>
</cp:coreProperties>
</file>