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C61-5195-450E-9928-A0ACCE9E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326-CC8A-41D7-B424-C4F98E0C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6B2-D21C-4166-97B2-A521B5AB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1D0-9935-41A8-B76C-F8C297AB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D13-72D2-4686-868F-652A18C2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D4C-9332-485A-8DA8-0ECA84BF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654-7076-4B38-99ED-DBF8404F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146-27B2-404E-8E7C-C83CDFF2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639-C552-4B7E-A727-8745871B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277-FA53-476A-88E5-0BE9DE4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FA7-BD42-4A2B-ACD6-7E610B8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E3D-73D7-42D1-91FA-AC7F079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6D79EAF-BF43-43CE-881A-A02B3252556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292-A867-46AE-BE65-491C6259648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A86-2431-40A3-B9BA-2FD1CAB638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9A4-63D3-4B37-BCCC-F13175222C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838080"/>
            <a:ext cx="80010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D7E-970F-4F62-B99A-A4BE450426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neue auftragsbasierte LIMS (eLab) für die Analytisch-Technischen Services der Infracor GmbH in Marl und der Industriepark Wolfgang  GmbH in Hanau-Wolfgang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erfassung und Ergebnisdarstellung im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leistungskataloge für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des eLab-Programms für Kunden und Auftra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ffizienzsteigerung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24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rbeit mit eLab im Labor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verwaltung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eingabe und Validierung der Prüfergeb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AFA-EE9F-4DE0-B4DF-D384380010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Aufbau und Funktionsweise aus technischer Sicht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ab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-Web-Kopp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Standards (openTR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netzung aller Informationsquellen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75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23C-98C4-4658-B2E3-525389767B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te Produktion und Produktionsplanung des GB Superabsorber der Degussa AG (periodisches Produkt-controlli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en der SKW Stickstoffwerke Piesteritz GmbH an die Absatz- und Produktionsplanung mit Monatsabrechnung sowie Produktkalkulation (Serienfertigu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2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icht zur Implementierung des Add-O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ß bei der BASF AG Ludwigshafe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 in 40 Betrieben im Einsat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Hinweis: Workshop am 19.09.20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men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11B-8230-430B-91A3-0B3A74611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46F-BA9D-4063-B2DD-C1680273EA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9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60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6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2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8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4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90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6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2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8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4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8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4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50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6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2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9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6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2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7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8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8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2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8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9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367-E398-4B5C-BC7F-75BE532B8F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36E-BE90-4C2C-8B99-E370749E92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D63-4D0F-4912-BEB7-597335B910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0EC-1D35-4809-98C2-70E4A4EE39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2-09-15T13:00:55Z</dcterms:modified>
  <cp:revision>119</cp:revision>
  <dc:subject/>
  <dc:title>Kein Folientitel</dc:title>
</cp:coreProperties>
</file>