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C56B-AE47-477F-9CA8-9B6CD0CE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25F-E3D9-4AB5-8A2B-0928F70A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2E0-4560-40C0-974F-D010E80C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CD7-0402-4D9E-A304-340A7097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EB9-C434-40DC-927C-5912457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FBD-BAB4-40EB-8F8B-A257EF94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12E-7225-42B3-851A-6DFE9210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3BE-7708-4DC1-99B1-BFE7818B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443-D552-41D1-98CF-6FB04616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AE9-719C-4DBC-9B40-5FD5846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897-CEE2-4EC8-AC3D-0E6B9844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B99-579C-4ACB-A43A-285E890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B33BAAF-EA84-4343-8DB7-80AE0C55AAC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746-C510-47D6-8691-B4EB80E2F37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A3B-17C6-411C-A6E3-6F633B3D6D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1D4-9976-4E68-9F2C-B2CD035047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838080"/>
            <a:ext cx="80010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D09-8654-42BD-ADAC-A3021316002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neue auftragsbasierte LIMS (eLab) für die Analytisch-Technischen Services der Infracor GmbH in Marl und der Industriepark Wolfgang  GmbH in Hanau-Wolfgang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erfassung und Ergebnisdarstellung im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leistungskataloge für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teile des eLab-Programms für Kunden und Auftra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ffizienzsteigerung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24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rbeit mit eLab im Labor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verwaltung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eingabe und Validierung der Prüfergeb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ADA-0875-4C28-9C2A-733FB42906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Aufbau und Funktionsweise aus technischer Sicht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ab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-Web-Kopp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Standards (openTR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netzung aller Informationsquellen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75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A4A-B8B2-4731-B1A4-163A220699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te Produktion und Produktionsplanung des GB Superabsorber der Degussa AG (periodisches Produkt-controlli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en der SKW Stickstoffwerke Piesteritz GmbH an die Absatz- und Produktionsplanung mit Monatsabrechnung sowie Produktkalkulation (Serienfertigu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2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icht zur Implementierung des Add-O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ß bei der BASF AG Ludwigshafen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 in 40 Betrieben im Einsat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Hinweis: Workshop am 19.09.20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hemen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068-08C6-452D-8135-EF7317EA0C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00C-D4DC-46A8-87FC-AB44E4E8FA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9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60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6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2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8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4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90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6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2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8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4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20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8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4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50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6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2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9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5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6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2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7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8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8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2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8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9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0DE-E5B0-4EB0-A1C5-6DDA901B6E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1BD-FD8F-441D-B3FF-C6B33DEEE5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131-2851-4D24-AE0D-56CD2572EF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0.09.2002 in Hanau-Wolfga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2C8-4468-459D-8740-3E4E0261EA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2-09-15T13:00:55Z</dcterms:modified>
  <cp:revision>119</cp:revision>
  <dc:subject/>
  <dc:title>Kein Folientitel</dc:title>
</cp:coreProperties>
</file>