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30.png" ContentType="image/png"/>
  <Override PartName="/ppt/media/image2.png" ContentType="image/png"/>
  <Override PartName="/ppt/media/image3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05480"/>
            <a:ext cx="72000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F85792C-24B2-4CCF-8D17-CE4A5E0B54F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797520" y="914400"/>
            <a:ext cx="2346480" cy="59436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576920" y="6405480"/>
            <a:ext cx="107820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EA710E0-21CF-42B9-97E7-6FA47C3FDAD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6080" y="6400800"/>
            <a:ext cx="59796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0633-7B72-4272-9F03-1A970EA3569F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6800" y="6405480"/>
            <a:ext cx="161172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W-ATS / Dr. A. Mü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65760" y="704880"/>
            <a:ext cx="20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Industriepark Wolfg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467480" y="225360"/>
            <a:ext cx="140976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97520" y="914400"/>
            <a:ext cx="234648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64320" y="704880"/>
            <a:ext cx="20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Industriepark Wolfg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467480" y="225360"/>
            <a:ext cx="1409760" cy="43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2858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3826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200" y="2165400"/>
            <a:ext cx="6172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37920" y="4266720"/>
            <a:ext cx="441972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. Arndt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ustriepark Wolfgang Gmb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tisch Technische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rten von Prüfung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derproben, Forsch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e Proben, Wettbewerbsanaly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proben, Mikrobi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analytik, Eingangs-/Endprodukt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ätsanalytik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143028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3028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143028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3028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Vom Auftrag zum Labo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1523880"/>
          <a:ext cx="770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0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38080" y="56991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Leistung ist eindeutig einem Labor zugeord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1828800"/>
            <a:ext cx="4648320" cy="426708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590920"/>
            <a:ext cx="1523880" cy="236196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2604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00"/>
                </a:solidFill>
                <a:latin typeface="Arial"/>
              </a:rPr>
              <a:t>SAP /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971800"/>
            <a:ext cx="10666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8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3062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919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0" idx="2"/>
            <a:endCxn id="97" idx="2"/>
          </p:cNvCxnSpPr>
          <p:nvPr/>
        </p:nvCxnSpPr>
        <p:spPr>
          <a:xfrm rot="5400000">
            <a:off x="4285800" y="2152440"/>
            <a:ext cx="305640" cy="5906160"/>
          </a:xfrm>
          <a:prstGeom prst="bentConnector3">
            <a:avLst>
              <a:gd name="adj1" fmla="val 175000"/>
            </a:avLst>
          </a:prstGeom>
          <a:ln w="255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495680" y="3200400"/>
            <a:ext cx="12193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9080" y="335268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-We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2057400"/>
            <a:ext cx="2411640" cy="3200400"/>
            <a:chOff x="380880" y="2057400"/>
            <a:chExt cx="2411640" cy="3200400"/>
          </a:xfrm>
        </p:grpSpPr>
        <p:sp>
          <p:nvSpPr>
            <p:cNvPr id="101" name=""/>
            <p:cNvSpPr/>
            <p:nvPr/>
          </p:nvSpPr>
          <p:spPr>
            <a:xfrm>
              <a:off x="892080" y="3048120"/>
              <a:ext cx="103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057400"/>
              <a:ext cx="2210040" cy="3200400"/>
            </a:xfrm>
            <a:prstGeom prst="rect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33520" y="2514600"/>
              <a:ext cx="13618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828800" y="251460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33520" y="4604040"/>
              <a:ext cx="81252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1373040" y="4527720"/>
              <a:ext cx="8128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5120" y="412920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50160" y="4536360"/>
              <a:ext cx="78048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88" y="153"/>
                  </a:moveTo>
                  <a:arcTo wR="10800" hR="10800" stAng="-5979495" swAng="51970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88" y="153"/>
                  </a:moveTo>
                  <a:arcTo wR="10800" hR="10800" stAng="-5979495" swAng="5197078"/>
                </a:path>
              </a:pathLst>
            </a:cu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666880" y="3352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verfolg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rgebnis incl. Anl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560" y="396252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65760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5268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6576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5181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ktu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486400" y="327672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286000"/>
            <a:ext cx="36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üfauftrag anl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ingang regist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tikett aus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2400" y="18288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uptauftragnehmer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50120" y="3336840"/>
            <a:ext cx="197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W-ATS-PC / 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LW.02000464 /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0001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2760" y="464832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ilauftragsla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5029200"/>
            <a:ext cx="36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ingang regist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371600"/>
            <a:ext cx="61722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209680"/>
            <a:ext cx="75438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lauf Auftragsabwicklung im Labor mit e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eigabeanaly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usverfol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 in e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1143000"/>
            <a:ext cx="8461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Auftrag validieren, abschließen und abrechn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3440" y="194616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e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508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26320" y="2403360"/>
            <a:ext cx="64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erfassung jedes Merkmals wird überprü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eintrag löst Kostenmeldung an CS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aufträge werden einzeln abgeschlo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ne Validierung jedes Prüfw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ndenauftrag fakturieren“ schließt diesen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2160" y="44956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P-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5400" y="4952880"/>
            <a:ext cx="52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r Prüfwert wird einzeln valid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setzung des „Vier-Augen-Prinzips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Prüfberichte / Befunde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66560" y="1752480"/>
            <a:ext cx="71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ksprüfzeugnis und Analysenzertifik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EN 10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üfmerkmal / Prüfverfahren / Analysenergebnisse / Spezif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rzbe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bellarische Ergebnisdar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gebundene Texte: SAP-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be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gebundenes Word-Dok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uschaltbare Proben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uschaltbare Ergebnistab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173160" indent="0">
              <a:spcBef>
                <a:spcPts val="1250"/>
              </a:spcBef>
              <a:buNone/>
              <a:tabLst>
                <a:tab algn="l" pos="0"/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knüpfung mit Web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P-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zienzsteigerung durch Vereinfach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uftragserfass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mmdatenpf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brechnungswes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richts-/Befundwesen, Ergebnisweiterleit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2200" y="990360"/>
            <a:ext cx="7242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 und Ziele für die Einführung vo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08240" y="1447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- never change a winning hors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89120" y="1066680"/>
          <a:ext cx="5764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066680"/>
                    <a:ext cx="5764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Freigabeanalytik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1523880"/>
            <a:ext cx="721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benah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auftragung Rohstoff-/Endproduktkontrollen durch Auftragg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rbeitsvorrat Probe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benahmeprotokoll vor Prüf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ückstellmusterverwaltung nach der 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 oder mehrere Prüfmerk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thält Spezifikationen, vom System geprü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 Prüfplan pro Prüf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lid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alidierung Einzelprüfwerte / Prüfauftrag - Vier-Augen-Prin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dvalidierung und Freigabe Kunden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reigabeentscheid B2B oder Prüf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ti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828800"/>
            <a:ext cx="792468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ndenauftr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FEREN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nur als Kopiervorlage d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GELEG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 wurde gesichert und wird noch weiterbearb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RA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n der Kunde noch nicht beauftragt h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GEBO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n AS dem Kunden anbie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TEI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von beiden Seiten verbindlichen Charakter h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ORNI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abgesagt wur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NGA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ens eine Probe des Auftrages ist eingeg. und regis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UE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mindestens einer Probe wurde mit Werterfassung begonn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RTI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üfung abgeschlo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Proben endvalidiert (nur bei GMP, Valebene 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üfbericht freigege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KTURI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Auftrag wurde abgeschlossen und eine Faktura erstel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ti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-/Proben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vollständig 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r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geprü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geprüft und alle Werte validiert (nur bei GMP, Valeben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geschlo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Korrektur befindli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verm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rt eingetr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rt validie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ur bei GMP, Valeben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kip (Wert wurde nicht gemess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öschverm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mmdaten für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geber (Kunden, Debitor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mpfänger, Ansprech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ungsmaterial (SAP M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katalog (Leistungen, Merkmale, Methoden, Preis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lä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rkmale, Stammprüfmerkm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thoden (DIN, ISO, SOP, Hausmethode, LM usw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bellen, z. B. Labors, key account,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uftraggeberstammdat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256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stamm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262800"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zentral gepfleg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bitor, Name + Anschrift usw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uchungskrei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ontierungsinformatio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mpfänger / Ansprech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262800"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von ATS im SAP gepfleg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ordnung zum Debito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ame, Anrede, Tit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bteilung, Fun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ommunikation (Tel., Fax, Mail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mmdaten - Leistungskatalog</a:t>
            </a:r>
            <a:br>
              <a:rPr sz="2400"/>
            </a:b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Von der Produktfamilie zur Method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676520"/>
            <a:ext cx="7772400" cy="4343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315200" cy="373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6765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familie                                                 (z. B. Mikroskopi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20415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                   (Transmissionselektronenmikroskop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2438280"/>
            <a:ext cx="6934320" cy="3124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242244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                        (EDX-Analyse am TEM, Mapp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2819520"/>
            <a:ext cx="6553080" cy="2514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280368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prüfmerkmale                    (Elementverteil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3200400"/>
            <a:ext cx="6172200" cy="18288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32004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e                               (Hausmethode, EM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mmdaten - Leistungskatalo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kturpf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uordnung zu Produktfamilien und Produk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 und Ansprechpartn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rkmal und Metho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ichtbar und Substitu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tkatal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hält alle Leistungen für Standardkund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ard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katal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pezifische Leistungen für einzelne Kund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pezifischer 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tionen der LIMS - Entwickl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1676520"/>
            <a:ext cx="2351160" cy="2181240"/>
            <a:chOff x="685800" y="1676520"/>
            <a:chExt cx="2351160" cy="2181240"/>
          </a:xfrm>
        </p:grpSpPr>
        <p:graphicFrame>
          <p:nvGraphicFramePr>
            <p:cNvPr id="123" name=""/>
            <p:cNvGraphicFramePr/>
            <p:nvPr/>
          </p:nvGraphicFramePr>
          <p:xfrm>
            <a:off x="685800" y="1676520"/>
            <a:ext cx="2351160" cy="21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676520"/>
                      <a:ext cx="235116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067040" y="21337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00400" y="18129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 der Oberfläche / Hum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mmandospr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16480" y="2451240"/>
            <a:ext cx="2350800" cy="2656440"/>
            <a:chOff x="3516480" y="2451240"/>
            <a:chExt cx="2350800" cy="2656440"/>
          </a:xfrm>
        </p:grpSpPr>
        <p:graphicFrame>
          <p:nvGraphicFramePr>
            <p:cNvPr id="129" name=""/>
            <p:cNvGraphicFramePr/>
            <p:nvPr/>
          </p:nvGraphicFramePr>
          <p:xfrm>
            <a:off x="3516480" y="2451240"/>
            <a:ext cx="2350800" cy="21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16480" y="2451240"/>
                      <a:ext cx="235080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3821040" y="272736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ak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68760" y="47088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nü-Tech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48520" y="3505320"/>
            <a:ext cx="2361960" cy="2640240"/>
            <a:chOff x="6248520" y="3505320"/>
            <a:chExt cx="2361960" cy="2640240"/>
          </a:xfrm>
        </p:grpSpPr>
        <p:graphicFrame>
          <p:nvGraphicFramePr>
            <p:cNvPr id="134" name=""/>
            <p:cNvGraphicFramePr/>
            <p:nvPr/>
          </p:nvGraphicFramePr>
          <p:xfrm>
            <a:off x="6259680" y="3505320"/>
            <a:ext cx="2350800" cy="218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59680" y="3505320"/>
                      <a:ext cx="235080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640560" y="3781440"/>
              <a:ext cx="1131840" cy="580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enster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inga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4251240"/>
              <a:ext cx="1447560" cy="824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Fenster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usgabe xxx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ingabe 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48520" y="57466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nster-Tech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769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inige Features wurden nicht behandelt...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ückstellmusterverwaltung / Stabilitätsprob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 tei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risierungen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extraktion (z.B. in EXCEL) für 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z.B. Trendanalysen, Regelkar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0920" y="17524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.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ab erfüllt Anforderungen der Labors an modernes LIM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Funktionen, Oberfläch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elektronisches System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ab ist in der Lage, sehr unterschiedliche Aufträge und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en Anforderungen abzudecken (Forschungsprobe, GM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e Integration in SA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efinition LIM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590920"/>
            <a:ext cx="2895840" cy="1752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048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ordaten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arb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3581280"/>
            <a:ext cx="2971800" cy="1752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523880"/>
            <a:ext cx="304812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581280"/>
            <a:ext cx="3048120" cy="1752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600200"/>
            <a:ext cx="2971800" cy="17524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stützung 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blä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9625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au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tung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s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18892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ßdaten-verarbeitung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räte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41148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on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Funktionen eines LIM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057400"/>
            <a:ext cx="32004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641680"/>
            <a:ext cx="3200400" cy="3022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und Ausführung 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er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2057400"/>
            <a:ext cx="32004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pherie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2666880"/>
            <a:ext cx="3200400" cy="348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daten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-Doku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äteanbi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kalien / Rückstellm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k, Regelk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8232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Die Analytisch Technischen Services</a:t>
            </a:r>
            <a:br>
              <a:rPr sz="2400"/>
            </a:b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an den Standorten Marl und Wolfg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30 Labor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den Schwerpunkt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ysikalische Chemi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che Stoff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organische Stoff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analytik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ochemie / Spezielle F + 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200 Mitarbeiter in den analytischen Labor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hrzahl der Mitarbeiter arbeitet direkt im LIM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nalytik an den Standorten </a:t>
            </a:r>
            <a:br>
              <a:rPr sz="2400"/>
            </a:b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arl und Wolfg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977840"/>
            <a:ext cx="7620120" cy="34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ährliches Probenvolumen ca. 120.00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0000 Marl / 40000 Wolfga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37000 Aufträge mit entsprechender Anzah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 / Prüfberichte (25000 Marl / 12000 Wolfga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1.000 Leistungen an jedem Stand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08:40:23Z</dcterms:created>
  <dc:creator>Birgit Schneevogl</dc:creator>
  <dc:description>PowerPoint97
Infracor GmbH, IN-PK-KC-KOM, Ellen Weber
18.01.2001</dc:description>
  <dc:language>en-US</dc:language>
  <cp:lastModifiedBy>Dr. Jochen Winkler</cp:lastModifiedBy>
  <cp:lastPrinted>2002-08-26T15:13:20Z</cp:lastPrinted>
  <dcterms:modified xsi:type="dcterms:W3CDTF">2002-09-12T20:38:13Z</dcterms:modified>
  <cp:revision>86</cp:revision>
  <dc:subject/>
  <dc:title>Die Arbeit mit elab im Labor</dc:title>
</cp:coreProperties>
</file>