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0548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C822489-9752-432F-8583-C505D80A21A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76920" y="6405480"/>
            <a:ext cx="10782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97017BF-347E-4DFD-8E3E-6B94BF2BE1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6080" y="6400800"/>
            <a:ext cx="59796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4E5B-3CEA-4339-B5EC-120102F46EF5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6800" y="6405480"/>
            <a:ext cx="16117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W-ATS / Dr. A. Mü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6576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6432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200" y="2165400"/>
            <a:ext cx="6172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7920" y="4266720"/>
            <a:ext cx="44197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Arndt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ustriepark Wolfgang Gmb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sch Technisch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rten von Prüfung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, Forsch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e Proben, Wettbewerbsanaly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, Mikrobi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analytik, Eingangs-/Endprodukt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ätsanalytik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m Auftrag zu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5238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8080" y="5699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eistung ist eindeutig einem Labor zu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1828800"/>
            <a:ext cx="4648320" cy="426708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590920"/>
            <a:ext cx="1523880" cy="2361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604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97180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8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062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919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2"/>
            <a:endCxn id="97" idx="2"/>
          </p:cNvCxnSpPr>
          <p:nvPr/>
        </p:nvCxnSpPr>
        <p:spPr>
          <a:xfrm rot="5400000">
            <a:off x="4285800" y="2152440"/>
            <a:ext cx="305640" cy="5906160"/>
          </a:xfrm>
          <a:prstGeom prst="bentConnector3">
            <a:avLst>
              <a:gd name="adj1" fmla="val 17500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495680" y="320040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33526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2057400"/>
            <a:ext cx="2411640" cy="3200400"/>
            <a:chOff x="380880" y="2057400"/>
            <a:chExt cx="2411640" cy="3200400"/>
          </a:xfrm>
        </p:grpSpPr>
        <p:sp>
          <p:nvSpPr>
            <p:cNvPr id="101" name=""/>
            <p:cNvSpPr/>
            <p:nvPr/>
          </p:nvSpPr>
          <p:spPr>
            <a:xfrm>
              <a:off x="892080" y="304812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05740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33520" y="251460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828800" y="25146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3520" y="460404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373040" y="452772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41292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0160" y="453636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6880" y="3352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39625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657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181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48640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286000"/>
            <a:ext cx="36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üfauftrag anl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tikett aus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8288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ptauftragnehmer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50120" y="3336840"/>
            <a:ext cx="197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W-ATS-PC / 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LW.02000464 /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000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2760" y="46483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ilauftragsla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029200"/>
            <a:ext cx="36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61722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209680"/>
            <a:ext cx="75438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lauf Auftragsabwicklung im Labor mit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eigabeanaly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 in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1143000"/>
            <a:ext cx="8461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uftrag validieren, abschließen und abrechn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440" y="19461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e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6320" y="2403360"/>
            <a:ext cx="64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rfassung jedes Merkmals wird über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intrag löst Kostenmeldung an C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aufträge werden einzeln abgeschlo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e Validierung jedes Prüfw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fakturieren“ schließt diesen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4495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P-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5400" y="4952880"/>
            <a:ext cx="52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Prüfwert wird einzeln valid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ung des „Vier-Augen-Prinzips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Prüfberichte / Befunde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6560" y="1752480"/>
            <a:ext cx="71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prüfzeugnis und Analysenzertifi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N 10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üfmerkmal / Prüfverfahren / Analysenergebnisse / Spez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bellarische Ergebnisda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 Texte: SAP-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s Word-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Prob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Ergebnistab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0">
              <a:spcBef>
                <a:spcPts val="1250"/>
              </a:spcBef>
              <a:buNone/>
              <a:tabLst>
                <a:tab algn="l" pos="0"/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knüpfung mit Web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-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zsteigerung durch Vereinfach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ftragserfass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mmdaten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rechnungswes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richts-/Befundwesen, Ergebnisweiterleit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2200" y="990360"/>
            <a:ext cx="7242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 und Ziele für die Einführung vo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8240" y="1447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- never change a winning hors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89120" y="1066680"/>
          <a:ext cx="5764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066680"/>
                    <a:ext cx="5764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Freigabeanalytik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523880"/>
            <a:ext cx="72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benah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auftragung Rohstoff-/Endproduktkontrollen durch Auftragg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beitsvorrat Probe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enahmeprotokoll vor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ückstellmusterverwaltung nach der 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oder mehrere Prüf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hält Spezifikationen, vom System geprü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Prüfplan pro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lidierung Einzelprüfwerte / Prüfauftrag - Vier-Augen-Prin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dvalidierung und Freigabe Kunden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reigabeentscheid B2B oder Prüf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92468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EREN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nur als Kopiervorlage d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LEG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 wurde gesichert und wird noch weiterbearb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R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der Kunde noch nicht beauftragt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BO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AS dem Kunden anbie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EI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von beiden Seiten verbindlichen Charakter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RN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abgesagt wur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NGA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ens eine Probe des Auftrages ist eingeg. und regi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UE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mindestens einer Probe wurde mit Werterfassung bego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RT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ung abgeschlo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Proben endvalidiert (nur bei GMP, Valebene 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bericht freigeg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KTUR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uftrag wurde abgeschlossen und eine Faktura erstel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-/Proben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 und alle Werte validiert 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Korrektur befindl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ein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validie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ip (Wert wurde nicht gemes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mmdaten für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geber (Kunden, Debitor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, Ansprech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material (SAP M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katalog (Leistungen, Merkmale, Methoden, Preis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lä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rkmale, Stammprüf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DIN, ISO, SOP, Hausmethode, LM usw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en, z. B. Labors, key account,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uftraggeberstammda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5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tamm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zentral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bitor, Name + Anschrift usw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uchungskre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ntierungsinformatio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 / Ansprech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von ATS im SAP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ordnung zum Debito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me, Anrede, Tit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teilung, Fun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mmunikation (Tel., Fax, Mail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31520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   (z. B. Mikroskopi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0415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                  (Transmissionselektronenmikroskop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438280"/>
            <a:ext cx="6934320" cy="3124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422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                        (EDX-Analyse am TEM, M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2819520"/>
            <a:ext cx="6553080" cy="2514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28036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prüfmerkmale                    (Elementvertei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200400"/>
            <a:ext cx="6172200" cy="1828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32004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uordnung zu Produktfamilien und Produk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rkmal und Metho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hält alle Leistungen für Standard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 Leistungen für einzelne 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r 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tionen der LIMS - Entwick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676520"/>
            <a:ext cx="2351160" cy="2181240"/>
            <a:chOff x="685800" y="1676520"/>
            <a:chExt cx="2351160" cy="2181240"/>
          </a:xfrm>
        </p:grpSpPr>
        <p:graphicFrame>
          <p:nvGraphicFramePr>
            <p:cNvPr id="123" name=""/>
            <p:cNvGraphicFramePr/>
            <p:nvPr/>
          </p:nvGraphicFramePr>
          <p:xfrm>
            <a:off x="685800" y="1676520"/>
            <a:ext cx="2351160" cy="21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76520"/>
                      <a:ext cx="235116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067040" y="21337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00400" y="18129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der Oberfläche / Hum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ando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16480" y="2451240"/>
            <a:ext cx="2350800" cy="2656440"/>
            <a:chOff x="3516480" y="2451240"/>
            <a:chExt cx="2350800" cy="2656440"/>
          </a:xfrm>
        </p:grpSpPr>
        <p:graphicFrame>
          <p:nvGraphicFramePr>
            <p:cNvPr id="129" name=""/>
            <p:cNvGraphicFramePr/>
            <p:nvPr/>
          </p:nvGraphicFramePr>
          <p:xfrm>
            <a:off x="3516480" y="2451240"/>
            <a:ext cx="2350800" cy="21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245124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3821040" y="272736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ak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760" y="4708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nü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48520" y="3505320"/>
            <a:ext cx="2361960" cy="2640240"/>
            <a:chOff x="6248520" y="3505320"/>
            <a:chExt cx="2361960" cy="2640240"/>
          </a:xfrm>
        </p:grpSpPr>
        <p:graphicFrame>
          <p:nvGraphicFramePr>
            <p:cNvPr id="134" name=""/>
            <p:cNvGraphicFramePr/>
            <p:nvPr/>
          </p:nvGraphicFramePr>
          <p:xfrm>
            <a:off x="6259680" y="3505320"/>
            <a:ext cx="2350800" cy="21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59680" y="350532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640560" y="3781440"/>
              <a:ext cx="113184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inga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251240"/>
              <a:ext cx="1447560" cy="824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usgabe xxx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ingabe 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5746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nster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769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inige Features wurden nicht behandelt...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ellmusterverwaltung / Stabilitäts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 tei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isierungen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xtraktion (z.B. in EXCEL) für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.B. Trendanalysen, Regelka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0920" y="1752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erfüllt Anforderungen der Labors an modernes LIM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Funktionen, Oberfläch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lektronisches System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ist in der Lage, sehr unterschiedliche Aufträge un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en Anforderungen abzudecken (Forschungsprobe, GM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Integration in SA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efinition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590920"/>
            <a:ext cx="2895840" cy="1752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ordaten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581280"/>
            <a:ext cx="297180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523880"/>
            <a:ext cx="304812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581280"/>
            <a:ext cx="304812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2971800" cy="1752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bl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au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889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ßdaten-verarbei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14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unktionen eines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32004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641680"/>
            <a:ext cx="3200400" cy="3022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Ausführung 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057400"/>
            <a:ext cx="32004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pherie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666880"/>
            <a:ext cx="3200400" cy="34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-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ätean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kalien / Rückstellm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, Regelk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8232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ie Analytisch Technischen Services</a:t>
            </a:r>
            <a:br>
              <a:rPr sz="2400"/>
            </a:b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n den Standorten 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0 Labor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Schwerpunkt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analytik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ochemie / Spezielle F + 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200 Mitarbeiter in den analytischen Labor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zahl der Mitarbeiter arbeitet direkt im LIM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nalytik an den Standorten 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977840"/>
            <a:ext cx="7620120" cy="34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ährliches Probenvolumen ca. 12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0000 Marl / 40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7000 Aufträge mit entsprechender Anzah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 / Prüfberichte (25000 Marl / 12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1.000 Leistungen an jedem Stand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8:40:23Z</dcterms:created>
  <dc:creator>Birgit Schneevogl</dc:creator>
  <dc:description>PowerPoint97
Infracor GmbH, IN-PK-KC-KOM, Ellen Weber
18.01.2001</dc:description>
  <dc:language>en-US</dc:language>
  <cp:lastModifiedBy>Dr. Jochen Winkler</cp:lastModifiedBy>
  <cp:lastPrinted>2002-08-26T15:13:20Z</cp:lastPrinted>
  <dcterms:modified xsi:type="dcterms:W3CDTF">2002-09-12T20:38:13Z</dcterms:modified>
  <cp:revision>86</cp:revision>
  <dc:subject/>
  <dc:title>Die Arbeit mit elab im Labor</dc:title>
</cp:coreProperties>
</file>