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133720" y="7086600"/>
            <a:ext cx="1066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J. Winkler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920" y="7086600"/>
            <a:ext cx="11361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0046CF98-5713-42A9-A24C-99E96FA78A6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7.02.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ff3535"/>
                </a:solidFill>
                <a:latin typeface="Arial"/>
              </a:rPr>
              <a:t>R/3 und Internet – eine starke Komb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7.02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onische Geschäftsdokumente -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openTR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m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9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eit 7.9.2001 (Version 1.0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REQUEST FOR QUOTA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ORDERCHANG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ORDERRESPONS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DISPATCHNOTIFICA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RECEIPTACKNOWLEDGEMEN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hierarch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elt- und Kunden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kataloge -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BMEca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Version 1.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n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 für die Beschreibung und den Austausch v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n im E-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klassifik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kla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kmalsle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lagwo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klassifikation - Standardvorsch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eCl@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m Institut der deutschen Wirtschaf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ildet Beschaffungsmärkte für Einkäufer ab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unterstützt Ingenieure bei der Entwicklung, Planung und Instandhaltu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 und BMEc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9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eit Mai 20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ierstufiger hierarchischer Klassifikationsschlüss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chlagwortregister mit 14 000 Begriff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Merkmalsleisten zur Beschreibung von Materialien und Dienstleistung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/3 im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usiness Connector –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server – R/3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server – (Non R/3-)  ERP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en vo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terialanforderungen im Intra- und Internet an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/3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zneimittelanforderungen von Klinikst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erialanforder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pplungen Lieferanten und Kunden mit R/3- und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n-R/3-Syste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ndelshaus – Produktionsbetrieb (Pharmabranch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linik – Pharmaherstel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linik – Großhändler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pplung zu externen Katalogen (z.B. ABD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en vo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tragserfassungssystem für Dienstleistungslabor mit R/3 integriertem LI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bserver als Kundeng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3 mit integriertem LIMS incl. SD-Anb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gration von BMEcat Katalo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pplung über openTR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895480" y="1219320"/>
          <a:ext cx="49532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49532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256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AuftragsLab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406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42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936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6097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93680" y="4275000"/>
            <a:ext cx="3009600" cy="496440"/>
            <a:chOff x="3793680" y="4275000"/>
            <a:chExt cx="3009600" cy="496440"/>
          </a:xfrm>
        </p:grpSpPr>
        <p:sp>
          <p:nvSpPr>
            <p:cNvPr id="121" name=""/>
            <p:cNvSpPr/>
            <p:nvPr/>
          </p:nvSpPr>
          <p:spPr>
            <a:xfrm>
              <a:off x="3794040" y="432432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93680" y="4275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40880" y="4343400"/>
              <a:ext cx="24624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en - 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6876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285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366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3624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4065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65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785400" y="1819440"/>
            <a:ext cx="385200" cy="496440"/>
            <a:chOff x="3785400" y="1819440"/>
            <a:chExt cx="385200" cy="496440"/>
          </a:xfrm>
        </p:grpSpPr>
        <p:sp>
          <p:nvSpPr>
            <p:cNvPr id="131" name=""/>
            <p:cNvSpPr/>
            <p:nvPr/>
          </p:nvSpPr>
          <p:spPr>
            <a:xfrm>
              <a:off x="37861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854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838080" y="175248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03520" y="5707440"/>
            <a:ext cx="16430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492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488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714840" y="2838600"/>
            <a:ext cx="501480" cy="496440"/>
            <a:chOff x="3714840" y="2838600"/>
            <a:chExt cx="501480" cy="496440"/>
          </a:xfrm>
        </p:grpSpPr>
        <p:sp>
          <p:nvSpPr>
            <p:cNvPr id="139" name=""/>
            <p:cNvSpPr/>
            <p:nvPr/>
          </p:nvSpPr>
          <p:spPr>
            <a:xfrm>
              <a:off x="37908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148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543800" y="251460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286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IN00307_" descr=""/>
          <p:cNvPicPr/>
          <p:nvPr/>
        </p:nvPicPr>
        <p:blipFill>
          <a:blip r:embed="rId3"/>
          <a:stretch/>
        </p:blipFill>
        <p:spPr>
          <a:xfrm>
            <a:off x="6934320" y="411480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794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237680" y="3705120"/>
            <a:ext cx="385200" cy="496440"/>
            <a:chOff x="1237680" y="3705120"/>
            <a:chExt cx="385200" cy="496440"/>
          </a:xfrm>
        </p:grpSpPr>
        <p:sp>
          <p:nvSpPr>
            <p:cNvPr id="146" name=""/>
            <p:cNvSpPr/>
            <p:nvPr/>
          </p:nvSpPr>
          <p:spPr>
            <a:xfrm>
              <a:off x="12384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376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V="1">
            <a:off x="14144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9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6668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895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4191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952880"/>
            <a:ext cx="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1600" y="1828800"/>
            <a:ext cx="26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bestät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1219320"/>
            <a:ext cx="110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9160" y="1143000"/>
            <a:ext cx="385200" cy="522000"/>
            <a:chOff x="3809160" y="1143000"/>
            <a:chExt cx="385200" cy="522000"/>
          </a:xfrm>
        </p:grpSpPr>
        <p:sp>
          <p:nvSpPr>
            <p:cNvPr id="158" name=""/>
            <p:cNvSpPr/>
            <p:nvPr/>
          </p:nvSpPr>
          <p:spPr>
            <a:xfrm>
              <a:off x="3809880" y="1198800"/>
              <a:ext cx="365040" cy="4662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9160" y="1143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8458200" y="2514600"/>
            <a:ext cx="0" cy="304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381880" y="2514240"/>
            <a:ext cx="0" cy="3048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809520" y="4952880"/>
            <a:ext cx="3644280" cy="496440"/>
            <a:chOff x="3809520" y="4952880"/>
            <a:chExt cx="3644280" cy="496440"/>
          </a:xfrm>
        </p:grpSpPr>
        <p:sp>
          <p:nvSpPr>
            <p:cNvPr id="163" name=""/>
            <p:cNvSpPr/>
            <p:nvPr/>
          </p:nvSpPr>
          <p:spPr>
            <a:xfrm>
              <a:off x="3809880" y="500220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9520" y="49528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55640" y="5021280"/>
              <a:ext cx="309816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gebnis - Übermitt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3580920" y="55627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jwConsulting hat Erfahrungen und praxiserprobte Lösungen be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ogrammierung benutzerfreundlicher Browsermas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undenindividuellen Programmierung von Webserv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pplung von R/3 Systemen mit Webservern und der da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twendigen Stammdatensynchro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pplung von R/3-Systemen mit R/3- und anderen ERP-System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tels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Einbeziehung von externen Produktkatalogen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Berücksichtigung von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Nutzung von Browsern als Front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kannte Oberfläche, kein Lernaufw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Softwarewartung für die Clients (Browser gehören zu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überflüssigen Nutzerliz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Nutzung von standardisierten XML-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ersparnis und Qualitätsgewinn durch Wegfall des manuell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aufwan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bindung von beliebig vielen Systemen ohne Anpassungsaufw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Standard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teuren Konverter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eiswertes und einfaches Übertragungsmedium Internet (kein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leitungen o.ä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ff3535"/>
                </a:solidFill>
                <a:latin typeface="Arial"/>
              </a:rPr>
              <a:t>R/3 und Internet – eine starke Komb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7.02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deutung von X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535"/>
                </a:solidFill>
                <a:latin typeface="Arial"/>
              </a:rPr>
              <a:t>XML allein verändert nicht das E-Business, a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ist die Basis für den standardisierten Datenaustausch zwischen   Geschäftseinheiten, Firmen, öffentlichen Einrichtungen und Institu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ist nicht nur von Maschinen, sondern auch von Menschen lesbar (z.B. direkt oder über Brows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ist erweiterbar und sehr flexi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wird auch zunehmend zum Interface in und zwischen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syste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wendungsgebiete im E-Business (Auswah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Austausch von Dokum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äftsdokumenten (Anforderungen, Bestellungen, Lieferavis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orderungen (Spezifikationen, Ausschreibungen, Pflichtenheft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n, Preis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 (Gebrauchsanweisungen, Bedienungshinweisen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ckungsbeilagen, Anwendungsdokument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ergebnissen (Forschungsberichten, Analyseergebnissen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zepten, Konfigur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zwischen Mensch</a:t>
            </a:r>
            <a:r>
              <a:rPr b="1" lang="de-DE" sz="1600" spc="-1" strike="noStrike">
                <a:solidFill>
                  <a:srgbClr val="ff3535"/>
                </a:solidFill>
                <a:latin typeface="Wingdings"/>
                <a:ea typeface="Wingdings"/>
              </a:rPr>
              <a:t>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Rechner und Rechner</a:t>
            </a:r>
            <a:r>
              <a:rPr b="1" lang="de-DE" sz="1600" spc="-1" strike="noStrike">
                <a:solidFill>
                  <a:srgbClr val="ff3535"/>
                </a:solidFill>
                <a:latin typeface="Wingdings"/>
                <a:ea typeface="Wingdings"/>
              </a:rPr>
              <a:t>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Rechn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e kommt man zu standardisierten Schnittstellen mit XML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Gegenwärtiger St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nuelle Schnittstellen (Brief, Telefon, Fax, remote Dru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ividuelle Forma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DOCs (R/3 – R/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Nutzung des Intra- bzw. Internets mit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der Schnittstellen unter Berücksichtigung von Standard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openTRANS,...) mit Unterstützung von 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atz des Business Connectors für R/3 Kopp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server mit Open Source Tools und 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d-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pplung R/3 mit Webservern mit 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d-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onische Geschäftsdokumente - Kun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f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zifikationen (Pflichtenheft, Dokumente, Prüfspezifik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Angeb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Dokumente (Produktkataloge, Prospekte, Spezifikationen, ...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Wareneingang (bei materiellen Güter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Ergebnisse (Prüfberichte, Dokumente, Projektentwürfe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Rechnungsprüfung - Zah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onische Geschäftsdokumente - Liefer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Anf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Spezifikationen (Pflichtenheft, Dokumente, Prüfspezifik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geb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(Produktkataloge, Prospekte, Spezifikationen, ...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Auftra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ferschein (bei materiellen Güter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ebnisse (Prüfberichte, Dokumente, Projektentwürfe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2-01-30T09:46:08Z</cp:lastPrinted>
  <dcterms:modified xsi:type="dcterms:W3CDTF">2002-02-03T10:01:33Z</dcterms:modified>
  <cp:revision>567</cp:revision>
  <dc:subject/>
  <dc:title>Kein Folientitel</dc:title>
</cp:coreProperties>
</file>