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066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6EF9A8F-1B70-42E7-8CDA-7B814BA4099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2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openTR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7.9.2001 (Version 1.0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QUEST FOR 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CHANG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ORDERRESPON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ISPATCHNOTIFIC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RECEIPTACKNOWLEDG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elt- und Kunden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kataloge -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für die Beschreibung und den Austausch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 im E-Busi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klassifikation - Standardvorsch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siness Connector –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– R/3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– (Non R/3-)  ERP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anforderungen im Intra- und Internet a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/3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zneimittelanforderungen von Klinik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pplungen Lieferanten und Kunden mit R/3- und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n-R/3-Syste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elshaus – Produktionsbetrieb (Pharmabranch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inik – Pharmaherstel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linik – Großhändler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pplung zu externen Katalogen (z.B. ABD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en v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ftragserfassungssystem für Dienstleistungslabor mit R/3 integriertem LI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bserver als Kunden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mit integriertem LIMS incl. SD-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ation von BMEcat Katalo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pplung über openTR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21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31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39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N00307_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46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58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63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grammierung benutzerfreundlicher Browser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undenindividuellen Programmierung von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pplung von R/3-Systemen mit R/3- und anderen ERP-System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tels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inbeziehung von externen Produktkatalogen u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Berücksichtigung von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Browsern als Front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kannte Oberfläche, kein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Softwarewartung für die Clients (Browser gehören zu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überflüssigen Nutzerlize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von standardisierten XML-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und Qualitätsgewinn durch Wegfall des manuell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aufwan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bindung von beliebig vielen Systemen ohne Anpass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Standardis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euren Konverter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wertes und einfaches Übertragungsmedium Internet (ke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leitungen o.ä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R/3 und Internet – eine starke Komb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eutung von X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XML allein verändert nicht das E-Business, a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, öffentlichen Einrichtungen und Institu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nicht nur von Maschinen, sondern auch von Menschen lesbar (z.B. direkt oder über Brows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ist erweiterbar und sehr flex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wird auch zunehmend zum Interface in und zwischen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syst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gebiete im E-Business (Auswah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ustausch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n, Preis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(Gebrauchsanweisungen, Bedienungshinwei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n (Forschungsberichten, Analyseergebnissen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n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zwischen Mensch</a:t>
            </a:r>
            <a:r>
              <a:rPr b="1" lang="de-DE" sz="1600" spc="-1" strike="noStrike">
                <a:solidFill>
                  <a:srgbClr val="ff3535"/>
                </a:solidFill>
                <a:latin typeface="Wingdings"/>
                <a:ea typeface="Wingdings"/>
              </a:rPr>
              <a:t>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Rechner und Rechner</a:t>
            </a:r>
            <a:r>
              <a:rPr b="1" lang="de-DE" sz="1600" spc="-1" strike="noStrike">
                <a:solidFill>
                  <a:srgbClr val="ff3535"/>
                </a:solidFill>
                <a:latin typeface="Wingdings"/>
                <a:ea typeface="Wingdings"/>
              </a:rPr>
              <a:t>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Rechn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kommt man zu standardisierten Schnittstellen mit XM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genwärtiger St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Schnittstellen (Brief, Telefon, Fax, remote Dru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viduelle Forma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DOCs (R/3 –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Nutzung des Intra- bzw. Internets mit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inition der Schnittstellen unter Berücksichtigung von Standar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openTRANS,...) mit Unterstützung von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des Business Connectors für R/3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server mit Open Source Tools und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pplung R/3 mit Webservern mit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edeutung von 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aterialklass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R/3 im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ntwicklungen von </a:t>
            </a:r>
            <a:r>
              <a:rPr b="0" lang="de-DE" sz="1800" spc="-1" strike="noStrike">
                <a:solidFill>
                  <a:srgbClr val="eaeaea"/>
                </a:solidFill>
                <a:latin typeface="Braggadocio"/>
              </a:rPr>
              <a:t>j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Ku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Wareneingang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Rechnungsprüfung - Zah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onische Geschäftsdokumente - Liefer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nf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Spezifikationen (Pflichtenheft, Dokumente, Prüfspezifik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eb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(Produktkataloge, Prospekte, Spezifikationen, ...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Auftr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schein (bei materiellen Güter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se (Prüfberichte, Dokumente, Projektentwürfe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2-01-30T09:46:08Z</cp:lastPrinted>
  <dcterms:modified xsi:type="dcterms:W3CDTF">2002-02-03T10:01:33Z</dcterms:modified>
  <cp:revision>567</cp:revision>
  <dc:subject/>
  <dc:title>Kein Folientitel</dc:title>
</cp:coreProperties>
</file>