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907588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6440" y="137160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F9E70178-ACFF-4DE6-9DE0-E219B428661A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79960" y="70866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um 07.02.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603440" y="7086600"/>
            <a:ext cx="17125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pl.-Ing. Andreas Kutschenbau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49640" y="7101000"/>
            <a:ext cx="30200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nforderungssystem im Intranet mit Kopplung an SAP R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2092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9144000" cy="5918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forderungssystem im Intranet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t Ankopplung an SAP R/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-Ing. Andreas Kutschenbauer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07.02.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Anforderung per Intrane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74780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lvl="1" marL="625320" indent="-20772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Anforderungsmaske ausfüll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Anforderung zeitnah an das Lager schick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Disponent sichtet Anforderung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Anforderung wird kommissionier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Anforderung wird ausgeliefer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automatische Bestandsbuchung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Intranet - Maske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28840" y="1447920"/>
            <a:ext cx="70484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SAP R/3 - Maske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409760" y="152388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SAP R/3 - Maske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76480" y="16527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SAP R/3 - Maske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0" t="-19680" r="0" b="0"/>
          <a:stretch/>
        </p:blipFill>
        <p:spPr>
          <a:xfrm>
            <a:off x="1352520" y="577800"/>
            <a:ext cx="7201080" cy="646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SAP R/3 - Maske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0" t="-9838" r="0" b="0"/>
          <a:stretch/>
        </p:blipFill>
        <p:spPr>
          <a:xfrm>
            <a:off x="1409760" y="890640"/>
            <a:ext cx="7086600" cy="58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SAP R/3 - Bestandsbuchu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440000"/>
            <a:ext cx="952524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e Katalo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rne Katalo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ine doppelte Datenerfass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ringer Schulungsaufw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wicklung der Anforderungen in Echtz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chvollziehbarkeit aller Transaktio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eiteinsparu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9144000" cy="5918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forderungssystem im Intranet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t Ankopplung an SAP R/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-Ing. Andreas Kutschenbauer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07.02.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forderungssystem im Intranet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t Ankopplung an SAP R/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9000"/>
          </a:bodyPr>
          <a:p>
            <a:pPr marL="205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 Anforderung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e Bestellung von Materialien und Dienstleistungen, z.B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920" indent="-20592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üromaterial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920" indent="-20592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satztei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920" indent="-20592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araturen, Instandhaltun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Anforderungssystem im Intranet 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mit Ankopplung an SAP R/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190512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teigender Bedarf der Unternehmen, interne Prozesse über das Intranet abzuwickel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Einfache Datenerfassung beim Anforder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Einsatz mobiler Datenerfassungsgeräte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Sehr kurze Reaktionszeit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Verfügbarkeit Tag und Nach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Steigerung der Datenqualitä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Anforderungssystem im Intranet 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mit Ankopplung an SAP R/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lvl="1" marL="625320" indent="-20772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Komplette Verarbeitungslogik und Datenhaltung liegt auf dem Intranet-Serv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Standard-Browser als Cli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Vorteile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eringer Administrationsaufwand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eringe Lizenzkost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eringer Schulungsaufwand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Stammdate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lvl="1" marL="625320" indent="-20772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RP - System (z.B. SAP R/3) ist Mast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Materialstamm (Auszug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Hauskatalog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xterne Kataloge (z.B. ABDA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Benutzerstamm nur im Intrane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Bewegungsdate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lvl="1" marL="625320" indent="-20772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RP - System (z.B. SAP R/3) steuert   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Datenübernahm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Belege ( Kopf- und Positionsdaten 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Übersicht IT - System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intranet2" descr=""/>
          <p:cNvPicPr/>
          <p:nvPr/>
        </p:nvPicPr>
        <p:blipFill>
          <a:blip r:embed="rId1"/>
          <a:stretch/>
        </p:blipFill>
        <p:spPr>
          <a:xfrm>
            <a:off x="1447920" y="1522440"/>
            <a:ext cx="701028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Anforderungssystem im Intranet 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mit Ankopplung an SAP R/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lvl="1" marL="625320" indent="-20772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Beispiel Materialanforderung Lagerartik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Anforderung per Papi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Anforderung per Intrane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Anforderung per Papie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74780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lvl="1" marL="625320" indent="-20772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Anforderungsformular ausfüll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Anforderung an das Lager schick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Disponent sichtet Anforderung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Anforderung wird kommissionier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Anforderung wird ausgeliefer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manuelle Bestandsbuchung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Thomas Mickley</dc:creator>
  <dc:description/>
  <dc:language>en-US</dc:language>
  <cp:lastModifiedBy>Dr. Jochen Winkler</cp:lastModifiedBy>
  <cp:lastPrinted>2000-08-22T08:01:00Z</cp:lastPrinted>
  <dcterms:modified xsi:type="dcterms:W3CDTF">2002-02-04T08:29:26Z</dcterms:modified>
  <cp:revision>163</cp:revision>
  <dc:subject/>
  <dc:title>Kein Folientitel</dc:title>
</cp:coreProperties>
</file>