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6440" y="137160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7C5D27E-6A9D-43B2-B8B4-30B6A229963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996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07.02.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03440" y="7086600"/>
            <a:ext cx="17125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pl.-Ing. Andreas Kutschenbau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49640" y="7101000"/>
            <a:ext cx="3020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forderungssystem im Intranet mit Kopplung an SAP R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918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Ing. Andreas Kutschenbau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7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 per Intra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74780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smaske ausfüll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zeitnah an das Lager schick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Disponent sichtet Anforder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kommissioni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ausgelief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utomatische Bestandsbuchung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tranet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28840" y="14479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09760" y="15238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-19680" r="0" b="0"/>
          <a:stretch/>
        </p:blipFill>
        <p:spPr>
          <a:xfrm>
            <a:off x="1352520" y="577800"/>
            <a:ext cx="72010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-9838" r="0" b="0"/>
          <a:stretch/>
        </p:blipFill>
        <p:spPr>
          <a:xfrm>
            <a:off x="1409760" y="890640"/>
            <a:ext cx="708660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Bestandsbuchu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440000"/>
            <a:ext cx="95252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 Kata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e Kata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ine doppelte Datenerfass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inger Schulungsaufw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wicklung der Anforderungen in Echtz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chvollziehbarkeit aller Transak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iteinspar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918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Ing. Andreas Kutschenbau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7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20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 Anforderung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 Bestellung von Materialien und Dienstleistungen, z.B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üromateria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satzte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araturen, Instandhal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eigender Bedarf der Unternehmen, interne Prozesse über das Intranet abzuwick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Einfache Datenerfassung beim Anforder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Einsatz mobiler Datenerfassungsgeräte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ehr kurze Reaktionszei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Verfügbarkeit Tag und Nac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teigerung der Datenqualitä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omplette Verarbeitungslogik und Datenhaltung liegt auf dem Intranet-Serv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tandard-Browser als Cl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ringer Administrationsaufwa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ringe Lizenzkos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ringer Schulungsaufwa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RP - System (z.B. SAP R/3) ist Mast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terialstamm (Auszug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Hauskatalo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xterne Kataloge (z.B. ABDA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nutzerstamm nur im Intran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ewegungsdat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RP - System (z.B. SAP R/3) steuert   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Datenübernahm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lege ( Kopf- und Positionsdaten 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Übersicht IT - Syste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intranet2" descr=""/>
          <p:cNvPicPr/>
          <p:nvPr/>
        </p:nvPicPr>
        <p:blipFill>
          <a:blip r:embed="rId1"/>
          <a:stretch/>
        </p:blipFill>
        <p:spPr>
          <a:xfrm>
            <a:off x="1447920" y="1522440"/>
            <a:ext cx="70102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ispiel Materialanforderung Lagerartik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forderung per Papi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forderung per Intran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 per Papi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74780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sformular ausfüll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an das Lager schick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Disponent sichtet Anforder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kommissioni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ausgelief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manuelle Bestandsbuchung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2-02-04T08:29:26Z</dcterms:modified>
  <cp:revision>163</cp:revision>
  <dc:subject/>
  <dc:title>Kein Folientitel</dc:title>
</cp:coreProperties>
</file>