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3.jpeg" ContentType="image/jpe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08F299D-8FB9-4B8E-90E9-13C2EA7DBBE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3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467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9250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1948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irewall" descr=""/>
          <p:cNvPicPr/>
          <p:nvPr/>
        </p:nvPicPr>
        <p:blipFill>
          <a:blip r:embed="rId1"/>
          <a:stretch/>
        </p:blipFill>
        <p:spPr>
          <a:xfrm>
            <a:off x="2514600" y="277668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Firewall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782840" y="2705760"/>
            <a:ext cx="3026880" cy="2849400"/>
            <a:chOff x="7782840" y="2705760"/>
            <a:chExt cx="3026880" cy="2849400"/>
          </a:xfrm>
        </p:grpSpPr>
        <p:sp>
          <p:nvSpPr>
            <p:cNvPr id="171" name=""/>
            <p:cNvSpPr/>
            <p:nvPr/>
          </p:nvSpPr>
          <p:spPr>
            <a:xfrm>
              <a:off x="8686800" y="361476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371600">
              <a:off x="7941960" y="268272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63120" y="376704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8720" y="369108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-933120" y="2604600"/>
            <a:ext cx="2931840" cy="2747520"/>
            <a:chOff x="-933120" y="2604600"/>
            <a:chExt cx="2931840" cy="2747520"/>
          </a:xfrm>
        </p:grpSpPr>
        <p:sp>
          <p:nvSpPr>
            <p:cNvPr id="176" name=""/>
            <p:cNvSpPr/>
            <p:nvPr/>
          </p:nvSpPr>
          <p:spPr>
            <a:xfrm>
              <a:off x="76320" y="346248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353800">
              <a:off x="-821160" y="253044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280" y="361476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361476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268880" y="41482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30056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61476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9544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247176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14800" y="1709640"/>
            <a:ext cx="1434600" cy="1581120"/>
            <a:chOff x="4114800" y="1709640"/>
            <a:chExt cx="1434600" cy="1581120"/>
          </a:xfrm>
        </p:grpSpPr>
        <p:grpSp>
          <p:nvGrpSpPr>
            <p:cNvPr id="186" name=""/>
            <p:cNvGrpSpPr/>
            <p:nvPr/>
          </p:nvGrpSpPr>
          <p:grpSpPr>
            <a:xfrm>
              <a:off x="4114800" y="2166840"/>
              <a:ext cx="1434600" cy="1123920"/>
              <a:chOff x="4114800" y="2166840"/>
              <a:chExt cx="1434600" cy="1123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37200" y="216684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90520" y="218484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20120" y="222336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10240" y="219384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4360" y="232704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75240" y="252504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16280" y="25646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71360" y="255492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88440" y="31176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45400" y="223056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59800" y="226296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59800" y="2285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68880" y="243144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84080" y="220356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50800" y="221004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14800" y="221436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67080" y="170964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7400" y="40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5960" y="42242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14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7440" y="430056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240" y="236232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5680" y="23623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22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330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usiness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führung einer realisierten Lös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6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524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2514600"/>
            <a:ext cx="228600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438280"/>
            <a:ext cx="1828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523880"/>
            <a:ext cx="4114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aterialidentifik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320040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-Material-Infosa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(Pharma-Zentral-Num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 (Europäische-Artikel-N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32004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-Material-Info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99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40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 (Bestätig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467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43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43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5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5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tig steigender Bedarf der Unternehm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Handelsbeziehungen über das Interne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eschleunigung von Einkauf und Verkau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 (Av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505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reneinga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571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572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678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679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688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698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391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erfassen der Rechnu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467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kunftsorientierte Technologie (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MEcat (Bundesverband Materialwirtschaft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                 und Einkauf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wickeln der Geschäftsvorfälle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ietet kundenindividuell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hat viel Praxiserfahrung in der Kopplung von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SAP Know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Wissen über neust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Internettechnolog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ekommen Sie beide Komponenten SAP + Web aus einer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besserung des Serv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ößere Kundenbind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ringerung des manuellen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Eingabeaufwand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933120" y="2647440"/>
            <a:ext cx="2931840" cy="2747520"/>
            <a:chOff x="-933120" y="2647440"/>
            <a:chExt cx="2931840" cy="2747520"/>
          </a:xfrm>
        </p:grpSpPr>
        <p:sp>
          <p:nvSpPr>
            <p:cNvPr id="59" name=""/>
            <p:cNvSpPr/>
            <p:nvPr/>
          </p:nvSpPr>
          <p:spPr>
            <a:xfrm>
              <a:off x="76320" y="350532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353800">
              <a:off x="-821160" y="257328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65760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365760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6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2760" y="3809880"/>
              <a:ext cx="8377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82840" y="2748600"/>
            <a:ext cx="3026880" cy="2849400"/>
            <a:chOff x="7782840" y="2748600"/>
            <a:chExt cx="3026880" cy="2849400"/>
          </a:xfrm>
        </p:grpSpPr>
        <p:sp>
          <p:nvSpPr>
            <p:cNvPr id="6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720" y="373392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rewall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Firewall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7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3120" y="380988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n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72400" y="2748600"/>
            <a:ext cx="3037320" cy="2849400"/>
            <a:chOff x="7772400" y="2748600"/>
            <a:chExt cx="3037320" cy="2849400"/>
          </a:xfrm>
        </p:grpSpPr>
        <p:sp>
          <p:nvSpPr>
            <p:cNvPr id="7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2400" y="3733920"/>
              <a:ext cx="10666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XML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268880" y="41911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3434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65760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43828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51460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14800" y="1752480"/>
            <a:ext cx="1434600" cy="1581120"/>
            <a:chOff x="4114800" y="1752480"/>
            <a:chExt cx="1434600" cy="158112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209680"/>
              <a:ext cx="1434600" cy="1123920"/>
              <a:chOff x="4114800" y="2209680"/>
              <a:chExt cx="1434600" cy="1123920"/>
            </a:xfrm>
          </p:grpSpPr>
          <p:sp>
            <p:nvSpPr>
              <p:cNvPr id="86" name=""/>
              <p:cNvSpPr/>
              <p:nvPr/>
            </p:nvSpPr>
            <p:spPr>
              <a:xfrm>
                <a:off x="4237200" y="220968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90520" y="222768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20120" y="226620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10240" y="223668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24360" y="236988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256788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16280" y="260748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71360" y="259776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8440" y="31604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045400" y="227340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59800" y="230580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59800" y="232848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68880" y="247428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4080" y="224640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0800" y="225288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14800" y="225720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267080" y="175248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05740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5960" y="42670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7440" y="434340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/O Formate (XML, HTML, W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direktionaler Datenaustaus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tenaustausch in Echtz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e Verbindung durch 40-Bit od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128-Bit SSL-Verschlüsse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C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9258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arum haben wir den SAP BC verwendet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523880"/>
            <a:ext cx="952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sierung der 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SAP und Non-SAP Partn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tützung des XML-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zung von ALE und BAP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chere Verbindung durch S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stenlos für SAP-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ukunftsorientierte 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1752480"/>
            <a:ext cx="2590560" cy="3886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676520"/>
            <a:ext cx="3504960" cy="373356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221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BC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538000" y="3176640"/>
            <a:ext cx="19051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Entschlüss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900320" y="3252600"/>
            <a:ext cx="175284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 / IDoc Umwand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971800"/>
            <a:ext cx="1219320" cy="10782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52280" y="1828800"/>
            <a:ext cx="1600200" cy="3581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1905120"/>
            <a:ext cx="129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69640" y="3412440"/>
            <a:ext cx="19810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E / I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596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164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895480"/>
            <a:ext cx="990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(S)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89548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FC, t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550720" y="3564720"/>
            <a:ext cx="16765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1218960" cy="1448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P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276720"/>
            <a:ext cx="111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2T18:57:43Z</dcterms:modified>
  <cp:revision>157</cp:revision>
  <dc:subject/>
  <dc:title>Kein Folientitel</dc:title>
</cp:coreProperties>
</file>